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09E84-4453-4A6A-B848-112176F671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lnutrition is both a social problem and a medical condition.   It is a deadly condition and a huge killer of children in Uganda.  In Uganda as in other developing countries the deadliest form of malnutrition is severe acute malnutrition – the kind that results from a sudden change in a child’s social support.  This could be simply the cessation of breast feeding without any adequate food replacement or as dramatic as the death of the mother, a civil war causing displacement, or loss of crops due to natural disaster.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0FEB4-3C4C-44D2-AF1C-CF2EDE32AE1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everely malnourished children are deﬁcient in potassium and have abnor- mally high levels of sodium, the oral rehydration salts (ORS) solution should contain less sodium and more potassium than the standard WHO-recommended solution. Magne- sium, zinc and copper should also be given to correct deﬁciencies of these minerals. ReSoMal is available commercially. However, ReSoMal can also be made by diluting one packet of the standard WHO-recommended ORS in 2 litres of water, instead of 1 litre, and adding 50g of sucrose (25g/l) and 40ml (20ml/l) of mineral mix solution1</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81CDD-A4DD-4EDB-9709-ECBFF48FAF8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 disturbances of immune system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40F0A-D5ED-4C5F-80EB-7ECBCD0A870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in the context of a developing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cent of deaths of children caused by severe malnutrition includes those caused by the potentiating effects of malnutrition on infection in children.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9DA55-E668-47DA-AA66-FA539EFBBE2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yes and Vitamin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 Signs are: Bitots spots, corneal ulcerations, and if the child keeps the eyes closed abnormal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ye Signs?  -   Give Vitamin A x 1 PO dose - &lt;6months 50000, 6-12months 100,000, Older 200,00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Yes Eye Signs?  -   Give Vit A (dose above) on day 1,2, and 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ful During Exam.  You can cause corneal ulc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tracycline eye drops (1%) should be instilled four times daily until all signs of inﬂam- mation or ulceration resol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FC94E-7AAB-47BE-9730-1D03CB60D79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CC67A-A744-42BF-98DB-A27F9129FED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nting (a height for age discrepancy) or Severe Stunting – which is a height-for-age &lt;85% of median expected value is considered the result of chronic milder malnutrution which can rapidly worsen but can ususally be treated in the community and does not have as significant morta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9BA5B-537B-4460-8363-13AD8D38C63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hild is almost 2.  It is not hard to recognize severe wasting.  It is obvi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uld represent Marasmus  - or total calorie deficiency.  In Tororo, Uganda this type was significantly less common than edematous malnutrition.  Almost every child that I saw with this form of malnutrition had a clear history of some significant social disruption  with death of the mother being the most common.  This particular child was being cared for by a blind grandmother who appeared malnourished herself.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B9D65-E8BB-49CE-AF20-AE13EA9F889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ema was a fairly common chief complaint for children admitted to the pediatrics malnutrition ward.  You can see the pitting edema here.  It is symmetrical, typically was limited to the feet and calves, but could involve the legs, hands, abdomen, face.  It represents severe protein malnutrition – or Kwashiorkor.  By itself it makes a diagnosis of severe malnutrition.  My experience was that most children with edema had an appetite and would feed well and improve but I have read that edematous malnutrition is actually a more fatal condition overall that severe wasting.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30D16-16E0-435D-B6EE-0C8BE18E3CE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Health Organization recommends using weight for height,</a:t>
            </a:r>
            <a:r>
              <a:rPr b="0" lang="en-US" sz="1200" spc="-1" strike="noStrike" baseline="30000">
                <a:solidFill>
                  <a:srgbClr val="000000"/>
                </a:solidFill>
                <a:latin typeface="Calibri"/>
              </a:rPr>
              <a:t> </a:t>
            </a:r>
            <a:r>
              <a:rPr b="0" lang="en-US" sz="1200" spc="-1" strike="noStrike">
                <a:solidFill>
                  <a:srgbClr val="000000"/>
                </a:solidFill>
                <a:latin typeface="Calibri"/>
              </a:rPr>
              <a:t>but this method is problematic and often not undertaken in practice because actually getting a weight and length is more difficult that it sounds when there are a hundred children and only 2 nurses.</a:t>
            </a:r>
            <a:r>
              <a:rPr b="0" lang="en-US" sz="1200" spc="-1" strike="noStrike" baseline="30000">
                <a:solidFill>
                  <a:srgbClr val="000000"/>
                </a:solidFill>
                <a:latin typeface="Calibri"/>
              </a:rPr>
              <a:t>  </a:t>
            </a:r>
            <a:r>
              <a:rPr b="0" lang="en-US" sz="1200" spc="-1" strike="noStrike">
                <a:solidFill>
                  <a:srgbClr val="000000"/>
                </a:solidFill>
                <a:latin typeface="Calibri"/>
              </a:rPr>
              <a:t>Mid upper arm circumference (MUAC) is very simple can be performed and documented during your exam and has been shown to be as accurate at predicting mortality as weight for length is studies in studies.  The cut-off for severe malnutrition is currently 11.5 cm for children 6 months to 5 years.  The band above has the “red zone” at 12.5, which differs a little from the WHO guidelines.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0253C-58B6-442B-AB6C-C4B820F49F0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of treatment is prevent death and since these children are often critically ill, you have to make a brief rapid assessment.  If the child is unconscious you immediately begin treatment and conduct the assessment once the child is stable.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E0A97-D533-48F7-845B-CCE8B3A77B0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6F625-30B3-4B4F-BFC9-CCF9F5F6432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781D6-C2AE-4D43-98BA-2417F2FEF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E4E4-1F90-451B-92EA-1DF49DE35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92979-4CFE-4993-9BE8-301048F4A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52D0-FD64-4960-BD70-AC8A0DAA4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D65E8-BBE9-46BE-8B8C-9BA74B17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9DE38-6978-4FD3-BE74-B6F0CF800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07B84-CDD7-4FDA-8691-04793D605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2C29-8CF4-4F38-81EF-AFD97FDDB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47C64-D6D1-4078-AB32-BF362F77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97BF-D04D-4ABF-B28F-013F8B20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5C55-3CB9-495C-93C0-96740BDB6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290D-0840-45FC-A909-126188E99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B532F-8B2C-49DC-8906-92054917B7A8}"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8264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Severe Malnutrition</a:t>
            </a:r>
            <a:br>
              <a:rPr sz="5900"/>
            </a:br>
            <a:r>
              <a:rPr b="0" lang="en-US" sz="5900" spc="-1" strike="noStrike">
                <a:solidFill>
                  <a:srgbClr val="ffffff"/>
                </a:solidFill>
                <a:latin typeface="Calibri"/>
              </a:rPr>
              <a:t>	</a:t>
            </a:r>
            <a:endParaRPr b="0" lang="en-US" sz="5900" spc="-1" strike="noStrike">
              <a:solidFill>
                <a:srgbClr val="ffffff"/>
              </a:solidFill>
              <a:latin typeface="Calibri"/>
            </a:endParaRPr>
          </a:p>
        </p:txBody>
      </p:sp>
      <p:sp>
        <p:nvSpPr>
          <p:cNvPr id="49" name="PlaceHolder 2"/>
          <p:cNvSpPr>
            <a:spLocks noGrp="1"/>
          </p:cNvSpPr>
          <p:nvPr>
            <p:ph type="subTitle"/>
          </p:nvPr>
        </p:nvSpPr>
        <p:spPr>
          <a:xfrm>
            <a:off x="1371600" y="3273480"/>
            <a:ext cx="6400800" cy="175248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ummary of WHO Management Guidelines</a:t>
            </a:r>
            <a:endParaRPr b="0" lang="en-US" sz="30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Children Age 6 Months to 5 Years</a:t>
            </a: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Blair Thedinger</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lucose absorption and production impair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atients have often travelled for long distances with little food to the health cente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fection / Sepsi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f any one of the following: Unconscious? Limp? Lethargic? Hypothermia?  - TREAT IMMEDIATELY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Hypoglycemia = &lt;56 mg/dl or &lt;3mm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ild Unconscious / Lethargic / Hypotherm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mmediately give D10 5ml/kg IV if IV is available.  Then 50 ml of 10% Glucose or Sucrose per NG.  If child regains consciousness start feed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cious – Able to Take PO</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Give 50ml of 10% glucose or sucrose or Formula 75 kcal/100ml.  Begin frequent feeding q2-3 hours with F-75 to prevent recurren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thermia</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ould be taken as sign of sep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xillary temp &lt;35 C or &lt;95 F.  If does not register assume hypother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eat for hypoglyc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rming efforts (Kangaroo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ove wet clothes and cov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heat lamps need to monitor close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3" name=""/>
          <p:cNvSpPr txBox="1"/>
          <p:nvPr/>
        </p:nvSpPr>
        <p:spPr>
          <a:xfrm>
            <a:off x="457200" y="1599840"/>
            <a:ext cx="8229600" cy="4930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fficult to assess in malnourished childre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IV fluids are dangerous, especially in a situation with no effective monitoring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liable Signs:  Watery Diarrhea; Thirst (absent in severe dehydration); Sunken eyes (only if developed recently); low urine outpu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Unreliable Signs in Malnurished Child:  Elastic skin and dry mucous membranes are not reliable in severely malnourished children</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ff"/>
                </a:solidFill>
                <a:uFillTx/>
                <a:latin typeface="Calibri"/>
              </a:rPr>
              <a:t>If Dehydrated:</a:t>
            </a:r>
            <a:endParaRPr b="0" lang="en-US" sz="25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Give ReSoMal ** orally.  NO IV FLUIDS</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ml/kg q30 x 2 hour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10 ml/kg q 1 hour for 6 hours </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witch to F-75 after 6 hours still at above dose / frequency until rehydrated then switch to re-feeding protocol. </a:t>
            </a:r>
            <a:endParaRPr b="0" lang="en-US" sz="20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ReSoMal =</a:t>
            </a:r>
            <a:r>
              <a:rPr b="0" lang="en-US" sz="2200" spc="-1" strike="noStrike">
                <a:solidFill>
                  <a:srgbClr val="ffffff"/>
                </a:solidFill>
                <a:latin typeface="Calibri"/>
              </a:rPr>
              <a:t> </a:t>
            </a:r>
            <a:r>
              <a:rPr b="0" lang="en-US" sz="1400" spc="-1" strike="noStrike">
                <a:solidFill>
                  <a:srgbClr val="ffffff"/>
                </a:solidFill>
                <a:latin typeface="Calibri"/>
              </a:rPr>
              <a:t>Recommended ORS solution for severely malnourished childr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Calibri"/>
              </a:rPr>
              <a:t>Shock?</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eak or absent radial pulse?  Hypothermic?  Lethargic or Unconscious? Cold extremities? Decrease urine flow?</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e IV volu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D5LR, D5 ½ NS, or D5 ½ Darrows at 15 ml/kg over 1 hour</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Place NG tube and give ReSoMal at same ti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Reassess frequently and discontinue IVF if</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d respiratory rat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Jugluar veins distended</a:t>
            </a:r>
            <a:endParaRPr b="0" lang="en-US" sz="2400" spc="-1" strike="noStrike">
              <a:solidFill>
                <a:srgbClr val="ffffff"/>
              </a:solidFill>
              <a:latin typeface="Calibri"/>
            </a:endParaRPr>
          </a:p>
          <a:p>
            <a:pPr lvl="1" marL="743040" indent="-285840">
              <a:lnSpc>
                <a:spcPct val="80000"/>
              </a:lnSpc>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 Infec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ffffff"/>
                </a:solidFill>
                <a:uFillTx/>
                <a:latin typeface="Calibri"/>
              </a:rPr>
              <a:t>Severely Malnourished Children Should be Considered Immunocompromi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Lymph glands, tonsils and the thymus are atrophi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ell-mediated immunity is severely depres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IgA levels in secretions are reduc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omplement components are low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Phagocytes do not kill ingested bacteria efficiently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issue damage does not result in inﬂammation or migration of white cells to the affected are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cute phase immune response is diminished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ypical signs of infection, such as an increased white cell count and fever, are frequently absent </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ACTERIAL: ALL severely malnourished children get treatmen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 hypoglycemia, hypothermia, or shock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Cotrimoxazole 4mg/20mg PO BID x 5 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these are present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mpicillin 50 mg/kg IM/IV q6 x 7 day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Gentamycin 7.5 mg/kg IM/IV qDay x 7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t improving after 48 hours or suspect meningitis give in addition:</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Chloramphenicol 25mg/kg q6 hours IV / IM – switch to PO at q8 ASAP.  </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LARIA:  Blood smear on every child as available. If positive treat based on severity.</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Quinine 20 mg/kg IV/IM loading dose in dextrose over 4 hour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hen 12 hours after start of loading dose 10 mg/kg over 2 hours Q8  (Switch to PO when able)</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Non-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rtemether/Lumefantrine 3 day pack, Other Artemenisin based combination, or  Sulfadoxine/Pyrimethamine  25/1.5 mg/kg as a single dose (</a:t>
            </a:r>
            <a:r>
              <a:rPr b="0" i="1" lang="en-US" sz="2200" spc="-1" strike="noStrike">
                <a:solidFill>
                  <a:srgbClr val="ffffff"/>
                </a:solidFill>
                <a:latin typeface="Calibri"/>
              </a:rPr>
              <a:t>Much less effective and can contribute to resistance development)</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B: Common but should not give treatment until you have a diagnosis or is very strongly suspected clinicall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IV: If signs of opportunistic infection then test.  If mother HIV positive and child untested then tes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MEASLES: Give vaccine to all children at admission unless proof of recent vaccin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GI:  If able to send stool for analysi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Helminlithiasis give mebendazole 100 mg PO BID for 3 days or if in area with high infection rate give to everyone once improving.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bloody diarrhea assume Shigella infection and treat:   Nalidixic acid (15mg/kg four times daily for 5 day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Giardia give Metronidazole 7.5 mg/kg PO q8 hours for 7 day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Feeding</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at food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75 for initial re-feeding – for F-75 recipe see WHO pediatric Handbook.  Alternatives are listed if milk is unavailable</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much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or 1</a:t>
            </a:r>
            <a:r>
              <a:rPr b="0" lang="en-US" sz="2200" spc="-1" strike="noStrike" baseline="30000">
                <a:solidFill>
                  <a:srgbClr val="ffffff"/>
                </a:solidFill>
                <a:latin typeface="Calibri"/>
              </a:rPr>
              <a:t>st</a:t>
            </a:r>
            <a:r>
              <a:rPr b="0" lang="en-US" sz="2200" spc="-1" strike="noStrike">
                <a:solidFill>
                  <a:srgbClr val="ffffff"/>
                </a:solidFill>
                <a:latin typeface="Calibri"/>
              </a:rPr>
              <a:t> 2 days give 11 ml/kg/feed, then 16ml/kg/feed on days 3-5, then 22ml/kg/feed on days 6 onwards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often do you give feeding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Days 1-2 = q2 hours.    Days 3-5 = q3hours.   Days 6 onwards q4hours.     This includes throughout the night.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en documented weight gain you transition to F-100 or other “catch up” formula and then increase feeds by 10ml per day.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vere Malnutrition Mortality</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sponsible for 35% of deaths among children under fiv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dian under-five case-fatality rate for severe acute malnutrition typically ranges from 30% to 5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agement by WHO guidelines in a hospital setting cut mortality by 55%</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IMG_2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LL severely malnourished children need at least 2 weeks of daily vitamins.  All children should be getting either ReSoMal or F-75 that is fortified with Electrolyte and Mineral Powder Mix.   In addition:</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1.  Vitamin A as belo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2.  Folic acid 5mg on day 1 and then 1mg/day</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3.  Iron 3 mg Fe/kg/day – start AFTER the </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child starts gaining weight</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0" name=""/>
          <p:cNvSpPr txBox="1"/>
          <p:nvPr/>
        </p:nvSpPr>
        <p:spPr>
          <a:xfrm>
            <a:off x="457200" y="1600200"/>
            <a:ext cx="8229600" cy="2473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s and Vitamin 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n estimated 250 000 to 500 000 vitamin A-deficient children become blind every year, half of them dying within 12 months of losing their sight. (WH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2" name="TextBox 10"/>
          <p:cNvSpPr/>
          <p:nvPr/>
        </p:nvSpPr>
        <p:spPr>
          <a:xfrm>
            <a:off x="457200" y="1587600"/>
            <a:ext cx="3679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vere Anemia:</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ermine by clinical exam or Hbg &lt; 4 g/dl or &lt;6g/dl if child has respiratory distress)</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ole blood or pRBCs at 10 ml/kg slowly over 3 hour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asix at 1mg/kg with transfusion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ady for Rehab?</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Hungry, and feeding without an NG tub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Mental status normal (interactiv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Sits, crawls, walks as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Temperature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Vomiting or Diarrhe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Edem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a:t>
            </a:r>
            <a:r>
              <a:rPr b="1" lang="en-US" sz="3200" spc="-1" strike="noStrike">
                <a:solidFill>
                  <a:srgbClr val="ffffff"/>
                </a:solidFill>
                <a:latin typeface="Calibri"/>
              </a:rPr>
              <a:t>GAINING WEIGHT ( &gt;5 g/kg or body weight for 3 successive days)</a:t>
            </a:r>
            <a:r>
              <a:rPr b="0" lang="en-US" sz="3200" spc="-1" strike="noStrike">
                <a:solidFill>
                  <a:srgbClr val="ffffff"/>
                </a:solidFill>
                <a:latin typeface="Calibri"/>
              </a:rPr>
              <a:t>  </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alnutrition is not Natural</a:t>
            </a:r>
            <a:endParaRPr b="0" lang="en-US" sz="4400" spc="-1" strike="noStrike">
              <a:solidFill>
                <a:srgbClr val="ffffff"/>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17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ffffff"/>
                </a:solidFill>
                <a:uFillTx/>
                <a:latin typeface="Calibri"/>
              </a:rPr>
              <a:t>Diagnosis of Severe Acute Malnutrition</a:t>
            </a:r>
            <a:br>
              <a:rPr sz="4000"/>
            </a:b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Any ONE of the follow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Weight to length &lt;70% of expect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ymmetrical pitting edema of at least the feet (kwashiorko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t>
            </a:r>
            <a:r>
              <a:rPr b="0" lang="en-US" sz="3000" spc="-1" strike="noStrike">
                <a:solidFill>
                  <a:srgbClr val="ffffff"/>
                </a:solidFill>
                <a:latin typeface="Calibri"/>
              </a:rPr>
              <a:t>Visible Severe Wasting”- Specifically: gluteal muscle wasting, and visible rib outlines or other bony prominence on chest wall.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id upper arm circumference (MUAC) less than 11.5 c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Visible Severe Wasting</a:t>
            </a:r>
            <a:endParaRPr b="0" lang="en-US" sz="4400" spc="-1" strike="noStrike">
              <a:solidFill>
                <a:srgbClr val="ffffff"/>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ymmetrical Edema in Lower Extremities</a:t>
            </a:r>
            <a:endParaRPr b="0" lang="en-US" sz="4000" spc="-1" strike="noStrike">
              <a:solidFill>
                <a:srgbClr val="ffffff"/>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ean Upper Arm Circumference</a:t>
            </a:r>
            <a:endParaRPr b="0" lang="en-US" sz="4400" spc="-1" strike="noStrike">
              <a:solidFill>
                <a:srgbClr val="ffffff"/>
              </a:solidFill>
              <a:latin typeface="Calibri"/>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Initial Assesment</a:t>
            </a:r>
            <a:endParaRPr b="0" lang="en-US" sz="4400" spc="-1" strike="noStrike">
              <a:solidFill>
                <a:srgbClr val="ffffff"/>
              </a:solidFill>
              <a:latin typeface="Calibri"/>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Aspects of History</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ow acute is the malnutrition? Get the feeding / social histo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the child more sick right now?  How s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child want to eat? (if yes watch them try to fee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caretaker is not the mother, what happened to the moth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y siblings deceased? Sick contact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Points of Physical</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vel of Consciousness / Respon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dration (difficult to asses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An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Infec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ent of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 sig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e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3:34:24Z</dcterms:created>
  <dc:creator>Blair Thedinger</dc:creator>
  <dc:description/>
  <dc:language>en-US</dc:language>
  <cp:lastModifiedBy>Lydia Rodriguez</cp:lastModifiedBy>
  <dcterms:modified xsi:type="dcterms:W3CDTF">2009-10-22T18:59:51Z</dcterms:modified>
  <cp:revision>21</cp:revision>
  <dc:subject/>
  <dc:title>Severe Malnutrition  </dc:title>
</cp:coreProperties>
</file>