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0F3-5622-4AB8-B489-DB722B1A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82C-9705-4CEB-BBEF-62C361FA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FF9-6E4E-46F0-8194-279758C5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85E-02C6-45C3-9503-BA74D467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5E19-D5E6-4F73-9C94-E8860EE7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7965-4423-44E6-B108-6941DB74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65FB-ABE8-429D-AD2C-9AB22598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BF63-1B8B-4ACF-BFB6-8D6FCF23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8605-55BA-413D-948C-21D72B97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8EA1-D18A-43F8-BA89-41246BA1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C2A2-9EA1-46A9-90C5-27C48A3A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668F-300B-4505-93D6-7611980F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0536-04EF-4A9F-96B1-C8E6E096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301B-3528-4B2D-A748-F0F54F3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F352-0FCA-4C01-A531-CA83C8E2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A720-DCE2-4101-82AC-449DD456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F0FD-E2FB-49D9-B27F-BB488777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17A-B9AC-48B2-BCC2-4F262671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CD2-9E66-4F6A-BD06-00393546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F95-C4DA-4DD7-8DB6-6FE95552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482-1769-4B52-B56A-797FE21D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0A4-4BF4-49DA-BDBD-26ED8009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C04-212E-4C2E-BB8B-D0206DC7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F56-BBC6-4144-85EA-BF878C4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46CA-9543-44B5-AB39-D6E66DCF685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11C7-5095-4ECE-AC64-DD591E71273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9304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uart Forman MD, FAAF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ne 200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4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23880" y="472428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rdiogenic and Hypovolemic shock are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UMP PROBLEMS.  The bodies hemodynamic responses are INTAC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  <p:sp>
        <p:nvSpPr>
          <p:cNvPr id="122" name="TextBox 3"/>
          <p:cNvSpPr/>
          <p:nvPr/>
        </p:nvSpPr>
        <p:spPr>
          <a:xfrm>
            <a:off x="114300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ptic shock cause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direct effects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n end organ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pectrum of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cterem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ystemic Inflammatory Response Syndrome (SI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e 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tic Sh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organ Dysfunction Syndrome (MO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-123840" y="-23760"/>
            <a:ext cx="92678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Recognition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can have shock with “normal” blood pres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ck will present with signs of end organ hypoperfu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d urine outp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lacta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BUN/C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ute lung inj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Treatment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usci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d the sour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 before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broad spectrum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 the pi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boratory Examin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BC/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t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ytes, BUN, Cr, LF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T/PT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 relevant x-ray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2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97AC-F1FE-492E-B1B0-82B5DF016C2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Heart 3"/>
          <p:cNvSpPr/>
          <p:nvPr/>
        </p:nvSpPr>
        <p:spPr>
          <a:xfrm>
            <a:off x="1295280" y="2057400"/>
            <a:ext cx="1905120" cy="1981080"/>
          </a:xfrm>
          <a:custGeom>
            <a:avLst/>
            <a:gdLst>
              <a:gd name="textAreaLeft" fmla="*/ 317520 w 1905120"/>
              <a:gd name="textAreaRight" fmla="*/ 1587600 w 1905120"/>
              <a:gd name="textAreaTop" fmla="*/ 495360 h 1981080"/>
              <a:gd name="textAreaBottom" fmla="*/ 1320840 h 1981080"/>
            </a:gdLst>
            <a:ahLst/>
            <a:rect l="textAreaLeft" t="textAreaTop" r="textAreaRight" b="textAreaBottom"/>
            <a:pathLst>
              <a:path w="1905000" h="1981200">
                <a:moveTo>
                  <a:pt x="952500" y="495300"/>
                </a:moveTo>
                <a:cubicBezTo>
                  <a:pt x="1349375" y="-660400"/>
                  <a:pt x="2897187" y="495300"/>
                  <a:pt x="952500" y="1981200"/>
                </a:cubicBezTo>
                <a:cubicBezTo>
                  <a:pt x="-992187" y="495300"/>
                  <a:pt x="555625" y="-660400"/>
                  <a:pt x="952500" y="495300"/>
                </a:cubicBez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Right Arrow 4"/>
          <p:cNvSpPr/>
          <p:nvPr/>
        </p:nvSpPr>
        <p:spPr>
          <a:xfrm>
            <a:off x="3124080" y="2514600"/>
            <a:ext cx="1676520" cy="533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32767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xygen ou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Hexagon 6"/>
          <p:cNvSpPr/>
          <p:nvPr/>
        </p:nvSpPr>
        <p:spPr>
          <a:xfrm>
            <a:off x="48769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Hexagon 7"/>
          <p:cNvSpPr/>
          <p:nvPr/>
        </p:nvSpPr>
        <p:spPr>
          <a:xfrm>
            <a:off x="57913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Hexagon 8"/>
          <p:cNvSpPr/>
          <p:nvPr/>
        </p:nvSpPr>
        <p:spPr>
          <a:xfrm>
            <a:off x="67057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0292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59436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8580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6019920" y="2819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934320" y="274320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10840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80320" y="4038480"/>
            <a:ext cx="44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= c(CO)(Hgb)(SaO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hock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ck is a critical condition manifested by a failure of the circulatory system to maintain adequate perfusion to vital organs resulting in anaerobic metabolism and if uncorrected is incompatible with lif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 = (HR)(SV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xygen satur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g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2 = (Hgb)(CO)(Sa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1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8E2A-9125-426B-A55F-23D8658EC02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3" name="Group 44"/>
          <p:cNvGrpSpPr/>
          <p:nvPr/>
        </p:nvGrpSpPr>
        <p:grpSpPr>
          <a:xfrm>
            <a:off x="609480" y="1752480"/>
            <a:ext cx="7315200" cy="3886200"/>
            <a:chOff x="609480" y="1752480"/>
            <a:chExt cx="7315200" cy="3886200"/>
          </a:xfrm>
        </p:grpSpPr>
        <p:grpSp>
          <p:nvGrpSpPr>
            <p:cNvPr id="154" name="Group 27"/>
            <p:cNvGrpSpPr/>
            <p:nvPr/>
          </p:nvGrpSpPr>
          <p:grpSpPr>
            <a:xfrm>
              <a:off x="3947760" y="1752480"/>
              <a:ext cx="3976920" cy="1194480"/>
              <a:chOff x="3947760" y="1752480"/>
              <a:chExt cx="3976920" cy="1194480"/>
            </a:xfrm>
          </p:grpSpPr>
          <p:sp>
            <p:nvSpPr>
              <p:cNvPr id="155" name="Heart 15"/>
              <p:cNvSpPr/>
              <p:nvPr/>
            </p:nvSpPr>
            <p:spPr>
              <a:xfrm>
                <a:off x="3947760" y="1752480"/>
                <a:ext cx="1198080" cy="1065600"/>
              </a:xfrm>
              <a:custGeom>
                <a:avLst/>
                <a:gdLst>
                  <a:gd name="textAreaLeft" fmla="*/ 199440 w 1198080"/>
                  <a:gd name="textAreaRight" fmla="*/ 998640 w 1198080"/>
                  <a:gd name="textAreaTop" fmla="*/ 266400 h 1065600"/>
                  <a:gd name="textAreaBottom" fmla="*/ 710640 h 1065600"/>
                </a:gdLst>
                <a:ahLst/>
                <a:rect l="textAreaLeft" t="textAreaTop" r="textAreaRight" b="textAreaBottom"/>
                <a:pathLst>
                  <a:path w="1905465" h="1980534">
                    <a:moveTo>
                      <a:pt x="952733" y="495134"/>
                    </a:moveTo>
                    <a:cubicBezTo>
                      <a:pt x="1349704" y="-660178"/>
                      <a:pt x="2897895" y="495134"/>
                      <a:pt x="952733" y="1980534"/>
                    </a:cubicBezTo>
                    <a:cubicBezTo>
                      <a:pt x="-992430" y="495134"/>
                      <a:pt x="555761" y="-660178"/>
                      <a:pt x="952733" y="495134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6" name="Right Arrow 16"/>
              <p:cNvSpPr/>
              <p:nvPr/>
            </p:nvSpPr>
            <p:spPr>
              <a:xfrm>
                <a:off x="5097240" y="1998360"/>
                <a:ext cx="1054080" cy="286920"/>
              </a:xfrm>
              <a:prstGeom prst="rightArrow">
                <a:avLst>
                  <a:gd name="adj1" fmla="val 50000"/>
                  <a:gd name="adj2" fmla="val 5844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7" name="Hexagon 18"/>
              <p:cNvSpPr/>
              <p:nvPr/>
            </p:nvSpPr>
            <p:spPr>
              <a:xfrm>
                <a:off x="61995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8" name="Hexagon 19"/>
              <p:cNvSpPr/>
              <p:nvPr/>
            </p:nvSpPr>
            <p:spPr>
              <a:xfrm>
                <a:off x="677484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9" name="Hexagon 20"/>
              <p:cNvSpPr/>
              <p:nvPr/>
            </p:nvSpPr>
            <p:spPr>
              <a:xfrm>
                <a:off x="73497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0" name="Rectangle 25"/>
              <p:cNvSpPr/>
              <p:nvPr/>
            </p:nvSpPr>
            <p:spPr>
              <a:xfrm>
                <a:off x="7493400" y="2121480"/>
                <a:ext cx="27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Bent Arrow 30"/>
            <p:cNvSpPr/>
            <p:nvPr/>
          </p:nvSpPr>
          <p:spPr>
            <a:xfrm flipH="1" flipV="1">
              <a:off x="5465880" y="2566800"/>
              <a:ext cx="1879560" cy="2570400"/>
            </a:xfrm>
            <a:custGeom>
              <a:avLst/>
              <a:gdLst/>
              <a:ahLst/>
              <a:rect l="l" t="t" r="r" b="b"/>
              <a:pathLst>
                <a:path w="1980836" h="3124511">
                  <a:moveTo>
                    <a:pt x="0" y="3124511"/>
                  </a:moveTo>
                  <a:lnTo>
                    <a:pt x="0" y="1114220"/>
                  </a:lnTo>
                  <a:lnTo>
                    <a:pt x="0" y="1114220"/>
                  </a:lnTo>
                  <a:arcTo wR="866616" hR="866616" stAng="-10799996" swAng="5400004"/>
                  <a:lnTo>
                    <a:pt x="1485627" y="247605"/>
                  </a:lnTo>
                  <a:lnTo>
                    <a:pt x="1485627" y="0"/>
                  </a:lnTo>
                  <a:lnTo>
                    <a:pt x="1980836" y="495209"/>
                  </a:lnTo>
                  <a:lnTo>
                    <a:pt x="1485627" y="990418"/>
                  </a:lnTo>
                  <a:lnTo>
                    <a:pt x="1485627" y="742814"/>
                  </a:lnTo>
                  <a:lnTo>
                    <a:pt x="866616" y="742814"/>
                  </a:lnTo>
                  <a:lnTo>
                    <a:pt x="866616" y="742814"/>
                  </a:lnTo>
                  <a:arcTo wR="371407" hR="371407" stAng="-5400000" swAng="-5400000"/>
                  <a:lnTo>
                    <a:pt x="495209" y="312451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2" name="Smiley Face 31"/>
            <p:cNvSpPr/>
            <p:nvPr/>
          </p:nvSpPr>
          <p:spPr>
            <a:xfrm>
              <a:off x="3586320" y="4008960"/>
              <a:ext cx="1807560" cy="1629720"/>
            </a:xfrm>
            <a:prstGeom prst="smileyFace">
              <a:avLst>
                <a:gd name="adj" fmla="val 9282"/>
              </a:avLst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" name="Bent Arrow 32"/>
            <p:cNvSpPr/>
            <p:nvPr/>
          </p:nvSpPr>
          <p:spPr>
            <a:xfrm rot="16200000">
              <a:off x="1083960" y="2789280"/>
              <a:ext cx="2257560" cy="2313720"/>
            </a:xfrm>
            <a:custGeom>
              <a:avLst/>
              <a:gdLst/>
              <a:ahLst/>
              <a:rect l="l" t="t" r="r" b="b"/>
              <a:pathLst>
                <a:path w="2744321" h="2438466">
                  <a:moveTo>
                    <a:pt x="0" y="2438466"/>
                  </a:moveTo>
                  <a:lnTo>
                    <a:pt x="0" y="1371637"/>
                  </a:lnTo>
                  <a:lnTo>
                    <a:pt x="0" y="1371637"/>
                  </a:lnTo>
                  <a:arcTo wR="1066829" hR="1066829" stAng="-10799997" swAng="5400003"/>
                  <a:lnTo>
                    <a:pt x="2134705" y="304808"/>
                  </a:lnTo>
                  <a:lnTo>
                    <a:pt x="2134705" y="0"/>
                  </a:lnTo>
                  <a:lnTo>
                    <a:pt x="2744321" y="609617"/>
                  </a:lnTo>
                  <a:lnTo>
                    <a:pt x="2134705" y="1219233"/>
                  </a:lnTo>
                  <a:lnTo>
                    <a:pt x="2134705" y="914425"/>
                  </a:lnTo>
                  <a:lnTo>
                    <a:pt x="1066829" y="914425"/>
                  </a:lnTo>
                  <a:lnTo>
                    <a:pt x="1066829" y="914425"/>
                  </a:lnTo>
                  <a:arcTo wR="457212" hR="457212" stAng="-5399992" swAng="-5400000"/>
                  <a:lnTo>
                    <a:pt x="609617" y="2438466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164" name="Group 42" descr=""/>
            <p:cNvPicPr/>
            <p:nvPr/>
          </p:nvPicPr>
          <p:blipFill>
            <a:blip r:embed="rId2"/>
            <a:stretch/>
          </p:blipFill>
          <p:spPr>
            <a:xfrm>
              <a:off x="609480" y="1865160"/>
              <a:ext cx="21240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ight Arrow 43"/>
            <p:cNvSpPr/>
            <p:nvPr/>
          </p:nvSpPr>
          <p:spPr>
            <a:xfrm>
              <a:off x="2862720" y="1939680"/>
              <a:ext cx="1012680" cy="399960"/>
            </a:xfrm>
            <a:prstGeom prst="rightArrow">
              <a:avLst>
                <a:gd name="adj1" fmla="val 50000"/>
                <a:gd name="adj2" fmla="val 57684"/>
              </a:avLst>
            </a:prstGeom>
            <a:solidFill>
              <a:srgbClr val="7030a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6" name="TextBox 45"/>
          <p:cNvSpPr/>
          <p:nvPr/>
        </p:nvSpPr>
        <p:spPr>
          <a:xfrm>
            <a:off x="51055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" name="Rectangle 46"/>
          <p:cNvSpPr/>
          <p:nvPr/>
        </p:nvSpPr>
        <p:spPr>
          <a:xfrm>
            <a:off x="2162160" y="2438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2514600" y="5627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xygen consumption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VO2)=  (O2 out) - (O2 in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consumed by the bod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oxygen out of the heart minus oxygen into the hea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DO2 (out) – DO2 (i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(Hgb)(CO)(SaO2-Sv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O2 and VO2 in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72" name="AutoShape 3"/>
          <p:cNvCxnSpPr/>
          <p:nvPr/>
        </p:nvCxnSpPr>
        <p:spPr>
          <a:xfrm>
            <a:off x="1447560" y="2437920"/>
            <a:ext cx="1080" cy="3506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3" name="AutoShape 4"/>
          <p:cNvCxnSpPr/>
          <p:nvPr/>
        </p:nvCxnSpPr>
        <p:spPr>
          <a:xfrm>
            <a:off x="1447560" y="5943240"/>
            <a:ext cx="5105880" cy="108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4" name="AutoShape 5"/>
          <p:cNvCxnSpPr/>
          <p:nvPr/>
        </p:nvCxnSpPr>
        <p:spPr>
          <a:xfrm flipV="1">
            <a:off x="2133720" y="3733200"/>
            <a:ext cx="2591280" cy="1600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5" name="AutoShape 6"/>
          <p:cNvCxnSpPr/>
          <p:nvPr/>
        </p:nvCxnSpPr>
        <p:spPr>
          <a:xfrm flipV="1">
            <a:off x="4723920" y="3047400"/>
            <a:ext cx="2515320" cy="6865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6" name="Text Box 7"/>
          <p:cNvSpPr/>
          <p:nvPr/>
        </p:nvSpPr>
        <p:spPr>
          <a:xfrm>
            <a:off x="22860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124080" y="6324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Arc 20"/>
          <p:cNvSpPr/>
          <p:nvPr/>
        </p:nvSpPr>
        <p:spPr>
          <a:xfrm flipH="1" flipV="1">
            <a:off x="1675440" y="-381240"/>
            <a:ext cx="7010280" cy="6172200"/>
          </a:xfrm>
          <a:custGeom>
            <a:avLst/>
            <a:gdLst>
              <a:gd name="textAreaLeft" fmla="*/ 3505320 w 7010280"/>
              <a:gd name="textAreaRight" fmla="*/ 7010640 w 7010280"/>
              <a:gd name="textAreaTop" fmla="*/ 0 h 6172200"/>
              <a:gd name="textAreaBottom" fmla="*/ 3086280 h 6172200"/>
            </a:gdLst>
            <a:ahLst/>
            <a:rect l="textAreaLeft" t="textAreaTop" r="textAreaRight" b="textAreaBottom"/>
            <a:pathLst>
              <a:path stroke="0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  <a:lnTo>
                  <a:pt x="3505200" y="3086100"/>
                </a:lnTo>
                <a:close/>
              </a:path>
              <a:path fill="none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41008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ta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2057400" y="2590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 = (Hgb)(CO)(SaO2-SvO2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02B0-D6FE-4F80-A0FD-8F52F62EE86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ixed Venous Oxygen Satur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oxygen saturation returning to the right heart (ScvO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or regular central lin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terminants of S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extr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 values indicate (≥70%)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equate tissue perfu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or tissue extraction of oxyg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oal values in shock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≥70%, SvO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≥ 65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 Engl J Med. 2001; 345: 1368-7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5AD1-972A-4FE1-A125-466973C92D3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arly-Goal Directed Therapy in Septic Shoc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re Sa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≥92% or PaO2 ≥6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uids until CVP 8-12 mmH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AP&lt;65 mmHg, add norepinephrine or dopa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fuse patient until Hct ≥30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persistent 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&lt;65% or 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rt dobutamine at 3-5 mcg/kg/min and titrate up to 20 mcg/kg/m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28600" y="60199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14400" y="6396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O2=c(hgb)(CO)(SaO2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09C0-2328-4A0A-9FDD-660CAE91008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sopressors and Inotrop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3048120"/>
            <a:ext cx="7315200" cy="0"/>
          </a:xfrm>
          <a:prstGeom prst="line">
            <a:avLst/>
          </a:prstGeom>
          <a:ln w="263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30492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808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ph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7010280" y="1981080"/>
            <a:ext cx="1676520" cy="914400"/>
          </a:xfrm>
          <a:prstGeom prst="downArrowCallout">
            <a:avLst>
              <a:gd name="adj1" fmla="val 45841"/>
              <a:gd name="adj2" fmla="val 45837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0866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t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7621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1981080" y="3276720"/>
            <a:ext cx="83844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39625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69343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990720" y="33526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 rot="11091000">
            <a:off x="837720" y="320004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henyl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 rot="11091000">
            <a:off x="2134800" y="330012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r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Text Box 19"/>
          <p:cNvSpPr/>
          <p:nvPr/>
        </p:nvSpPr>
        <p:spPr>
          <a:xfrm rot="11091000">
            <a:off x="403812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Text Box 20"/>
          <p:cNvSpPr/>
          <p:nvPr/>
        </p:nvSpPr>
        <p:spPr>
          <a:xfrm rot="11091000">
            <a:off x="708624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butam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AutoShape 22"/>
          <p:cNvSpPr/>
          <p:nvPr/>
        </p:nvSpPr>
        <p:spPr>
          <a:xfrm>
            <a:off x="342900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=Bet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2895480" y="6095880"/>
            <a:ext cx="2971800" cy="457200"/>
          </a:xfrm>
          <a:prstGeom prst="rect">
            <a:avLst/>
          </a:prstGeom>
          <a:solidFill>
            <a:srgbClr val="dac92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2819520" y="6095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pami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2578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2286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" name="Line 27"/>
          <p:cNvSpPr/>
          <p:nvPr/>
        </p:nvSpPr>
        <p:spPr>
          <a:xfrm flipH="1">
            <a:off x="205704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640080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Steroids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V Hydrocortisone 200-300 mg/day in divided doses should be considered only for adult septic shock patients after adequate fluid resuscitation and vasopresser therapy to maintain blood press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H stimulation test should not be used identify the subset of adults with septic shock who should receive hydrocortiso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lycemic Control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llowing initial stabilization, patients with severe sepsis and hyperglycemia who are admitted to the ICU should receive intravenous insulin therapy to reduce blood glucose levels to &lt;150 mg/d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combinant Hum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tivated Protein C (rhAPC)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hAPC may be considered in adult patients with sepsis-induced organ dysfunction associated with a clinical assessment of high risk of death, most of whom will have Acute Physiology and Chronic Health Evaluation (APACHE) II ≥25 or multiple organ failur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21337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ute Lung Injury and AR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tidal volumes ≤ 6 mL/k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plateau pressures ≤ 30 cm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ypercapnia is allow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DSnet protoco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of bed &gt; 30 degre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ood Produc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the absence of an oxygen delivery problem, routine transfusion in the ICU unless Hgb &lt; 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FFP only for patients with bleeding or planned invasive proced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platelets only for counts &lt; 5000 unless bleeding or planned proced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dation, Analgesia, Neuromuscular Blocka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dation protocols should be used in all ventilated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ily weaning trials and daily awak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muscular blockading agents used sparingly if at al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carbonate Therap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carbonate therapy should be only be given in severe acidosis ≤ 7.1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-6120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VT and Stress Ulcer Prophylax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VT prophylaxis with LMWH or UFH should be used.  In high risk patient use in conjunction with mechanical compres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ress ulcer prophylaxis with H2RA or PPI should be considered in all ventilated and high risk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2RA are prefer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ideration of Limitation of Suppor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uss advance care planning with patients and families. Describe likely outcomes and set realistic expectation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Poi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nk about sepsis and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eat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longer you wait the greater chance the patient will have of dy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wait until the patient is in the ICU to tre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I mention treat earl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2057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H="1">
            <a:off x="4190760" y="3124080"/>
            <a:ext cx="1600200" cy="914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81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Volum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429000" y="4572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V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AW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791320" y="3124080"/>
            <a:ext cx="1143000" cy="838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032520" y="39625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Contractility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BP ≈ (SVR)(CO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≈ 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(SVR)(HR)(SV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2819520"/>
          <a:ext cx="762012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2819520"/>
          <a:ext cx="762012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1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2:16:29Z</dcterms:created>
  <dc:creator>HCMARTINEZ</dc:creator>
  <dc:description/>
  <dc:language>en-US</dc:language>
  <cp:lastModifiedBy>HCMARTINEZ</cp:lastModifiedBy>
  <dcterms:modified xsi:type="dcterms:W3CDTF">2009-06-02T23:33:02Z</dcterms:modified>
  <cp:revision>104</cp:revision>
  <dc:subject/>
  <dc:title>Postoperative Care: Shock in the Surgical Patient</dc:title>
</cp:coreProperties>
</file>