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2F2-D644-4401-A8D5-4F077DCB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151-4F81-45E4-986B-0607EB30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82-3BD0-4E11-9DDF-D508402C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675-D337-4453-B355-D2A56C38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230-2B15-4134-94B2-95D7237E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3B7D-25A3-499C-8094-D8E3356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5D79-4454-4C32-AA0A-EFE75ED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6210-557B-4AD6-BD39-EEC9E430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910B-596C-455C-845B-15E1826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970-4687-4F9F-B26B-9533F7A8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74A-E536-4C9B-A9FD-2DEA4D2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1E8-448E-4291-B555-0666635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1468-B463-4E8E-9B9A-27D3B81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AAFF-3138-4EEB-ABD5-2CBF579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1FE-C714-4984-AA52-0B484C6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2907-7949-41C5-8C46-35A5C77E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C448-9D4E-45E8-AF5D-924C6F21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C89-3CE9-4F9D-9025-A396905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2BC-98EA-44C9-A7D4-769876A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868-A327-4AB3-A2BB-796649C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57C-0E45-45B8-B2D7-A6682C3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9A6-CFD0-444E-8A04-91DB7A68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F32-E3AE-4052-8AD3-4C5DBC2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86C-A4BE-4AD2-BF95-D121F276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0CC-F0FC-43EE-8878-B8039E590C2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C4EB-F010-483B-8A54-601956115C1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49304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uart Forman MD, FAAF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ne 20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4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23880" y="472428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ardiogenic and Hypovolemic shock are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UMP PROBLEMS.  The bodies hemodynamic responses are INTACT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2819520"/>
          <a:ext cx="7620120" cy="15699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s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3"/>
          <p:cNvSpPr/>
          <p:nvPr/>
        </p:nvSpPr>
        <p:spPr>
          <a:xfrm>
            <a:off x="114300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ptic shock cause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direct effects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n end organ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pectrum of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f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terem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ystemic Inflammatory Response Syndrome (SIR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e Sep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ptic S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organ Dysfunction Syndrome (MO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-123840" y="-23760"/>
            <a:ext cx="926784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Recognition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can have shock with “normal” blood pres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ck will present with signs of end organ hypoperfu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reased urine 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lacta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BUN/C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ute lung inj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arly Treatment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usci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d the sour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 before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broad spectrum antibiotic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p the pimp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boratory Examin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BC/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ytes, BUN, Cr, L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T/PT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lood cult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y relevant x-ray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8D81-1DE4-4BCC-830B-5C3683E691D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Heart 3"/>
          <p:cNvSpPr/>
          <p:nvPr/>
        </p:nvSpPr>
        <p:spPr>
          <a:xfrm>
            <a:off x="1295280" y="2057400"/>
            <a:ext cx="1905120" cy="1981080"/>
          </a:xfrm>
          <a:custGeom>
            <a:avLst/>
            <a:gdLst>
              <a:gd name="textAreaLeft" fmla="*/ 317520 w 1905120"/>
              <a:gd name="textAreaRight" fmla="*/ 1587600 w 1905120"/>
              <a:gd name="textAreaTop" fmla="*/ 495360 h 1981080"/>
              <a:gd name="textAreaBottom" fmla="*/ 1320840 h 1981080"/>
            </a:gdLst>
            <a:ahLst/>
            <a:rect l="textAreaLeft" t="textAreaTop" r="textAreaRight" b="textAreaBottom"/>
            <a:pathLst>
              <a:path w="1905000" h="1981200">
                <a:moveTo>
                  <a:pt x="952500" y="495300"/>
                </a:moveTo>
                <a:cubicBezTo>
                  <a:pt x="1349375" y="-660400"/>
                  <a:pt x="2897187" y="495300"/>
                  <a:pt x="952500" y="1981200"/>
                </a:cubicBezTo>
                <a:cubicBezTo>
                  <a:pt x="-992187" y="495300"/>
                  <a:pt x="555625" y="-660400"/>
                  <a:pt x="952500" y="495300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Right Arrow 4"/>
          <p:cNvSpPr/>
          <p:nvPr/>
        </p:nvSpPr>
        <p:spPr>
          <a:xfrm>
            <a:off x="3124080" y="251460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276720" y="2209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xygen ou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Hexagon 6"/>
          <p:cNvSpPr/>
          <p:nvPr/>
        </p:nvSpPr>
        <p:spPr>
          <a:xfrm>
            <a:off x="48769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" name="Hexagon 7"/>
          <p:cNvSpPr/>
          <p:nvPr/>
        </p:nvSpPr>
        <p:spPr>
          <a:xfrm>
            <a:off x="57913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Hexagon 8"/>
          <p:cNvSpPr/>
          <p:nvPr/>
        </p:nvSpPr>
        <p:spPr>
          <a:xfrm>
            <a:off x="6705720" y="2362320"/>
            <a:ext cx="914400" cy="8380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0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02920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59436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85800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Hgb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6019920" y="28195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934320" y="2743200"/>
            <a:ext cx="43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10840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O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280320" y="4038480"/>
            <a:ext cx="44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= c(CO)(Hgb)(SaO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hock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ck is a critical condition manifested by a failure of the circulatory system to maintain adequate perfusion to vital organs resulting in anaerobic metabolism and if uncorrected is incompatible with lif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Deli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 = (HR)(S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xygen satur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g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diac outp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2 = (Hgb)(CO)(Sa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7AE-5183-475D-8532-60ECB9F6E75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3" name="Group 44"/>
          <p:cNvGrpSpPr/>
          <p:nvPr/>
        </p:nvGrpSpPr>
        <p:grpSpPr>
          <a:xfrm>
            <a:off x="609480" y="1752480"/>
            <a:ext cx="7315200" cy="3886200"/>
            <a:chOff x="609480" y="1752480"/>
            <a:chExt cx="7315200" cy="3886200"/>
          </a:xfrm>
        </p:grpSpPr>
        <p:grpSp>
          <p:nvGrpSpPr>
            <p:cNvPr id="154" name="Group 27"/>
            <p:cNvGrpSpPr/>
            <p:nvPr/>
          </p:nvGrpSpPr>
          <p:grpSpPr>
            <a:xfrm>
              <a:off x="3947760" y="1752480"/>
              <a:ext cx="3976920" cy="1194480"/>
              <a:chOff x="3947760" y="1752480"/>
              <a:chExt cx="3976920" cy="1194480"/>
            </a:xfrm>
          </p:grpSpPr>
          <p:sp>
            <p:nvSpPr>
              <p:cNvPr id="155" name="Heart 15"/>
              <p:cNvSpPr/>
              <p:nvPr/>
            </p:nvSpPr>
            <p:spPr>
              <a:xfrm>
                <a:off x="3947760" y="1752480"/>
                <a:ext cx="1198080" cy="1065600"/>
              </a:xfrm>
              <a:custGeom>
                <a:avLst/>
                <a:gdLst>
                  <a:gd name="textAreaLeft" fmla="*/ 199440 w 1198080"/>
                  <a:gd name="textAreaRight" fmla="*/ 998640 w 1198080"/>
                  <a:gd name="textAreaTop" fmla="*/ 266400 h 1065600"/>
                  <a:gd name="textAreaBottom" fmla="*/ 710640 h 1065600"/>
                </a:gdLst>
                <a:ahLst/>
                <a:rect l="textAreaLeft" t="textAreaTop" r="textAreaRight" b="textAreaBottom"/>
                <a:pathLst>
                  <a:path w="1905465" h="1980534">
                    <a:moveTo>
                      <a:pt x="952733" y="495134"/>
                    </a:moveTo>
                    <a:cubicBezTo>
                      <a:pt x="1349704" y="-660178"/>
                      <a:pt x="2897895" y="495134"/>
                      <a:pt x="952733" y="1980534"/>
                    </a:cubicBezTo>
                    <a:cubicBezTo>
                      <a:pt x="-992430" y="495134"/>
                      <a:pt x="555761" y="-660178"/>
                      <a:pt x="952733" y="495134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" name="Right Arrow 16"/>
              <p:cNvSpPr/>
              <p:nvPr/>
            </p:nvSpPr>
            <p:spPr>
              <a:xfrm>
                <a:off x="5097240" y="1998360"/>
                <a:ext cx="1054080" cy="286920"/>
              </a:xfrm>
              <a:prstGeom prst="rightArrow">
                <a:avLst>
                  <a:gd name="adj1" fmla="val 50000"/>
                  <a:gd name="adj2" fmla="val 5844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7" name="Hexagon 18"/>
              <p:cNvSpPr/>
              <p:nvPr/>
            </p:nvSpPr>
            <p:spPr>
              <a:xfrm>
                <a:off x="61995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8" name="Hexagon 19"/>
              <p:cNvSpPr/>
              <p:nvPr/>
            </p:nvSpPr>
            <p:spPr>
              <a:xfrm>
                <a:off x="677484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" name="Hexagon 20"/>
              <p:cNvSpPr/>
              <p:nvPr/>
            </p:nvSpPr>
            <p:spPr>
              <a:xfrm>
                <a:off x="7349760" y="1916280"/>
                <a:ext cx="574920" cy="451080"/>
              </a:xfrm>
              <a:prstGeom prst="hexagon">
                <a:avLst>
                  <a:gd name="adj" fmla="val 29208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" name="Rectangle 25"/>
              <p:cNvSpPr/>
              <p:nvPr/>
            </p:nvSpPr>
            <p:spPr>
              <a:xfrm>
                <a:off x="7493400" y="2121480"/>
                <a:ext cx="27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Bent Arrow 30"/>
            <p:cNvSpPr/>
            <p:nvPr/>
          </p:nvSpPr>
          <p:spPr>
            <a:xfrm flipH="1" flipV="1">
              <a:off x="5465880" y="2566800"/>
              <a:ext cx="1879560" cy="2570400"/>
            </a:xfrm>
            <a:custGeom>
              <a:avLst/>
              <a:gdLst/>
              <a:ahLst/>
              <a:rect l="l" t="t" r="r" b="b"/>
              <a:pathLst>
                <a:path w="1980836" h="3124511">
                  <a:moveTo>
                    <a:pt x="0" y="3124511"/>
                  </a:moveTo>
                  <a:lnTo>
                    <a:pt x="0" y="1114220"/>
                  </a:lnTo>
                  <a:lnTo>
                    <a:pt x="0" y="1114220"/>
                  </a:lnTo>
                  <a:arcTo wR="866616" hR="866616" stAng="-10799996" swAng="5400004"/>
                  <a:lnTo>
                    <a:pt x="1485627" y="247605"/>
                  </a:lnTo>
                  <a:lnTo>
                    <a:pt x="1485627" y="0"/>
                  </a:lnTo>
                  <a:lnTo>
                    <a:pt x="1980836" y="495209"/>
                  </a:lnTo>
                  <a:lnTo>
                    <a:pt x="1485627" y="990418"/>
                  </a:lnTo>
                  <a:lnTo>
                    <a:pt x="1485627" y="742814"/>
                  </a:lnTo>
                  <a:lnTo>
                    <a:pt x="866616" y="742814"/>
                  </a:lnTo>
                  <a:lnTo>
                    <a:pt x="866616" y="742814"/>
                  </a:lnTo>
                  <a:arcTo wR="371407" hR="371407" stAng="-5400000" swAng="-5400000"/>
                  <a:lnTo>
                    <a:pt x="495209" y="31245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" name="Smiley Face 31"/>
            <p:cNvSpPr/>
            <p:nvPr/>
          </p:nvSpPr>
          <p:spPr>
            <a:xfrm>
              <a:off x="3586320" y="4008960"/>
              <a:ext cx="1807560" cy="1629720"/>
            </a:xfrm>
            <a:prstGeom prst="smileyFace">
              <a:avLst>
                <a:gd name="adj" fmla="val 9282"/>
              </a:avLst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" name="Bent Arrow 32"/>
            <p:cNvSpPr/>
            <p:nvPr/>
          </p:nvSpPr>
          <p:spPr>
            <a:xfrm rot="16200000">
              <a:off x="1083960" y="2789280"/>
              <a:ext cx="2257560" cy="2313720"/>
            </a:xfrm>
            <a:custGeom>
              <a:avLst/>
              <a:gdLst/>
              <a:ahLst/>
              <a:rect l="l" t="t" r="r" b="b"/>
              <a:pathLst>
                <a:path w="2744321" h="2438466">
                  <a:moveTo>
                    <a:pt x="0" y="2438466"/>
                  </a:moveTo>
                  <a:lnTo>
                    <a:pt x="0" y="1371637"/>
                  </a:lnTo>
                  <a:lnTo>
                    <a:pt x="0" y="1371637"/>
                  </a:lnTo>
                  <a:arcTo wR="1066829" hR="1066829" stAng="-10799997" swAng="5400003"/>
                  <a:lnTo>
                    <a:pt x="2134705" y="304808"/>
                  </a:lnTo>
                  <a:lnTo>
                    <a:pt x="2134705" y="0"/>
                  </a:lnTo>
                  <a:lnTo>
                    <a:pt x="2744321" y="609617"/>
                  </a:lnTo>
                  <a:lnTo>
                    <a:pt x="2134705" y="1219233"/>
                  </a:lnTo>
                  <a:lnTo>
                    <a:pt x="2134705" y="914425"/>
                  </a:lnTo>
                  <a:lnTo>
                    <a:pt x="1066829" y="914425"/>
                  </a:lnTo>
                  <a:lnTo>
                    <a:pt x="1066829" y="914425"/>
                  </a:lnTo>
                  <a:arcTo wR="457212" hR="457212" stAng="-5399992" swAng="-5400000"/>
                  <a:lnTo>
                    <a:pt x="609617" y="2438466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64" name="Group 42" descr=""/>
            <p:cNvPicPr/>
            <p:nvPr/>
          </p:nvPicPr>
          <p:blipFill>
            <a:blip r:embed="rId2"/>
            <a:stretch/>
          </p:blipFill>
          <p:spPr>
            <a:xfrm>
              <a:off x="609480" y="1865160"/>
              <a:ext cx="2124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ight Arrow 43"/>
            <p:cNvSpPr/>
            <p:nvPr/>
          </p:nvSpPr>
          <p:spPr>
            <a:xfrm>
              <a:off x="2862720" y="1939680"/>
              <a:ext cx="1012680" cy="399960"/>
            </a:xfrm>
            <a:prstGeom prst="rightArrow">
              <a:avLst>
                <a:gd name="adj1" fmla="val 50000"/>
                <a:gd name="adj2" fmla="val 57684"/>
              </a:avLst>
            </a:prstGeom>
            <a:solidFill>
              <a:srgbClr val="7030a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51055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" name="Rectangle 46"/>
          <p:cNvSpPr/>
          <p:nvPr/>
        </p:nvSpPr>
        <p:spPr>
          <a:xfrm>
            <a:off x="2162160" y="243828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TextBox 20"/>
          <p:cNvSpPr/>
          <p:nvPr/>
        </p:nvSpPr>
        <p:spPr>
          <a:xfrm>
            <a:off x="2514600" y="5627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xygen consumption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VO2)=  (O2 out) - (O2 in)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xygen Consum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consumed by the bo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oxygen out of the heart minus oxygen into the hea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DO2 (out) – DO2 (i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O2 = (Hgb)(CO)(SaO2-SvO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O2 and VO2 in sep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72" name="AutoShape 3"/>
          <p:cNvCxnSpPr/>
          <p:nvPr/>
        </p:nvCxnSpPr>
        <p:spPr>
          <a:xfrm>
            <a:off x="1447560" y="2437920"/>
            <a:ext cx="1080" cy="3506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3" name="AutoShape 4"/>
          <p:cNvCxnSpPr/>
          <p:nvPr/>
        </p:nvCxnSpPr>
        <p:spPr>
          <a:xfrm>
            <a:off x="1447560" y="5943240"/>
            <a:ext cx="5105880" cy="108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4" name="AutoShape 5"/>
          <p:cNvCxnSpPr/>
          <p:nvPr/>
        </p:nvCxnSpPr>
        <p:spPr>
          <a:xfrm flipV="1">
            <a:off x="2133720" y="3733200"/>
            <a:ext cx="2591280" cy="1600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cxnSp>
        <p:nvCxnSpPr>
          <p:cNvPr id="175" name="AutoShape 6"/>
          <p:cNvCxnSpPr/>
          <p:nvPr/>
        </p:nvCxnSpPr>
        <p:spPr>
          <a:xfrm flipV="1">
            <a:off x="4723920" y="3047400"/>
            <a:ext cx="2515320" cy="6865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6" name="Text Box 7"/>
          <p:cNvSpPr/>
          <p:nvPr/>
        </p:nvSpPr>
        <p:spPr>
          <a:xfrm>
            <a:off x="2286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124080" y="6324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flipH="1" flipV="1">
            <a:off x="1675440" y="-381240"/>
            <a:ext cx="7010280" cy="6172200"/>
          </a:xfrm>
          <a:custGeom>
            <a:avLst/>
            <a:gdLst>
              <a:gd name="textAreaLeft" fmla="*/ 3505320 w 7010280"/>
              <a:gd name="textAreaRight" fmla="*/ 7010640 w 7010280"/>
              <a:gd name="textAreaTop" fmla="*/ 0 h 6172200"/>
              <a:gd name="textAreaBottom" fmla="*/ 3086280 h 6172200"/>
            </a:gdLst>
            <a:ahLst/>
            <a:rect l="textAreaLeft" t="textAreaTop" r="textAreaRight" b="textAreaBottom"/>
            <a:pathLst>
              <a:path stroke="0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  <a:lnTo>
                  <a:pt x="3505200" y="3086100"/>
                </a:lnTo>
                <a:close/>
              </a:path>
              <a:path fill="none" w="7010400" h="6172200">
                <a:moveTo>
                  <a:pt x="3505204" y="0"/>
                </a:moveTo>
                <a:lnTo>
                  <a:pt x="3505204" y="0"/>
                </a:lnTo>
                <a:arcTo wR="3505200" hR="3086100" stAng="-5399996" swAng="5400003"/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4100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057400" y="2590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VO2 = (Hgb)(CO)(SaO2-SvO2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3AF1-FD12-4121-B293-520377CAF7E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Mixed Venous Oxygen Satur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xygen saturation returning to the right heart (ScvO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 regular central lin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terminants of S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deliver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xygen extr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 values indicate (≥70%)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equate tissue perfu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or tissue extraction of oxyg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al values in sho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400" spc="-1" strike="noStrike" baseline="-14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≥70%, SvO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≥ 65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N Engl J Med. 2001; 345: 1368-7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227-61E9-4BAD-9B8A-6ACF00E0DC8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arly-Goal Directed Therapy in Septic Shoc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re Sa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≥92% or PaO2 ≥6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uids until CVP 8-12 mmH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AP&lt;65 mmHg, add norepinephrine or dop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fuse patient until Hct ≥3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persistent S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&lt;65% or ScvO</a:t>
            </a:r>
            <a:r>
              <a:rPr b="0" lang="en-US" sz="2800" spc="-1" strike="noStrike" baseline="-14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7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rt dobutamine at 3-5 mcg/kg/min and titrate up to 20 mcg/kg/m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28600" y="60199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14400" y="63961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O2=c(hgb)(CO)(SaO2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AEC-6749-4A95-A29B-BD07A1E87CC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sopressors and Inotrop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3048120"/>
            <a:ext cx="7315200" cy="0"/>
          </a:xfrm>
          <a:prstGeom prst="line">
            <a:avLst/>
          </a:prstGeom>
          <a:ln w="263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8088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ph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7010280" y="1981080"/>
            <a:ext cx="1676520" cy="914400"/>
          </a:xfrm>
          <a:prstGeom prst="downArrowCallout">
            <a:avLst>
              <a:gd name="adj1" fmla="val 45841"/>
              <a:gd name="adj2" fmla="val 45837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8660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ta actio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7621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981080" y="3276720"/>
            <a:ext cx="83844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39625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6934320" y="3276720"/>
            <a:ext cx="838080" cy="2361960"/>
          </a:xfrm>
          <a:prstGeom prst="parallelogram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990720" y="33526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 rot="11091000">
            <a:off x="837720" y="320004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henyl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 rot="11091000">
            <a:off x="2134800" y="3300120"/>
            <a:ext cx="6069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r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 rot="11091000">
            <a:off x="403812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pinephr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 rot="11091000">
            <a:off x="7086240" y="3351960"/>
            <a:ext cx="606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butamin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AutoShape 22"/>
          <p:cNvSpPr/>
          <p:nvPr/>
        </p:nvSpPr>
        <p:spPr>
          <a:xfrm>
            <a:off x="3429000" y="1981080"/>
            <a:ext cx="1752480" cy="914400"/>
          </a:xfrm>
          <a:prstGeom prst="downArrowCallout">
            <a:avLst>
              <a:gd name="adj1" fmla="val 47918"/>
              <a:gd name="adj2" fmla="val 47913"/>
              <a:gd name="adj3" fmla="val 16667"/>
              <a:gd name="adj4" fmla="val 66667"/>
            </a:avLst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pha=Bet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2895480" y="6095880"/>
            <a:ext cx="2971800" cy="457200"/>
          </a:xfrm>
          <a:prstGeom prst="rect">
            <a:avLst/>
          </a:prstGeom>
          <a:solidFill>
            <a:srgbClr val="dac92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81952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pamin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2578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22860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igh dos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" name="Line 27"/>
          <p:cNvSpPr/>
          <p:nvPr/>
        </p:nvSpPr>
        <p:spPr>
          <a:xfrm flipH="1">
            <a:off x="205704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6400800" y="1371600"/>
            <a:ext cx="6858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Steroids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V Hydrocortisone 200-300 mg/day in divided doses should be considered only for adult septic shock patients after adequate fluid resuscitation and vasopresser therapy to maintain blood press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H stimulation test should not be used identify the subset of adults with septic shock who should receive hydrocortiso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lycemic Control in Septic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llowing initial stabilization, patients with severe sepsis and hyperglycemia who are admitted to the ICU should receive intravenous insulin therapy to reduce blood glucose levels to &lt;150 mg/d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mbinant Hum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ctivated Protein C (rhAPC)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hAPC may be considered in adult patients with sepsis-induced organ dysfunction associated with a clinical assessment of high risk of death, most of whom will have Acute Physiology and Chronic Health Evaluation (APACHE) II ≥25 or multiple organ failur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2133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ute Lung Injury and AR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tidal volumes ≤ 6 mL/k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rget plateau pressures ≤ 30 cm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ypercapnia is allow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DSnet protoco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of bed &gt; 30 degr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ood Produc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e absence of an oxygen delivery problem, routine transfusion in the ICU unless Hgb &lt; 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FFP only for patients with bleeding or planned invasive procedu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platelets only for counts &lt; 5000 unless bleeding or planned proced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dation, Analgesia, Neuromuscular Blocka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dation protocols should be used in all ventilated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ily weaning trials and daily awak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muscular blockading agents used sparingly if at al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carbonate Therap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carbonate therapy should be only be given in severe acidosis ≤ 7.1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-6120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VT and Stress Ulcer Pro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VT prophylaxis with LMWH or UFH should be used.  In high risk patient use in conjunction with mechanical compre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ress ulcer prophylaxis with H2RA or PPI should be considered in all ventilated and high risk pati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2RA are prefer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ideration of Limitation of Suppo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uss advance care planning with patients and families. Describe likely outcomes and set realistic expecta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Poi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nk about sepsis and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eat shock ear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onger you wait the greater chance the patient will have of dy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wait until the patient is in the ICU to tre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d I mention treat early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2057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"/>
              </a:rPr>
              <a:t>CO = (HR) (SV)</a:t>
            </a:r>
            <a:endParaRPr b="0" lang="en-US" sz="7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H="1">
            <a:off x="4190760" y="3124080"/>
            <a:ext cx="1600200" cy="914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8120" y="3962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Volume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429000" y="4572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V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AWP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791320" y="3124080"/>
            <a:ext cx="1143000" cy="838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032520" y="39625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ntractility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Hemodynamic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BP ≈ (SVR)(CO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≈ 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(SVR)(HR)(SV)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59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819520"/>
          <a:ext cx="762012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fferent types of shoc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819520"/>
          <a:ext cx="7620120" cy="1198440"/>
        </p:xfrm>
        <a:graphic>
          <a:graphicData uri="http://schemas.openxmlformats.org/drawingml/2006/table">
            <a:tbl>
              <a:tblPr/>
              <a:tblGrid>
                <a:gridCol w="1524240"/>
                <a:gridCol w="1238040"/>
                <a:gridCol w="2095560"/>
                <a:gridCol w="123840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VP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ntractility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V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80800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gen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8d8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volemic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</a:t>
                      </a:r>
                      <a:endParaRPr b="0" lang="en-US" sz="1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dede7"/>
                    </a:solidFill>
                  </a:tcPr>
                </a:tc>
              </a:tr>
            </a:tbl>
          </a:graphicData>
        </a:graphic>
      </p:graphicFrame>
      <p:sp>
        <p:nvSpPr>
          <p:cNvPr id="111" name="Oval 3"/>
          <p:cNvSpPr/>
          <p:nvPr/>
        </p:nvSpPr>
        <p:spPr>
          <a:xfrm>
            <a:off x="5334120" y="2438280"/>
            <a:ext cx="3200400" cy="22860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2:16:29Z</dcterms:created>
  <dc:creator>HCMARTINEZ</dc:creator>
  <dc:description/>
  <dc:language>en-US</dc:language>
  <cp:lastModifiedBy>HCMARTINEZ</cp:lastModifiedBy>
  <dcterms:modified xsi:type="dcterms:W3CDTF">2009-06-02T23:33:02Z</dcterms:modified>
  <cp:revision>104</cp:revision>
  <dc:subject/>
  <dc:title>Postoperative Care: Shock in the Surgical Patient</dc:title>
</cp:coreProperties>
</file>