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D72F-AF5F-4A98-B6C6-A11405FE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427C-651F-4307-BA42-45192232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7949-250A-457C-9976-585D048EE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15F2-A2EE-40F9-8F21-3240452DC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184D-F35E-427A-BF85-D1847EB9C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2FA5-DA97-4A33-9A3E-0C5D446A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5ECD-B3A8-4E9C-AF17-D221E4DF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49DB-0D68-4DC0-A919-21BAFF8B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D4C7-50D6-4217-8DB9-906B4B24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DBF1-1B4D-413C-B347-BE8717CF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AD09-7B6B-41CC-844F-E8DA472A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257A-68E6-4899-B9FD-2255C284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14C3-1821-4302-BBF8-5D9C000A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11BF-218E-4F81-B5BB-6F64A7D2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79C0-1CE9-4CFE-B9EB-1FC46BD2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E748-1E5B-4C6A-A6B6-79EEE5845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B146-4F92-4C7A-8FFD-5C103510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2151-2AED-492C-88F7-A23BB5B3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E27C-C571-4A0E-A567-87541EB0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464D-698C-4BC3-BE76-E560BDD6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580D-D293-4E9B-B162-908732C3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91F2-905B-4DA1-A687-DCAA5E3D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9425-59F9-4CE2-907D-D0BE9C70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FC19-37FA-42AF-B5EB-579AE578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D:\FRONTPAGE THEMES\ARTSY\ARTHSEPA.PNG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54FD-D430-4683-AE38-B3C66D620718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D:\FRONTPAGE THEMES\ARTSY\ARTBANNA.PNG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7479-C655-43AD-A264-FD2F3AA766D1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905120"/>
            <a:ext cx="853416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ptic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8080" y="3657600"/>
            <a:ext cx="7493040" cy="18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uart Forman MD, FAAFP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tra Costa Regional Medical Cent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une 200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2819520"/>
          <a:ext cx="7620120" cy="119844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  <p:sp>
        <p:nvSpPr>
          <p:cNvPr id="114" name="Oval 3"/>
          <p:cNvSpPr/>
          <p:nvPr/>
        </p:nvSpPr>
        <p:spPr>
          <a:xfrm>
            <a:off x="5334120" y="2438280"/>
            <a:ext cx="3200400" cy="228600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523880" y="4724280"/>
            <a:ext cx="632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ardiogenic and Hypovolemic shock are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UMP PROBLEMS.  The bodies hemodynamic responses are INTACT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09480" y="2819520"/>
          <a:ext cx="7620120" cy="15699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09480" y="2819520"/>
          <a:ext cx="7620120" cy="15699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2819520"/>
          <a:ext cx="7620120" cy="15699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</a:tbl>
          </a:graphicData>
        </a:graphic>
      </p:graphicFrame>
      <p:sp>
        <p:nvSpPr>
          <p:cNvPr id="122" name="TextBox 3"/>
          <p:cNvSpPr/>
          <p:nvPr/>
        </p:nvSpPr>
        <p:spPr>
          <a:xfrm>
            <a:off x="1143000" y="4876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eptic shock causes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direct effects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on end organs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Spectrum of Sepsi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fec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acteremi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ystemic Inflammatory Response Syndrome (SIR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ps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re Seps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ptic Shoc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ultiorgan Dysfunction Syndrome (MOD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-123840" y="-23760"/>
            <a:ext cx="926784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arly Recognition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You can have shock with “normal” blood pressu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hock will present with signs of end organ hypoperfus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creased urine outpu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ltered mental statu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lactat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BUN/C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cute lung injur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arly Treatment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suscit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nd the sour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lood cultures before antibiotic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arly broad spectrum antibiotic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p the pimp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boratory Examin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BC/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cta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ytes, BUN, Cr, LF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T/PT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lood cultu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y relevant x-ray stud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Delive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8680" y="1941480"/>
            <a:ext cx="8208720" cy="4114800"/>
          </a:xfrm>
          <a:prstGeom prst="rect">
            <a:avLst/>
          </a:prstGeom>
          <a:ln w="0">
            <a:noFill/>
          </a:ln>
        </p:spPr>
      </p:pic>
      <p:sp>
        <p:nvSpPr>
          <p:cNvPr id="134" name="Slide Number Placeholder 2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6034-25FF-4B57-A1C4-ECF18202ED00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5" name="Heart 3"/>
          <p:cNvSpPr/>
          <p:nvPr/>
        </p:nvSpPr>
        <p:spPr>
          <a:xfrm>
            <a:off x="1295280" y="2057400"/>
            <a:ext cx="1905120" cy="1981080"/>
          </a:xfrm>
          <a:custGeom>
            <a:avLst/>
            <a:gdLst>
              <a:gd name="textAreaLeft" fmla="*/ 317520 w 1905120"/>
              <a:gd name="textAreaRight" fmla="*/ 1587600 w 1905120"/>
              <a:gd name="textAreaTop" fmla="*/ 495360 h 1981080"/>
              <a:gd name="textAreaBottom" fmla="*/ 1320840 h 1981080"/>
            </a:gdLst>
            <a:ahLst/>
            <a:rect l="textAreaLeft" t="textAreaTop" r="textAreaRight" b="textAreaBottom"/>
            <a:pathLst>
              <a:path w="1905000" h="1981200">
                <a:moveTo>
                  <a:pt x="952500" y="495300"/>
                </a:moveTo>
                <a:cubicBezTo>
                  <a:pt x="1349375" y="-660400"/>
                  <a:pt x="2897187" y="495300"/>
                  <a:pt x="952500" y="1981200"/>
                </a:cubicBezTo>
                <a:cubicBezTo>
                  <a:pt x="-992187" y="495300"/>
                  <a:pt x="555625" y="-660400"/>
                  <a:pt x="952500" y="495300"/>
                </a:cubicBez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6" name="Right Arrow 4"/>
          <p:cNvSpPr/>
          <p:nvPr/>
        </p:nvSpPr>
        <p:spPr>
          <a:xfrm>
            <a:off x="3124080" y="2514600"/>
            <a:ext cx="1676520" cy="5335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08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3276720" y="2209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Oxygen out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8" name="Hexagon 6"/>
          <p:cNvSpPr/>
          <p:nvPr/>
        </p:nvSpPr>
        <p:spPr>
          <a:xfrm>
            <a:off x="4876920" y="2362320"/>
            <a:ext cx="914400" cy="8380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f0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9" name="Hexagon 7"/>
          <p:cNvSpPr/>
          <p:nvPr/>
        </p:nvSpPr>
        <p:spPr>
          <a:xfrm>
            <a:off x="5791320" y="2362320"/>
            <a:ext cx="914400" cy="8380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f0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0" name="Hexagon 8"/>
          <p:cNvSpPr/>
          <p:nvPr/>
        </p:nvSpPr>
        <p:spPr>
          <a:xfrm>
            <a:off x="6705720" y="2362320"/>
            <a:ext cx="914400" cy="8380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f0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029200" y="2362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Hgb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2" name="TextBox 11"/>
          <p:cNvSpPr/>
          <p:nvPr/>
        </p:nvSpPr>
        <p:spPr>
          <a:xfrm>
            <a:off x="5943600" y="24382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Hgb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6858000" y="24382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Hgb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6019920" y="28195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O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6934320" y="2743200"/>
            <a:ext cx="43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O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5108400" y="2743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O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3280320" y="4038480"/>
            <a:ext cx="447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= c(CO)(Hgb)(SaO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Shock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hock is a critical condition manifested by a failure of the circulatory system to maintain adequate perfusion to vital organs resulting in anaerobic metabolism and if uncorrected is incompatible with lif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Delive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 = (HR)(SV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xygen delive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xygen satur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gb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rdiac outpu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2 = (Hgb)(CO)(SaO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Consump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8680" y="1941480"/>
            <a:ext cx="8208720" cy="4114800"/>
          </a:xfrm>
          <a:prstGeom prst="rect">
            <a:avLst/>
          </a:prstGeom>
          <a:ln w="0">
            <a:noFill/>
          </a:ln>
        </p:spPr>
      </p:pic>
      <p:sp>
        <p:nvSpPr>
          <p:cNvPr id="152" name="Slide Number Placeholder 1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BA2C-44D8-4C5D-9150-90AE640A37AE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53" name="Group 44"/>
          <p:cNvGrpSpPr/>
          <p:nvPr/>
        </p:nvGrpSpPr>
        <p:grpSpPr>
          <a:xfrm>
            <a:off x="609480" y="1752480"/>
            <a:ext cx="7315200" cy="3886200"/>
            <a:chOff x="609480" y="1752480"/>
            <a:chExt cx="7315200" cy="3886200"/>
          </a:xfrm>
        </p:grpSpPr>
        <p:grpSp>
          <p:nvGrpSpPr>
            <p:cNvPr id="154" name="Group 27"/>
            <p:cNvGrpSpPr/>
            <p:nvPr/>
          </p:nvGrpSpPr>
          <p:grpSpPr>
            <a:xfrm>
              <a:off x="3947760" y="1752480"/>
              <a:ext cx="3976920" cy="1194480"/>
              <a:chOff x="3947760" y="1752480"/>
              <a:chExt cx="3976920" cy="1194480"/>
            </a:xfrm>
          </p:grpSpPr>
          <p:sp>
            <p:nvSpPr>
              <p:cNvPr id="155" name="Heart 15"/>
              <p:cNvSpPr/>
              <p:nvPr/>
            </p:nvSpPr>
            <p:spPr>
              <a:xfrm>
                <a:off x="3947760" y="1752480"/>
                <a:ext cx="1198080" cy="1065600"/>
              </a:xfrm>
              <a:custGeom>
                <a:avLst/>
                <a:gdLst>
                  <a:gd name="textAreaLeft" fmla="*/ 199440 w 1198080"/>
                  <a:gd name="textAreaRight" fmla="*/ 998640 w 1198080"/>
                  <a:gd name="textAreaTop" fmla="*/ 266400 h 1065600"/>
                  <a:gd name="textAreaBottom" fmla="*/ 710640 h 1065600"/>
                </a:gdLst>
                <a:ahLst/>
                <a:rect l="textAreaLeft" t="textAreaTop" r="textAreaRight" b="textAreaBottom"/>
                <a:pathLst>
                  <a:path w="1905465" h="1980534">
                    <a:moveTo>
                      <a:pt x="952733" y="495134"/>
                    </a:moveTo>
                    <a:cubicBezTo>
                      <a:pt x="1349704" y="-660178"/>
                      <a:pt x="2897895" y="495134"/>
                      <a:pt x="952733" y="1980534"/>
                    </a:cubicBezTo>
                    <a:cubicBezTo>
                      <a:pt x="-992430" y="495134"/>
                      <a:pt x="555761" y="-660178"/>
                      <a:pt x="952733" y="495134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6" name="Right Arrow 16"/>
              <p:cNvSpPr/>
              <p:nvPr/>
            </p:nvSpPr>
            <p:spPr>
              <a:xfrm>
                <a:off x="5097240" y="1998360"/>
                <a:ext cx="1054080" cy="286920"/>
              </a:xfrm>
              <a:prstGeom prst="rightArrow">
                <a:avLst>
                  <a:gd name="adj1" fmla="val 50000"/>
                  <a:gd name="adj2" fmla="val 58440"/>
                </a:avLst>
              </a:prstGeom>
              <a:solidFill>
                <a:srgbClr val="ff0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7" name="Hexagon 18"/>
              <p:cNvSpPr/>
              <p:nvPr/>
            </p:nvSpPr>
            <p:spPr>
              <a:xfrm>
                <a:off x="6199560" y="1916280"/>
                <a:ext cx="574920" cy="451080"/>
              </a:xfrm>
              <a:prstGeom prst="hexagon">
                <a:avLst>
                  <a:gd name="adj" fmla="val 29208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8" name="Hexagon 19"/>
              <p:cNvSpPr/>
              <p:nvPr/>
            </p:nvSpPr>
            <p:spPr>
              <a:xfrm>
                <a:off x="6774840" y="1916280"/>
                <a:ext cx="574920" cy="451080"/>
              </a:xfrm>
              <a:prstGeom prst="hexagon">
                <a:avLst>
                  <a:gd name="adj" fmla="val 29208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9" name="Hexagon 20"/>
              <p:cNvSpPr/>
              <p:nvPr/>
            </p:nvSpPr>
            <p:spPr>
              <a:xfrm>
                <a:off x="7349760" y="1916280"/>
                <a:ext cx="574920" cy="451080"/>
              </a:xfrm>
              <a:prstGeom prst="hexagon">
                <a:avLst>
                  <a:gd name="adj" fmla="val 29208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60" name="Rectangle 25"/>
              <p:cNvSpPr/>
              <p:nvPr/>
            </p:nvSpPr>
            <p:spPr>
              <a:xfrm>
                <a:off x="7493400" y="2121480"/>
                <a:ext cx="271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161" name="Bent Arrow 30"/>
            <p:cNvSpPr/>
            <p:nvPr/>
          </p:nvSpPr>
          <p:spPr>
            <a:xfrm flipH="1" flipV="1">
              <a:off x="5465880" y="2566800"/>
              <a:ext cx="1879560" cy="2570400"/>
            </a:xfrm>
            <a:custGeom>
              <a:avLst/>
              <a:gdLst/>
              <a:ahLst/>
              <a:rect l="l" t="t" r="r" b="b"/>
              <a:pathLst>
                <a:path w="1980836" h="3124511">
                  <a:moveTo>
                    <a:pt x="0" y="3124511"/>
                  </a:moveTo>
                  <a:lnTo>
                    <a:pt x="0" y="1114220"/>
                  </a:lnTo>
                  <a:lnTo>
                    <a:pt x="0" y="1114220"/>
                  </a:lnTo>
                  <a:arcTo wR="866616" hR="866616" stAng="-10799996" swAng="5400004"/>
                  <a:lnTo>
                    <a:pt x="1485627" y="247605"/>
                  </a:lnTo>
                  <a:lnTo>
                    <a:pt x="1485627" y="0"/>
                  </a:lnTo>
                  <a:lnTo>
                    <a:pt x="1980836" y="495209"/>
                  </a:lnTo>
                  <a:lnTo>
                    <a:pt x="1485627" y="990418"/>
                  </a:lnTo>
                  <a:lnTo>
                    <a:pt x="1485627" y="742814"/>
                  </a:lnTo>
                  <a:lnTo>
                    <a:pt x="866616" y="742814"/>
                  </a:lnTo>
                  <a:lnTo>
                    <a:pt x="866616" y="742814"/>
                  </a:lnTo>
                  <a:arcTo wR="371407" hR="371407" stAng="-5400000" swAng="-5400000"/>
                  <a:lnTo>
                    <a:pt x="495209" y="3124511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2" name="Smiley Face 31"/>
            <p:cNvSpPr/>
            <p:nvPr/>
          </p:nvSpPr>
          <p:spPr>
            <a:xfrm>
              <a:off x="3586320" y="4008960"/>
              <a:ext cx="1807560" cy="1629720"/>
            </a:xfrm>
            <a:prstGeom prst="smileyFace">
              <a:avLst>
                <a:gd name="adj" fmla="val 9282"/>
              </a:avLst>
            </a:prstGeom>
            <a:solidFill>
              <a:srgbClr val="808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3" name="Bent Arrow 32"/>
            <p:cNvSpPr/>
            <p:nvPr/>
          </p:nvSpPr>
          <p:spPr>
            <a:xfrm rot="16200000">
              <a:off x="1083960" y="2789280"/>
              <a:ext cx="2257560" cy="2313720"/>
            </a:xfrm>
            <a:custGeom>
              <a:avLst/>
              <a:gdLst/>
              <a:ahLst/>
              <a:rect l="l" t="t" r="r" b="b"/>
              <a:pathLst>
                <a:path w="2744321" h="2438466">
                  <a:moveTo>
                    <a:pt x="0" y="2438466"/>
                  </a:moveTo>
                  <a:lnTo>
                    <a:pt x="0" y="1371637"/>
                  </a:lnTo>
                  <a:lnTo>
                    <a:pt x="0" y="1371637"/>
                  </a:lnTo>
                  <a:arcTo wR="1066829" hR="1066829" stAng="-10799997" swAng="5400003"/>
                  <a:lnTo>
                    <a:pt x="2134705" y="304808"/>
                  </a:lnTo>
                  <a:lnTo>
                    <a:pt x="2134705" y="0"/>
                  </a:lnTo>
                  <a:lnTo>
                    <a:pt x="2744321" y="609617"/>
                  </a:lnTo>
                  <a:lnTo>
                    <a:pt x="2134705" y="1219233"/>
                  </a:lnTo>
                  <a:lnTo>
                    <a:pt x="2134705" y="914425"/>
                  </a:lnTo>
                  <a:lnTo>
                    <a:pt x="1066829" y="914425"/>
                  </a:lnTo>
                  <a:lnTo>
                    <a:pt x="1066829" y="914425"/>
                  </a:lnTo>
                  <a:arcTo wR="457212" hR="457212" stAng="-5399992" swAng="-5400000"/>
                  <a:lnTo>
                    <a:pt x="609617" y="2438466"/>
                  </a:lnTo>
                  <a:close/>
                </a:path>
              </a:pathLst>
            </a:custGeom>
            <a:solidFill>
              <a:srgbClr val="6600ff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pic>
          <p:nvPicPr>
            <p:cNvPr id="164" name="Group 42" descr=""/>
            <p:cNvPicPr/>
            <p:nvPr/>
          </p:nvPicPr>
          <p:blipFill>
            <a:blip r:embed="rId2"/>
            <a:stretch/>
          </p:blipFill>
          <p:spPr>
            <a:xfrm>
              <a:off x="609480" y="1865160"/>
              <a:ext cx="2124000" cy="5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Right Arrow 43"/>
            <p:cNvSpPr/>
            <p:nvPr/>
          </p:nvSpPr>
          <p:spPr>
            <a:xfrm>
              <a:off x="2862720" y="1939680"/>
              <a:ext cx="1012680" cy="399960"/>
            </a:xfrm>
            <a:prstGeom prst="rightArrow">
              <a:avLst>
                <a:gd name="adj1" fmla="val 50000"/>
                <a:gd name="adj2" fmla="val 57684"/>
              </a:avLst>
            </a:prstGeom>
            <a:solidFill>
              <a:srgbClr val="7030a0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66" name="TextBox 45"/>
          <p:cNvSpPr/>
          <p:nvPr/>
        </p:nvSpPr>
        <p:spPr>
          <a:xfrm>
            <a:off x="5105520" y="2514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out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7" name="Rectangle 46"/>
          <p:cNvSpPr/>
          <p:nvPr/>
        </p:nvSpPr>
        <p:spPr>
          <a:xfrm>
            <a:off x="2162160" y="2438280"/>
            <a:ext cx="11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in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" name="TextBox 20"/>
          <p:cNvSpPr/>
          <p:nvPr/>
        </p:nvSpPr>
        <p:spPr>
          <a:xfrm>
            <a:off x="2514600" y="56275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Oxygen consumption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(VO2)=  (O2 out) - (O2 in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Consump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xygen consumed by the bod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asure oxygen out of the heart minus oxygen into the hea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O2 = DO2 (out) – DO2 (in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O2 = (Hgb)(CO)(SaO2-SvO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O2 and VO2 in sepsi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cxnSp>
        <p:nvCxnSpPr>
          <p:cNvPr id="172" name="AutoShape 3"/>
          <p:cNvCxnSpPr/>
          <p:nvPr/>
        </p:nvCxnSpPr>
        <p:spPr>
          <a:xfrm>
            <a:off x="1447560" y="2437920"/>
            <a:ext cx="1080" cy="350604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73" name="AutoShape 4"/>
          <p:cNvCxnSpPr/>
          <p:nvPr/>
        </p:nvCxnSpPr>
        <p:spPr>
          <a:xfrm>
            <a:off x="1447560" y="5943240"/>
            <a:ext cx="5105880" cy="108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74" name="AutoShape 5"/>
          <p:cNvCxnSpPr/>
          <p:nvPr/>
        </p:nvCxnSpPr>
        <p:spPr>
          <a:xfrm flipV="1">
            <a:off x="2133720" y="3733200"/>
            <a:ext cx="2591280" cy="160092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75" name="AutoShape 6"/>
          <p:cNvCxnSpPr/>
          <p:nvPr/>
        </p:nvCxnSpPr>
        <p:spPr>
          <a:xfrm flipV="1">
            <a:off x="4723920" y="3047400"/>
            <a:ext cx="2515320" cy="68652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sp>
        <p:nvSpPr>
          <p:cNvPr id="176" name="Text Box 7"/>
          <p:cNvSpPr/>
          <p:nvPr/>
        </p:nvSpPr>
        <p:spPr>
          <a:xfrm>
            <a:off x="228600" y="3581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VO2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124080" y="6324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O2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" name="Arc 20"/>
          <p:cNvSpPr/>
          <p:nvPr/>
        </p:nvSpPr>
        <p:spPr>
          <a:xfrm flipH="1" flipV="1">
            <a:off x="1675440" y="-381240"/>
            <a:ext cx="7010280" cy="6172200"/>
          </a:xfrm>
          <a:custGeom>
            <a:avLst/>
            <a:gdLst>
              <a:gd name="textAreaLeft" fmla="*/ 3505320 w 7010280"/>
              <a:gd name="textAreaRight" fmla="*/ 7010640 w 7010280"/>
              <a:gd name="textAreaTop" fmla="*/ 0 h 6172200"/>
              <a:gd name="textAreaBottom" fmla="*/ 3086280 h 6172200"/>
            </a:gdLst>
            <a:ahLst/>
            <a:rect l="textAreaLeft" t="textAreaTop" r="textAreaRight" b="textAreaBottom"/>
            <a:pathLst>
              <a:path stroke="0" w="7010400" h="6172200">
                <a:moveTo>
                  <a:pt x="3505204" y="0"/>
                </a:moveTo>
                <a:lnTo>
                  <a:pt x="3505204" y="0"/>
                </a:lnTo>
                <a:arcTo wR="3505200" hR="3086100" stAng="-5399996" swAng="5400003"/>
                <a:lnTo>
                  <a:pt x="3505200" y="3086100"/>
                </a:lnTo>
                <a:close/>
              </a:path>
              <a:path fill="none" w="7010400" h="6172200">
                <a:moveTo>
                  <a:pt x="3505204" y="0"/>
                </a:moveTo>
                <a:lnTo>
                  <a:pt x="3505204" y="0"/>
                </a:lnTo>
                <a:arcTo wR="3505200" hR="3086100" stAng="-5399996" swAng="5400003"/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5410080" y="5486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ctat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2057400" y="25909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VO2 = (Hgb)(CO)(SaO2-SvO2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711D-7E10-4AD0-98B8-B8AC25966BAD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3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Mixed Venous Oxygen Saturation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v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s the oxygen saturation returning to the right heart (ScvO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for regular central line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terminants of SvO</a:t>
            </a:r>
            <a:r>
              <a:rPr b="0" lang="en-US" sz="24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Oxygen deliver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Oxygen extrac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igh values indicate (≥70%)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dequate tissue perfus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oor tissue extraction of oxyge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oal values in shock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cvO</a:t>
            </a:r>
            <a:r>
              <a:rPr b="0" lang="en-US" sz="2400" spc="-1" strike="noStrike" baseline="-14000">
                <a:solidFill>
                  <a:srgbClr val="ffff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≥70%, SvO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≥ 65%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4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N Engl J Med. 2001; 345: 1368-77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E997-DC5C-4095-81D8-297780E65C35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7160" y="173160"/>
            <a:ext cx="8637480" cy="131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Early-Goal Directed Therapy in Septic Shock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ssure Sa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≥92% or PaO2 ≥60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luids until CVP 8-12 mmHg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f MAP&lt;65 mmHg, add norepinephrine or dopami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cv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&lt;70%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ransfuse patient until Hct ≥30%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f persistent Sv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&lt;65% or Scv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&lt;70%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tart dobutamine at 3-5 mcg/kg/min and titrate up to 20 mcg/kg/mi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228600" y="6019920"/>
            <a:ext cx="289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914400" y="639612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DO2=c(hgb)(CO)(SaO2)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4829-2609-4828-9A6E-42EFDE1734D4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asopressors and Inotrop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914400" y="3048120"/>
            <a:ext cx="7315200" cy="0"/>
          </a:xfrm>
          <a:prstGeom prst="line">
            <a:avLst/>
          </a:prstGeom>
          <a:ln w="263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304920" y="1981080"/>
            <a:ext cx="1752480" cy="914400"/>
          </a:xfrm>
          <a:prstGeom prst="downArrowCallout">
            <a:avLst>
              <a:gd name="adj1" fmla="val 47918"/>
              <a:gd name="adj2" fmla="val 47913"/>
              <a:gd name="adj3" fmla="val 16667"/>
              <a:gd name="adj4" fmla="val 66667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38088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pha action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7010280" y="1981080"/>
            <a:ext cx="1676520" cy="914400"/>
          </a:xfrm>
          <a:prstGeom prst="downArrowCallout">
            <a:avLst>
              <a:gd name="adj1" fmla="val 45841"/>
              <a:gd name="adj2" fmla="val 45837"/>
              <a:gd name="adj3" fmla="val 16667"/>
              <a:gd name="adj4" fmla="val 66667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7086600" y="2057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eta action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7" name="AutoShape 12"/>
          <p:cNvSpPr/>
          <p:nvPr/>
        </p:nvSpPr>
        <p:spPr>
          <a:xfrm>
            <a:off x="762120" y="3276720"/>
            <a:ext cx="838080" cy="2361960"/>
          </a:xfrm>
          <a:prstGeom prst="parallelogram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8" name="AutoShape 13"/>
          <p:cNvSpPr/>
          <p:nvPr/>
        </p:nvSpPr>
        <p:spPr>
          <a:xfrm>
            <a:off x="1981080" y="3276720"/>
            <a:ext cx="838440" cy="2361960"/>
          </a:xfrm>
          <a:prstGeom prst="parallelogram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9" name="AutoShape 14"/>
          <p:cNvSpPr/>
          <p:nvPr/>
        </p:nvSpPr>
        <p:spPr>
          <a:xfrm>
            <a:off x="3962520" y="3276720"/>
            <a:ext cx="838080" cy="2361960"/>
          </a:xfrm>
          <a:prstGeom prst="parallelogram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0" name="AutoShape 15"/>
          <p:cNvSpPr/>
          <p:nvPr/>
        </p:nvSpPr>
        <p:spPr>
          <a:xfrm>
            <a:off x="6934320" y="3276720"/>
            <a:ext cx="838080" cy="2361960"/>
          </a:xfrm>
          <a:prstGeom prst="parallelogram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990720" y="33526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2" name="Text Box 17"/>
          <p:cNvSpPr/>
          <p:nvPr/>
        </p:nvSpPr>
        <p:spPr>
          <a:xfrm rot="11091000">
            <a:off x="837720" y="3200040"/>
            <a:ext cx="606960" cy="22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henylephrin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3" name="Text Box 18"/>
          <p:cNvSpPr/>
          <p:nvPr/>
        </p:nvSpPr>
        <p:spPr>
          <a:xfrm rot="11091000">
            <a:off x="2134800" y="3300120"/>
            <a:ext cx="606960" cy="22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orepinephrin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4" name="Text Box 19"/>
          <p:cNvSpPr/>
          <p:nvPr/>
        </p:nvSpPr>
        <p:spPr>
          <a:xfrm rot="11091000">
            <a:off x="4038120" y="3351960"/>
            <a:ext cx="606960" cy="22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pinephrin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5" name="Text Box 20"/>
          <p:cNvSpPr/>
          <p:nvPr/>
        </p:nvSpPr>
        <p:spPr>
          <a:xfrm rot="11091000">
            <a:off x="7086240" y="3351960"/>
            <a:ext cx="606960" cy="22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obutamin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" name="AutoShape 22"/>
          <p:cNvSpPr/>
          <p:nvPr/>
        </p:nvSpPr>
        <p:spPr>
          <a:xfrm>
            <a:off x="3429000" y="1981080"/>
            <a:ext cx="1752480" cy="914400"/>
          </a:xfrm>
          <a:prstGeom prst="downArrowCallout">
            <a:avLst>
              <a:gd name="adj1" fmla="val 47918"/>
              <a:gd name="adj2" fmla="val 47913"/>
              <a:gd name="adj3" fmla="val 16667"/>
              <a:gd name="adj4" fmla="val 66667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pha=Beta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7" name="Rectangle 23"/>
          <p:cNvSpPr/>
          <p:nvPr/>
        </p:nvSpPr>
        <p:spPr>
          <a:xfrm>
            <a:off x="2895480" y="6095880"/>
            <a:ext cx="2971800" cy="457200"/>
          </a:xfrm>
          <a:prstGeom prst="rect">
            <a:avLst/>
          </a:prstGeom>
          <a:solidFill>
            <a:srgbClr val="dac92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2819520" y="60958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pamin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525780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ow dos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2286000" y="5715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High dos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1" name="Line 27"/>
          <p:cNvSpPr/>
          <p:nvPr/>
        </p:nvSpPr>
        <p:spPr>
          <a:xfrm flipH="1">
            <a:off x="2057040" y="1371600"/>
            <a:ext cx="68580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2" name="Line 28"/>
          <p:cNvSpPr/>
          <p:nvPr/>
        </p:nvSpPr>
        <p:spPr>
          <a:xfrm>
            <a:off x="6400800" y="1371600"/>
            <a:ext cx="68580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le of Steroids in Septic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V Hydrocortisone 200-300 mg/day in divided doses should be considered only for adult septic shock patients after adequate fluid resuscitation and vasopresser therapy to maintain blood pressur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CTH stimulation test should not be used identify the subset of adults with septic shock who should receive hydrocortison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lycemic Control in Septic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llowing initial stabilization, patients with severe sepsis and hyperglycemia who are admitted to the ICU should receive intravenous insulin therapy to reduce blood glucose levels to &lt;150 mg/d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637480" cy="107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ecombinant Human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ctivated Protein C (rhAPC)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hAPC may be considered in adult patients with sepsis-induced organ dysfunction associated with a clinical assessment of high risk of death, most of whom will have Acute Physiology and Chronic Health Evaluation (APACHE) II ≥25 or multiple organ failur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Hemodynamic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213372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CO = (HR) (SV)</a:t>
            </a:r>
            <a:endParaRPr b="0" lang="en-US" sz="7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cute Lung Injury and AR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arget tidal volumes ≤ 6 mL/k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arget plateau pressures ≤ 30 cm wat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ypercapnia is allow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RDSnet protocol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ad of bed &gt; 30 degre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lood Produc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 the absence of an oxygen delivery problem, routine transfusion in the ICU unless Hgb &lt; 7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ive FFP only for patients with bleeding or planned invasive procedu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ive platelets only for counts &lt; 5000 unless bleeding or planned proced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63748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dation, Analgesia, Neuromuscular Blocka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dation protocols should be used in all ventilated pati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aily weaning trials and daily awaken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uromuscular blockading agents used sparingly if at all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icarbonate Therap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icarbonate therapy should be only be given in severe acidosis ≤ 7.15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560" y="-6120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VT and Stress Ulcer Prophylaxi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VT prophylaxis with LMWH or UFH should be used.  In high risk patient use in conjunction with mechanical compress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ress ulcer prophylaxis with H2RA or PPI should be considered in all ventilated and high risk pati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2RA are preferr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63748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sideration of Limitation of Suppor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scuss advance care planning with patients and families. Describe likely outcomes and set realistic expectation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ake Home Poin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nk about sepsis and shock earl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reat shock earl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longer you wait the greater chance the patient will have of dying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n’t wait until the patient is in the ICU to tre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d I mention treat early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Hemodynamic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33520" y="205740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CO = (HR) (SV)</a:t>
            </a:r>
            <a:endParaRPr b="0" lang="en-US" sz="7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 flipH="1">
            <a:off x="4190760" y="3124080"/>
            <a:ext cx="1600200" cy="9144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048120" y="39625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Volume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3429000" y="45720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VP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AWP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9" name="Line 24"/>
          <p:cNvSpPr/>
          <p:nvPr/>
        </p:nvSpPr>
        <p:spPr>
          <a:xfrm>
            <a:off x="5791320" y="3124080"/>
            <a:ext cx="1143000" cy="8384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6032520" y="396252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“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Contractility”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Hemodynamic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BP ≈ (SVR)(CO)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≈ 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(SVR)(HR)(SV)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09480" y="2819520"/>
          <a:ext cx="7620120" cy="11127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09480" y="2819520"/>
          <a:ext cx="7620120" cy="11127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09480" y="2819520"/>
          <a:ext cx="7620120" cy="119844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09480" y="2819520"/>
          <a:ext cx="7620120" cy="119844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  <p:sp>
        <p:nvSpPr>
          <p:cNvPr id="111" name="Oval 3"/>
          <p:cNvSpPr/>
          <p:nvPr/>
        </p:nvSpPr>
        <p:spPr>
          <a:xfrm>
            <a:off x="5334120" y="2438280"/>
            <a:ext cx="3200400" cy="228600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22:16:29Z</dcterms:created>
  <dc:creator>HCMARTINEZ</dc:creator>
  <dc:description/>
  <dc:language>en-US</dc:language>
  <cp:lastModifiedBy>HCMARTINEZ</cp:lastModifiedBy>
  <dcterms:modified xsi:type="dcterms:W3CDTF">2009-06-02T23:33:02Z</dcterms:modified>
  <cp:revision>104</cp:revision>
  <dc:subject/>
  <dc:title>Postoperative Care: Shock in the Surgical Patient</dc:title>
</cp:coreProperties>
</file>