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4F1-59CB-4437-A8DF-CF2FD5D4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AAD-ABA3-47F5-B3BF-931C980F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29C-BDB3-46E5-953A-9A5C054F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D37-D190-4EE7-8E78-A89A0247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52FA-806D-48C5-9AC3-D7F076AC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A702-7FE8-4D87-A1C1-CFFBBA8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2C80-39BE-47A6-9820-6D8A93FF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284F-0BAB-4E7F-B563-0A06E1F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DE1-CDD0-489B-860A-E36BA18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A02D-6C4F-4136-BF40-E4DFAB89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15A1-E253-46B6-9303-84C7C60B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470-9A07-412B-95DA-BCBE2B4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D7C-8B6E-4CD9-91B3-C8FD55E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CFA9-E44E-46B9-B21E-7ECD614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A61-7186-4096-9A30-D027D06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C992-8880-4526-9C17-93BFC1E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CBA9-2E7F-4D8F-A053-861CB23D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0BD-91AD-40CE-8D32-75FBD804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94E-413D-41D0-9F90-AF5228C1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D7A-A1D3-4506-81A4-CD322AA7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8F9-593D-4F70-BB64-4CA592DA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8B8-B0AD-4C14-9D31-742983B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6F4-0DB6-4B28-9F44-4F7761E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7A3-06CE-495C-88DC-F59A2F22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36D2-B99D-491A-8599-FF108419DD9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0129-E6BF-4624-986A-387B8CD91FA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, FAAF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4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60BB-3226-4DFC-BA42-3539EEC6AD5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2D11-A45E-44B2-B4F7-84CB8DBA554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3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4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5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8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4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72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3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4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5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6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695C-DB28-490C-98EB-7F2EC77675A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350-9864-4E57-B43B-79187C14008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92A-D61B-4875-A3A7-A027773D401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09-06-02T23:33:02Z</dcterms:modified>
  <cp:revision>104</cp:revision>
  <dc:subject/>
  <dc:title>Postoperative Care: Shock in the Surgical Patient</dc:title>
</cp:coreProperties>
</file>