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209-4DF4-40F1-9A82-D42AF586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03-E0DE-46A3-8FD0-DB54B81D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F19-4CEE-4751-A109-9BE92551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BD1-A514-43E7-8209-E55546AE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940B-6044-43BF-8AD3-BA4513EF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A6BE-77A1-46DF-BF5C-8049608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6A4A-0C8A-483F-A29C-30CAAEA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C5E1-9184-4A8A-856B-DD1455E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E371-6FC6-4A8B-83A9-203829BA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FCAF-2242-4EFB-BE99-FBA53F7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0F08-4A7C-4222-AF91-C61A2459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BAE-1BCF-41C8-8F58-92D48AF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8EB-DC2F-4DFC-AF02-2A095E37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B16-A2E0-4BDD-AA15-144A3D6D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3388-4FAD-459A-A833-2EF6D42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2FB0-80C4-45A9-8AE3-37FD1416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FD2-C978-4586-8555-4FD542D7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B78-36BB-4F7D-997B-CDA0C30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E7E-462E-4BD7-9E37-E34987E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C59-B582-436C-8F9F-AD408FE6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DE4-4A52-4E05-B104-6E493FCE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F58-F8F1-40DA-8BD2-5129D4FB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46F-7C29-445A-B278-CF10AB0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3CC-F7E8-46D9-B2A6-0807783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0E5-E205-40C4-83C6-2370F283130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662-8598-4943-8A38-351DBFDE90C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819520"/>
          <a:ext cx="7620120" cy="19652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AE8-B56E-4109-ACF5-AC5EA6476DF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885A-A300-43F8-96E5-D6407831304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1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2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4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1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9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0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1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2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3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9528-E596-4F19-90CE-9CFB1FD2D2C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4E47-D3B4-4ABA-8892-950B006F6E8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701-8973-4DF2-9321-4FBFCAD0B3B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10-06-01T21:46:46Z</dcterms:modified>
  <cp:revision>105</cp:revision>
  <dc:subject/>
  <dc:title>Postoperative Care: Shock in the Surgical Patient</dc:title>
</cp:coreProperties>
</file>