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8EF3-E608-4482-B669-C384B3873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joints can be involved in RA, but rarely lumbar spine and DI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an AI disease, can also affect many other organ systems.  Nodules occur in typical places with synovitis, can also occur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RDs not typically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iggers: diuretics, contrast, etoh, tra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ypical monitoring required for people with AI disease: accelerated atherosclerosis, infection, osteoporosis.  Also need to scree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92F-5AA6-4A96-9973-F96B533C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88E-C5D1-48A0-81FB-03D332B9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D8A-1388-41B7-B7C9-45D51D5A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883-39B3-4BE8-8BF2-2BA1F16A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C678-187B-48A0-9144-695E83BA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AB21-5F0C-4CCB-B673-0EFA43D1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2834-3C4B-4B0F-9177-B3E541F5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3786-9607-4364-9BD1-675714DC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1F48-D504-40F9-B077-68D4A75E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9C1A-4AB4-4925-8AF4-EC7570B2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DDF4-8857-4B5C-8AC0-CA7E76D8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3D4-586F-48DC-A360-3AC16D87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5F96-9197-40C0-B70F-E0365D3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FBBE-8574-4B59-8D93-CDE2BCD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D6FC-07C1-46FB-9F64-45204054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6E69-F1E5-4685-9DF0-61736CF0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C940-0084-44B2-85CF-2CD803D8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2CB-DCF0-4D6E-802E-3679F4FC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DB6-75AA-42E7-B4AE-7E8888EE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6E3-A93F-4F58-A068-5099D8DD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9CD-647F-4EC4-A3B8-6DABF074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6B7-8F6C-4844-BF86-5947CEF8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129-4418-48F1-B9C5-8A631A1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6F2-C68F-4A9B-B52D-A7F2C37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9319-D5FF-4764-A93E-BDC1F4D45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BD50-D6D3-44BF-8300-C7C9CAA69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logy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yani McCullough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s and MOP Did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id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ymmetric poly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starts with the PIPs, MCPs, MT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ffect most synovial joints (wrists, knees, elbows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n’t affect D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stiffness, pain, swelling (vs. OA: worse with activit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, anti-CCP Ab or both in 70%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not specific, anti-CCP 90-98%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D, ESR, 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r erosions and joint space narr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int distribution in RA vs. O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4168" b="4168"/>
          <a:stretch/>
        </p:blipFill>
        <p:spPr>
          <a:xfrm>
            <a:off x="5402160" y="1295280"/>
            <a:ext cx="3386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22263" b="2819"/>
          <a:stretch/>
        </p:blipFill>
        <p:spPr>
          <a:xfrm>
            <a:off x="30492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11254" b="0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1932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n neck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xtension of PIPs, flexion of D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tonniere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n of PIP, hyperextension of D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http://classconnection.s3.amazonaws.com/862/flashcards/749862/jpg/swan_neck_and_bouttonniere_deformity1319471979038.jpg"/>
          <p:cNvPicPr/>
          <p:nvPr/>
        </p:nvPicPr>
        <p:blipFill>
          <a:blip r:embed="rId3"/>
          <a:stretch/>
        </p:blipFill>
        <p:spPr>
          <a:xfrm>
            <a:off x="2362320" y="4497480"/>
            <a:ext cx="4038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http://www.osteoarthritisblog.com/wp-content/uploads/2012/03/nodes.jpg"/>
          <p:cNvPicPr/>
          <p:nvPr/>
        </p:nvPicPr>
        <p:blipFill>
          <a:blip r:embed="rId2"/>
          <a:stretch/>
        </p:blipFill>
        <p:spPr>
          <a:xfrm>
            <a:off x="0" y="1219320"/>
            <a:ext cx="5334120" cy="347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images.rheumatology.org/image_dir/album75691/md_99-04-0006.tif.jpg"/>
          <p:cNvPicPr/>
          <p:nvPr/>
        </p:nvPicPr>
        <p:blipFill>
          <a:blip r:embed="rId3"/>
          <a:stretch/>
        </p:blipFill>
        <p:spPr>
          <a:xfrm>
            <a:off x="4952880" y="388296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2720" y="14508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y outgrowths/ calcific spurs on PIPs and D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A – Extra-articular Manifest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xtra-articular find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eumatoid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rgan involve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jogren’s sy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leri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stitial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al eff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pheral neuropat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yloid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0" b="4442"/>
          <a:stretch/>
        </p:blipFill>
        <p:spPr>
          <a:xfrm>
            <a:off x="4724280" y="21337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aggressive treatment leads to better longterm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acu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X frequently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7.5mg weekly, increase to a max dose of 20-25mg wee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with folate 1mg daily to reduce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CBC, AST/ALT, Cr q 3 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indic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ver disease, HBV/HCV, alcohol use, CrCl&lt;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iti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al ulcers, nausea, hepatotoxicity, BMS, pneum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yd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 with involvement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oiliac (SI)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on fas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ament insertion points (enthe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s often involved, assoc with nail pi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ed by GI/GU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es with bowe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dy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kylosing Spondy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mmatory back pain in young ad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in spinal mobility, particularly lumbar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anterior uve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ve risk of HLA-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0" r="5661" b="5176"/>
          <a:stretch/>
        </p:blipFill>
        <p:spPr>
          <a:xfrm>
            <a:off x="4876920" y="914400"/>
            <a:ext cx="3886200" cy="350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7040" y="4711680"/>
            <a:ext cx="405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croili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T, NS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ut – Natural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symptomatic hyperuric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production or under excretion (or bo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cute and intermittent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s triggered by fluctuations in UA level (up or down) and deposition of UA crystals in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monoarthritis, ofte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ack is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years see bony erosions on x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Chronic tophaceous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vide a foundation f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ing patients in Rheumatology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ting started on the work-up of suspected rheumatologic diseases in your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most common rheumatologic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fo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ute att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ost efficacious if initiate treatment within 48h of 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 – indometha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if h/o PUD or renal impair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chis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mg PO x 1, then 0.6mg 1h later and q24h until symptoms impr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 effects: Diarrhea, abdominal pain, NSAIDs better tole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e dose if Cr &gt; 1.5, risk of neuromuscular tox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nisone 20-40mg/d, taper 1-2 wks after symptoms re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Prophyl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 UA&lt;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anthine oxidase inhibitors (decrease produ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purin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rt with 100mg daily, gradually increase d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 is 800mg/d, though 300-400mg usually effe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dose if diminished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sensitivity reaction can be fatal, more common in older patients with impaired Cr on diur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develop rash, st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uxos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bolized by liver, so better with renal impair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with mild-moderate hepatic insuffici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icosuric agents (increase excre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n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&lt;65, good renal function, not on more than ASA 81 da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de effects: rash and GI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g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ittent monoarthritis, often knee/wrist, though can b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omboid shaped, positively birefringent calcium pyrophosphate dihydrate (CPPD)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associated with other diseases: hemochromatosis, thyroid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, colchi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disor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ic lupus erythematosis (S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phospholipid antibody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naud’s phenome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lerode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jogren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rmatomyositis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psing Polychond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affects women of childbearing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system relapsing/remitti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skin, musculoskeletal, renal, CV, pulmonary, GI, CNS, ps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5664" t="0" r="7548" b="0"/>
          <a:stretch/>
        </p:blipFill>
        <p:spPr>
          <a:xfrm>
            <a:off x="5410080" y="990720"/>
            <a:ext cx="3505320" cy="3224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3640" y="4981680"/>
            <a:ext cx="847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Hallmark symptoms: photosensitive rash,       polyarthritis, serositis, fati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Renal and CNS involvement -&gt; significant   morb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ce of antinuclear antibo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NA positive, no need to re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dsDNA and anti-Sm have great specificity, but lack sensi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complementemia may occur during fla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3, C4, CH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, DM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http://upload.wikimedia.org/wikipedia/commons/thumb/2/29/DsDNA_antibodies.jpg/330px-DsDNA_antibodies.jpg"/>
          <p:cNvPicPr/>
          <p:nvPr/>
        </p:nvPicPr>
        <p:blipFill>
          <a:blip r:embed="rId2"/>
          <a:stretch/>
        </p:blipFill>
        <p:spPr>
          <a:xfrm>
            <a:off x="304920" y="190512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- Monito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pus nephri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pprox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immune complex glomeruloneph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q3 m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bout polyuria, nocturia, foamy u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HTN and ed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: UA – RBC casts, spot prot: Cr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risk of malign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dkin’s and Non-Hodgkins lymphoma, Lung CA, Cervical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cervical CA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rly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k pain, fatigue, weight loss, G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re disorder, but symptoms common in primary 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ickening, ischemic digital ulcers, pitting, telangectasias on face and pal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ng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stitial fibrosis, pulmonary ht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RD, dyspha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rare, but Scleroderma Renal Crisis (SRC) is life threatening eme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schemic in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rosive arthritis, tendon friction r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ST (limited scleroderma): calcinosis, raynaud’s, esophageal dysmotility, sclerodactyly, telangectas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http://www.dermnet.com/dn2/allJPG3/scleroderma-17.jpg"/>
          <p:cNvPicPr/>
          <p:nvPr/>
        </p:nvPicPr>
        <p:blipFill>
          <a:blip r:embed="rId2"/>
          <a:stretch/>
        </p:blipFill>
        <p:spPr>
          <a:xfrm>
            <a:off x="914400" y="129528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478560" y="838080"/>
            <a:ext cx="197964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ttp://4.bp.blogspot.com/_ZWqgYBROGHw/TQSybcry6iI/AAAAAAAAB90/8H6cazNmvME/s1600/1-palms-up-enlarged.jpg"/>
          <p:cNvPicPr/>
          <p:nvPr/>
        </p:nvPicPr>
        <p:blipFill>
          <a:blip r:embed="rId4"/>
          <a:stretch/>
        </p:blipFill>
        <p:spPr>
          <a:xfrm>
            <a:off x="743040" y="4114800"/>
            <a:ext cx="291456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http://eso-cdn.bestpractice.bmj.com/best-practice/images/bp/en-gb/593-3_default.jpg"/>
          <p:cNvPicPr/>
          <p:nvPr/>
        </p:nvPicPr>
        <p:blipFill>
          <a:blip r:embed="rId5"/>
          <a:stretch/>
        </p:blipFill>
        <p:spPr>
          <a:xfrm>
            <a:off x="5529240" y="3733920"/>
            <a:ext cx="224316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77880" y="3429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9360" y="62881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dac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6360" y="62881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angectas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3160" y="32767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ened, tigh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gative ANA, diagnosis is very unlik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rect immunofluorescence better than EL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centromere Ab in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Scl-70 (anti-topoisomerase)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es with worse pro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v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sease-modifying medi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eening and early identification of internal organ involvemen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 specific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brosis – immunosuppre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 crisis – AC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D – PPI and behavioral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diseases you’ll be see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umatoid, spondyloarthr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stal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ut, Pseudog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immune dis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pus, Sclerodema, Autoimmune myo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medium, small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ositis (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matomyos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myositis (just sk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dermatitis (classic muscle biopsy fin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une-mediated necrotizing myopathy (IMN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n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xim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weakness that develops over weeks to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rising from a chair, walking up steps, washing or brushing 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vere: dysphagia and respiratory distress from weakness of neck, pharyngeal and diapghragmatic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l weakness very uncommon, suspect anothe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Presentation: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pap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ised violaceous lesions at extensor surfaces of mcp, pip, d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t above s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liotrope ra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d/purplish discoloration of eye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650960" cy="2473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65880" y="1162080"/>
            <a:ext cx="29923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52280" y="1645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wl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cross posterior neck and shou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on anterior neck and ch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hanic’s hands/fe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erkeratotic skin thickening, often with painful c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http://www.rheumtutor.com/wp-content/uploads/2013/07/Shawl-Sign.jpg"/>
          <p:cNvPicPr/>
          <p:nvPr/>
        </p:nvPicPr>
        <p:blipFill>
          <a:blip r:embed="rId2"/>
          <a:srcRect l="0" t="0" r="0" b="29377"/>
          <a:stretch/>
        </p:blipFill>
        <p:spPr>
          <a:xfrm>
            <a:off x="5715000" y="139068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http://images.rheumatology.org/image_dir/album75696/md_99-09-0014.tif.jpg"/>
          <p:cNvPicPr/>
          <p:nvPr/>
        </p:nvPicPr>
        <p:blipFill>
          <a:blip r:embed="rId3"/>
          <a:stretch/>
        </p:blipFill>
        <p:spPr>
          <a:xfrm>
            <a:off x="5638680" y="439272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vated CK, aldolase, AST, ALT, LD from damaged muscl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 antibodies (anti-Jo-1, anti PL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positive in &gt;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synthetase syndrome in dermatomysoitis: also with ILD, arthritis, fevers, raynaud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I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edema, fascial inflam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rritable myo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scle biops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enerally nonspecific findings, but rules out non-autoimmune my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: perifascicular atrophy is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to control acut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per to lowest effectiv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roid sparing agent: MTX, azathiop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: especially isometric, avoid heavy weight lif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vs. PM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algia Rheumatica (PM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ng and stiffness of neck, shoulders, hips (vs. weak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ed ESR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sponse to prednisone 20mg/d or 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GCA, but can occur independently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xed Connective Tissue Diseas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ap syndrome with features of SLE, Scleroderma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 clinical symptom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naud phenomenon, hand edema, synovitis, inflammatory muscle disease, sclerodacty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iters of anti-U1 RNP autoanti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destruction of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lusion, rupture, thrombus can lead to tissue isch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 in severity and presentation based on vessel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3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some clues your patient may have a rheumatologic disea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ers, sweats, weight loss,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acute time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over weeks to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 or polyarticular joint pain, multisystem complaints (i.e. skin, lung, G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signs of an inflammatory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tis, rash, serositis, elevated ESR/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acu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f inflam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system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e. Mononeuritis multi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inct/named peripheral nerves infarcted one at a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vasculitis of vasa nervorum leading to ischem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llmarks are asynchrony and asymme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specific, often immunosuppressive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ct a rheumatologic process in patients with subacute onset of constitutional symptoms, signs of inflammation and multi system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work-up started with thorough PE, targeted labs and xr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 with Rheum and consider getting prednisone started to control acute disease, with a goal of tapering to the lowest effective dose when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for the longterm complications of autoimmune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 you get started on the work-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ough physical ex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t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C w diff, ESR, CRP, ANA, targeted auto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osive arthritis, 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, muscle,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s of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S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ptom relief, especially join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utely, try to use steroid sparing agen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-modifying antirheumatic drugs (DM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et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 onset, 2-6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trexate, Hydroxychloroquine, Sulfasalazine, Azathioprine, Mycophenolate mofetil, Cyclophospham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log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engineered protein drugs (antibodies or receptor-antibody chimera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 or SQ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pid ons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een for and treat LTBI, HBV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liximab, Etancercept, Rituxim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roid Side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ar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om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uid ret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ximal wea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pe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ychiatric disturbance (eg, depression, mania, psychos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sy bruising of the sk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tic ulcer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 term considerations for most autoimmune disea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V death due to inflammation and accelerated atheroscler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ssive risk factor reduction: BP&lt;120/80, LDL&lt;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eoporosis from glucocortic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xa screening, Calcium-Vit D, bisphosphonates p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ertain maligna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mphoma, Lung/Cervical CA in Lu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lammatory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dyloarthropat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keletal involvement and polyarthritis of 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kylosing spondy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20:38:54Z</dcterms:created>
  <dc:creator> </dc:creator>
  <dc:description/>
  <dc:language>en-US</dc:language>
  <cp:lastModifiedBy> </cp:lastModifiedBy>
  <dcterms:modified xsi:type="dcterms:W3CDTF">2014-01-07T07:48:18Z</dcterms:modified>
  <cp:revision>23</cp:revision>
  <dc:subject/>
  <dc:title>Rheumatology Basics</dc:title>
</cp:coreProperties>
</file>