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F01-AE56-4C41-A3B8-3AFC871B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joints can be involved in RA, but rarely lumbar spine and DI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an AI disease, can also affect many other organ systems.  Nodules occur in typical places with synovitis, can also occur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MARDs not typically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iggers: diuretics, contrast, etoh, tra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with typical monitoring required for people with AI disease: accelerated atherosclerosis, infection, osteoporosis.  Also need to scree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64D-45D8-4345-A69F-7B202BF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A31-6096-469F-846F-E4F756D2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5C7-8232-4DCD-8005-E90CF433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82E-6FF7-4FE9-99F6-DD561F7A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978-BCEF-4EC7-8045-04D1FA51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64FC-3BE6-4AAD-956B-6C9B6E3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636-3721-44D9-9452-552EDF42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4E3B-94F6-4299-9777-1A7143B5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3B1-AF62-463F-AEFC-9AA45718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3422-69AD-4B40-A6C2-B98ED7AA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5A8-849E-44DB-90D9-9D5C946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F54-8FAF-44D8-A696-D107DC23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1929-13DE-45B8-A7D0-57DD73AA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D7CB-65A3-4B50-B454-0FA72F9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45F-1CAD-43A4-9BB5-9AD30708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8A6-477C-4721-BA2B-3B5FBC61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2089-F9BD-48EE-A5E7-466DDDF2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949-86AE-41DB-97DB-3ADF40A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7FB-9E7E-40E5-8CA7-F2C3C1FB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78E-3084-46E2-8E89-BF6D486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BAD-2668-4AB4-89E8-5CF585B0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FCD-276F-4273-BFDB-1B3F12C8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366-8E06-4199-957B-D190CE6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C39-A817-4DC6-85A8-6AF1AC4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E1C-6294-4ABB-AD11-1D559D257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F3A-0877-475F-9C0C-2DB7CD184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logy Bas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35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lyani McCullough, M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s and MOP Didac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heumatoid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, symmetric poly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starts with the PIPs, MCPs, MT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ffect most synovial joints (wrists, knees, elbows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n’t affect D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ning stiffness, pain, swelling (vs. OA: worse with activit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, anti-CCP Ab or both in 70% of pati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not specific, anti-CCP 90-98%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D, ESR, 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ular erosions and joint space narr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int distribution in RA vs. O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34168" b="4168"/>
          <a:stretch/>
        </p:blipFill>
        <p:spPr>
          <a:xfrm>
            <a:off x="5402160" y="1295280"/>
            <a:ext cx="3386160" cy="556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22263" b="2819"/>
          <a:stretch/>
        </p:blipFill>
        <p:spPr>
          <a:xfrm>
            <a:off x="304920" y="1295280"/>
            <a:ext cx="3941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0" t="0" r="11254" b="0"/>
          <a:stretch/>
        </p:blipFill>
        <p:spPr>
          <a:xfrm>
            <a:off x="510552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219320"/>
            <a:ext cx="3733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mc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an neck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extension of PIPs, flexion of D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tonniere deform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on of PIP, hyperextension of D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http://classconnection.s3.amazonaws.com/862/flashcards/749862/jpg/swan_neck_and_bouttonniere_deformity1319471979038.jpg"/>
          <p:cNvPicPr/>
          <p:nvPr/>
        </p:nvPicPr>
        <p:blipFill>
          <a:blip r:embed="rId3"/>
          <a:stretch/>
        </p:blipFill>
        <p:spPr>
          <a:xfrm>
            <a:off x="2362320" y="4497480"/>
            <a:ext cx="4038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A – Physical Exam Finding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http://www.osteoarthritisblog.com/wp-content/uploads/2012/03/nodes.jpg"/>
          <p:cNvPicPr/>
          <p:nvPr/>
        </p:nvPicPr>
        <p:blipFill>
          <a:blip r:embed="rId2"/>
          <a:stretch/>
        </p:blipFill>
        <p:spPr>
          <a:xfrm>
            <a:off x="0" y="1219320"/>
            <a:ext cx="5334120" cy="347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images.rheumatology.org/image_dir/album75691/md_99-04-0006.tif.jpg"/>
          <p:cNvPicPr/>
          <p:nvPr/>
        </p:nvPicPr>
        <p:blipFill>
          <a:blip r:embed="rId3"/>
          <a:stretch/>
        </p:blipFill>
        <p:spPr>
          <a:xfrm>
            <a:off x="4952880" y="388296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62720" y="14508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y outgrowths/ calcific spurs on PIPs and D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A – Extra-articular Manifest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extra-articular find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eumatoid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organ involvemen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jogren’s syndr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leri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stitial fib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al effu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pheral neuropat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yloid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0" r="0" b="4442"/>
          <a:stretch/>
        </p:blipFill>
        <p:spPr>
          <a:xfrm>
            <a:off x="4724280" y="213372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aggressive treatment leads to better longterm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acu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TX frequently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 7.5mg weekly, increase to a max dose of 20-25mg week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with folate 1mg daily to reduce toxi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CBC, AST/ALT, Cr q 3 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indication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ver disease, HBV/HCV, alcohol use, CrCl&lt;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xiciti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al ulcers, nausea, hepatotoxicity, BMS, pneum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yd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 with involvement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oiliac (SI) 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on fas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ament insertion points (enthe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kylosing Spondy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s often involved, assoc with nail pit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ed by GI/GU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relates with bowe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pondyloarthropath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kylosing Spondy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ammatory back pain in young adu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tion in spinal mobility, particularly lumbar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anterior uve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ve risk of HLA-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0" t="0" r="5661" b="5176"/>
          <a:stretch/>
        </p:blipFill>
        <p:spPr>
          <a:xfrm>
            <a:off x="4876920" y="914400"/>
            <a:ext cx="3886200" cy="350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7040" y="4711680"/>
            <a:ext cx="405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acroili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T, NS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ystal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ut – Natural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Asymptomatic hyperuric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production or under excretion (or bot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Acute and intermittent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s triggered by fluctuations in UA level (up or down) and deposition of UA crystals in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ute monoarthritis, often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tack is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years see bony erosions on x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Chronic tophaceous g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urpose of this ta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ovide a foundation f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ing patients in Rheumatology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ting started on the work-up of suspected rheumatologic diseases in your cli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most common rheumatologic dis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 fo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ute atta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ost efficacious if initiate treatment within 48h of ons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 – indomethac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if h/o PUD or renal impair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chis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2mg PO x 1, then 0.6mg 1h later and q24h until symptoms impro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 effects: Diarrhea, abdominal pain, NSAIDs better toler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uce dose if Cr &gt; 1.5, risk of neuromuscular tox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dnisone 20-40mg/d, taper 1-2 wks after symptoms resol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ut - Prophyl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 UA&lt;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anthine oxidase inhibitors (decrease produ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purin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rt with 100mg daily, gradually increase d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x is 800mg/d, though 300-400mg usually effe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dose if diminished 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persensitivity reaction can be fatal, more common in older patients with impaired Cr on diur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develop rash, st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buxost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bolized by liver, so better with renal impair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k with mild-moderate hepatic insuffici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icosuric agents (increase excre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en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&lt;65, good renal function, not on more than ASA 81 da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de effects: rash and GI sympto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eudogou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ittent monoarthritis, often knee/wrist, though can b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t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omboid shaped, positively birefringent calcium pyrophosphate dihydrate (CPPD)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be associated with other diseases: hemochromatosis, thyroid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IDs, colchi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disord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ic lupus erythematosis (S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iphospholipid antibody synd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naud’s phenome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clerode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jogren’s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rmatomyositis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psing Polychond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affects women of childbearing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system relapsing/remitti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skin, musculoskeletal, renal, CV, pulmonary, GI, CNS, ps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5664" t="0" r="7548" b="0"/>
          <a:stretch/>
        </p:blipFill>
        <p:spPr>
          <a:xfrm>
            <a:off x="5410080" y="990720"/>
            <a:ext cx="3505320" cy="3224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93640" y="4981680"/>
            <a:ext cx="8474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Hallmark symptoms: photosensitive rash,       polyarthritis, serositis, fatigu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Renal and CNS involvement -&gt; significant   morb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ce of antinuclear antibod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NA positive, no need to re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dsDNA and anti-Sm have great specificity, but lack sensi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ocomplementemia may occur during flar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3, C4, CH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ucocorticoids, DM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http://upload.wikimedia.org/wikipedia/commons/thumb/2/29/DsDNA_antibodies.jpg/330px-DsDNA_antibodies.jpg"/>
          <p:cNvPicPr/>
          <p:nvPr/>
        </p:nvPicPr>
        <p:blipFill>
          <a:blip r:embed="rId2"/>
          <a:stretch/>
        </p:blipFill>
        <p:spPr>
          <a:xfrm>
            <a:off x="304920" y="1905120"/>
            <a:ext cx="3276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upus - Monito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pus nephri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pprox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ly immune complex glomeruloneph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een q3 m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about polyuria, nocturia, foamy u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for HTN and ed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: UA – RBC casts, spot prot: Cr ra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risk of malignanc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dkin’s and Non-Hodgkins lymphoma, Lung CA, Cervical 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cervical CA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rly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k pain, fatigue, weight loss, G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re disorder, but symptoms common in primary c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in diseas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k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ickening, ischemic digital ulcers, pitting, telangectasias on face and pal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ng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stitial fibrosis, pulmonary ht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GERD, dyspha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n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rare, but Scleroderma Renal Crisis (SRC) is life threatening emergen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schemic inju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erosive arthritis, tendon friction ru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ST (limited scleroderma): calcinosis, raynaud’s, esophageal dysmotility, sclerodactyly, telangectas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http://www.dermnet.com/dn2/allJPG3/scleroderma-17.jpg"/>
          <p:cNvPicPr/>
          <p:nvPr/>
        </p:nvPicPr>
        <p:blipFill>
          <a:blip r:embed="rId2"/>
          <a:stretch/>
        </p:blipFill>
        <p:spPr>
          <a:xfrm>
            <a:off x="914400" y="129528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478560" y="838080"/>
            <a:ext cx="197964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http://4.bp.blogspot.com/_ZWqgYBROGHw/TQSybcry6iI/AAAAAAAAB90/8H6cazNmvME/s1600/1-palms-up-enlarged.jpg"/>
          <p:cNvPicPr/>
          <p:nvPr/>
        </p:nvPicPr>
        <p:blipFill>
          <a:blip r:embed="rId4"/>
          <a:stretch/>
        </p:blipFill>
        <p:spPr>
          <a:xfrm>
            <a:off x="743040" y="4114800"/>
            <a:ext cx="2914560" cy="2187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http://eso-cdn.bestpractice.bmj.com/best-practice/images/bp/en-gb/593-3_default.jpg"/>
          <p:cNvPicPr/>
          <p:nvPr/>
        </p:nvPicPr>
        <p:blipFill>
          <a:blip r:embed="rId5"/>
          <a:stretch/>
        </p:blipFill>
        <p:spPr>
          <a:xfrm>
            <a:off x="5529240" y="3733920"/>
            <a:ext cx="2243160" cy="24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77880" y="34290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ul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9360" y="62881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lerodacty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6360" y="62881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angectas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23160" y="32767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ckened, tight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leroder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egative ANA, diagnosis is very unlik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rect immunofluorescence better than EL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centromere Ab in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-Scl-70 (anti-topoisomerase) 20-4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relates with worse progn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v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sease-modifying medic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reening and early identification of internal organ involvemen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 specific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brosis – immunosuppre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al crisis – AC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RD – PPI and behavioral chan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diseases you’ll be see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eumatoid, spondyloarthr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ystal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ut, Pseudog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immune dis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pus, Sclerodema, Autoimmune myo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medium, small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ositis (P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matomyos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myositis (just sk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matomyositis sine dermatitis (classic muscle biopsy finding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une-mediated necrotizing myopathy (IMN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n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mmetric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roxim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weakness that develops over weeks to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y rising from a chair, walking up steps, washing or brushing 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vere: dysphagia and respiratory distress from weakness of neck, pharyngeal and diapghragmatic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al weakness very uncommon, suspect anothe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Presentation: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pap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aised violaceous lesions at extensor surfaces of mcp, pip, d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ttron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t above s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liotrope ras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d/purplish discoloration of eyel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650960" cy="2473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65880" y="1162080"/>
            <a:ext cx="29923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rmatomyos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52280" y="1645920"/>
            <a:ext cx="5943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wl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across posterior neck and shoul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 sig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rythematous rash on anterior neck and ch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hanic’s hands/fe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hyperkeratotic skin thickening, often with painful cra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http://www.rheumtutor.com/wp-content/uploads/2013/07/Shawl-Sign.jpg"/>
          <p:cNvPicPr/>
          <p:nvPr/>
        </p:nvPicPr>
        <p:blipFill>
          <a:blip r:embed="rId2"/>
          <a:srcRect l="0" t="0" r="0" b="29377"/>
          <a:stretch/>
        </p:blipFill>
        <p:spPr>
          <a:xfrm>
            <a:off x="5715000" y="1390680"/>
            <a:ext cx="3200400" cy="239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http://images.rheumatology.org/image_dir/album75696/md_99-09-0014.tif.jpg"/>
          <p:cNvPicPr/>
          <p:nvPr/>
        </p:nvPicPr>
        <p:blipFill>
          <a:blip r:embed="rId3"/>
          <a:stretch/>
        </p:blipFill>
        <p:spPr>
          <a:xfrm>
            <a:off x="5638680" y="439272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vated CK, aldolase, AST, ALT, LD from damaged muscl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 antibodies (anti-Jo-1, anti PL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 positive in &gt;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synthetase syndrome in dermatomysoitis: also with ILD, arthritis, fevers, raynaud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RI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edema, fascial inflam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rritable myo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scle biopsy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enerally nonspecific findings, but rules out non-autoimmune myopat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M: perifascicular atrophy is spe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corticoids to control acut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per to lowest effective d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roid sparing agent: MTX, azathiopr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: especially isometric, avoid heavy weight lif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immune myositis vs. PM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myalgia Rheumatica (PM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ng and stiffness of neck, shoulders, hips (vs. weak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ed ESR &gt;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&gt;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pid response to prednisone 20mg/d or l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 with GCA, but can occur independently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ixed Connective Tissue Diseas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lap syndrome with features of SLE, Scleroderma and Polymyos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stic clinical symptom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ynaud phenomenon, hand edema, synovitis, inflammatory muscle disease, sclerodacty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titers of anti-U1 RNP autoanti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ammatory destruction of blood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clusion, rupture, thrombus can lead to tissue ischem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y in severity and presentation based on vessels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3875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some clues your patient may have a rheumatologic diseas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ers, sweats, weight loss,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acute time cou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over weeks to mon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 symp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o or polyarticular joint pain, multisystem complaints (i.e. skin, lung, G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re signs of an inflammatory proc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ovitis, rash, serositis, elevated ESR/CR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sculitis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itutional 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acu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f inflam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system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.e. Mononeuritis multi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inct/named peripheral nerves infarcted one at a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ue to vasculitis of vasa nervorum leading to ischem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llmarks are asynchrony and asymme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e with biop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ase specific, often immunosuppressive thera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ct a rheumatologic process in patients with subacute onset of constitutional symptoms, signs of inflammation and multi system invol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work-up started with thorough PE, targeted labs and xr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ult with Rheum and consider getting prednisone started to control acute disease, with a goal of tapering to the lowest effective dose when pos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for the longterm complications of autoimmune dis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 you get started on the work-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rough physical ex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 t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BC w diff, ESR, CRP, ANA, targeted auto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osive arthritis, 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in, muscle,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s of treat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SA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ptom relief, especially join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lucocortico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utely, try to use steroid sparing agent if 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ease-modifying antirheumatic drugs (DM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thet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 onset, 2-6 month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trexate, Hydroxychloroquine, Sulfasalazine, Azathioprine, Mycophenolate mofetil, Cyclophospham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logic DM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engineered protein drugs (antibodies or receptor-antibody chimera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 or SQ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pid ons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reen for and treat LTBI, HBV fir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liximab, Etancercept, Rituxim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roid Side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ara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om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uid ret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ximal weak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ope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ea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f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sychiatric disturbance (eg, depression, mania, psychos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sy bruising of the sk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e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ptic ulcer dis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ng term considerations for most autoimmune disea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V death due to inflammation and accelerated atheroscler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gressive risk factor reduction: BP&lt;120/80, LDL&lt;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teoporosis from glucocortic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xa screening, Calcium-Vit D, bisphosphonates p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isk of certain maligna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ymphoma, Lung/Cervical CA in Lu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flammatory Arthrit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dyloarthropath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ial skeletal involvement and polyarthritis of peripheral j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kylosing spondy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ve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oriatic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BD-associated 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20:38:54Z</dcterms:created>
  <dc:creator> </dc:creator>
  <dc:description/>
  <dc:language>en-US</dc:language>
  <cp:lastModifiedBy> </cp:lastModifiedBy>
  <dcterms:modified xsi:type="dcterms:W3CDTF">2014-01-07T07:48:18Z</dcterms:modified>
  <cp:revision>23</cp:revision>
  <dc:subject/>
  <dc:title>Rheumatology Basics</dc:title>
</cp:coreProperties>
</file>