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CA1A-C6B9-438A-AE5A-0E29166B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A745-EF27-498F-8339-845E68B5F2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s in ~ 50% of infants born between 28-32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ly related to premat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510-F015-489C-89F4-C6029E6E3F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736D-AAAF-4EC2-BBAD-112A69CF28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856-7DE4-40B0-BD7D-CBDAB74F50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S, H influenza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8D63-BE37-4366-9BCB-38FF903D48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ria, 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140-4A03-4567-BB7E-EC3BB1AD81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E87A-E32F-438E-8952-DF45E6A77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hyxia causes anal sphincter to relax, also leads to gasping respiratory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oncerned about pulmonary hypertension, as this is also a fetal response to asphy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3034-02EC-4639-B05C-F1F8B92586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C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542C-AB97-474B-A2B7-6FDF934D1A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delivery pulmonary vascular resistance plummets, in order to establish pulmonary blood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kids with PPHN, they never drop their resistance, leading in the worst case to a right to left shunt at the duct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3C63-78D4-41ED-BE8D-40C40CC209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blood flow:  caused by compression of the pulmonary capillaries by fetal lung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 arteries:  thick muscular layer present, very reactive to hypox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fluid: fetal lungs secrete fluid, adequate lung volume is necessary for fet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al breathing: contributes to fetal lung development, moves fluid in and out of fetal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tant: necessary amount to support breathing after birth, present after ~ 34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17B-EED2-4421-ABAF-11D68168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D5F-6309-4A1D-9B95-3324F1F1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218-CC5F-4D6E-900F-AE54D377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D9B-B1E2-4074-84E6-AFDAB2B6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D92-1172-4EEA-B015-ABCD3634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15EC-0DB4-45AB-80D0-B18A8699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806B-3D1A-4FB6-A19B-BCEC300A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6CE7-939D-4398-B500-7F6E612C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B1C2-E372-4B79-9E5E-B3D36478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1D22-209F-49E4-AFE3-9C10996B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0F6E-5847-40BE-9756-9AAD028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948-F445-49C7-9652-CE3C4D7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385-E164-4105-80F0-62118F3C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AE00-18A4-4916-B432-8E2373D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8DD2-B3CA-45D0-947D-CB890572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F8EA-8067-48AC-A864-1BD9D6B9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3FDB-004C-4862-8E05-60E9343F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A09-45EC-47CF-9690-7B36C986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99B-06B7-4C06-9AF3-ABAC0EF0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A97-5142-4730-8198-E00C3754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561-1A4D-4FCF-AA00-87A98E8B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26A-84AA-4C3F-B6AC-1FB55D1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878-B8BB-4454-A122-0F6398A2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25C-7A46-4E44-9210-84A4ECD0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EC4B-0C63-4A16-8808-0D9355C2C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BC6-80A8-465B-8C99-9706EF2DF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drenshospitaloakland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t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Joe, M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’s Hospital and Research Center at Oak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Children's Hospital Oakland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95480"/>
            <a:ext cx="2571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0A52-587F-4FC2-A7A1-6B4B883CE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7062-460A-4FBE-BB0F-0DD1A9681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orn t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casi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surfactant deficienc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h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onium aspi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C8C-3994-451B-B52B-CB44F3E82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4F69-C18D-4BFB-B5EC-5CFE79F3F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3" descr="rds"/>
          <p:cNvPicPr/>
          <p:nvPr/>
        </p:nvPicPr>
        <p:blipFill>
          <a:blip r:embed="rId1"/>
          <a:stretch/>
        </p:blipFill>
        <p:spPr>
          <a:xfrm>
            <a:off x="1981080" y="762120"/>
            <a:ext cx="5114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4C3B-55DF-4F1D-B6AD-9BA10ADDF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veolar dis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reticular granular or “ground glass”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ronch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a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848F-0727-4C6A-88A8-58AA29854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FRC (CPAP vs. intub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genous surf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anta 4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surf 3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8102-8AC4-4089-96C1-D1609D14E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rfactant Therapy for R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st benefit when used with antenatal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compliance, functional residual capacity, and oxyge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incidence of air l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4654-362C-427C-A211-82BB09FC3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genital 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B strept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Coli, Klebsi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amydia, Ureaplasma,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 Influenza (nontype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1585-BC2F-4548-97A9-4D78EB2EA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chorioamni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rupture of memb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natal exposures: Poor hand washing, open skin lesions, contaminated blood products, infected 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9E53-6743-448C-8CBA-FB578D312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and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hial pl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in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ilation/perfusion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C5C4-9760-4180-A578-D0F7CBB50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irway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parenchym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eak syndr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der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8E62-8F18-4F64-99C9-71CF0BA1B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64AB-C884-4928-8E98-1930EA777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lassic x-ray findings, in fact, the X-ray in pneumonia can look like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for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0186-2893-4CE9-90DE-B824E8B39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2744img0001"/>
          <p:cNvPicPr/>
          <p:nvPr/>
        </p:nvPicPr>
        <p:blipFill>
          <a:blip r:embed="rId1"/>
          <a:stretch/>
        </p:blipFill>
        <p:spPr>
          <a:xfrm>
            <a:off x="930240" y="457200"/>
            <a:ext cx="7238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904-00DD-46E5-B6AA-E78F6B66B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2744img0002"/>
          <p:cNvPicPr/>
          <p:nvPr/>
        </p:nvPicPr>
        <p:blipFill>
          <a:blip r:embed="rId1"/>
          <a:stretch/>
        </p:blipFill>
        <p:spPr>
          <a:xfrm>
            <a:off x="1066680" y="574560"/>
            <a:ext cx="69343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0EE3-6D3B-4D2F-A2A4-9D752C72B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744img0003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750C-717F-4833-8F5E-3522C1F1D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support as indicated with either O2 or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with appropriate antimicrob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ampicillin/gentamicin or ampicillin/cefotax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pectrum antibiotics for nosocomial bac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1221-CD06-4813-8AD5-91C6D387F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onium contains epithelial cells and bile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d with intrauterine stress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in 15% of all newbor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-10% develop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EF76-62D5-48E3-BD6C-7FA3D67BE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plugging, with air tr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leading to inactivation of surfac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tant inactivation leads to decreased compliance, and 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 = loss of F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RC = V/Q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Q mismatch = 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E22D-DE94-4161-9FF9-E15A479C1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: X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hyperexpansion mixed with patchy densities and atel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M009345968_MecAspiration_1_1.jpg"/>
          <p:cNvPicPr/>
          <p:nvPr/>
        </p:nvPicPr>
        <p:blipFill>
          <a:blip r:embed="rId1"/>
          <a:stretch/>
        </p:blipFill>
        <p:spPr>
          <a:xfrm>
            <a:off x="1828800" y="2971800"/>
            <a:ext cx="47242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BA33-41B6-4CFC-9516-FD553363A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occur spontaneously during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when receiving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occupying lesion within the chest displacing lung, and if under tension, compromising venou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425F-2943-4DDD-8314-2A0653CCE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anal atr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rre Robi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cular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3AD3-E862-4A16-8C21-802CCE1FC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sign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, 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7AC3-0C89-473E-9F51-916FD5876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pneumo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6773-0659-4962-A505-214DBA9A9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 washout (pneumo contains 21% O2, &gt;75% nitrogen, if lung has 100% O2, nitrogen will diffuse out of pneumothor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void positive pressure if 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as needed by thoracentesis or ch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34CA-014B-4050-958C-63398A535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elopmental disturb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o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deform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89B9-CB27-4D32-86AC-200E8518B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lmonary hypoplas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assessed radiographically, pulmonary hypoplasia is a pathologic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 pulmonary hypoplasia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pture of membranes with anhydramn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anoma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f the chest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BFCF-ADDF-412B-8932-4E0E81DF3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phoid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el sounds in the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ociated anoma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ypox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B8F4-3AA8-40D8-B965-97D978E58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range in clinical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niation of bowel leads to altered development of the lungs bila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D918-89E5-4905-95F2-F7BD7CD33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cdh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7DD0-BBB8-4A99-9CB6-7F975CA25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sistent Pulmonary Hypertension of the Newbor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hypertension is a pure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present in a mixed picture as in the setting of meconium aspiration syndrome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9176-577C-4475-8011-4336B71BC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 to an asphyxia event in utero, the fetus diverts all blood flow possible to vital organs (brain/heart/adr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ads to vasoconstriction of non-vital vascular beds, including the pulmonary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deling of smooth muscle ca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4" descr="Choanal atresia.jpg"/>
          <p:cNvPicPr/>
          <p:nvPr/>
        </p:nvPicPr>
        <p:blipFill>
          <a:blip r:embed="rId1"/>
          <a:stretch/>
        </p:blipFill>
        <p:spPr>
          <a:xfrm>
            <a:off x="838080" y="762120"/>
            <a:ext cx="2876760" cy="40957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99E9-8B52-44E5-9AF8-8A17CD0BA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Pierre Robin.jpg"/>
          <p:cNvPicPr/>
          <p:nvPr/>
        </p:nvPicPr>
        <p:blipFill>
          <a:blip r:embed="rId2"/>
          <a:stretch/>
        </p:blipFill>
        <p:spPr>
          <a:xfrm>
            <a:off x="4572000" y="5335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erre Robin 2.jpg"/>
          <p:cNvPicPr/>
          <p:nvPr/>
        </p:nvPicPr>
        <p:blipFill>
          <a:blip r:embed="rId3"/>
          <a:stretch/>
        </p:blipFill>
        <p:spPr>
          <a:xfrm>
            <a:off x="4572000" y="3124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9907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anal Atr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76920" y="56577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rre Robin Syndr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50BF-AACA-4B68-B68A-6834DF853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447200" y="1523880"/>
            <a:ext cx="2361960" cy="381024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105520" y="1523880"/>
            <a:ext cx="2133360" cy="3810240"/>
          </a:xfrm>
          <a:custGeom>
            <a:avLst/>
            <a:gdLst>
              <a:gd name="textAreaLeft" fmla="*/ 1227240 w 2133360"/>
              <a:gd name="textAreaRight" fmla="*/ 1800360 w 2133360"/>
              <a:gd name="textAreaTop" fmla="*/ 513720 h 3810240"/>
              <a:gd name="textAreaBottom" fmla="*/ 163080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362320" y="1828800"/>
            <a:ext cx="1676160" cy="20574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2438280" y="1828800"/>
            <a:ext cx="1371600" cy="18288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657600" y="3657600"/>
            <a:ext cx="160020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590920" y="5105520"/>
            <a:ext cx="3657600" cy="1295280"/>
          </a:xfrm>
          <a:custGeom>
            <a:avLst/>
            <a:gdLst>
              <a:gd name="textAreaLeft" fmla="*/ 852840 w 3657600"/>
              <a:gd name="textAreaRight" fmla="*/ 2803680 w 3657600"/>
              <a:gd name="textAreaTop" fmla="*/ 136440 h 1295280"/>
              <a:gd name="textAreaBottom" fmla="*/ 820080 h 1295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804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41972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0"/>
          <p:cNvSpPr/>
          <p:nvPr/>
        </p:nvSpPr>
        <p:spPr>
          <a:xfrm flipV="1" rot="16159800">
            <a:off x="3543120" y="3466800"/>
            <a:ext cx="838080" cy="1371600"/>
          </a:xfrm>
          <a:custGeom>
            <a:avLst/>
            <a:gdLst>
              <a:gd name="textAreaLeft" fmla="*/ 0 w 838080"/>
              <a:gd name="textAreaRight" fmla="*/ 718560 w 838080"/>
              <a:gd name="textAreaTop" fmla="*/ 914760 h 1371600"/>
              <a:gd name="textAreaBottom" fmla="*/ 137232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77800" y="380988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V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7696080" y="21337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924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769572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792468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7543800" y="274320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 flipV="1">
            <a:off x="7924680" y="274320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014440" y="4614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87080" y="46148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44956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11804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5DE-32DF-4E72-8412-CE07091BE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 with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emia out of proportion to degree of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pre and post ductal s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oxia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73FD-55D7-4629-906D-A21CDE733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      L shu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1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R        L sh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 rot="16220400">
            <a:off x="6472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 rot="16220400">
            <a:off x="13330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523880" y="5335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1219320" y="114300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523880" y="114300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0"/>
          <p:cNvSpPr/>
          <p:nvPr/>
        </p:nvSpPr>
        <p:spPr>
          <a:xfrm rot="16220400">
            <a:off x="61340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 rot="16220400">
            <a:off x="68198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11430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18288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73152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66294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629400" y="175248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 flipV="1">
            <a:off x="1143000" y="144720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609480"/>
              <a:gd name="textAreaBottom" fmla="*/ 21708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7010280" y="6094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6705720" y="121932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010280" y="121932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13372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6934320" y="2438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0422-9500-40AD-BB91-978A3CCC2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ulmonary blood f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well satu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o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care: temperature regulation, fluids and lytes,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6F7B-01F7-4DAA-972A-ED6ABD53A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al ventilation or HF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ic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44CE-1E2D-41F9-AE81-BCDC22D64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anal Atresia/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otic when quiet or at rest, pink with c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ss suction catheter through 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2277-31A9-481F-A89B-40305F9D0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n oral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tion secre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require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D0DC-69A7-418B-88FE-03DC865AA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tal Lung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sed by compression of the pulmonary capillaries by fetal lung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ck muscular layer present, very reactive to hypox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ng flui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tal lungs secrete fluid, adequate lung volume is necessary for fet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es to fetal lung development, moves fluid in and out of fetal 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 amount to support breathing after birth, present after ~ 34 weeks g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B7A-0A40-4E1A-A653-F1FBD85B4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of fetal lung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ulmonary blood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54F8-01D6-4406-A67C-CF3C70B1B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iratory Distress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of surfactant def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decreases surface tension and improves lung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nsion: intrinsic tendency for alveoli to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6:54:00Z</dcterms:created>
  <dc:creator>Priscilla Joe</dc:creator>
  <dc:description/>
  <dc:language>en-US</dc:language>
  <cp:lastModifiedBy>HCMARTINEZ</cp:lastModifiedBy>
  <dcterms:modified xsi:type="dcterms:W3CDTF">2010-06-02T07:01:53Z</dcterms:modified>
  <cp:revision>41</cp:revision>
  <dc:subject/>
  <dc:title>Neonatal Respiratory Distress</dc:title>
</cp:coreProperties>
</file>