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06F6A7-F191-41B6-8186-DCE8F7BFCD26}" type="datetime">
              <a:rPr b="0" lang="en-US" sz="1200" spc="-1" strike="noStrike">
                <a:solidFill>
                  <a:srgbClr val="000000"/>
                </a:solidFill>
                <a:latin typeface="Calibri"/>
              </a:rPr>
              <a:t>07/29/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DD2C6A9-BE7C-498B-A6C3-D4A097DE894B}"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78ACE6D-8555-4887-86D4-1D58CF38861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E3C08C8-AF99-4872-9710-EA085963A6AB}"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DCA544C-368D-442B-BED7-E8B1A8D916C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04F180A-329F-4F9C-9668-4CBAEBC06BA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4141589-0788-4CDF-B5EB-D0A1C9E00E22}"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0FAE642-13DB-4961-9EE4-B44092391D57}"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C6013-529A-492B-ADCF-130956E68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2273-6EE1-4D9F-849B-6431B199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C85DD-4D2D-4568-B96C-7626A406B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843C5-4BE2-4CF9-902E-245F38301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D29C-2BA3-472C-942A-E57D66DFE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0FD76-1D21-4CF9-985C-B751A9F02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F4FED-5749-45C5-99BF-237DB85C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825D-C2ED-472F-99E5-4C1697044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C784-7CF6-4E21-9EE7-1203E2F46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B8F5-676B-4CF6-9958-9BD69AC3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2E0C-9F14-46D3-912D-4EA15E671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E9FF-1D78-448F-844B-C0F50754B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C4715-9AF5-42A9-8FCC-EA564D305CE5}"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2263C-4067-4F37-B317-C585D4FDE7F6}"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