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F36E664-F5CD-4AE7-AC6F-27F8DA33BA02}" type="datetime">
              <a:rPr b="0" lang="en-US" sz="1200" spc="-1" strike="noStrike">
                <a:solidFill>
                  <a:srgbClr val="000000"/>
                </a:solidFill>
                <a:latin typeface="Calibri"/>
              </a:rPr>
              <a:t>07/31/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F8CD480-62C4-4848-BA63-BC467E626C71}"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422851C-0265-4FE7-AD16-13DF90390E9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6A881E1-E790-406B-AA96-82925632667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7DFF607-935A-44A8-8943-180B2199143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FF61DFA-721C-4C4E-B3A3-2127BC88915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757A3E3-2B7D-4655-93E4-EB4CD2C8640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FEACDC4-A472-4F7B-A0B4-EED9C5B017B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BC8F6-BB9D-4DAE-B6CF-2FFCCF9F8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0012-0441-4504-8ED0-6BDF87E23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580D3-530C-4B50-9124-0D367858D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ED169-41D8-478B-A350-771528F9A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CE29-E86D-4C5C-A19D-57F6A6BF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6155-7399-436B-8D4A-E827AF34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FBB5-212B-4487-A335-D06580DF2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C1CA-97DD-452E-ACF3-AF8DF6419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07DE-DB60-423F-B64C-D9A5EC96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09DE-4BFE-4C17-B5DD-E0E74216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DBC0-93F8-4A3F-82AC-734E7C93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C4CA-60B1-4257-AA53-8874AB9FD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7FC62-2E7D-4134-BFA2-6D4F78AF0F93}"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53788-F1FC-4F66-885D-000BFEAE7EB7}"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