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6287-DDC3-453D-BE3D-9C21D6507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rom ACCP guidelines which was a 1A recommend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methods used to detect DVT and PEs in their stud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ies did not differentiate between proximal and distal DV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s can develop within HOURS of the onset of the in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old increase in mortality if you bleed (vs. if you do not ble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ventilation for &gt; 48 h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ose is &gt;250mg HC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 is Injury Severity Sco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7 patients in ICU, 80% on SUP upon transfer (60% inappropriate), 24% D/C’d to home on inappropriate S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been associated with interstitial nephritis, confusion, and thrompocytopen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rse July 2007</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so-osmolal” agent is DISIPAQU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DIAL patients were cardiac cath pts…mod to high risk.  NNT is 1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78EBC-C539-4039-83EC-10BCEF5E7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31CE-BE8E-435B-93C9-F8FFB7B8A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3C7FD-6DD1-478B-9D45-DA656BCFA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4972E-1848-47FD-8169-D734627B3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C8A95-7111-40FF-A0BD-7BFD2CB28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4890A-A7DD-4642-80A8-69EBB8A30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A5B01-3313-4DA9-A0A5-4B44597E0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C6CD-C6F1-494E-BF4C-DD669D74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DBC6A-0DF4-4003-96A5-32F7FCD81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1E3C-5E6A-4CD6-A138-230E84DD3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4CD79-6167-42F1-BDC7-D2346A5D8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86F54-56E4-41EE-A68B-5229EFCB6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1CB5-0D73-4623-B126-C9C77F6A21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hylaxis in the hospital</a:t>
            </a:r>
            <a:br>
              <a:rPr sz="4400"/>
            </a:br>
            <a:r>
              <a:rPr b="0" lang="en-US" sz="4400" spc="-1" strike="noStrike">
                <a:solidFill>
                  <a:srgbClr val="000000"/>
                </a:solidFill>
                <a:latin typeface="Times New Roman"/>
              </a:rPr>
              <a:t> </a:t>
            </a:r>
            <a:r>
              <a:rPr b="0" i="1" lang="en-US" sz="4400" spc="-1" strike="noStrike">
                <a:solidFill>
                  <a:srgbClr val="000000"/>
                </a:solidFill>
                <a:latin typeface="Times New Roman"/>
              </a:rPr>
              <a:t>a 2009 updat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tt Akin M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reduce PE risk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increase the risk of major bleeding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difference in thrombocytopenia</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jection site hematoma less common with LMWH</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of LMWH more, but maybe more cost effective in the end because decreases number of DV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FH dose of TID was more effective than the UFH dose of 5000 BID in reducing DVT …without any increase risk of bleed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Meta-analysis</a:t>
            </a:r>
            <a:br>
              <a:rPr sz="4400"/>
            </a:br>
            <a:r>
              <a:rPr b="0" i="1" lang="en-US" sz="3600" spc="-1" strike="noStrike">
                <a:solidFill>
                  <a:srgbClr val="000000"/>
                </a:solidFill>
                <a:latin typeface="Arial"/>
              </a:rPr>
              <a:t>Chest 2007; 131;507-516</a:t>
            </a:r>
            <a:br>
              <a:rPr sz="3600"/>
            </a:b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0 patients, 12 studie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vs. TID unfractionated heparin</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 heparin showed a </a:t>
            </a:r>
            <a:r>
              <a:rPr b="0" i="1" lang="en-US" sz="2800" spc="-1" strike="noStrike" u="sng">
                <a:solidFill>
                  <a:srgbClr val="000000"/>
                </a:solidFill>
                <a:uFillTx/>
                <a:latin typeface="Arial"/>
              </a:rPr>
              <a:t>trend</a:t>
            </a:r>
            <a:r>
              <a:rPr b="0" lang="en-US" sz="2800" spc="-1" strike="noStrike" u="sng">
                <a:solidFill>
                  <a:srgbClr val="000000"/>
                </a:solidFill>
                <a:uFillTx/>
                <a:latin typeface="Arial"/>
              </a:rPr>
              <a:t> </a:t>
            </a:r>
            <a:r>
              <a:rPr b="0" i="1" lang="en-US" sz="2800" spc="-1" strike="noStrike" u="sng">
                <a:solidFill>
                  <a:srgbClr val="000000"/>
                </a:solidFill>
                <a:uFillTx/>
                <a:latin typeface="Arial"/>
              </a:rPr>
              <a:t>toward</a:t>
            </a:r>
            <a:r>
              <a:rPr b="0" lang="en-US" sz="2800" spc="-1" strike="noStrike" u="sng">
                <a:solidFill>
                  <a:srgbClr val="000000"/>
                </a:solidFill>
                <a:uFillTx/>
                <a:latin typeface="Arial"/>
              </a:rPr>
              <a:t> a decrease</a:t>
            </a:r>
            <a:r>
              <a:rPr b="0" lang="en-US" sz="2800" spc="-1" strike="noStrike">
                <a:solidFill>
                  <a:srgbClr val="000000"/>
                </a:solidFill>
                <a:latin typeface="Arial"/>
              </a:rPr>
              <a:t> in pulmonary embolism</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a:t>
            </a:r>
            <a:r>
              <a:rPr b="0" lang="en-US" sz="2800" spc="-1" strike="noStrike" u="sng">
                <a:solidFill>
                  <a:srgbClr val="000000"/>
                </a:solidFill>
                <a:uFillTx/>
                <a:latin typeface="Arial"/>
              </a:rPr>
              <a:t>decrease</a:t>
            </a:r>
            <a:r>
              <a:rPr b="0" lang="en-US" sz="2800" spc="-1" strike="noStrike">
                <a:solidFill>
                  <a:srgbClr val="000000"/>
                </a:solidFill>
                <a:latin typeface="Arial"/>
              </a:rPr>
              <a:t> in the incidence of the combined outcome of proximal DVT or PE</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gnificant </a:t>
            </a:r>
            <a:r>
              <a:rPr b="0" lang="en-US" sz="2800" spc="-1" strike="noStrike" u="sng">
                <a:solidFill>
                  <a:srgbClr val="000000"/>
                </a:solidFill>
                <a:uFillTx/>
                <a:latin typeface="Arial"/>
              </a:rPr>
              <a:t>increase</a:t>
            </a:r>
            <a:r>
              <a:rPr b="0" lang="en-US" sz="2800" spc="-1" strike="noStrike">
                <a:solidFill>
                  <a:srgbClr val="000000"/>
                </a:solidFill>
                <a:latin typeface="Arial"/>
              </a:rPr>
              <a:t> in major bleeding events with TID dosing (especially in elderly and thin)</a:t>
            </a:r>
            <a:endParaRPr b="0" lang="en-US" sz="2800" spc="-1" strike="noStrike">
              <a:solidFill>
                <a:srgbClr val="000000"/>
              </a:solidFill>
              <a:latin typeface="Times New Roman"/>
            </a:endParaRPr>
          </a:p>
          <a:p>
            <a:pPr lvl="1" marL="690840" indent="-265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that conflicts with the previous meta-analysis</a:t>
            </a:r>
            <a:endParaRPr b="0" lang="en-US" sz="2400" spc="-1" strike="noStrike">
              <a:solidFill>
                <a:srgbClr val="000000"/>
              </a:solidFill>
              <a:latin typeface="Times New Roman"/>
            </a:endParaRPr>
          </a:p>
          <a:p>
            <a:pPr lvl="1" marL="690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a:t>
            </a:r>
            <a:r>
              <a:rPr b="0" i="1" lang="en-US" sz="4400" spc="-1" strike="noStrike">
                <a:solidFill>
                  <a:srgbClr val="000000"/>
                </a:solidFill>
                <a:latin typeface="Times New Roman"/>
              </a:rPr>
              <a:t>Chest</a:t>
            </a:r>
            <a:r>
              <a:rPr b="0" lang="en-US" sz="4400" spc="-1" strike="noStrike">
                <a:solidFill>
                  <a:srgbClr val="000000"/>
                </a:solidFill>
                <a:latin typeface="Times New Roman"/>
              </a:rPr>
              <a:t> Guidlein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re is no compelling evidence that unfractionated heparin (UFH) should be administered three times daily in preference to twice daily in medical patients, although these two regimens have never been directly compare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Chest Guidelin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 metaanalysis</a:t>
            </a:r>
            <a:r>
              <a:rPr b="0" lang="en-US" sz="3200" spc="-1" strike="noStrike">
                <a:solidFill>
                  <a:srgbClr val="000000"/>
                </a:solidFill>
                <a:latin typeface="Times New Roman"/>
              </a:rPr>
              <a:t> </a:t>
            </a:r>
            <a:r>
              <a:rPr b="0" lang="en-US" sz="3200" spc="-1" strike="noStrike">
                <a:solidFill>
                  <a:srgbClr val="000000"/>
                </a:solidFill>
                <a:latin typeface="Times New Roman"/>
              </a:rPr>
              <a:t>that included almost 8,000 patients, three-times-daily UFH was associated with significantly more major bleeding events, while there was a nonsignificant trend toward more thromboembolic events with twice-daily UFH.”</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D Vs. BID…will We Ever Really Know?</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ably not…</a:t>
            </a:r>
            <a:endParaRPr b="0" lang="en-US" sz="32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ized controlled trial would take a study of 150,000 to show a difference...And given heparin is generic there is no financial incentive to do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We Doing at CCRMC?</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do no harm:  “default” order for DVT prophylaxis will be heparin 5000 units SQ BI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tient has multiple DVT risk factors consider heparin 5000 units SQ TID or Enoxaparin 40 units daily….But only </a:t>
            </a:r>
            <a:r>
              <a:rPr b="0" lang="en-US" sz="2800" spc="-1" strike="noStrike">
                <a:solidFill>
                  <a:srgbClr val="000000"/>
                </a:solidFill>
                <a:latin typeface="Arial"/>
              </a:rPr>
              <a:t>IF patient is low bleeding risk:</a:t>
            </a:r>
            <a:endParaRPr b="0" lang="en-US" sz="28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old” (&gt;65-70??)</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low body weight” (&lt; 50kg…??)</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table Hemoglobin</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 history of bleeds</a:t>
            </a:r>
            <a:endParaRPr b="0" lang="en-US" sz="2400" spc="-1" strike="noStrike">
              <a:solidFill>
                <a:srgbClr val="000000"/>
              </a:solidFill>
              <a:latin typeface="Times New Roman"/>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summary</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every patient for VTE prophylaxis based on their mobility status and risk fa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early amb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WH may be better than UFH…bu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stick with BID UFH…unless multiple DVT risk factors and low bleeding ris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 tuned for guidelines on extended prophylaxis in the high risk pati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Stress ulcer prophylaxi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ulcers= stomach (but sometimes duodenal or distal esophagus) erosions that can bleed (usually “ooze,” but if deeper can cause massive hemorrh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y:  Disruption of balance between acid production (increases) and glycoprotein mucosal protection barrier (breaks down from refluxed bile salts/build up of uremic toxi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hock/trauma: Perfusion impaire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schemia</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mucosal barrier breakdow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ep vein thrombosis/ pulmonary embolism prophylaxis (VTE 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ulcer prophylaxis (S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nephropathy (CIN) preven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Official Guidelin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9 American Society of Health System Pharmacists…SUP recommended in:</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CU patients with a coagulopathy or pts intubated &gt; 48 hour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Hx GIB w/in 1 yr PT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two of the following:  Sepsis, ICU stay &gt; 1 week, occult bleeding &gt; 6 days, high dose steroid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CS &lt;1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 patients (&gt;35%BS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in:  Some trauma pts (ISS &gt;16), Post transplant pts, Liver failure, Spinal cord injury p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guidelines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American Society of Health System Pharmaci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UP is not recommended for adult patients in non-ICU setting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since 1999</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n SUP has become much more common in general medicine (non-ICU) patients with little evidence to support such use…wh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vertently continuing SUP after acute reason for its initiation has resolved (extubated and transferred to floor…all meds continu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polating ICU data to no-ICU pati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side of inappropriate SUP med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a patient a med that is not indica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C-diff related dise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drug-drug inter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increase risk of Pneumon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in gastric PH may promote growth of bacteria in stomach (GN bacilli in duodenu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have been conflict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years since 1999</a:t>
            </a:r>
            <a:br>
              <a:rPr sz="4400"/>
            </a:br>
            <a:r>
              <a:rPr b="0" lang="en-US" sz="4400" spc="-1" strike="noStrike">
                <a:solidFill>
                  <a:srgbClr val="000000"/>
                </a:solidFill>
                <a:latin typeface="Times New Roman"/>
              </a:rPr>
              <a:t>Who should get SUP???</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only critically ill ICU patients who 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bated &gt; 48 hour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gulopathic</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in ICU patient with multiple other risk factor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K, so they REALLY qualify for SUP…what do you give the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acids:  Not ideal because you have to give them every 1-2 hou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ralfate:  The most rigorous RTC comparing to ranitidine, showed more GIBs with sucralfate (Crit care medicine 2005 33:760)</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2 Blockers: Efficacy for SUP well documented, generally well tolerat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Is:  Data on efficacy less extensive than for the above, but well tolerated, side effects for short term use are rare, and PO is now generi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expert opin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PPI for those who can take them (better than H2 blockers for decreasing P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 H2 Blockers in those who cannot eat (“expert” opinion that the “far greater cost of IV PPIs outweighs the nominally greater efficacy that may ex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to feed your patien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al nutrition may reduce incidence of stress ulcers/GI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ve effect of nutrition is NOT due to change in gastric PH…it is due to preventing the loss of energy stores of the gastric epithelium (suggested by the fact that TPN patients have less stress ulc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Contrast Induced Nephropathy (CIN) Preven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0.5mg/dl or 25% increase in creatinine following contrast administration (within 24 hours, up to 5 days l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most common cause of ARF in hospi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1% incidence of CIN in mild-mod CR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rates in DM patients, or pt with RF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no prevention measures necessary when Cr&lt;1.5 or GFR &gt;50-60…remember, serum Cr may overestimate GFR in older, thiner, pati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ous Thromboembolism</a:t>
            </a:r>
            <a:br>
              <a:rPr sz="4400"/>
            </a:br>
            <a:r>
              <a:rPr b="0" lang="en-US" sz="4400" spc="-1" strike="noStrike">
                <a:solidFill>
                  <a:srgbClr val="000000"/>
                </a:solidFill>
                <a:latin typeface="Times New Roman"/>
              </a:rPr>
              <a:t>(DVT and P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of VTE 130 times greater among hospitalized p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f all hospital deaths can be attributed to P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prophylaxis, medical pt has VTE risk 5-15% </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 = most common preventable cause of hospital deat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E prophylaxis routinely used in surgical patients, but not widely practiced in medical pts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eligible medical pts got prophylaxis in ENDORSE stud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 in the IMPROVE study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¾ PE deaths are medical (not surgical) patient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risk facto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 &gt;75</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rocedural volume deple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rhosi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ID us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y really need contr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do a u/s, or MR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high Osmolal agents (1400-18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so-osmolal” (290) agents rather than “low osmolal” (500-850…still increased osm compared to plas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VOLUME DEPLETION, NSAIDS, and nephrotoxi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Meds/IVF prior</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onflicting studies..here are just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JM 2006; 354:4  “additional fluids should be given, although the optimal regimen is uncertain” …  “N-acetylcystine is not recommen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tion 2007; 115:1211(REMEDIAL trial): Bicarb + NAC is superior to saline + NAC or saline + NAC + ascorbic aci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CIN Studies:  Sodium Bicarb vs. Sodium Chlorid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prospective trials (REMEDIAL was the largest) each concluded that bicarb is superior to N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concluded there was no differ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design, definitions of CIN, and patient populations make direct comparisons difficul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bicarb comes out ahead…I gu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UTD recommenda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e recommend isotonic IVF prior to and continued for several hours after contrast administration…optimal type of IVF and timing are not well establish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nic bicarb (3 amps in 850ml D5W) at 3 ml/kg for one hr prior, then at rate of 1ml/kg for 6 hours after procedure OR NS at 1ml/kg for at least 2, ideally 6-12 hrs pre and 6-12 hrs pos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 1200 mg PO BID day before and day 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Clinical pearl</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ordering NAC and/or IVF/Bicarb, ask yourself:  Is this intervention which is supported by weak evidence (at best) going to DELAY a study…and possibly DELAY patient c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ALL your patients daily for need of DVT prophylax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tto for Peptic ulcer disease prophylaxis, BUT ONLY IN YOUR ICU PATI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D prophylaxis should almost always be stopped once transferred out of ICU</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to contrast CT, check a creatinine, and if &gt;1.5, consider risks and benefits of the CT scan.  If really needed, make sure they are hydrated and consider giving them Bicarb+D5W and/or NA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in Medical Patient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formal, validated risk assessment model for medical patient, as there is in surgical pati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 line:  generally, medical patients who have limited mobility for &gt; 3 days and have </a:t>
            </a:r>
            <a:r>
              <a:rPr b="0" lang="en-US" sz="3200" spc="-1" strike="noStrike" u="sng">
                <a:solidFill>
                  <a:srgbClr val="000000"/>
                </a:solidFill>
                <a:uFillTx/>
                <a:latin typeface="Times New Roman"/>
              </a:rPr>
              <a:t>one RF</a:t>
            </a:r>
            <a:r>
              <a:rPr b="0" lang="en-US" sz="3200" spc="-1" strike="noStrike">
                <a:solidFill>
                  <a:srgbClr val="000000"/>
                </a:solidFill>
                <a:latin typeface="Times New Roman"/>
              </a:rPr>
              <a:t> should get VTE prophylax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cutely ill medical patients who have been admitted to the hospital with CHF or severe respiratory disease, </a:t>
            </a:r>
            <a:r>
              <a:rPr b="0" lang="en-US" sz="3200" spc="-1" strike="noStrike" u="sng">
                <a:solidFill>
                  <a:srgbClr val="000000"/>
                </a:solidFill>
                <a:uFillTx/>
                <a:latin typeface="Times New Roman"/>
              </a:rPr>
              <a:t>OR</a:t>
            </a:r>
            <a:r>
              <a:rPr b="0" lang="en-US" sz="3200" spc="-1" strike="noStrike">
                <a:solidFill>
                  <a:srgbClr val="000000"/>
                </a:solidFill>
                <a:latin typeface="Times New Roman"/>
              </a:rPr>
              <a:t> who are confined to bed and have one or more additional risk factors, we recommend prophylaxis with unfractionated heparin (UFH) or low molecular weight heparin (LMWH…aka enoxaparin/lovenox)”</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e recommend, on admission to the ICU, all patients be assessed for their risk for VTE.  Accordingly, most patients should receive thrombo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Factors for VT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gnancy (&amp; myeloprolif. Disor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welling cathe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na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Ps/H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y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phrotic syndr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cose ve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V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es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fi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mbiphilias (fact 5 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st Drug and Dosing for DVT Prophylaxi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answer:  probably low molecular weight heparin (enoxaparin/lovenox)…but much more expensive than unfractionated hepar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bout Unfractionated heparin BID vs. T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7 Meta-analysis</a:t>
            </a:r>
            <a:br>
              <a:rPr sz="4400"/>
            </a:br>
            <a:r>
              <a:rPr b="0" i="1" lang="en-US" sz="3600" spc="-1" strike="noStrike">
                <a:solidFill>
                  <a:srgbClr val="000000"/>
                </a:solidFill>
                <a:latin typeface="Times New Roman"/>
              </a:rPr>
              <a:t>Wein Et. Al Arch Intern Med 167 (14)</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prospective RCTs including 48,000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on a 2000 meta-analysis with fewer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UFH and LMWH (enoxaparin/lovenox) reduce DVT &amp; PE in hospitalized patients, but neither affect mort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WH (vs. UFH of any dose or frequency) associated with reduced risk DV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7:24:53Z</dcterms:created>
  <dc:creator>HCMARTINEZ</dc:creator>
  <dc:description/>
  <dc:language>en-US</dc:language>
  <cp:lastModifiedBy>Health Services Department</cp:lastModifiedBy>
  <dcterms:modified xsi:type="dcterms:W3CDTF">2009-02-13T00:16:17Z</dcterms:modified>
  <cp:revision>17</cp:revision>
  <dc:subject/>
  <dc:title>Prophylaxis in the hospital 2007 update</dc:title>
</cp:coreProperties>
</file>