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155-66B2-492A-B471-76AE1FE6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D62-BD23-44C6-BD6D-3CA8E8B0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4DD-6B8B-49DB-89CA-F9F19FA5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4EF7-2712-410D-A761-0AC74125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F4E-B3FE-4598-864A-248BCCF5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E22-6509-4B64-99AC-20419F56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6E1-56FF-4CAC-ADAF-A4599A37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514-4405-47AA-B3C7-40BCBF8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423-CC6B-4CBC-941F-6EBEE05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0DE-2B79-4C38-9048-7540A54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542-B266-49D7-A123-1D7BA91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157-F544-44D0-B9E1-FE28EC8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977-3ABF-4C49-941A-5371981CD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inellas.ifas.ufl.edu/fcs/images/hispanic_family.jpg&amp;imgrefurl=http://pinellas.ifas.ufl.edu/fcs/fcs_parent_child_care.shtml&amp;usg=__edMrl0llcQmeHFnk0WV8y5WPLjg=&amp;h=185&amp;w=250&amp;sz=52&amp;hl=en&amp;start=5&amp;um=1&amp;tbnid=GwWZkat1GMQwJM:&amp;tbnh=82&amp;tbnw=111&amp;prev=/images%3Fq%3DHispanic%2Bfamilies%26um%3D1%26hl%3De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ountryreports.org/flags/flagThumb.aspx%3Fflag%3DEC&amp;imgrefurl=http://www.countryreports.org/history/expanded.aspx%3FcountryId%3D71&amp;usg=__hJncvAdrDDIFz8vYEQGW2-HyD88=&amp;h=300&amp;w=450&amp;sz=13&amp;hl=en&amp;start=28&amp;um=1&amp;tbnid=WNOybKBkzAiH0M:&amp;tbnh=85&amp;tbnw=127&amp;prev=/images%3Fq%3DHispanic%2Bflags%2Bby%2Bcountry%26start%3D20%26ndsp%3D20%26um%3D1%26hl%3Den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countryreports.org/flags/flagThumb.aspx%3Fflag%3DVE&amp;imgrefurl=http://www.countryreports.org/history/overview.aspx%3FcountryId%3D256&amp;usg=__7wDVW2K7kNNJRbn5qM8r8JxpyQE=&amp;h=300&amp;w=450&amp;sz=13&amp;hl=en&amp;start=30&amp;um=1&amp;tbnid=R2kabZFdz3ICKM:&amp;tbnh=85&amp;tbnw=127&amp;prev=/images%3Fq%3DHispanic%2Bflags%2Bby%2Bcountry%26start%3D20%26ndsp%3D20%26um%3D1%26hl%3Den%26sa%3D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edtech2.boisestate.edu/looslid/edtech_573/ElSalvador.gif&amp;imgrefurl=http://edtech2.boisestate.edu/looslid/edtech_573/CountryFlags.html&amp;usg=__3ftEZo6lYulHuc4ho3iUKAw8pgM=&amp;h=302&amp;w=467&amp;sz=8&amp;hl=en&amp;start=110&amp;um=1&amp;tbnid=eELBabBZ7U7lPM:&amp;tbnh=83&amp;tbnw=128&amp;prev=/images%3Fq%3DHispanic%2Bflags%2Bby%2Bcountry%26start%3D100%26ndsp%3D20%26um%3D1%26hl%3Den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partt.org/MexicanFlag.gif&amp;imgrefurl=http://neworleanscitybusiness.wordpress.com/category/new-orleans/&amp;usg=__I2jgWZCEw5QG8zQ6otV3hcBVjjs=&amp;h=396&amp;w=790&amp;sz=28&amp;hl=en&amp;start=158&amp;um=1&amp;tbnid=et5iPS6OZ3pQFM:&amp;tbnh=72&amp;tbnw=143&amp;prev=/images%3Fq%3DHispanic%2Bflags%2Bby%2Bcountry%26start%3D140%26ndsp%3D20%26um%3D1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naprhsw.com/flags/images/Honduras.jpg&amp;imgrefurl=http://www.naprhsw.org/flags/&amp;usg=__E3CA4wXdqg87plJfZ_5dXuCKMNs=&amp;h=94&amp;w=133&amp;sz=28&amp;hl=en&amp;start=86&amp;um=1&amp;tbnid=aa-G3hYRAlL6MM:&amp;tbnh=65&amp;tbnw=92&amp;prev=/images%3Fq%3DHispanic%2Bflags%2Bby%2Bcountry%26start%3D80%26ndsp%3D20%26um%3D1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images.worldnow.com/Revenue/images/184807_G.gif&amp;imgrefurl=http://ww2.abc7.com/global/Story.asp%3Fs%3D6994337&amp;usg=__9I9RbaGS_oNFaUUKAwPRt8fMlzo=&amp;h=168&amp;w=250&amp;sz=2&amp;hl=en&amp;start=146&amp;um=1&amp;tbnid=5nhj9FGVjZ9YhM:&amp;tbnh=75&amp;tbnw=111&amp;prev=/images%3Fq%3DHispanic%2Bflags%2Bby%2Bcountry%26start%3D140%26ndsp%3D20%26um%3D1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vivirlatino.com/i/2007/08/peru_flag_large.bmp&amp;imgrefurl=http://vivirlatino.com/2007/08/29/peru-update-thousands-still-not-getting-aid-por-que.php&amp;usg=__ziaTpkawoIUgScgW8AROltQN4_Y=&amp;h=302&amp;w=439&amp;sz=390&amp;hl=en&amp;start=270&amp;um=1&amp;tbnid=EoyKLTh3RMblEM:&amp;tbnh=87&amp;tbnw=127&amp;prev=/images%3Fq%3DHispanic%2Bflags%2Bby%2Bcountry%26start%3D260%26ndsp%3D20%26um%3D1%26hl%3Den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/imgres?imgurl=http://wwwdelivery.superstock.com/WI/223/1557/PreviewComp/SuperStock_1557R-147041.jpg&amp;imgrefurl=http://www.superstock.com/stock-photos-images/1557R-147041&amp;usg=__nHzqEiRcVrQUJ0pA_Y0ytPvZ1v8=&amp;h=350&amp;w=225&amp;sz=23&amp;hl=en&amp;start=7&amp;um=1&amp;tbnid=971YDVTDB5b95M:&amp;tbnh=120&amp;tbnw=77&amp;prev=/images%3Fq%3DHealth%2Bsymbols%26um%3D1%26hl%3Den%26sa%3DX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om/imgres?imgurl=http://www.stickybabycompany.com.au/admin/product/image/21/packages-symbols-9.jpg&amp;imgrefurl=http://www.stickybabycompany.com.au/store/&amp;usg=__liuIk-yYhcrHxM-shFwMxd3g2wQ=&amp;h=206&amp;w=150&amp;sz=10&amp;hl=en&amp;start=44&amp;um=1&amp;tbnid=Nom0kNPeaUM5hM:&amp;tbnh=105&amp;tbnw=76&amp;prev=/images%3Fq%3DHealth%2Bsymbols%26start%3D40%26ndsp%3D20%26um%3D1%26hl%3Den%26sa%3DN" TargetMode="External"/><Relationship Id="rId22" Type="http://schemas.openxmlformats.org/officeDocument/2006/relationships/image" Target="../media/image11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hyperlink" Target="http://images.google.com/imgres?imgurl=http://www.nuestrogourmet.com/wp-content/uploads/2008/09/ensalada-nopal-tuna2.jpg&amp;imgrefurl=http://www.nuestrogourmet.com/category/ensaladas/page/2/&amp;usg=__ekvcXkxre9VPj2EyY0xqj2XpN1c=&amp;h=188&amp;w=283&amp;sz=13&amp;hl=en&amp;start=36&amp;um=1&amp;tbnid=nawzXFkodtmAAM:&amp;tbnh=76&amp;tbnw=114&amp;prev=/images%3Fq%3Densaladas%2Bde%2Bnopales%26start%3D21%26um%3D1%26hl%3Den%26sa%3DN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ourbymexico.com/morelos/cvca/fotos/lasplaza.jpg&amp;imgrefurl=http://www.tourbymexico.com/morelos/cvca/cvca.htm&amp;usg=__cW3GEv4XTGMwyDXzEuyO9fCLooQ=&amp;h=742&amp;w=500&amp;sz=57&amp;hl=en&amp;start=115&amp;um=1&amp;tbnid=9cb1La1q1d55XM:&amp;tbnh=141&amp;tbnw=95&amp;prev=/images%3Fq%3Dplazas%2B%2Ben%2Bmexico%26start%3D100%26ndsp%3D20%26um%3D1%26hl%3Den%26sa%3DN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om/imgres?imgurl=http://www.pps.org/graphics/upo-pages/cowboys_large&amp;imgrefurl=http://www.pps.org/info/newsletter/april2006/texas_plazas&amp;usg=__DN4rjkf_yfL0kqQFhb0R9XBKDpQ=&amp;h=240&amp;w=360&amp;sz=90&amp;hl=en&amp;start=116&amp;um=1&amp;tbnid=iW6541xnIXxMlM:&amp;tbnh=81&amp;tbnw=121&amp;prev=/images%3Fq%3Dplazas%2B%2Ben%2Bmexico%26start%3D100%26ndsp%3D20%26um%3D1%26hl%3Den%26sa%3DN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google.com/imgres?imgurl=http://www.fisdl.gob.sv/zoom/EYYUFY/viewsize/pppotonico4high.jpg&amp;imgrefurl=http://www.fisdl.gob.sv/content/view/256/155/&amp;usg=__oTc6N2qlvXNxkcbrtt1_fTZy_6Q=&amp;h=960&amp;w=1280&amp;sz=485&amp;hl=en&amp;start=3&amp;um=1&amp;tbnid=0YSA2aC_eZWJdM:&amp;tbnh=113&amp;tbnw=150&amp;prev=/images%3Fq%3Dtrabajos%2Bde%2Bconstruccion%26um%3D1%26hl%3Den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sdl.gob.sv/zoom/FYDJEV/viewsize/08._familias_felices_por_entrega_de_bono.jpg&amp;imgrefurl=http://www.fisdl.gob.sv/component/option,com_zoom/Itemid,99999999/page,view/catid,492/PageNo,1/key,7/hit,1/&amp;usg=__ZqN1YSXn1XxAz5mWi8ll9dkunq4=&amp;h=611&amp;w=800&amp;sz=110&amp;hl=en&amp;start=2&amp;um=1&amp;tbnid=wPQMxOSdvtGXfM:&amp;tbnh=109&amp;tbnw=143&amp;prev=/images%3Fq%3Dfamilias%2Bfelices%26um%3D1%26hl%3Den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3/3e/USA_Flag_Map.svg/800px-USA_Flag_Map.svg.png&amp;imgrefurl=http://commons.wikimedia.org/wiki/File:USA_Flag_Map.svg&amp;usg=__kozY_Zb6I2ETF9cHeV0DAx8n-ag=&amp;h=497&amp;w=800&amp;sz=72&amp;hl=en&amp;start=3&amp;um=1&amp;tbnid=i2MxqdHdmUzzWM:&amp;tbnh=89&amp;tbnw=143&amp;prev=/images%3Fq%3Dusa%2Bflag%26um%3D1%26hl%3Den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illstanek.com/images/mexico11.jpg&amp;imgrefurl=http://www.jillstanek.com/archives/2008/04/mexico_city_may.html&amp;usg=__VDsguCCGseXmogF3THYs7syDrX4=&amp;h=197&amp;w=225&amp;sz=8&amp;hl=en&amp;start=50&amp;tbnid=pFoLfgKdaozGNM:&amp;tbnh=95&amp;tbnw=108&amp;prev=/images%3Fq%3Dmexican%2Bhospitals%26start%3D40%26gbv%3D2%26ndsp%3D20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redcrossmedia.com/images/2008-09-24_IKE_TF/hi-res/017I5485.jpg&amp;imgrefurl=http://www.redcrossmedia.com/2008-09-17_IKE_TF.html&amp;usg=__NoILtbIMUaXu-EWEHVfcDUGXaRw=&amp;h=1197&amp;w=1800&amp;sz=250&amp;hl=en&amp;start=26&amp;tbnid=K7tktAZCnD_UcM:&amp;tbnh=100&amp;tbnw=150&amp;prev=/images%3Fq%3Dmexican%2Bred%2Bcross%26start%3D21%26gbv%3D2%26hl%3Den%26sa%3DN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bbcap.co.uk/bbcap/media/imagelib/healthimages/l_uclh3.jpg&amp;imgrefurl=http://jamesfordham.blogspot.com/2007/12/uclh-ae-open-day-61207.html&amp;usg=__YKjTpNZrgLVDwtgxNpEJh1lY0ys=&amp;h=667&amp;w=500&amp;sz=123&amp;hl=en&amp;start=26&amp;tbnid=gQJhf2a5p5AgVM:&amp;tbnh=138&amp;tbnw=103&amp;prev=/images%3Fq%3DModerns%2BHospitals%26start%3D20%26gbv%3D2%26ndsp%3D20%26hl%3Den%26sa%3DN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teleworkrecruiting.com/woman_editing_changed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ispanic.com/photos/new_pics/images/4974/original.aspx&amp;imgrefurl=http://hispanic.com/blogs/elconnoisseur/default.aspx&amp;usg=__utTy9smJR6SVdZ5XaBBJsNiw7ag=&amp;h=2592&amp;w=3872&amp;sz=1847&amp;hl=en&amp;start=239&amp;um=1&amp;tbnid=Nht4ZTwVm1voMM:&amp;tbnh=100&amp;tbnw=150&amp;prev=/images%3Fq%3DHispanic%2Bflags%2Bby%2Bcountry%26start%3D220%26ndsp%3D20%26um%3D1%26hl%3Den%26sa%3D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www.actnow.com.au/files/1718/pillls.jpg&amp;imgrefurl=http://www.actnow.com.au/Issues/Access_to_essential_medicines.aspx&amp;usg=__nbIJHK-rVHMwppXRiJuSMIjx7fA=&amp;h=304&amp;w=400&amp;sz=78&amp;hl=en&amp;start=38&amp;um=1&amp;tbnid=buRgY1XnN7Rt1M:&amp;tbnh=94&amp;tbnw=124&amp;prev=/images%3Fq%3Dmedicines%26start%3D20%26ndsp%3D20%26um%3D1%26hl%3Den%26sa%3D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&amp;imgrefurl=http://www.spraguephoto.com/search.lasso%3F-token.display%3D%26keywords%3D%2BHealth%2B%2BAwareness%250D%2BLatin%2B%2BAmerica%250Dtunisia%26country%3D%26category%3D%26set%3D%26number%3D%26skip%3D0%26-token.advanced_search%3Dtrue%26-token.showcaptions%3DHide%2BCaptions%26-token.max%3D90&amp;usg=__epLGpEcXgyQXA-6L0oTXBDvlKyM=&amp;h=460&amp;w=345&amp;sz=39&amp;hl=en&amp;start=191&amp;um=1&amp;tbnid=3HKa5sXM_bh_4M:&amp;tbnh=128&amp;tbnw=96&amp;prev=/images%3Fq%3Dmedicines%26start%3D180%26ndsp%3D20%26um%3D1%26hl%3Den%26sa%3DN" TargetMode="External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aphics8.nytimes.com/packages/images/photo/2007/08/21/082107POD/19582311.JPG&amp;imgrefurl=http://www.nytimes.com/slideshow/2007/08/21/nytfrontpage/082107POD_2.html&amp;usg=__We93Eb-t3bvJdhVw6E7cR27LDYE=&amp;h=400&amp;w=600&amp;sz=66&amp;hl=en&amp;start=49&amp;um=1&amp;tbnid=GmmL-pCb1mDWaM:&amp;tbnh=90&amp;tbnw=135&amp;prev=/images%3Fq%3Demergency%2Brooms%26start%3D40%26ndsp%3D20%26um%3D1%26hl%3Den%26sa%3D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Understanding Latinos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&amp; their perceptions of the American </a:t>
            </a:r>
            <a:br>
              <a:rPr sz="4800"/>
            </a:b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Health System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http://imgtn1.ask.com/ts?t=18274306738501870012&amp;pid=23296&amp;ppid=6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1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http://tbn1.google.com/images?q=tbn:GwWZkat1GMQwJM:http://pinellas.ifas.ufl.edu/fcs/images/hispanic_famil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45720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bn2.google.com/images?q=tbn:WNOybKBkzAiH0M:http://www.countryreports.org/flags/flagThumb.aspx%3Fflag%3D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6045120"/>
            <a:ext cx="914400" cy="61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tbn2.google.com/images?q=tbn:R2kabZFdz3ICKM:http://www.countryreports.org/flags/flagThumb.aspx%3Fflag%3DV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01000" y="6046920"/>
            <a:ext cx="914400" cy="610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http://tbn1.google.com/images?q=tbn:eELBabBZ7U7lPM:http://edtech2.boisestate.edu/looslid/edtech_573/ElSalvador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34320" y="6019920"/>
            <a:ext cx="914400" cy="59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http://tbn2.google.com/images?q=tbn:et5iPS6OZ3pQFM:http://www.partt.org/MexicanFlag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114800" y="6019920"/>
            <a:ext cx="1295280" cy="61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http://tbn2.google.com/images?q=tbn:aa-G3hYRAlL6MM:http://www.naprhsw.com/flags/images/Honduras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7920" y="6019920"/>
            <a:ext cx="1143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http://tbn3.google.com/images?q=tbn:5nhj9FGVjZ9YhM:http://images.worldnow.com/Revenue/images/184807_G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715000" y="6019920"/>
            <a:ext cx="1066680" cy="64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tbn2.google.com/images?q=tbn:EoyKLTh3RMblEM:http://vivirlatino.com/i/2007/08/peru_flag_large.bmp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6019920"/>
            <a:ext cx="990720" cy="60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http://tbn0.google.com/images?q=tbn:971YDVTDB5b95M:http://wwwdelivery.superstock.com/WI/223/1557/PreviewComp/SuperStock_1557R-14704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80880" y="3886200"/>
            <a:ext cx="7812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http://tbn0.google.com/images?q=tbn:Nom0kNPeaUM5hM:http://www.stickybabycompany.com.au/admin/product/image/21/packages-symbols-9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848720" y="3809880"/>
            <a:ext cx="88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 in  rural communities of</a:t>
            </a:r>
            <a:br>
              <a:rPr sz="4400"/>
            </a:b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-Amer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ROLE  PLA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octor/Patient relationship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tin American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arm welcome (Big sm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How are you by first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brings you he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takes vital signs  (even if nurse has alre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Doctor never shames, criticizes a patient until he/she has won the trust of the pat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 Latin-American Countries doctors are seen as part of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ifestyle changes due to being in a new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666880" y="419076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ating patter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5" descr="http://imgtn3.ask.com/ts?t=15715225965946432694&amp;pid=23104&amp;ppid=19"/>
          <p:cNvPicPr/>
          <p:nvPr/>
        </p:nvPicPr>
        <p:blipFill>
          <a:blip r:embed="rId1"/>
          <a:stretch/>
        </p:blipFill>
        <p:spPr>
          <a:xfrm>
            <a:off x="609480" y="259092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" descr="http://imgtn3.ask.com/ts?t=8741759226859614925&amp;pid=23120&amp;ppid=15"/>
          <p:cNvPicPr/>
          <p:nvPr/>
        </p:nvPicPr>
        <p:blipFill>
          <a:blip r:embed="rId2"/>
          <a:stretch/>
        </p:blipFill>
        <p:spPr>
          <a:xfrm>
            <a:off x="6781680" y="5562720"/>
            <a:ext cx="1676520" cy="110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3202920" y="266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Exerci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2594520" y="5638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1e82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New str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6" descr="http://imgtn2.ask.com/ts?t=9093261603931251633&amp;pid=23089&amp;ppid=1"/>
          <p:cNvPicPr/>
          <p:nvPr/>
        </p:nvPicPr>
        <p:blipFill>
          <a:blip r:embed="rId3"/>
          <a:stretch/>
        </p:blipFill>
        <p:spPr>
          <a:xfrm>
            <a:off x="6629400" y="2286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7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8" descr="http://imgtn4.ask.com/ts?t=16561704859289128082&amp;pid=23296&amp;ppid=6"/>
          <p:cNvPicPr/>
          <p:nvPr/>
        </p:nvPicPr>
        <p:blipFill>
          <a:blip r:embed="rId4"/>
          <a:stretch/>
        </p:blipFill>
        <p:spPr>
          <a:xfrm>
            <a:off x="6629400" y="3962520"/>
            <a:ext cx="1616040" cy="121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0" descr="http://imgtn3.ask.com/ts?t=16253474465047413575&amp;pid=23121&amp;ppid=9"/>
          <p:cNvPicPr/>
          <p:nvPr/>
        </p:nvPicPr>
        <p:blipFill>
          <a:blip r:embed="rId5"/>
          <a:stretch/>
        </p:blipFill>
        <p:spPr>
          <a:xfrm>
            <a:off x="609480" y="5257800"/>
            <a:ext cx="1828800" cy="135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2" descr="http://tbn3.google.com/images?q=tbn:nawzXFkodtmAAM:http://www.nuestrogourmet.com/wp-content/uploads/2008/09/ensalada-nopal-tuna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886200"/>
            <a:ext cx="16765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atino patients want doctors to understand that work life and family life are very different in Latin American countries – there is less time here in the U.S. for sel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http://tbn1.google.com/images?q=tbn:9cb1La1q1d55XM:http://www.tourbymexico.com/morelos/cvca/fotos/lasplaz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143000"/>
            <a:ext cx="1387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ttp://tbn1.google.com/images?q=tbn:iW6541xnIXxMlM:http://www.pps.org/graphics/upo-pages/cowboys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895480"/>
            <a:ext cx="1676160" cy="1121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tbn0.google.com/images?q=tbn:0YSA2aC_eZWJdM:http://www.fisdl.gob.sv/zoom/EYYUFY/viewsize/pppotonico4hig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5257800"/>
            <a:ext cx="1752480" cy="13208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5" descr="http://tbn1.google.com/images?q=tbn:i2MxqdHdmUzzWM:http://upload.wikimedia.org/wikipedia/commons/thumb/3/3e/USA_Flag_Map.svg/800px-USA_Flag_Map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52880" y="3962520"/>
            <a:ext cx="1143000" cy="711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Mi Casa Es Su 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Latino community is grateful that America and American doctors want to learn more about them and their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y sharing about our culture, we can work together to improve Latino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http://tbn0.google.com/images?q=tbn:wPQMxOSdvtGXfM:http://www.fisdl.gob.sv/zoom/FYDJEV/viewsize/08._familias_felices_por_entrega_de_bon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10080"/>
            <a:ext cx="1524240" cy="12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http://tbn1.google.com/images?q=tbn:StV1yNowacmN5M:http://www.nida.nih.gov/LatinoBrochure/images/recom_family.gif"/>
          <p:cNvPicPr/>
          <p:nvPr/>
        </p:nvPicPr>
        <p:blipFill>
          <a:blip r:embed="rId3"/>
          <a:stretch/>
        </p:blipFill>
        <p:spPr>
          <a:xfrm>
            <a:off x="457200" y="4952880"/>
            <a:ext cx="1501920" cy="1668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ttp://tbn3.google.com/images?q=tbn:kaGrJAqoEqYjiM:http://travel.resourcesforattorneys.com/mexico/images/morelia.jpg"/>
          <p:cNvPicPr/>
          <p:nvPr/>
        </p:nvPicPr>
        <p:blipFill>
          <a:blip r:embed="rId4"/>
          <a:stretch/>
        </p:blipFill>
        <p:spPr>
          <a:xfrm>
            <a:off x="7086600" y="304920"/>
            <a:ext cx="1676520" cy="1514520"/>
          </a:xfrm>
          <a:prstGeom prst="rect">
            <a:avLst/>
          </a:prstGeom>
          <a:ln w="0">
            <a:noFill/>
          </a:ln>
        </p:spPr>
      </p:pic>
      <p:pic>
        <p:nvPicPr>
          <p:cNvPr id="157" name="j0074302.mid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imgtn1.ask.com/ts?t=18399885128540788236&amp;pid=23296&amp;ppid=6"/>
          <p:cNvPicPr/>
          <p:nvPr/>
        </p:nvPicPr>
        <p:blipFill>
          <a:blip r:embed="rId1"/>
          <a:stretch/>
        </p:blipFill>
        <p:spPr>
          <a:xfrm>
            <a:off x="3543480" y="4724280"/>
            <a:ext cx="1485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gtn3.ask.com/ts?t=15762259584240768597&amp;pid=23296&amp;ppid=6"/>
          <p:cNvPicPr/>
          <p:nvPr/>
        </p:nvPicPr>
        <p:blipFill>
          <a:blip r:embed="rId2"/>
          <a:stretch/>
        </p:blipFill>
        <p:spPr>
          <a:xfrm>
            <a:off x="457200" y="525780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imgtn1.ask.com/ts?t=5612558039734558956&amp;pid=23136&amp;ppid=21"/>
          <p:cNvPicPr/>
          <p:nvPr/>
        </p:nvPicPr>
        <p:blipFill>
          <a:blip r:embed="rId3"/>
          <a:stretch/>
        </p:blipFill>
        <p:spPr>
          <a:xfrm>
            <a:off x="7391520" y="5334120"/>
            <a:ext cx="1371600" cy="114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gtn4.ask.com/ts?t=13901498668206201582&amp;pid=23296&amp;ppid=6"/>
          <p:cNvPicPr/>
          <p:nvPr/>
        </p:nvPicPr>
        <p:blipFill>
          <a:blip r:embed="rId4"/>
          <a:stretch/>
        </p:blipFill>
        <p:spPr>
          <a:xfrm>
            <a:off x="7315200" y="22860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j0074302.mid" descr=""/>
          <p:cNvPicPr/>
          <p:nvPr/>
        </p:nvPicPr>
        <p:blipFill>
          <a:blip r:embed="rId5"/>
          <a:stretch/>
        </p:blipFill>
        <p:spPr>
          <a:xfrm>
            <a:off x="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imgtn2.ask.com/ts?t=5798455124529545549&amp;pid=23296&amp;ppid=6"/>
          <p:cNvPicPr/>
          <p:nvPr/>
        </p:nvPicPr>
        <p:blipFill>
          <a:blip r:embed="rId6"/>
          <a:stretch/>
        </p:blipFill>
        <p:spPr>
          <a:xfrm>
            <a:off x="762120" y="4572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The Latino Culture is characterized  by its unique cultural traditions, life styles, food, customs, as well as  living environments that promote regular physical activity. It is a culture that is rich in tradition and 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7143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or many years, people from many countries in Latin America have come to the United States to become a member of this great Nation, changing their customs and traditions to adapt themselves to a new way of living.  Learning how to navigate a new health system is one of those changes.  In this process of transition to a new system, they face many barriers an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" descr="http://tbn1.google.com/images?q=tbn:i2MxqdHdmUzzWM:http://upload.wikimedia.org/wikipedia/commons/thumb/3/3e/USA_Flag_Map.svg/800px-USA_Flag_Map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0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0" descr="http://imgtn3.ask.com/ts?t=16659903204766244985&amp;pid=23121&amp;ppid=17"/>
          <p:cNvPicPr/>
          <p:nvPr/>
        </p:nvPicPr>
        <p:blipFill>
          <a:blip r:embed="rId3"/>
          <a:stretch/>
        </p:blipFill>
        <p:spPr>
          <a:xfrm>
            <a:off x="3429000" y="4800600"/>
            <a:ext cx="181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majority of Latinos in California face languag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s live in poverty which creates barriers with medications, transportation, marital proble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have limited edu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ow literacy; some are illiterate even in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face acculturation issues associated with being a new immigrant in a new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patients are unable to express how they really feel – so stress may be expressed as a physical ailment or just not feel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gtn1.ask.com/ts?t=2039170635796684626&amp;pid=23136&amp;ppid=4"/>
          <p:cNvPicPr/>
          <p:nvPr/>
        </p:nvPicPr>
        <p:blipFill>
          <a:blip r:embed="rId1"/>
          <a:stretch/>
        </p:blipFill>
        <p:spPr>
          <a:xfrm>
            <a:off x="7620120" y="914400"/>
            <a:ext cx="1218960" cy="109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http://imgtn2.ask.com/ts?t=1613258012389398759&amp;pid=23184&amp;ppid=20"/>
          <p:cNvPicPr/>
          <p:nvPr/>
        </p:nvPicPr>
        <p:blipFill>
          <a:blip r:embed="rId2"/>
          <a:stretch/>
        </p:blipFill>
        <p:spPr>
          <a:xfrm>
            <a:off x="7162920" y="2514600"/>
            <a:ext cx="1828800" cy="11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imgtn1.ask.com/ts?t=12272753196822558520&amp;pid=23040&amp;ppid=18"/>
          <p:cNvPicPr/>
          <p:nvPr/>
        </p:nvPicPr>
        <p:blipFill>
          <a:blip r:embed="rId3"/>
          <a:stretch/>
        </p:blipFill>
        <p:spPr>
          <a:xfrm>
            <a:off x="7924680" y="5410080"/>
            <a:ext cx="10414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any Latino Immigrants are not familiar with the American health system and have a difficult time navigating the 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n Latin American count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nics are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ointments are not made by phone – only dro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ersonal relationships/customer service is ver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more personal attention, warm gree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have more time for the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at least 30 minutes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http://tbn3.google.com/images?q=tbn:pFoLfgKdaozGNM:http://www.jillstanek.com/images/mexico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54100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http://tbn0.google.com/images?q=tbn:K7tktAZCnD_UcM:http://www.redcrossmedia.com/images/2008-09-24_IKE_TF/hi-res/017I54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4876920"/>
            <a:ext cx="182880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http://tbn1.google.com/images?q=tbn:gQJhf2a5p5AgVM:http://www.bbcap.co.uk/bbcap/media/imagelib/healthimages/l_uclh3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4648320"/>
            <a:ext cx="1481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Hispanic patients value</a:t>
            </a:r>
            <a:r>
              <a:rPr b="1" lang="en-US" sz="6000" spc="-1" strike="noStrike">
                <a:solidFill>
                  <a:srgbClr val="331e82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arm greeting from registration &amp; all health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’s full attention for the 1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ctors understanding  the challenges that  immigrant Latino patients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http://imgtn3.ask.com/ts?t=11466322368363358906&amp;pid=23136&amp;ppid=4"/>
          <p:cNvPicPr/>
          <p:nvPr/>
        </p:nvPicPr>
        <p:blipFill>
          <a:blip r:embed="rId1"/>
          <a:stretch/>
        </p:blipFill>
        <p:spPr>
          <a:xfrm>
            <a:off x="6172200" y="4633920"/>
            <a:ext cx="2286000" cy="148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http://imgtn4.ask.com/ts?t=12399635812994545213&amp;pid=23088&amp;ppid=15"/>
          <p:cNvPicPr/>
          <p:nvPr/>
        </p:nvPicPr>
        <p:blipFill>
          <a:blip r:embed="rId2"/>
          <a:stretch/>
        </p:blipFill>
        <p:spPr>
          <a:xfrm>
            <a:off x="4572000" y="2003400"/>
            <a:ext cx="2133720" cy="1596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3"/>
          <p:cNvGrpSpPr/>
          <p:nvPr/>
        </p:nvGrpSpPr>
        <p:grpSpPr>
          <a:xfrm>
            <a:off x="304920" y="2948040"/>
            <a:ext cx="9144000" cy="960480"/>
            <a:chOff x="304920" y="2948040"/>
            <a:chExt cx="9144000" cy="960480"/>
          </a:xfrm>
        </p:grpSpPr>
        <p:sp>
          <p:nvSpPr>
            <p:cNvPr id="89" name="Rectangle 10"/>
            <p:cNvSpPr/>
            <p:nvPr/>
          </p:nvSpPr>
          <p:spPr>
            <a:xfrm>
              <a:off x="304920" y="2948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304920" y="294804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1e82"/>
                </a:solidFill>
                <a:latin typeface="Times New Roman"/>
              </a:rPr>
              <a:t>Latino patients and medic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are accustomed to using Latino folk cures (herbs, t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ck of access to insurance/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esults in Latinos not wanting to use costly medical services &amp;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http://tbn0.google.com/images?q=tbn:Nht4ZTwVm1voMM:http://hispanic.com/photos/new_pics/images/4974/original.asp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80060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bn0.google.com/images?q=tbn:buRgY1XnN7Rt1M:http://www.actnow.com.au/files/1718/pilll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3429000"/>
            <a:ext cx="1067040" cy="80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http://tbn2.google.com/images?q=tbn:3HKa5sXM_bh_4M:http://www.spraguephoto.com/stock/images/Honduras/hn04-27%2520Honduras%2520Womens%2520group%2520involved%2520in%2520making%2520natural%2520medicines%2520seen%2520here%2520treating%2520a%2520boy%2520who%2520has%2520a%2520high%2520temperature%2520One%2520women%2520compares%2520her%2520own%2520temperature%2520with%2520that%2520of%2520the%2520boy%2520while%2520another%2520feeds%2520him%2520a%2520natural%2520cure%2520Marcal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905120"/>
            <a:ext cx="13129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152920" y="58669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Latino patients lack confidence in American medic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emergency room situations, Latinos believe delays in treating them mean the medical system does not care about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 Latin American Countries, they are more likely to get antibiotics and inj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nd are therefore disappointed if prescribed, for instance just Tyl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atino patients want to feel better quickly and think American doctors are not giving them best treatment when they don’t get better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8" descr="http://tbn3.google.com/images?q=tbn:GmmL-pCb1mDWaM:http://graphics8.nytimes.com/packages/images/photo/2007/08/21/082107POD/195823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22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1e82"/>
                </a:solidFill>
                <a:latin typeface="Times New Roman"/>
              </a:rPr>
              <a:t>Patient/Docto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want doctors to speak to them using words they can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need interpretation when they don’t speak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tino patients benefit when their doctor asks them if they understood their directions and asks them to repeat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http://imgtn4.ask.com/ts?t=6233751604993950350&amp;pid=23040&amp;ppid=12"/>
          <p:cNvPicPr/>
          <p:nvPr/>
        </p:nvPicPr>
        <p:blipFill>
          <a:blip r:embed="rId1"/>
          <a:stretch/>
        </p:blipFill>
        <p:spPr>
          <a:xfrm>
            <a:off x="2590920" y="3352680"/>
            <a:ext cx="198108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3889440" y="2509920"/>
            <a:ext cx="14558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http://imgtn4.ask.com/ts?t=9338154721336024591&amp;pid=23056&amp;ppid=21"/>
          <p:cNvPicPr/>
          <p:nvPr/>
        </p:nvPicPr>
        <p:blipFill>
          <a:blip r:embed="rId2"/>
          <a:stretch/>
        </p:blipFill>
        <p:spPr>
          <a:xfrm>
            <a:off x="380880" y="2438280"/>
            <a:ext cx="1747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13:39Z</dcterms:created>
  <dc:creator>HCBAYPOINT</dc:creator>
  <dc:description/>
  <dc:language>en-US</dc:language>
  <cp:lastModifiedBy>cjames</cp:lastModifiedBy>
  <dcterms:modified xsi:type="dcterms:W3CDTF">2009-04-22T23:17:42Z</dcterms:modified>
  <cp:revision>37</cp:revision>
  <dc:subject/>
  <dc:title>Hispanics in the  Health System</dc:title>
</cp:coreProperties>
</file>