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43E-693D-4E12-AC23-2B9F12B3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CA5-6A3B-4B36-AADE-E7BAE364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24C-9332-433E-ABB0-8BE3BEFD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A2D-C524-4D1E-AC8C-3A9601B5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A70-EFD1-4E18-BABF-A52BD270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199-42DA-4383-B338-CAD295BA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765-1F14-4F10-89B4-0794D51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6BB-2096-4C19-9D7F-1EA1058A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A78-28BF-4A0C-A846-31653EA3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282-8538-49A0-A05D-57D789C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EFC-1B19-4442-A8B0-F678C1E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720-FB1A-4F52-8830-ED2BDCAB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47F0-5BD8-4CB9-A85B-68DE7A261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inellas.ifas.ufl.edu/fcs/images/hispanic_family.jpg&amp;imgrefurl=http://pinellas.ifas.ufl.edu/fcs/fcs_parent_child_care.shtml&amp;usg=__edMrl0llcQmeHFnk0WV8y5WPLjg=&amp;h=185&amp;w=250&amp;sz=52&amp;hl=en&amp;start=5&amp;um=1&amp;tbnid=GwWZkat1GMQwJM:&amp;tbnh=82&amp;tbnw=111&amp;prev=/images%3Fq%3DHispanic%2Bfamilies%26um%3D1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ountryreports.org/flags/flagThumb.aspx%3Fflag%3DEC&amp;imgrefurl=http://www.countryreports.org/history/expanded.aspx%3FcountryId%3D71&amp;usg=__hJncvAdrDDIFz8vYEQGW2-HyD88=&amp;h=300&amp;w=450&amp;sz=13&amp;hl=en&amp;start=28&amp;um=1&amp;tbnid=WNOybKBkzAiH0M:&amp;tbnh=85&amp;tbnw=127&amp;prev=/images%3Fq%3DHispanic%2Bflags%2Bby%2Bcountry%26start%3D20%26ndsp%3D20%26um%3D1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ountryreports.org/flags/flagThumb.aspx%3Fflag%3DVE&amp;imgrefurl=http://www.countryreports.org/history/overview.aspx%3FcountryId%3D256&amp;usg=__7wDVW2K7kNNJRbn5qM8r8JxpyQE=&amp;h=300&amp;w=450&amp;sz=13&amp;hl=en&amp;start=30&amp;um=1&amp;tbnid=R2kabZFdz3ICKM:&amp;tbnh=85&amp;tbnw=127&amp;prev=/images%3Fq%3DHispanic%2Bflags%2Bby%2Bcountry%26start%3D20%26ndsp%3D20%26um%3D1%26hl%3Den%26sa%3D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edtech2.boisestate.edu/looslid/edtech_573/ElSalvador.gif&amp;imgrefurl=http://edtech2.boisestate.edu/looslid/edtech_573/CountryFlags.html&amp;usg=__3ftEZo6lYulHuc4ho3iUKAw8pgM=&amp;h=302&amp;w=467&amp;sz=8&amp;hl=en&amp;start=110&amp;um=1&amp;tbnid=eELBabBZ7U7lPM:&amp;tbnh=83&amp;tbnw=128&amp;prev=/images%3Fq%3DHispanic%2Bflags%2Bby%2Bcountry%26start%3D100%26ndsp%3D20%26um%3D1%26hl%3Den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partt.org/MexicanFlag.gif&amp;imgrefurl=http://neworleanscitybusiness.wordpress.com/category/new-orleans/&amp;usg=__I2jgWZCEw5QG8zQ6otV3hcBVjjs=&amp;h=396&amp;w=790&amp;sz=28&amp;hl=en&amp;start=158&amp;um=1&amp;tbnid=et5iPS6OZ3pQFM:&amp;tbnh=72&amp;tbnw=143&amp;prev=/images%3Fq%3DHispanic%2Bflags%2Bby%2Bcountry%26start%3D140%26ndsp%3D20%26um%3D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naprhsw.com/flags/images/Honduras.jpg&amp;imgrefurl=http://www.naprhsw.org/flags/&amp;usg=__E3CA4wXdqg87plJfZ_5dXuCKMNs=&amp;h=94&amp;w=133&amp;sz=28&amp;hl=en&amp;start=86&amp;um=1&amp;tbnid=aa-G3hYRAlL6MM:&amp;tbnh=65&amp;tbnw=92&amp;prev=/images%3Fq%3DHispanic%2Bflags%2Bby%2Bcountry%26start%3D80%26ndsp%3D20%26um%3D1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images.worldnow.com/Revenue/images/184807_G.gif&amp;imgrefurl=http://ww2.abc7.com/global/Story.asp%3Fs%3D6994337&amp;usg=__9I9RbaGS_oNFaUUKAwPRt8fMlzo=&amp;h=168&amp;w=250&amp;sz=2&amp;hl=en&amp;start=146&amp;um=1&amp;tbnid=5nhj9FGVjZ9YhM:&amp;tbnh=75&amp;tbnw=111&amp;prev=/images%3Fq%3DHispanic%2Bflags%2Bby%2Bcountry%26start%3D140%26ndsp%3D20%26um%3D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vivirlatino.com/i/2007/08/peru_flag_large.bmp&amp;imgrefurl=http://vivirlatino.com/2007/08/29/peru-update-thousands-still-not-getting-aid-por-que.php&amp;usg=__ziaTpkawoIUgScgW8AROltQN4_Y=&amp;h=302&amp;w=439&amp;sz=390&amp;hl=en&amp;start=270&amp;um=1&amp;tbnid=EoyKLTh3RMblEM:&amp;tbnh=87&amp;tbnw=127&amp;prev=/images%3Fq%3DHispanic%2Bflags%2Bby%2Bcountry%26start%3D260%26ndsp%3D20%26um%3D1%26hl%3Den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m/imgres?imgurl=http://www.stickybabycompany.com.au/admin/product/image/21/packages-symbols-9.jpg&amp;imgrefurl=http://www.stickybabycompany.com.au/store/&amp;usg=__liuIk-yYhcrHxM-shFwMxd3g2wQ=&amp;h=206&amp;w=150&amp;sz=10&amp;hl=en&amp;start=44&amp;um=1&amp;tbnid=Nom0kNPeaUM5hM:&amp;tbnh=105&amp;tbnw=76&amp;prev=/images%3Fq%3DHealth%2Bsymbols%26start%3D40%26ndsp%3D20%26um%3D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ages.google.com/imgres?imgurl=http://www.nuestrogourmet.com/wp-content/uploads/2008/09/ensalada-nopal-tuna2.jpg&amp;imgrefurl=http://www.nuestrogourmet.com/category/ensaladas/page/2/&amp;usg=__ekvcXkxre9VPj2EyY0xqj2XpN1c=&amp;h=188&amp;w=283&amp;sz=13&amp;hl=en&amp;start=36&amp;um=1&amp;tbnid=nawzXFkodtmAAM:&amp;tbnh=76&amp;tbnw=114&amp;prev=/images%3Fq%3Densaladas%2Bde%2Bnopales%26start%3D21%26um%3D1%26hl%3Den%26sa%3DN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rbymexico.com/morelos/cvca/fotos/lasplaza.jpg&amp;imgrefurl=http://www.tourbymexico.com/morelos/cvca/cvca.htm&amp;usg=__cW3GEv4XTGMwyDXzEuyO9fCLooQ=&amp;h=742&amp;w=500&amp;sz=57&amp;hl=en&amp;start=115&amp;um=1&amp;tbnid=9cb1La1q1d55XM:&amp;tbnh=141&amp;tbnw=95&amp;prev=/images%3Fq%3Dplazas%2B%2Ben%2Bmexico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pps.org/graphics/upo-pages/cowboys_large&amp;imgrefurl=http://www.pps.org/info/newsletter/april2006/texas_plazas&amp;usg=__DN4rjkf_yfL0kqQFhb0R9XBKDpQ=&amp;h=240&amp;w=360&amp;sz=90&amp;hl=en&amp;start=116&amp;um=1&amp;tbnid=iW6541xnIXxMlM:&amp;tbnh=81&amp;tbnw=121&amp;prev=/images%3Fq%3Dplazas%2B%2Ben%2Bmexico%26start%3D100%26ndsp%3D20%26um%3D1%26hl%3Den%26sa%3D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fisdl.gob.sv/zoom/EYYUFY/viewsize/pppotonico4high.jpg&amp;imgrefurl=http://www.fisdl.gob.sv/content/view/256/155/&amp;usg=__oTc6N2qlvXNxkcbrtt1_fTZy_6Q=&amp;h=960&amp;w=1280&amp;sz=485&amp;hl=en&amp;start=3&amp;um=1&amp;tbnid=0YSA2aC_eZWJdM:&amp;tbnh=113&amp;tbnw=150&amp;prev=/images%3Fq%3Dtrabajos%2Bde%2Bconstruccion%26um%3D1%26hl%3Den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sdl.gob.sv/zoom/FYDJEV/viewsize/08._familias_felices_por_entrega_de_bono.jpg&amp;imgrefurl=http://www.fisdl.gob.sv/component/option,com_zoom/Itemid,99999999/page,view/catid,492/PageNo,1/key,7/hit,1/&amp;usg=__ZqN1YSXn1XxAz5mWi8ll9dkunq4=&amp;h=611&amp;w=800&amp;sz=110&amp;hl=en&amp;start=2&amp;um=1&amp;tbnid=wPQMxOSdvtGXfM:&amp;tbnh=109&amp;tbnw=143&amp;prev=/images%3Fq%3Dfamilias%2Bfelices%26um%3D1%26hl%3Den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illstanek.com/images/mexico11.jpg&amp;imgrefurl=http://www.jillstanek.com/archives/2008/04/mexico_city_may.html&amp;usg=__VDsguCCGseXmogF3THYs7syDrX4=&amp;h=197&amp;w=225&amp;sz=8&amp;hl=en&amp;start=50&amp;tbnid=pFoLfgKdaozGNM:&amp;tbnh=95&amp;tbnw=108&amp;prev=/images%3Fq%3Dmexican%2Bhospitals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redcrossmedia.com/images/2008-09-24_IKE_TF/hi-res/017I5485.jpg&amp;imgrefurl=http://www.redcrossmedia.com/2008-09-17_IKE_TF.html&amp;usg=__NoILtbIMUaXu-EWEHVfcDUGXaRw=&amp;h=1197&amp;w=1800&amp;sz=250&amp;hl=en&amp;start=26&amp;tbnid=K7tktAZCnD_UcM:&amp;tbnh=100&amp;tbnw=150&amp;prev=/images%3Fq%3Dmexican%2Bred%2Bcross%26start%3D21%26gbv%3D2%26hl%3Den%26sa%3DN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bbcap.co.uk/bbcap/media/imagelib/healthimages/l_uclh3.jpg&amp;imgrefurl=http://jamesfordham.blogspot.com/2007/12/uclh-ae-open-day-61207.html&amp;usg=__YKjTpNZrgLVDwtgxNpEJh1lY0ys=&amp;h=667&amp;w=500&amp;sz=123&amp;hl=en&amp;start=26&amp;tbnid=gQJhf2a5p5AgVM:&amp;tbnh=138&amp;tbnw=103&amp;prev=/images%3Fq%3DModerns%2BHospitals%26start%3D20%26gbv%3D2%26ndsp%3D20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teleworkrecruiting.com/woman_editing_changed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panic.com/photos/new_pics/images/4974/original.aspx&amp;imgrefurl=http://hispanic.com/blogs/elconnoisseur/default.aspx&amp;usg=__utTy9smJR6SVdZ5XaBBJsNiw7ag=&amp;h=2592&amp;w=3872&amp;sz=1847&amp;hl=en&amp;start=239&amp;um=1&amp;tbnid=Nht4ZTwVm1voMM:&amp;tbnh=100&amp;tbnw=150&amp;prev=/images%3Fq%3DHispanic%2Bflags%2Bby%2Bcountry%26start%3D220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actnow.com.au/files/1718/pillls.jpg&amp;imgrefurl=http://www.actnow.com.au/Issues/Access_to_essential_medicines.aspx&amp;usg=__nbIJHK-rVHMwppXRiJuSMIjx7fA=&amp;h=304&amp;w=400&amp;sz=78&amp;hl=en&amp;start=38&amp;um=1&amp;tbnid=buRgY1XnN7Rt1M:&amp;tbnh=94&amp;tbnw=124&amp;prev=/images%3Fq%3Dmedicines%26start%3D20%26ndsp%3D20%26um%3D1%26hl%3Den%26sa%3D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&amp;imgrefurl=http://www.spraguephoto.com/search.lasso%3F-token.display%3D%26keywords%3D%2BHealth%2B%2BAwareness%250D%2BLatin%2B%2BAmerica%250Dtunisia%26country%3D%26category%3D%26set%3D%26number%3D%26skip%3D0%26-token.advanced_search%3Dtrue%26-token.showcaptions%3DHide%2BCaptions%26-token.max%3D90&amp;usg=__epLGpEcXgyQXA-6L0oTXBDvlKyM=&amp;h=460&amp;w=345&amp;sz=39&amp;hl=en&amp;start=191&amp;um=1&amp;tbnid=3HKa5sXM_bh_4M:&amp;tbnh=128&amp;tbnw=96&amp;prev=/images%3Fq%3Dmedicines%26start%3D180%26ndsp%3D20%26um%3D1%26hl%3Den%26sa%3D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packages/images/photo/2007/08/21/082107POD/19582311.JPG&amp;imgrefurl=http://www.nytimes.com/slideshow/2007/08/21/nytfrontpage/082107POD_2.html&amp;usg=__We93Eb-t3bvJdhVw6E7cR27LDYE=&amp;h=400&amp;w=600&amp;sz=66&amp;hl=en&amp;start=49&amp;um=1&amp;tbnid=GmmL-pCb1mDWaM:&amp;tbnh=90&amp;tbnw=135&amp;prev=/images%3Fq%3Demergency%2Brooms%26start%3D40%26ndsp%3D20%26um%3D1%26hl%3Den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Understanding Latinos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&amp; their perceptions of the American 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Health System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http://imgtn1.ask.com/ts?t=18274306738501870012&amp;pid=23296&amp;ppid=6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1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http://tbn1.google.com/images?q=tbn:GwWZkat1GMQwJM:http://pinellas.ifas.ufl.edu/fcs/images/hispanic_fami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5720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http://tbn2.google.com/images?q=tbn:WNOybKBkzAiH0M:http://www.countryreports.org/flags/flagThumb.aspx%3Fflag%3D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60451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http://tbn2.google.com/images?q=tbn:R2kabZFdz3ICKM:http://www.countryreports.org/flags/flagThumb.aspx%3Fflag%3DV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01000" y="6046920"/>
            <a:ext cx="914400" cy="61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http://tbn1.google.com/images?q=tbn:eELBabBZ7U7lPM:http://edtech2.boisestate.edu/looslid/edtech_573/ElSalvador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6019920"/>
            <a:ext cx="914400" cy="59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http://tbn2.google.com/images?q=tbn:et5iPS6OZ3pQFM:http://www.partt.org/MexicanFlag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6019920"/>
            <a:ext cx="1295280" cy="61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http://tbn2.google.com/images?q=tbn:aa-G3hYRAlL6MM:http://www.naprhsw.com/flags/images/Hondura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7920" y="601992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http://tbn3.google.com/images?q=tbn:5nhj9FGVjZ9YhM:http://images.worldnow.com/Revenue/images/184807_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601992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tbn2.google.com/images?q=tbn:EoyKLTh3RMblEM:http://vivirlatino.com/i/2007/08/peru_flag_large.bmp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6019920"/>
            <a:ext cx="990720" cy="60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http://tbn0.google.com/images?q=tbn:971YDVTDB5b95M:http://wwwdelivery.superstock.com/WI/223/1557/PreviewComp/SuperStock_1557R-14704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80880" y="3886200"/>
            <a:ext cx="7812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tbn0.google.com/images?q=tbn:Nom0kNPeaUM5hM:http://www.stickybabycompany.com.au/admin/product/image/21/packages-symbols-9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3809880"/>
            <a:ext cx="88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 in  rural communities of</a:t>
            </a: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-Amer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ROLE  PL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octor/Patient relationship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tin American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arm welcome (Big sm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ow are you by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brings you he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takes vital signs  (even if nurse has al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never shames, criticizes a patient until he/she has won the trust of the pat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Latin-American Countries doctors are seen as part of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ifestyle changes due to being in a new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41907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ating patter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5" descr="http://imgtn3.ask.com/ts?t=15715225965946432694&amp;pid=23104&amp;ppid=19"/>
          <p:cNvPicPr/>
          <p:nvPr/>
        </p:nvPicPr>
        <p:blipFill>
          <a:blip r:embed="rId1"/>
          <a:stretch/>
        </p:blipFill>
        <p:spPr>
          <a:xfrm>
            <a:off x="609480" y="2590920"/>
            <a:ext cx="175284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http://imgtn3.ask.com/ts?t=8741759226859614925&amp;pid=23120&amp;ppid=15"/>
          <p:cNvPicPr/>
          <p:nvPr/>
        </p:nvPicPr>
        <p:blipFill>
          <a:blip r:embed="rId2"/>
          <a:stretch/>
        </p:blipFill>
        <p:spPr>
          <a:xfrm>
            <a:off x="6781680" y="556272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3202920" y="266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xerci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2594520" y="5638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1e82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New str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6" descr="http://imgtn2.ask.com/ts?t=9093261603931251633&amp;pid=23089&amp;ppid=1"/>
          <p:cNvPicPr/>
          <p:nvPr/>
        </p:nvPicPr>
        <p:blipFill>
          <a:blip r:embed="rId3"/>
          <a:stretch/>
        </p:blipFill>
        <p:spPr>
          <a:xfrm>
            <a:off x="6629400" y="2286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7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8" descr="http://imgtn4.ask.com/ts?t=16561704859289128082&amp;pid=23296&amp;ppid=6"/>
          <p:cNvPicPr/>
          <p:nvPr/>
        </p:nvPicPr>
        <p:blipFill>
          <a:blip r:embed="rId4"/>
          <a:stretch/>
        </p:blipFill>
        <p:spPr>
          <a:xfrm>
            <a:off x="6629400" y="3962520"/>
            <a:ext cx="1616040" cy="121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0" descr="http://imgtn3.ask.com/ts?t=16253474465047413575&amp;pid=23121&amp;ppid=9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35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http://tbn3.google.com/images?q=tbn:nawzXFkodtmAAM:http://www.nuestrogourmet.com/wp-content/uploads/2008/09/ensalada-nopal-tuna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886200"/>
            <a:ext cx="16765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atino patients want doctors to understand that work life and family life are very different in Latin American countries – there is less time here in the U.S. for sel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http://tbn1.google.com/images?q=tbn:9cb1La1q1d55XM:http://www.tourbymexico.com/morelos/cvca/fotos/laspla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143000"/>
            <a:ext cx="138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ttp://tbn1.google.com/images?q=tbn:iW6541xnIXxMlM:http://www.pps.org/graphics/upo-pages/cowboys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895480"/>
            <a:ext cx="1676160" cy="112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http://tbn0.google.com/images?q=tbn:0YSA2aC_eZWJdM:http://www.fisdl.gob.sv/zoom/EYYUFY/viewsize/pppotonico4hig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5257800"/>
            <a:ext cx="1752480" cy="132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http://tbn1.google.com/images?q=tbn:i2MxqdHdmUzzWM:http://upload.wikimedia.org/wikipedia/commons/thumb/3/3e/USA_Flag_Map.svg/800px-USA_Flag_Map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1143000" cy="711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Mi Casa Es Su 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Latino community is grateful that America and American doctors want to learn more about them and their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sharing about our culture, we can work together to improve Latino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tbn0.google.com/images?q=tbn:wPQMxOSdvtGXfM:http://www.fisdl.gob.sv/zoom/FYDJEV/viewsize/08._familias_felices_por_entrega_de_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1524240" cy="12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tbn1.google.com/images?q=tbn:StV1yNowacmN5M:http://www.nida.nih.gov/LatinoBrochure/images/recom_family.gif"/>
          <p:cNvPicPr/>
          <p:nvPr/>
        </p:nvPicPr>
        <p:blipFill>
          <a:blip r:embed="rId3"/>
          <a:stretch/>
        </p:blipFill>
        <p:spPr>
          <a:xfrm>
            <a:off x="457200" y="4952880"/>
            <a:ext cx="1501920" cy="166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tbn3.google.com/images?q=tbn:kaGrJAqoEqYjiM:http://travel.resourcesforattorneys.com/mexico/images/morelia.jpg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57" name="j0074302.mid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imgtn1.ask.com/ts?t=18399885128540788236&amp;pid=23296&amp;ppid=6"/>
          <p:cNvPicPr/>
          <p:nvPr/>
        </p:nvPicPr>
        <p:blipFill>
          <a:blip r:embed="rId1"/>
          <a:stretch/>
        </p:blipFill>
        <p:spPr>
          <a:xfrm>
            <a:off x="3543480" y="4724280"/>
            <a:ext cx="1485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gtn3.ask.com/ts?t=15762259584240768597&amp;pid=23296&amp;ppid=6"/>
          <p:cNvPicPr/>
          <p:nvPr/>
        </p:nvPicPr>
        <p:blipFill>
          <a:blip r:embed="rId2"/>
          <a:stretch/>
        </p:blipFill>
        <p:spPr>
          <a:xfrm>
            <a:off x="457200" y="525780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imgtn1.ask.com/ts?t=5612558039734558956&amp;pid=23136&amp;ppid=21"/>
          <p:cNvPicPr/>
          <p:nvPr/>
        </p:nvPicPr>
        <p:blipFill>
          <a:blip r:embed="rId3"/>
          <a:stretch/>
        </p:blipFill>
        <p:spPr>
          <a:xfrm>
            <a:off x="7391520" y="533412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gtn4.ask.com/ts?t=13901498668206201582&amp;pid=23296&amp;ppid=6"/>
          <p:cNvPicPr/>
          <p:nvPr/>
        </p:nvPicPr>
        <p:blipFill>
          <a:blip r:embed="rId4"/>
          <a:stretch/>
        </p:blipFill>
        <p:spPr>
          <a:xfrm>
            <a:off x="7315200" y="22860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j0074302.mid" descr=""/>
          <p:cNvPicPr/>
          <p:nvPr/>
        </p:nvPicPr>
        <p:blipFill>
          <a:blip r:embed="rId5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gtn2.ask.com/ts?t=5798455124529545549&amp;pid=23296&amp;ppid=6"/>
          <p:cNvPicPr/>
          <p:nvPr/>
        </p:nvPicPr>
        <p:blipFill>
          <a:blip r:embed="rId6"/>
          <a:stretch/>
        </p:blipFill>
        <p:spPr>
          <a:xfrm>
            <a:off x="762120" y="4572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The Latino Culture is characterized  by its unique cultural traditions, life styles, food, customs, as well as  living environments that promote regular physical activity. It is a culture that is rich in tradition and 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7143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 many years, people from many countries in Latin America have come to the United States to become a member of this great Nation, changing their customs and traditions to adapt themselves to a new way of living.  Learning how to navigate a new health system is one of those changes.  In this process of transition to a new system, they face many barriers an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" descr="http://tbn1.google.com/images?q=tbn:i2MxqdHdmUzzWM:http://upload.wikimedia.org/wikipedia/commons/thumb/3/3e/USA_Flag_Map.svg/800px-USA_Flag_Map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09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" descr="http://imgtn3.ask.com/ts?t=16659903204766244985&amp;pid=23121&amp;ppid=17"/>
          <p:cNvPicPr/>
          <p:nvPr/>
        </p:nvPicPr>
        <p:blipFill>
          <a:blip r:embed="rId3"/>
          <a:stretch/>
        </p:blipFill>
        <p:spPr>
          <a:xfrm>
            <a:off x="3429000" y="48006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majority of Latinos in California face languag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s live in poverty which creates barriers with medications, transportation, marital proble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have limited edu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iteracy; some are illiterate even in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face acculturation issues associated with being a new immigrant in a new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are unable to express how they really feel – so stress may be expressed as a physical ailment or just not feel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gtn1.ask.com/ts?t=2039170635796684626&amp;pid=23136&amp;ppid=4"/>
          <p:cNvPicPr/>
          <p:nvPr/>
        </p:nvPicPr>
        <p:blipFill>
          <a:blip r:embed="rId1"/>
          <a:stretch/>
        </p:blipFill>
        <p:spPr>
          <a:xfrm>
            <a:off x="7620120" y="914400"/>
            <a:ext cx="1218960" cy="109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imgtn2.ask.com/ts?t=1613258012389398759&amp;pid=23184&amp;ppid=20"/>
          <p:cNvPicPr/>
          <p:nvPr/>
        </p:nvPicPr>
        <p:blipFill>
          <a:blip r:embed="rId2"/>
          <a:stretch/>
        </p:blipFill>
        <p:spPr>
          <a:xfrm>
            <a:off x="7162920" y="2514600"/>
            <a:ext cx="182880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gtn1.ask.com/ts?t=12272753196822558520&amp;pid=23040&amp;ppid=18"/>
          <p:cNvPicPr/>
          <p:nvPr/>
        </p:nvPicPr>
        <p:blipFill>
          <a:blip r:embed="rId3"/>
          <a:stretch/>
        </p:blipFill>
        <p:spPr>
          <a:xfrm>
            <a:off x="7924680" y="5410080"/>
            <a:ext cx="1041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Immigrants are not familiar with the American health system and have a difficult time navigating the 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 Latin American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nics are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ointments are not made by phone – only dro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ersonal relationships/customer service is ver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re personal attention, warm greet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have more time for the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at least 30 minutes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http://tbn3.google.com/images?q=tbn:pFoLfgKdaozGNM:http://www.jillstanek.com/images/mexico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4100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http://tbn0.google.com/images?q=tbn:K7tktAZCnD_UcM:http://www.redcrossmedia.com/images/2008-09-24_IKE_TF/hi-res/017I54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876920"/>
            <a:ext cx="1828800" cy="174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http://tbn1.google.com/images?q=tbn:gQJhf2a5p5AgVM:http://www.bbcap.co.uk/bbcap/media/imagelib/healthimages/l_uclh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648320"/>
            <a:ext cx="148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Hispanic patients value</a:t>
            </a:r>
            <a:r>
              <a:rPr b="1" lang="en-US" sz="6000" spc="-1" strike="noStrike">
                <a:solidFill>
                  <a:srgbClr val="331e82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m greeting from registration &amp; all health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’s full attention for the 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understanding  the challenges that  immigrant Latino patients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http://imgtn3.ask.com/ts?t=11466322368363358906&amp;pid=23136&amp;ppid=4"/>
          <p:cNvPicPr/>
          <p:nvPr/>
        </p:nvPicPr>
        <p:blipFill>
          <a:blip r:embed="rId1"/>
          <a:stretch/>
        </p:blipFill>
        <p:spPr>
          <a:xfrm>
            <a:off x="6172200" y="4633920"/>
            <a:ext cx="2286000" cy="148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imgtn4.ask.com/ts?t=12399635812994545213&amp;pid=23088&amp;ppid=15"/>
          <p:cNvPicPr/>
          <p:nvPr/>
        </p:nvPicPr>
        <p:blipFill>
          <a:blip r:embed="rId2"/>
          <a:stretch/>
        </p:blipFill>
        <p:spPr>
          <a:xfrm>
            <a:off x="4572000" y="2003400"/>
            <a:ext cx="21337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3"/>
          <p:cNvGrpSpPr/>
          <p:nvPr/>
        </p:nvGrpSpPr>
        <p:grpSpPr>
          <a:xfrm>
            <a:off x="304920" y="2948040"/>
            <a:ext cx="9144000" cy="960480"/>
            <a:chOff x="304920" y="2948040"/>
            <a:chExt cx="9144000" cy="960480"/>
          </a:xfrm>
        </p:grpSpPr>
        <p:sp>
          <p:nvSpPr>
            <p:cNvPr id="89" name="Rectangle 10"/>
            <p:cNvSpPr/>
            <p:nvPr/>
          </p:nvSpPr>
          <p:spPr>
            <a:xfrm>
              <a:off x="304920" y="2948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04920" y="294804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1e82"/>
                </a:solidFill>
                <a:latin typeface="Times New Roman"/>
              </a:rPr>
              <a:t>Latino patients and medic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are accustomed to using Latino folk cures (herbs, t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k of access to insurance/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ults in Latinos not wanting to use costly medical services &amp;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http://tbn0.google.com/images?q=tbn:Nht4ZTwVm1voMM:http://hispanic.com/photos/new_pics/images/4974/original.as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80060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bn0.google.com/images?q=tbn:buRgY1XnN7Rt1M:http://www.actnow.com.au/files/1718/pilll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429000"/>
            <a:ext cx="1067040" cy="80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bn2.google.com/images?q=tbn:3HKa5sXM_bh_4M: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90512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152920" y="58669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o patients lack confidence in American med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emergency room situations, Latinos believe delays in treating them mean the medical system does not care about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Latin American Countries, they are more likely to get antibiotics and in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nd are therefore disappointed if prescribed, for instance just Tyle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atino patients want to feel better quickly and think American doctors are not giving them best treatment when they don’t get better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8" descr="http://tbn3.google.com/images?q=tbn:GmmL-pCb1mDWaM:http://graphics8.nytimes.com/packages/images/photo/2007/08/21/082107POD/195823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22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want doctors to speak to them using words they can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need interpretation when they don’t speak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benefit when their doctor asks them if they understood their directions and asks them to repeat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http://imgtn4.ask.com/ts?t=6233751604993950350&amp;pid=23040&amp;ppid=12"/>
          <p:cNvPicPr/>
          <p:nvPr/>
        </p:nvPicPr>
        <p:blipFill>
          <a:blip r:embed="rId1"/>
          <a:stretch/>
        </p:blipFill>
        <p:spPr>
          <a:xfrm>
            <a:off x="2590920" y="335268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http://imgtn4.ask.com/ts?t=9338154721336024591&amp;pid=23056&amp;ppid=21"/>
          <p:cNvPicPr/>
          <p:nvPr/>
        </p:nvPicPr>
        <p:blipFill>
          <a:blip r:embed="rId2"/>
          <a:stretch/>
        </p:blipFill>
        <p:spPr>
          <a:xfrm>
            <a:off x="380880" y="2438280"/>
            <a:ext cx="17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13:39Z</dcterms:created>
  <dc:creator>HCBAYPOINT</dc:creator>
  <dc:description/>
  <dc:language>en-US</dc:language>
  <cp:lastModifiedBy>cjames</cp:lastModifiedBy>
  <dcterms:modified xsi:type="dcterms:W3CDTF">2009-04-22T23:17:42Z</dcterms:modified>
  <cp:revision>37</cp:revision>
  <dc:subject/>
  <dc:title>Hispanics in the  Health System</dc:title>
</cp:coreProperties>
</file>