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67A-05E5-42C5-ADE6-4F8A45AB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C3A-924B-45FC-8BE0-10F3C56B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C36-F484-4673-BDB8-37650D89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7DB-41F1-4195-B6E8-B573F709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CC4A-7DCA-4799-B25F-CCD97993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0811-ABF2-4B32-A41B-CF78DE51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2F31-5391-4F51-8DE8-532191FB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BE2B-B616-4EBB-8B0B-E53D2ED3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3746-F28E-4D1E-81CF-05696CED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F994-7EC8-41B7-9A6B-C3D584EE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FB70-F90D-4739-9E94-2B1A57D5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D8A-FF05-4A50-AD99-14CD1387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95B3-56F0-48AC-898E-D0C5DD20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5ADE-9550-4770-A07B-88A2F76F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A6FA-BBAB-4CDC-90F2-E36800AB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0FC5-94C8-4085-9636-75402A03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1143-4086-443C-B1B5-437A9B78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D39-64CD-49C0-8660-0C8BD3CF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4BC-9192-466C-9C02-F48D3687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F66-00FC-45D3-8154-D5B62B33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685-3771-40D2-88AB-E625A214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3AB-2C82-4039-A1B4-62DE7C87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E5C-FA7B-4F1A-B489-1075DAAF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B8F-CA7B-4725-8B2C-ADC025F2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F74C-6AEC-4F22-B462-E49108B2BA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9644-0403-4BAF-A5A3-55AE61BEAC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Preterm Delivery:  An Update on Prevention and Treatmen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ra Lehman, MD MPH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CRM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June 3, 2009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gnesium Sulfate: Friend of Fo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colytics have never been shown to significantly prolong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arge meta-analyses of Mg++ have failed to show even the 48hr delay of delivery necessary for steroid administ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ta-blockers delay c. 48h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cium channel blockers delay 1-4 days, with less side eff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mhan et al (NEJM August 2007) recommended </a:t>
            </a: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AGAINS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Mg++ use for preterm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rvical Length for screening of High Risk Pati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V sono with EMPTY BLADDER 16-20 week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gt;3 cm is reassur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lt;/=2.5 cm is concerning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rial son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Cerclage in pre-vi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eroi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F mod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&lt;/=1.5 cm is the highest risk group where treatment shown to improve outcom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gesterone supplementation (OR 0.56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gnesium and Neonatal Neuroprot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ouse et al (NEJM Aug 2008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241 women in preterm labor with expected delivery 24-31 weeks randomized to Mg++ or placeb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difference in overall CP (11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rease in moderate - severe CP 1.9% vs. 3.5% (OR 0.55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difference in neonatal de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life threatening maternal com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dentify risk factors for PTD that can be modified in prenatal c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scribe the use of progesterone to prevent PT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derstand the use of FFN and cervical length in the diagnosis of preterm lab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 familiar with the controversy surrounding Magnesium Sulfate as the go to drug in PT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mportance of Preterm Bir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lications of prematurity/preterm birth are the number one cause of neonatal mortality in the U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re 12% of births are preterm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(&lt;37 week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ate of preterm birth has been steadily rising since 198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stimated $13.6 billion in health care expenditure in 200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sk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story of preterm deliv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ternal age (extreme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ultifetal gestations/A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lyhydramni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ervical surgery/LEEP/D&amp;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terine anomalies/Lyom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bstance abuse (cocaine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w 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isk Factors – What we can cha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gnancy Interval of &lt;6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bac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ce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5%in polysubstance us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em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lt; 9.5 at 12 week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Work Stress Ind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&gt;36 hrs/week, prolonged standing, heavy lifting, skipped meal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ital Inf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GC/CT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V – maybe in select group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richomonas - only for symptom contro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YMPTOMATIC BACTU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esterone and the prevention of recurrent preterm birth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is et al (NEJM 2003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59 women with history of PT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50 mg IM weekly 17 alpha-hydroxyprogesterone caproate vs. placeb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6-20 weeks through 36 wee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R 0.66 in treatment gro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so showed decreased NEC, IVH, O2 needs in treatment gro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ultiple others have confirmed decreased PTD if started up to 26 week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esterone and the prevention of recurrent preterm birth - limit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ta-analyses have NOT confirmed the decrease in the complications of prematur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7 alpha-OH progesterone no longer manufactured in U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cent studies focused on vaginal progesterone gel have not found a benef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arly cessation increases risk of PTD (OR 2.11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 role in prolonging multifetal or FFN + pregnanc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is of Preterm Labor : FF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ophoblast glue present in cervical secretions prior to 20 wks gestation and at ter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sent between 22 and 34 wee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egative predictive value of 99.5% for 7 days and 99.2% for 14 d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sitive predictive value is ONLY 29%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 use to direct steroid administr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NT to prevent RDS = 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agnosis of Preterm Labor: Cervical Leng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rvical length of &gt;3 cm has a NPV of nearly 100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rvical length of &lt;/= 2.5 cm has a strong association with PTD and warrants active manag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5 -3 cm is a grey zone where FFN can guide steroid u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3:13:53Z</dcterms:created>
  <dc:creator>o</dc:creator>
  <dc:description/>
  <dc:language>en-US</dc:language>
  <cp:lastModifiedBy>o</cp:lastModifiedBy>
  <dcterms:modified xsi:type="dcterms:W3CDTF">2009-06-03T06:54:24Z</dcterms:modified>
  <cp:revision>7</cp:revision>
  <dc:subject/>
  <dc:title>Preterm Delivery:  An Update on Prevention and Treatment</dc:title>
</cp:coreProperties>
</file>