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99AA-291B-45D6-83D5-C5D7FCDBD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1F2F-1695-432A-8BDB-42BF4DE5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E630-4DA4-44A6-B0AD-AA28358DA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AF45-73EF-4055-923D-4E34B6E47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4DF1-C7F2-4E0F-931B-A5894D824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CBC2-5D85-47FC-A287-D0598E30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8EED-58C9-41AF-96FF-43005C34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E231-4E56-44A2-BE23-84595F1C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2B26-6754-4FD0-9D68-9B7379F4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4052-67CD-47BD-BD40-EA012328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4DAC-F0AF-4EB5-995F-7381E60F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31D6-F8F8-4776-A76F-7F1EAA27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39D0-4671-4AF2-9A70-55DC1BB4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3B38-65D7-4F72-B4E8-766F183A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0CBE-1E42-4BEB-9EF9-9DD8E4FE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4A82-CE2F-4D4E-9123-096781FA3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FE6E-0055-4ECE-AE3C-C6581A99F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FA6F-37D8-406C-9ED9-420481B9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6682-6941-4180-8B13-EF4E778A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37F8-592F-4DA5-B0F1-0E411677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692F-6595-4D5E-9993-162CADF5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240E-FAEE-4930-9BB4-B78BA34C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812B-7DF3-43FC-959D-F9B9D33F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AE25-5E3D-4B30-9052-9CA8C877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511C-C6EB-48B2-A506-424FA9D048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4280-1C13-4FFC-ACF8-6A6EE914DD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Preterm Delivery:  An Update on Prevention and Treatment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ara Lehman, MD MPH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CRMC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June 3, 2009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gnesium Sulfate: Friend of Fo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ocolytics have never been shown to significantly prolong labo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arge meta-analyses of Mg++ have failed to show even the 48hr delay of delivery necessary for steroid administr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eta-blockers delay c. 48h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lcium channel blockers delay 1-4 days, with less side effec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mhan et al (NEJM August 2007) recommended </a:t>
            </a:r>
            <a:r>
              <a:rPr b="0" lang="en-US" sz="2700" spc="-1" strike="noStrike">
                <a:solidFill>
                  <a:srgbClr val="990000"/>
                </a:solidFill>
                <a:latin typeface="Arial"/>
              </a:rPr>
              <a:t>AGAINST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Mg++ use for preterm labo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rvical Length for screening of High Risk Pati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V sono with EMPTY BLADDER 16-20 weeks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sult &gt;3 cm is reassur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sult &lt;/=2.5 cm is concerning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rial son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?Cerclage in pre-via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eroi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F modific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sult &lt;/=1.5 cm is the highest risk group where treatment shown to improve outcom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gesterone supplementation (OR 0.56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gnesium and Neonatal Neuroprote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ouse et al (NEJM Aug 2008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241 women in preterm labor with expected delivery 24-31 weeks randomized to Mg++ or placeb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 difference in overall CP (11%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crease in moderate - severe CP 1.9% vs. 3.5% (OR 0.55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 difference in neonatal deat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 life threatening maternal complic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dentify risk factors for PTD that can be modified in prenatal car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scribe the use of progesterone to prevent PT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nderstand the use of FFN and cervical length in the diagnosis of preterm labo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e familiar with the controversy surrounding Magnesium Sulfate as the go to drug in PT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mportance of Preterm Birt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mplications of prematurity/preterm birth are the number one cause of neonatal mortality in the U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ore 12% of births are preterm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(&lt;37 weeks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ate of preterm birth has been steadily rising since 198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stimated $13.6 billion in health care expenditure in 2001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isk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istory of preterm deliver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ternal age (extremes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ultifetal gestations/AR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olyhydramnio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ervical surgery/LEEP/D&amp;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terine anomalies/Lyomat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ubstance abuse (cocaine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ow S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isk Factors – What we can chan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gnancy Interval of &lt;6m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bac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tance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5%in polysubstance user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emi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&lt; 9.5 at 12 week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Work Stress Ind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&gt;36 hrs/week, prolonged standing, heavy lifting, skipped meal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ital Infe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GC/CT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BV – maybe in select group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richomonas - only for symptom contro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YMPTOMATIC BACTU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gesterone and the prevention of recurrent preterm birth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eis et al (NEJM 2003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59 women with history of PT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50 mg IM weekly 17 alpha-hydroxyprogesterone caproate vs. placeb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6-20 weeks through 36 week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R 0.66 in treatment grou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lso showed decreased NEC, IVH, O2 needs in treatment grou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ultiple others have confirmed decreased PTD if started up to 26 week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gesterone and the prevention of recurrent preterm birth - limita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eta-analyses have NOT confirmed the decrease in the complications of prematurit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7 alpha-OH progesterone no longer manufactured in US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cent studies focused on vaginal progesterone gel have not found a benefi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arly cessation increases risk of PTD (OR 2.11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No role in prolonging multifetal or FFN + pregnanci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is of Preterm Labor : FF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rophoblast glue present in cervical secretions prior to 20 wks gestation and at ter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bsent between 22 and 34 week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Negative predictive value of 99.5% for 7 days and 99.2% for 14 day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ositive predictive value is ONLY 29%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n use to direct steroid administra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NT to prevent RDS = 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agnosis of Preterm Labor: Cervical Lengt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ervical length of &gt;3 cm has a NPV of nearly 100%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ervical length of &lt;/= 2.5 cm has a strong association with PTD and warrants active manageme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5 -3 cm is a grey zone where FFN can guide steroid us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03:13:53Z</dcterms:created>
  <dc:creator>o</dc:creator>
  <dc:description/>
  <dc:language>en-US</dc:language>
  <cp:lastModifiedBy>o</cp:lastModifiedBy>
  <dcterms:modified xsi:type="dcterms:W3CDTF">2009-06-03T06:54:24Z</dcterms:modified>
  <cp:revision>7</cp:revision>
  <dc:subject/>
  <dc:title>Preterm Delivery:  An Update on Prevention and Treatment</dc:title>
</cp:coreProperties>
</file>