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9B2-CD25-4BF8-8B46-A2C6BDC2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A30-E491-418F-B27E-0BFA344A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974-CD45-446A-A42A-D8502740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DF7-E1A7-4668-A53C-74F27AE8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8182-A20D-4190-95A2-891B80F1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F0F0-AE43-44CE-980C-C14170D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B9C5-1C69-419E-B5F4-178BB3D1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DBF4-1C38-4839-8F6B-4D780BB2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13F0-F9E2-4D9D-9DDD-41EE3FA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5342-E27E-4C92-856A-F066475E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C827-4EEB-4F98-AE84-EEE0F64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7D8-6270-4A8A-B93D-5FAB80FF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B21E-BC4F-4EA8-8EBF-68206C3F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E542-0971-4670-9FDE-0FAA4E24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671F-591A-4003-8AC9-A78E3E0B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0189-0182-404B-8B41-CC7F4B72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98A0-7F3C-4E24-95ED-7A12E561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46E-BD07-4D0C-8D8D-CA143A35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EA7-D116-4D22-9A56-3A961956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CA5-0664-4636-8A0E-D144A492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009-9504-4F09-A646-72A744FA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049-93B7-415F-8091-3F1AD5B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2D0-4DE5-4134-A1DE-E6BE9FB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C90-8287-4338-80DA-75DCD21F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8AF6-34D4-4636-A621-408B64DB0B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005-6448-4D0C-BDB9-536AB6F10D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Preterm Delivery:  An Update on Prevention and Treatmen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ra Lehman, MD MP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CRM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ne 3, 200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gnesium Sulfate: Friend of Fo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colytics have never been shown to significantly prolong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rge meta-analyses of Mg++ have failed to show even the 48hr delay of delivery necessary for steroid administ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a-blockers delay c. 48h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ium channel blockers delay 1-4 days, with less sid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mhan et al (NEJM August 2007) recommended </a:t>
            </a: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AGAIN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Mg++ use for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rvical Length for screening of High Risk Pati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V sono with EMPTY BLADDER 16-20 week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gt;3 cm is reassu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2.5 cm is concern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ial son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Cerclage in pre-vi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eroi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F mod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1.5 cm is the highest risk group where treatment shown to improve outco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esterone supplementation (OR 0.56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esium and Neonatal Neuroprot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use et al (NEJM Aug 200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241 women in preterm labor with expected delivery 24-31 weeks randomized to Mg++ or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overall CP (11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rease in moderate - severe CP 1.9% vs. 3.5% (OR 0.5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neonatal de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life threatening maternal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entify risk factors for PTD that can be modified in prenatal c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e the use of progesterone to prevent PT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stand the use of FFN and cervical length in the diagnosis of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familiar with the controversy surrounding Magnesium Sulfate as the go to drug in PT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ce of Preterm Bi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ications of prematurity/preterm birth are the number one cause of neonatal mortality in the U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12% of births are preterm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&lt;37 week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te of preterm birth has been steadily rising since 198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stimated $13.6 billion in health care expenditure in 200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tory of preterm deliv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ernal age (extreme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fetal gestations/A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lyhydramni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rvical surgery/LEEP/D&amp;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terine anomalies/Lyom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bstance abuse (cocain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k Factors – What we can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gnancy Interval of &lt;6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ce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5%in polysubstance us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 9.5 at 12 wee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Work Stress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gt;36 hrs/week, prolonged standing, heavy lifting, skipped mea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ital Inf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GC/CT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V – maybe in select group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richomonas - only for symptom contro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YMPTOMATIC BACT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is et al (NEJM 2003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59 women with history of PT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50 mg IM weekly 17 alpha-hydroxyprogesterone caproate vs. placeb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-20 weeks through 36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R 0.66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so showed decreased NEC, IVH, O2 needs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ple others have confirmed decreased PTD if started up to 26 wee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- limit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-analyses have NOT confirmed the decrease in the complications of prematur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 alpha-OH progesterone no longer manufactured in U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cent studies focused on vaginal progesterone gel have not found a benef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rly cessation increases risk of PTD (OR 2.1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role in prolonging multifetal or FFN + pregnanc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is of Preterm Labor : FF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phoblast glue present in cervical secretions prior to 20 wks gestation and at ter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sent between 22 and 34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gative predictive value of 99.5% for 7 days and 99.2% for 14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itive predictive value is ONLY 29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use to direct steroid administr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NT to prevent RDS =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gnosis of Preterm Labor: Cervical Leng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gt;3 cm has a NPV of nearly 10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lt;/= 2.5 cm has a strong association with PTD and warrants active manag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5 -3 cm is a grey zone where FFN can guide steroid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3:13:53Z</dcterms:created>
  <dc:creator>o</dc:creator>
  <dc:description/>
  <dc:language>en-US</dc:language>
  <cp:lastModifiedBy>o</cp:lastModifiedBy>
  <dcterms:modified xsi:type="dcterms:W3CDTF">2009-06-03T06:54:24Z</dcterms:modified>
  <cp:revision>7</cp:revision>
  <dc:subject/>
  <dc:title>Preterm Delivery:  An Update on Prevention and Treatment</dc:title>
</cp:coreProperties>
</file>