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3ED-DDB1-40DC-AF7A-D5682F48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319-6F2A-4277-9FBB-765AB544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5B8-3C1F-442F-A81D-9FB7836A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3A3-C02D-4842-90A1-42F352C1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31E-7E2A-4A9A-8D7D-4DE6FB27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A32D-6A51-4E4B-AE2D-8EDBCFF5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6B81-7BCB-4836-8A94-309FA27A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FC7E-937B-49C6-A139-BE13F799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2E31-83F1-44A2-8916-1D779DF2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2ED4-6E77-49B3-A938-B56BC3DE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180-DB7A-4630-9F4C-5708BEAC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413-D46F-4319-81EB-F6AEBAC0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F932-C72E-48A0-AC42-974CFB5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51F6-10E5-439D-9DE1-567A77F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3931-5C7A-4B6B-B14D-1C0EDC4D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BEAA-6C52-4CFB-9E1D-C3E2F68F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F167-3D9E-4B0B-82DB-2C582BF8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640-8C67-40CB-9DD6-46822B08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17A-70F8-418A-8659-2B14183D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9EF-BBE0-47E2-9E18-9FDFE109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A31-3A88-484F-A393-CBDB74C8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E23-58CB-42E6-A2A2-73571CE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CE6-F951-4E5F-924A-FEF15D91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6F4-B256-4700-9E09-50C8814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D28-610A-4E89-94DB-085620DF8A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3064-2146-4FA6-A1E8-FDD5A7A85C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Preterm Delivery:  An Update on Prevention and Treatmen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ra Lehman, MD MP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CRM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ne 3, 200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esium Sulfate: Friend of Fo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colytics have never been shown to significantly prolong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 meta-analyses of Mg++ have failed to show even the 48hr delay of delivery necessary for steroid admini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a-blockers delay c. 48h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ium channel blockers delay 1-4 days, with less sid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mhan et al (NEJM August 2007) recommended </a:t>
            </a: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GAIN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g++ use for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rvical Length for screening of High Risk Pat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V sono with EMPTY BLADDER 16-20 week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gt;3 cm is reassu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2.5 cm is conce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son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Cerclage in pre-vi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roi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F mo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1.5 cm is the highest risk group where treatment shown to improve outco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esterone supplementation (OR 0.56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esium and Neonatal Neuroprot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use et al (NEJM Aug 200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241 women in preterm labor with expected delivery 24-31 weeks randomized to Mg++ or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overall CP (1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rease in moderate - severe CP 1.9% vs. 3.5% (OR 0.5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neonatal de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life threatening maternal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ntify risk factors for PTD that can be modified in prenatal c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e the use of progesterone to prevent PT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stand the use of FFN and cervical length in the diagnosis of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familiar with the controversy surrounding Magnesium Sulfate as the go to drug in PT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ce of Preterm Bi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ications of prematurity/preterm birth are the number one cause of neonatal mortality in the 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12% of births are preterm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&lt;37 week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te of preterm birth has been steadily rising since 198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ed $13.6 billion in health care expenditure in 200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of preterm deliv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ernal age (extrem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fetal gestations/A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lyhydramn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rvical surgery/LEEP/D&amp;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terine anomalies/Lyom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bstance abuse (cocain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 Factors – What we can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gnancy Interval of &lt;6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5%in polysubstance us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 9.5 at 12 wee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Work Stress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gt;36 hrs/week, prolonged standing, heavy lifting, skipped mea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ital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GC/C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V – maybe in select group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richomonas - only for symptom contro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YMPTOMATIC BAC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is et al (NEJM 200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59 women with history of PT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50 mg IM weekly 17 alpha-hydroxyprogesterone caproate vs. placeb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-20 weeks through 36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R 0.66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so showed decreased NEC, IVH, O2 needs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ple others have confirmed decreased PTD if started up to 26 wee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- limit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es have NOT confirmed the decrease in the complications of prematur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 alpha-OH progesterone no longer manufactured in U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cent studies focused on vaginal progesterone gel have not found a benef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rly cessation increases risk of PTD (OR 2.1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role in prolonging multifetal or FFN + pregnan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is of Preterm Labor : FF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phoblast glue present in cervical secretions prior to 20 wks gestation and at te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sent between 22 and 34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gative predictive value of 99.5% for 7 days and 99.2% for 14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predictive value is ONLY 29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use to direct steroid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NT to prevent RDS =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gnosis of Preterm Labor: Cervical L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gt;3 cm has a NPV of nearly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lt;/= 2.5 cm has a strong association with PTD and warrants active manag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5 -3 cm is a grey zone where FFN can guide steroid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13:53Z</dcterms:created>
  <dc:creator>o</dc:creator>
  <dc:description/>
  <dc:language>en-US</dc:language>
  <cp:lastModifiedBy>o</cp:lastModifiedBy>
  <dcterms:modified xsi:type="dcterms:W3CDTF">2009-06-03T06:54:24Z</dcterms:modified>
  <cp:revision>7</cp:revision>
  <dc:subject/>
  <dc:title>Preterm Delivery:  An Update on Prevention and Treatment</dc:title>
</cp:coreProperties>
</file>