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Click to move the slide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976C-4CAB-4A3B-BC40-4947C203A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F3CF-7DC0-49FB-BF30-5DEDBB2E3B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4514-77C9-4806-B567-2217FBEB54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243B-9636-47A1-891C-12DB6F4F05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9BEF-C8ED-4690-BCE4-ED030210EC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388A-8317-4EDB-83D8-96BD9C7D15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EE88-2F8C-4817-AA8E-9F6D3EB2AE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F24C-8942-4354-A18F-EEBBC7B95D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BDFA-404A-4E24-BDEA-5FBEC157E8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5AAA-56BE-4069-ADD8-DB7A8BA7B4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3262-4231-4CA9-AE4F-1397CD5842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FF4B-FCE5-4225-B946-0FD2C914EE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DB66-D0AF-4380-BF9B-98BD56D7EA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AEEE-9321-44EE-A749-290A8A460D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9D2A-2D4C-45B7-9908-2B76AA8228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A847-1F00-4B4A-A933-6A9031861F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3774-C8D3-4EA2-ACF8-93EE066343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5620-0675-4EAB-9A35-936E75BEC3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58B6-CDB3-4727-99BB-AA8BF30C46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EBF0-6A95-4D1E-BCB1-540585469A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8BA3-56EC-4E33-958C-7C3DEB31F6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8FF3-E32F-4DE6-A920-1756C04028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7AB1-CD4D-4351-9294-2FDBFE0B1D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BB57-8086-49CA-AE56-6447FFFE2C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2403-46BA-4FE9-BCDB-C387FB61E6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0020-67FE-4E6C-9A29-87BCF4CAFB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D33C-EBC2-4FFA-A73B-F4650E21DD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E2C1-CBC6-433A-9C12-CF95B819F3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8E34-5C5C-4FFC-A65E-0171C2F9AE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A98D-7BB7-4B41-9CF6-3C382A7446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7B7AD-0D7C-4157-B4F0-4E03D5907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58B5C-FDA0-4C94-BBB6-EB246276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162AD-74CE-4BF9-AC17-2D193961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3125A-CD46-4AB4-A716-A8FD2DD6C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E706-4B9C-4A82-8172-661E89C90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C2FA-DB57-432F-9459-DB9A19B7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977A-0015-4DFF-86BC-0595AB6A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CA6E-62CF-4D88-A4FD-435BA803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7AC6-7C66-4B81-A58F-92F53430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580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15C0-1EDC-430A-977C-1708812B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F871-007F-468B-BFC8-5EE15167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B1A2F-B7B0-4F6F-8486-E96F7A5E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75F1-7E91-4B61-BD93-BCEBD7AD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44EE-4780-40D6-AF09-492AC2DD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4C4A-1731-4004-B08C-66A5FE17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812C-2F97-422E-8026-33C8C3B02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99DC-74EC-4866-99F7-4FD18EBE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61B81-6A44-4697-A00B-F777B963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C5A2F-A0CC-4313-9758-75D74288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81760-A492-4B25-AB82-1DF2676F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68580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1E482-A185-432B-BDBD-E532DF19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959F8-6018-4FDE-B024-87F83880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71DA0-42DC-4AC1-89D0-BB58A233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F0F0F-B39D-48FE-AAA2-7459B16A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6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2166840" y="563400"/>
            <a:ext cx="4800600" cy="6151680"/>
            <a:chOff x="2166840" y="563400"/>
            <a:chExt cx="4800600" cy="6151680"/>
          </a:xfrm>
        </p:grpSpPr>
        <p:sp>
          <p:nvSpPr>
            <p:cNvPr id="1" name="Freeform 2"/>
            <p:cNvSpPr/>
            <p:nvPr/>
          </p:nvSpPr>
          <p:spPr>
            <a:xfrm>
              <a:off x="4500720" y="930240"/>
              <a:ext cx="139680" cy="1779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779480"/>
                <a:gd name="textAreaBottom" fmla="*/ 1779840 h 1779480"/>
              </a:gdLst>
              <a:ahLst/>
              <a:rect l="textAreaLeft" t="textAreaTop" r="textAreaRight" b="textAreaBottom"/>
              <a:pathLst>
                <a:path w="88" h="1121">
                  <a:moveTo>
                    <a:pt x="0" y="1120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085"/>
                  </a:lnTo>
                  <a:lnTo>
                    <a:pt x="0" y="1120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4498920" y="3016080"/>
              <a:ext cx="133560" cy="57636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84" h="363">
                  <a:moveTo>
                    <a:pt x="0" y="29"/>
                  </a:moveTo>
                  <a:lnTo>
                    <a:pt x="83" y="0"/>
                  </a:lnTo>
                  <a:lnTo>
                    <a:pt x="74" y="329"/>
                  </a:lnTo>
                  <a:lnTo>
                    <a:pt x="0" y="362"/>
                  </a:lnTo>
                  <a:lnTo>
                    <a:pt x="0" y="29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4484520" y="3957480"/>
              <a:ext cx="133560" cy="39528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84" h="249">
                  <a:moveTo>
                    <a:pt x="2" y="213"/>
                  </a:moveTo>
                  <a:lnTo>
                    <a:pt x="0" y="28"/>
                  </a:lnTo>
                  <a:lnTo>
                    <a:pt x="83" y="0"/>
                  </a:lnTo>
                  <a:lnTo>
                    <a:pt x="72" y="248"/>
                  </a:lnTo>
                  <a:lnTo>
                    <a:pt x="2" y="213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4494240" y="4707000"/>
              <a:ext cx="82440" cy="3682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52" h="232">
                  <a:moveTo>
                    <a:pt x="13" y="204"/>
                  </a:moveTo>
                  <a:lnTo>
                    <a:pt x="0" y="0"/>
                  </a:lnTo>
                  <a:lnTo>
                    <a:pt x="51" y="26"/>
                  </a:lnTo>
                  <a:lnTo>
                    <a:pt x="47" y="231"/>
                  </a:lnTo>
                  <a:lnTo>
                    <a:pt x="13" y="204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4525920" y="5324400"/>
              <a:ext cx="57240" cy="2113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36" h="133">
                  <a:moveTo>
                    <a:pt x="4" y="101"/>
                  </a:moveTo>
                  <a:lnTo>
                    <a:pt x="0" y="0"/>
                  </a:lnTo>
                  <a:lnTo>
                    <a:pt x="35" y="20"/>
                  </a:lnTo>
                  <a:lnTo>
                    <a:pt x="28" y="132"/>
                  </a:lnTo>
                  <a:lnTo>
                    <a:pt x="4" y="10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4525920" y="5778360"/>
              <a:ext cx="47520" cy="936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30" h="590">
                  <a:moveTo>
                    <a:pt x="15" y="589"/>
                  </a:moveTo>
                  <a:lnTo>
                    <a:pt x="0" y="0"/>
                  </a:lnTo>
                  <a:lnTo>
                    <a:pt x="29" y="37"/>
                  </a:lnTo>
                  <a:lnTo>
                    <a:pt x="15" y="589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4127400" y="5707080"/>
              <a:ext cx="370080" cy="206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233" h="130">
                  <a:moveTo>
                    <a:pt x="0" y="117"/>
                  </a:moveTo>
                  <a:lnTo>
                    <a:pt x="48" y="101"/>
                  </a:lnTo>
                  <a:lnTo>
                    <a:pt x="93" y="79"/>
                  </a:lnTo>
                  <a:lnTo>
                    <a:pt x="146" y="39"/>
                  </a:lnTo>
                  <a:lnTo>
                    <a:pt x="182" y="0"/>
                  </a:lnTo>
                  <a:lnTo>
                    <a:pt x="232" y="42"/>
                  </a:lnTo>
                  <a:lnTo>
                    <a:pt x="188" y="74"/>
                  </a:lnTo>
                  <a:lnTo>
                    <a:pt x="134" y="110"/>
                  </a:lnTo>
                  <a:lnTo>
                    <a:pt x="61" y="129"/>
                  </a:lnTo>
                  <a:lnTo>
                    <a:pt x="0" y="117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4100400" y="4584600"/>
              <a:ext cx="738360" cy="1025640"/>
            </a:xfrm>
            <a:custGeom>
              <a:avLst/>
              <a:gdLst>
                <a:gd name="textAreaLeft" fmla="*/ 0 w 738360"/>
                <a:gd name="textAreaRight" fmla="*/ 738720 w 73836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465" h="646">
                  <a:moveTo>
                    <a:pt x="359" y="645"/>
                  </a:moveTo>
                  <a:lnTo>
                    <a:pt x="405" y="616"/>
                  </a:lnTo>
                  <a:lnTo>
                    <a:pt x="447" y="580"/>
                  </a:lnTo>
                  <a:lnTo>
                    <a:pt x="460" y="552"/>
                  </a:lnTo>
                  <a:lnTo>
                    <a:pt x="464" y="515"/>
                  </a:lnTo>
                  <a:lnTo>
                    <a:pt x="451" y="468"/>
                  </a:lnTo>
                  <a:lnTo>
                    <a:pt x="424" y="424"/>
                  </a:lnTo>
                  <a:lnTo>
                    <a:pt x="380" y="385"/>
                  </a:lnTo>
                  <a:lnTo>
                    <a:pt x="168" y="259"/>
                  </a:lnTo>
                  <a:lnTo>
                    <a:pt x="133" y="235"/>
                  </a:lnTo>
                  <a:lnTo>
                    <a:pt x="111" y="208"/>
                  </a:lnTo>
                  <a:lnTo>
                    <a:pt x="104" y="166"/>
                  </a:lnTo>
                  <a:lnTo>
                    <a:pt x="117" y="124"/>
                  </a:lnTo>
                  <a:lnTo>
                    <a:pt x="155" y="95"/>
                  </a:lnTo>
                  <a:lnTo>
                    <a:pt x="222" y="52"/>
                  </a:lnTo>
                  <a:lnTo>
                    <a:pt x="124" y="0"/>
                  </a:lnTo>
                  <a:lnTo>
                    <a:pt x="55" y="41"/>
                  </a:lnTo>
                  <a:lnTo>
                    <a:pt x="27" y="70"/>
                  </a:lnTo>
                  <a:lnTo>
                    <a:pt x="2" y="123"/>
                  </a:lnTo>
                  <a:lnTo>
                    <a:pt x="0" y="189"/>
                  </a:lnTo>
                  <a:lnTo>
                    <a:pt x="29" y="257"/>
                  </a:lnTo>
                  <a:lnTo>
                    <a:pt x="78" y="300"/>
                  </a:lnTo>
                  <a:lnTo>
                    <a:pt x="311" y="442"/>
                  </a:lnTo>
                  <a:lnTo>
                    <a:pt x="358" y="474"/>
                  </a:lnTo>
                  <a:lnTo>
                    <a:pt x="375" y="516"/>
                  </a:lnTo>
                  <a:lnTo>
                    <a:pt x="375" y="550"/>
                  </a:lnTo>
                  <a:lnTo>
                    <a:pt x="308" y="608"/>
                  </a:lnTo>
                  <a:lnTo>
                    <a:pt x="359" y="645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4708440" y="3803760"/>
              <a:ext cx="505080" cy="669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669960"/>
                <a:gd name="textAreaBottom" fmla="*/ 669960 h 669960"/>
              </a:gdLst>
              <a:ahLst/>
              <a:rect l="textAreaLeft" t="textAreaTop" r="textAreaRight" b="textAreaBottom"/>
              <a:pathLst>
                <a:path w="318" h="422">
                  <a:moveTo>
                    <a:pt x="92" y="421"/>
                  </a:moveTo>
                  <a:lnTo>
                    <a:pt x="163" y="399"/>
                  </a:lnTo>
                  <a:lnTo>
                    <a:pt x="218" y="357"/>
                  </a:lnTo>
                  <a:lnTo>
                    <a:pt x="263" y="316"/>
                  </a:lnTo>
                  <a:lnTo>
                    <a:pt x="300" y="265"/>
                  </a:lnTo>
                  <a:lnTo>
                    <a:pt x="317" y="203"/>
                  </a:lnTo>
                  <a:lnTo>
                    <a:pt x="316" y="139"/>
                  </a:lnTo>
                  <a:lnTo>
                    <a:pt x="299" y="95"/>
                  </a:lnTo>
                  <a:lnTo>
                    <a:pt x="276" y="64"/>
                  </a:lnTo>
                  <a:lnTo>
                    <a:pt x="241" y="36"/>
                  </a:lnTo>
                  <a:lnTo>
                    <a:pt x="218" y="14"/>
                  </a:lnTo>
                  <a:lnTo>
                    <a:pt x="180" y="0"/>
                  </a:lnTo>
                  <a:lnTo>
                    <a:pt x="61" y="52"/>
                  </a:lnTo>
                  <a:lnTo>
                    <a:pt x="106" y="93"/>
                  </a:lnTo>
                  <a:lnTo>
                    <a:pt x="137" y="130"/>
                  </a:lnTo>
                  <a:lnTo>
                    <a:pt x="159" y="159"/>
                  </a:lnTo>
                  <a:lnTo>
                    <a:pt x="176" y="196"/>
                  </a:lnTo>
                  <a:lnTo>
                    <a:pt x="176" y="246"/>
                  </a:lnTo>
                  <a:lnTo>
                    <a:pt x="145" y="279"/>
                  </a:lnTo>
                  <a:lnTo>
                    <a:pt x="105" y="309"/>
                  </a:lnTo>
                  <a:lnTo>
                    <a:pt x="50" y="342"/>
                  </a:lnTo>
                  <a:lnTo>
                    <a:pt x="0" y="369"/>
                  </a:lnTo>
                  <a:lnTo>
                    <a:pt x="92" y="42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3664080" y="1889280"/>
              <a:ext cx="2228760" cy="1830240"/>
            </a:xfrm>
            <a:custGeom>
              <a:avLst/>
              <a:gdLst>
                <a:gd name="textAreaLeft" fmla="*/ 0 w 2228760"/>
                <a:gd name="textAreaRight" fmla="*/ 2229120 w 2228760"/>
                <a:gd name="textAreaTop" fmla="*/ 0 h 1830240"/>
                <a:gd name="textAreaBottom" fmla="*/ 1830600 h 1830240"/>
              </a:gdLst>
              <a:ahLst/>
              <a:rect l="textAreaLeft" t="textAreaTop" r="textAreaRight" b="textAreaBottom"/>
              <a:pathLst>
                <a:path w="1404" h="1153">
                  <a:moveTo>
                    <a:pt x="466" y="1084"/>
                  </a:moveTo>
                  <a:lnTo>
                    <a:pt x="370" y="1066"/>
                  </a:lnTo>
                  <a:lnTo>
                    <a:pt x="299" y="1035"/>
                  </a:lnTo>
                  <a:lnTo>
                    <a:pt x="257" y="1002"/>
                  </a:lnTo>
                  <a:lnTo>
                    <a:pt x="220" y="956"/>
                  </a:lnTo>
                  <a:lnTo>
                    <a:pt x="209" y="914"/>
                  </a:lnTo>
                  <a:lnTo>
                    <a:pt x="215" y="873"/>
                  </a:lnTo>
                  <a:lnTo>
                    <a:pt x="231" y="836"/>
                  </a:lnTo>
                  <a:lnTo>
                    <a:pt x="273" y="798"/>
                  </a:lnTo>
                  <a:lnTo>
                    <a:pt x="330" y="774"/>
                  </a:lnTo>
                  <a:lnTo>
                    <a:pt x="400" y="748"/>
                  </a:lnTo>
                  <a:lnTo>
                    <a:pt x="1110" y="499"/>
                  </a:lnTo>
                  <a:lnTo>
                    <a:pt x="1207" y="451"/>
                  </a:lnTo>
                  <a:lnTo>
                    <a:pt x="1289" y="398"/>
                  </a:lnTo>
                  <a:lnTo>
                    <a:pt x="1344" y="356"/>
                  </a:lnTo>
                  <a:lnTo>
                    <a:pt x="1381" y="310"/>
                  </a:lnTo>
                  <a:lnTo>
                    <a:pt x="1403" y="249"/>
                  </a:lnTo>
                  <a:lnTo>
                    <a:pt x="1401" y="185"/>
                  </a:lnTo>
                  <a:lnTo>
                    <a:pt x="1386" y="136"/>
                  </a:lnTo>
                  <a:lnTo>
                    <a:pt x="1370" y="90"/>
                  </a:lnTo>
                  <a:lnTo>
                    <a:pt x="1335" y="55"/>
                  </a:lnTo>
                  <a:lnTo>
                    <a:pt x="1280" y="18"/>
                  </a:lnTo>
                  <a:lnTo>
                    <a:pt x="1214" y="0"/>
                  </a:lnTo>
                  <a:lnTo>
                    <a:pt x="1172" y="4"/>
                  </a:lnTo>
                  <a:lnTo>
                    <a:pt x="1111" y="7"/>
                  </a:lnTo>
                  <a:lnTo>
                    <a:pt x="1053" y="20"/>
                  </a:lnTo>
                  <a:lnTo>
                    <a:pt x="989" y="46"/>
                  </a:lnTo>
                  <a:lnTo>
                    <a:pt x="939" y="79"/>
                  </a:lnTo>
                  <a:lnTo>
                    <a:pt x="899" y="106"/>
                  </a:lnTo>
                  <a:lnTo>
                    <a:pt x="878" y="149"/>
                  </a:lnTo>
                  <a:lnTo>
                    <a:pt x="897" y="187"/>
                  </a:lnTo>
                  <a:lnTo>
                    <a:pt x="939" y="183"/>
                  </a:lnTo>
                  <a:lnTo>
                    <a:pt x="987" y="171"/>
                  </a:lnTo>
                  <a:lnTo>
                    <a:pt x="1033" y="158"/>
                  </a:lnTo>
                  <a:lnTo>
                    <a:pt x="1069" y="150"/>
                  </a:lnTo>
                  <a:lnTo>
                    <a:pt x="1111" y="150"/>
                  </a:lnTo>
                  <a:lnTo>
                    <a:pt x="1154" y="163"/>
                  </a:lnTo>
                  <a:lnTo>
                    <a:pt x="1183" y="204"/>
                  </a:lnTo>
                  <a:lnTo>
                    <a:pt x="1179" y="248"/>
                  </a:lnTo>
                  <a:lnTo>
                    <a:pt x="1157" y="286"/>
                  </a:lnTo>
                  <a:lnTo>
                    <a:pt x="1121" y="323"/>
                  </a:lnTo>
                  <a:lnTo>
                    <a:pt x="1047" y="361"/>
                  </a:lnTo>
                  <a:lnTo>
                    <a:pt x="908" y="415"/>
                  </a:lnTo>
                  <a:lnTo>
                    <a:pt x="194" y="675"/>
                  </a:lnTo>
                  <a:lnTo>
                    <a:pt x="123" y="715"/>
                  </a:lnTo>
                  <a:lnTo>
                    <a:pt x="68" y="763"/>
                  </a:lnTo>
                  <a:lnTo>
                    <a:pt x="29" y="809"/>
                  </a:lnTo>
                  <a:lnTo>
                    <a:pt x="6" y="858"/>
                  </a:lnTo>
                  <a:lnTo>
                    <a:pt x="0" y="912"/>
                  </a:lnTo>
                  <a:lnTo>
                    <a:pt x="8" y="952"/>
                  </a:lnTo>
                  <a:lnTo>
                    <a:pt x="22" y="992"/>
                  </a:lnTo>
                  <a:lnTo>
                    <a:pt x="59" y="1036"/>
                  </a:lnTo>
                  <a:lnTo>
                    <a:pt x="127" y="1095"/>
                  </a:lnTo>
                  <a:lnTo>
                    <a:pt x="198" y="1135"/>
                  </a:lnTo>
                  <a:lnTo>
                    <a:pt x="273" y="1152"/>
                  </a:lnTo>
                  <a:lnTo>
                    <a:pt x="466" y="1084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4303800" y="5207040"/>
              <a:ext cx="584280" cy="669960"/>
            </a:xfrm>
            <a:custGeom>
              <a:avLst/>
              <a:gdLst/>
              <a:ahLst/>
              <a:rect l="l" t="t" r="r" b="b"/>
              <a:pathLst>
                <a:path w="368" h="422">
                  <a:moveTo>
                    <a:pt x="367" y="421"/>
                  </a:moveTo>
                  <a:lnTo>
                    <a:pt x="171" y="340"/>
                  </a:lnTo>
                  <a:lnTo>
                    <a:pt x="117" y="304"/>
                  </a:lnTo>
                  <a:lnTo>
                    <a:pt x="73" y="265"/>
                  </a:lnTo>
                  <a:lnTo>
                    <a:pt x="31" y="219"/>
                  </a:lnTo>
                  <a:lnTo>
                    <a:pt x="9" y="179"/>
                  </a:lnTo>
                  <a:lnTo>
                    <a:pt x="0" y="137"/>
                  </a:lnTo>
                  <a:lnTo>
                    <a:pt x="2" y="95"/>
                  </a:lnTo>
                  <a:lnTo>
                    <a:pt x="19" y="51"/>
                  </a:lnTo>
                  <a:lnTo>
                    <a:pt x="44" y="0"/>
                  </a:lnTo>
                  <a:lnTo>
                    <a:pt x="120" y="52"/>
                  </a:lnTo>
                  <a:lnTo>
                    <a:pt x="95" y="98"/>
                  </a:lnTo>
                  <a:lnTo>
                    <a:pt x="95" y="143"/>
                  </a:lnTo>
                  <a:lnTo>
                    <a:pt x="122" y="191"/>
                  </a:lnTo>
                  <a:lnTo>
                    <a:pt x="162" y="235"/>
                  </a:lnTo>
                  <a:lnTo>
                    <a:pt x="223" y="284"/>
                  </a:lnTo>
                  <a:lnTo>
                    <a:pt x="290" y="317"/>
                  </a:lnTo>
                  <a:lnTo>
                    <a:pt x="332" y="351"/>
                  </a:lnTo>
                  <a:lnTo>
                    <a:pt x="351" y="378"/>
                  </a:lnTo>
                  <a:lnTo>
                    <a:pt x="367" y="42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3860640" y="2844720"/>
              <a:ext cx="1570320" cy="2284560"/>
            </a:xfrm>
            <a:custGeom>
              <a:avLst/>
              <a:gdLst>
                <a:gd name="textAreaLeft" fmla="*/ 0 w 1570320"/>
                <a:gd name="textAreaRight" fmla="*/ 1570680 w 1570320"/>
                <a:gd name="textAreaTop" fmla="*/ 0 h 2284560"/>
                <a:gd name="textAreaBottom" fmla="*/ 2284920 h 2284560"/>
              </a:gdLst>
              <a:ahLst/>
              <a:rect l="textAreaLeft" t="textAreaTop" r="textAreaRight" b="textAreaBottom"/>
              <a:pathLst>
                <a:path w="989" h="1439">
                  <a:moveTo>
                    <a:pt x="525" y="1438"/>
                  </a:moveTo>
                  <a:lnTo>
                    <a:pt x="582" y="1409"/>
                  </a:lnTo>
                  <a:lnTo>
                    <a:pt x="647" y="1355"/>
                  </a:lnTo>
                  <a:lnTo>
                    <a:pt x="670" y="1304"/>
                  </a:lnTo>
                  <a:lnTo>
                    <a:pt x="686" y="1255"/>
                  </a:lnTo>
                  <a:lnTo>
                    <a:pt x="677" y="1198"/>
                  </a:lnTo>
                  <a:lnTo>
                    <a:pt x="637" y="1125"/>
                  </a:lnTo>
                  <a:lnTo>
                    <a:pt x="609" y="1092"/>
                  </a:lnTo>
                  <a:lnTo>
                    <a:pt x="569" y="1063"/>
                  </a:lnTo>
                  <a:lnTo>
                    <a:pt x="259" y="905"/>
                  </a:lnTo>
                  <a:lnTo>
                    <a:pt x="201" y="863"/>
                  </a:lnTo>
                  <a:lnTo>
                    <a:pt x="177" y="843"/>
                  </a:lnTo>
                  <a:lnTo>
                    <a:pt x="160" y="800"/>
                  </a:lnTo>
                  <a:lnTo>
                    <a:pt x="171" y="766"/>
                  </a:lnTo>
                  <a:lnTo>
                    <a:pt x="215" y="738"/>
                  </a:lnTo>
                  <a:lnTo>
                    <a:pt x="294" y="709"/>
                  </a:lnTo>
                  <a:lnTo>
                    <a:pt x="780" y="521"/>
                  </a:lnTo>
                  <a:lnTo>
                    <a:pt x="856" y="471"/>
                  </a:lnTo>
                  <a:lnTo>
                    <a:pt x="918" y="417"/>
                  </a:lnTo>
                  <a:lnTo>
                    <a:pt x="953" y="379"/>
                  </a:lnTo>
                  <a:lnTo>
                    <a:pt x="984" y="334"/>
                  </a:lnTo>
                  <a:lnTo>
                    <a:pt x="988" y="274"/>
                  </a:lnTo>
                  <a:lnTo>
                    <a:pt x="972" y="214"/>
                  </a:lnTo>
                  <a:lnTo>
                    <a:pt x="953" y="167"/>
                  </a:lnTo>
                  <a:lnTo>
                    <a:pt x="920" y="126"/>
                  </a:lnTo>
                  <a:lnTo>
                    <a:pt x="875" y="85"/>
                  </a:lnTo>
                  <a:lnTo>
                    <a:pt x="828" y="50"/>
                  </a:lnTo>
                  <a:lnTo>
                    <a:pt x="803" y="29"/>
                  </a:lnTo>
                  <a:lnTo>
                    <a:pt x="756" y="0"/>
                  </a:lnTo>
                  <a:lnTo>
                    <a:pt x="588" y="61"/>
                  </a:lnTo>
                  <a:lnTo>
                    <a:pt x="649" y="104"/>
                  </a:lnTo>
                  <a:lnTo>
                    <a:pt x="694" y="145"/>
                  </a:lnTo>
                  <a:lnTo>
                    <a:pt x="739" y="182"/>
                  </a:lnTo>
                  <a:lnTo>
                    <a:pt x="780" y="223"/>
                  </a:lnTo>
                  <a:lnTo>
                    <a:pt x="803" y="272"/>
                  </a:lnTo>
                  <a:lnTo>
                    <a:pt x="787" y="323"/>
                  </a:lnTo>
                  <a:lnTo>
                    <a:pt x="729" y="369"/>
                  </a:lnTo>
                  <a:lnTo>
                    <a:pt x="639" y="413"/>
                  </a:lnTo>
                  <a:lnTo>
                    <a:pt x="212" y="589"/>
                  </a:lnTo>
                  <a:lnTo>
                    <a:pt x="160" y="608"/>
                  </a:lnTo>
                  <a:lnTo>
                    <a:pt x="88" y="653"/>
                  </a:lnTo>
                  <a:lnTo>
                    <a:pt x="43" y="698"/>
                  </a:lnTo>
                  <a:lnTo>
                    <a:pt x="9" y="755"/>
                  </a:lnTo>
                  <a:lnTo>
                    <a:pt x="0" y="820"/>
                  </a:lnTo>
                  <a:lnTo>
                    <a:pt x="10" y="872"/>
                  </a:lnTo>
                  <a:lnTo>
                    <a:pt x="40" y="914"/>
                  </a:lnTo>
                  <a:lnTo>
                    <a:pt x="84" y="949"/>
                  </a:lnTo>
                  <a:lnTo>
                    <a:pt x="159" y="999"/>
                  </a:lnTo>
                  <a:lnTo>
                    <a:pt x="487" y="1164"/>
                  </a:lnTo>
                  <a:lnTo>
                    <a:pt x="530" y="1197"/>
                  </a:lnTo>
                  <a:lnTo>
                    <a:pt x="569" y="1236"/>
                  </a:lnTo>
                  <a:lnTo>
                    <a:pt x="557" y="1292"/>
                  </a:lnTo>
                  <a:lnTo>
                    <a:pt x="502" y="1354"/>
                  </a:lnTo>
                  <a:lnTo>
                    <a:pt x="434" y="1394"/>
                  </a:lnTo>
                  <a:lnTo>
                    <a:pt x="525" y="143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3333600" y="1844640"/>
              <a:ext cx="1062360" cy="924120"/>
            </a:xfrm>
            <a:custGeom>
              <a:avLst/>
              <a:gdLst>
                <a:gd name="textAreaLeft" fmla="*/ 0 w 1062360"/>
                <a:gd name="textAreaRight" fmla="*/ 1062720 w 1062360"/>
                <a:gd name="textAreaTop" fmla="*/ 0 h 924120"/>
                <a:gd name="textAreaBottom" fmla="*/ 924480 h 924120"/>
              </a:gdLst>
              <a:ahLst/>
              <a:rect l="textAreaLeft" t="textAreaTop" r="textAreaRight" b="textAreaBottom"/>
              <a:pathLst>
                <a:path w="669" h="582">
                  <a:moveTo>
                    <a:pt x="668" y="553"/>
                  </a:moveTo>
                  <a:lnTo>
                    <a:pt x="668" y="450"/>
                  </a:lnTo>
                  <a:lnTo>
                    <a:pt x="562" y="435"/>
                  </a:lnTo>
                  <a:lnTo>
                    <a:pt x="448" y="420"/>
                  </a:lnTo>
                  <a:lnTo>
                    <a:pt x="367" y="400"/>
                  </a:lnTo>
                  <a:lnTo>
                    <a:pt x="314" y="378"/>
                  </a:lnTo>
                  <a:lnTo>
                    <a:pt x="257" y="349"/>
                  </a:lnTo>
                  <a:lnTo>
                    <a:pt x="220" y="314"/>
                  </a:lnTo>
                  <a:lnTo>
                    <a:pt x="193" y="274"/>
                  </a:lnTo>
                  <a:lnTo>
                    <a:pt x="180" y="231"/>
                  </a:lnTo>
                  <a:lnTo>
                    <a:pt x="180" y="189"/>
                  </a:lnTo>
                  <a:lnTo>
                    <a:pt x="193" y="165"/>
                  </a:lnTo>
                  <a:lnTo>
                    <a:pt x="209" y="143"/>
                  </a:lnTo>
                  <a:lnTo>
                    <a:pt x="255" y="127"/>
                  </a:lnTo>
                  <a:lnTo>
                    <a:pt x="297" y="127"/>
                  </a:lnTo>
                  <a:lnTo>
                    <a:pt x="345" y="141"/>
                  </a:lnTo>
                  <a:lnTo>
                    <a:pt x="396" y="156"/>
                  </a:lnTo>
                  <a:lnTo>
                    <a:pt x="448" y="163"/>
                  </a:lnTo>
                  <a:lnTo>
                    <a:pt x="477" y="125"/>
                  </a:lnTo>
                  <a:lnTo>
                    <a:pt x="464" y="86"/>
                  </a:lnTo>
                  <a:lnTo>
                    <a:pt x="415" y="42"/>
                  </a:lnTo>
                  <a:lnTo>
                    <a:pt x="363" y="18"/>
                  </a:lnTo>
                  <a:lnTo>
                    <a:pt x="319" y="7"/>
                  </a:lnTo>
                  <a:lnTo>
                    <a:pt x="273" y="2"/>
                  </a:lnTo>
                  <a:lnTo>
                    <a:pt x="222" y="0"/>
                  </a:lnTo>
                  <a:lnTo>
                    <a:pt x="176" y="4"/>
                  </a:lnTo>
                  <a:lnTo>
                    <a:pt x="136" y="15"/>
                  </a:lnTo>
                  <a:lnTo>
                    <a:pt x="86" y="33"/>
                  </a:lnTo>
                  <a:lnTo>
                    <a:pt x="50" y="66"/>
                  </a:lnTo>
                  <a:lnTo>
                    <a:pt x="22" y="99"/>
                  </a:lnTo>
                  <a:lnTo>
                    <a:pt x="6" y="145"/>
                  </a:lnTo>
                  <a:lnTo>
                    <a:pt x="0" y="189"/>
                  </a:lnTo>
                  <a:lnTo>
                    <a:pt x="9" y="237"/>
                  </a:lnTo>
                  <a:lnTo>
                    <a:pt x="22" y="285"/>
                  </a:lnTo>
                  <a:lnTo>
                    <a:pt x="50" y="330"/>
                  </a:lnTo>
                  <a:lnTo>
                    <a:pt x="81" y="375"/>
                  </a:lnTo>
                  <a:lnTo>
                    <a:pt x="125" y="419"/>
                  </a:lnTo>
                  <a:lnTo>
                    <a:pt x="169" y="457"/>
                  </a:lnTo>
                  <a:lnTo>
                    <a:pt x="217" y="488"/>
                  </a:lnTo>
                  <a:lnTo>
                    <a:pt x="266" y="514"/>
                  </a:lnTo>
                  <a:lnTo>
                    <a:pt x="310" y="534"/>
                  </a:lnTo>
                  <a:lnTo>
                    <a:pt x="369" y="549"/>
                  </a:lnTo>
                  <a:lnTo>
                    <a:pt x="437" y="568"/>
                  </a:lnTo>
                  <a:lnTo>
                    <a:pt x="516" y="581"/>
                  </a:lnTo>
                  <a:lnTo>
                    <a:pt x="595" y="577"/>
                  </a:lnTo>
                  <a:lnTo>
                    <a:pt x="668" y="553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2166840" y="925560"/>
              <a:ext cx="2243160" cy="871560"/>
            </a:xfrm>
            <a:custGeom>
              <a:avLst/>
              <a:gdLst>
                <a:gd name="textAreaLeft" fmla="*/ 0 w 2243160"/>
                <a:gd name="textAreaRight" fmla="*/ 2243520 w 2243160"/>
                <a:gd name="textAreaTop" fmla="*/ 0 h 871560"/>
                <a:gd name="textAreaBottom" fmla="*/ 871920 h 871560"/>
              </a:gdLst>
              <a:ahLst/>
              <a:rect l="textAreaLeft" t="textAreaTop" r="textAreaRight" b="textAreaBottom"/>
              <a:pathLst>
                <a:path w="1413" h="549">
                  <a:moveTo>
                    <a:pt x="1412" y="548"/>
                  </a:moveTo>
                  <a:lnTo>
                    <a:pt x="1316" y="537"/>
                  </a:lnTo>
                  <a:lnTo>
                    <a:pt x="1237" y="524"/>
                  </a:lnTo>
                  <a:lnTo>
                    <a:pt x="1179" y="511"/>
                  </a:lnTo>
                  <a:lnTo>
                    <a:pt x="1118" y="499"/>
                  </a:lnTo>
                  <a:lnTo>
                    <a:pt x="1060" y="493"/>
                  </a:lnTo>
                  <a:lnTo>
                    <a:pt x="1000" y="495"/>
                  </a:lnTo>
                  <a:lnTo>
                    <a:pt x="939" y="499"/>
                  </a:lnTo>
                  <a:lnTo>
                    <a:pt x="894" y="482"/>
                  </a:lnTo>
                  <a:lnTo>
                    <a:pt x="962" y="440"/>
                  </a:lnTo>
                  <a:lnTo>
                    <a:pt x="1005" y="411"/>
                  </a:lnTo>
                  <a:lnTo>
                    <a:pt x="1043" y="381"/>
                  </a:lnTo>
                  <a:lnTo>
                    <a:pt x="1069" y="348"/>
                  </a:lnTo>
                  <a:lnTo>
                    <a:pt x="962" y="383"/>
                  </a:lnTo>
                  <a:lnTo>
                    <a:pt x="855" y="418"/>
                  </a:lnTo>
                  <a:lnTo>
                    <a:pt x="783" y="436"/>
                  </a:lnTo>
                  <a:lnTo>
                    <a:pt x="670" y="449"/>
                  </a:lnTo>
                  <a:lnTo>
                    <a:pt x="597" y="449"/>
                  </a:lnTo>
                  <a:lnTo>
                    <a:pt x="531" y="444"/>
                  </a:lnTo>
                  <a:lnTo>
                    <a:pt x="486" y="427"/>
                  </a:lnTo>
                  <a:lnTo>
                    <a:pt x="459" y="407"/>
                  </a:lnTo>
                  <a:lnTo>
                    <a:pt x="527" y="389"/>
                  </a:lnTo>
                  <a:lnTo>
                    <a:pt x="572" y="365"/>
                  </a:lnTo>
                  <a:lnTo>
                    <a:pt x="599" y="339"/>
                  </a:lnTo>
                  <a:lnTo>
                    <a:pt x="634" y="308"/>
                  </a:lnTo>
                  <a:lnTo>
                    <a:pt x="544" y="334"/>
                  </a:lnTo>
                  <a:lnTo>
                    <a:pt x="463" y="348"/>
                  </a:lnTo>
                  <a:lnTo>
                    <a:pt x="378" y="356"/>
                  </a:lnTo>
                  <a:lnTo>
                    <a:pt x="303" y="352"/>
                  </a:lnTo>
                  <a:lnTo>
                    <a:pt x="254" y="334"/>
                  </a:lnTo>
                  <a:lnTo>
                    <a:pt x="233" y="312"/>
                  </a:lnTo>
                  <a:lnTo>
                    <a:pt x="281" y="291"/>
                  </a:lnTo>
                  <a:lnTo>
                    <a:pt x="313" y="269"/>
                  </a:lnTo>
                  <a:lnTo>
                    <a:pt x="341" y="244"/>
                  </a:lnTo>
                  <a:lnTo>
                    <a:pt x="339" y="229"/>
                  </a:lnTo>
                  <a:lnTo>
                    <a:pt x="262" y="246"/>
                  </a:lnTo>
                  <a:lnTo>
                    <a:pt x="179" y="255"/>
                  </a:lnTo>
                  <a:lnTo>
                    <a:pt x="109" y="254"/>
                  </a:lnTo>
                  <a:lnTo>
                    <a:pt x="51" y="244"/>
                  </a:lnTo>
                  <a:lnTo>
                    <a:pt x="19" y="229"/>
                  </a:lnTo>
                  <a:lnTo>
                    <a:pt x="0" y="205"/>
                  </a:lnTo>
                  <a:lnTo>
                    <a:pt x="120" y="187"/>
                  </a:lnTo>
                  <a:lnTo>
                    <a:pt x="309" y="156"/>
                  </a:lnTo>
                  <a:lnTo>
                    <a:pt x="544" y="119"/>
                  </a:lnTo>
                  <a:lnTo>
                    <a:pt x="742" y="71"/>
                  </a:lnTo>
                  <a:lnTo>
                    <a:pt x="926" y="26"/>
                  </a:lnTo>
                  <a:lnTo>
                    <a:pt x="1020" y="9"/>
                  </a:lnTo>
                  <a:lnTo>
                    <a:pt x="1098" y="0"/>
                  </a:lnTo>
                  <a:lnTo>
                    <a:pt x="1165" y="2"/>
                  </a:lnTo>
                  <a:lnTo>
                    <a:pt x="1211" y="7"/>
                  </a:lnTo>
                  <a:lnTo>
                    <a:pt x="1254" y="27"/>
                  </a:lnTo>
                  <a:lnTo>
                    <a:pt x="1288" y="71"/>
                  </a:lnTo>
                  <a:lnTo>
                    <a:pt x="1301" y="117"/>
                  </a:lnTo>
                  <a:lnTo>
                    <a:pt x="1316" y="148"/>
                  </a:lnTo>
                  <a:lnTo>
                    <a:pt x="1344" y="159"/>
                  </a:lnTo>
                  <a:lnTo>
                    <a:pt x="1384" y="156"/>
                  </a:lnTo>
                  <a:lnTo>
                    <a:pt x="1412" y="145"/>
                  </a:lnTo>
                  <a:lnTo>
                    <a:pt x="1412" y="54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5" name="Oval 16"/>
            <p:cNvSpPr/>
            <p:nvPr/>
          </p:nvSpPr>
          <p:spPr>
            <a:xfrm>
              <a:off x="4421160" y="563400"/>
              <a:ext cx="297000" cy="314640"/>
            </a:xfrm>
            <a:prstGeom prst="ellipse">
              <a:avLst/>
            </a:pr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4724280" y="925560"/>
              <a:ext cx="2243160" cy="871560"/>
            </a:xfrm>
            <a:custGeom>
              <a:avLst/>
              <a:gdLst>
                <a:gd name="textAreaLeft" fmla="*/ 0 w 2243160"/>
                <a:gd name="textAreaRight" fmla="*/ 2243520 w 2243160"/>
                <a:gd name="textAreaTop" fmla="*/ 0 h 871560"/>
                <a:gd name="textAreaBottom" fmla="*/ 871920 h 871560"/>
              </a:gdLst>
              <a:ahLst/>
              <a:rect l="textAreaLeft" t="textAreaTop" r="textAreaRight" b="textAreaBottom"/>
              <a:pathLst>
                <a:path w="1413" h="549">
                  <a:moveTo>
                    <a:pt x="0" y="548"/>
                  </a:moveTo>
                  <a:lnTo>
                    <a:pt x="96" y="537"/>
                  </a:lnTo>
                  <a:lnTo>
                    <a:pt x="175" y="524"/>
                  </a:lnTo>
                  <a:lnTo>
                    <a:pt x="233" y="511"/>
                  </a:lnTo>
                  <a:lnTo>
                    <a:pt x="294" y="499"/>
                  </a:lnTo>
                  <a:lnTo>
                    <a:pt x="352" y="493"/>
                  </a:lnTo>
                  <a:lnTo>
                    <a:pt x="412" y="495"/>
                  </a:lnTo>
                  <a:lnTo>
                    <a:pt x="473" y="499"/>
                  </a:lnTo>
                  <a:lnTo>
                    <a:pt x="518" y="482"/>
                  </a:lnTo>
                  <a:lnTo>
                    <a:pt x="450" y="440"/>
                  </a:lnTo>
                  <a:lnTo>
                    <a:pt x="407" y="411"/>
                  </a:lnTo>
                  <a:lnTo>
                    <a:pt x="369" y="381"/>
                  </a:lnTo>
                  <a:lnTo>
                    <a:pt x="343" y="348"/>
                  </a:lnTo>
                  <a:lnTo>
                    <a:pt x="450" y="383"/>
                  </a:lnTo>
                  <a:lnTo>
                    <a:pt x="557" y="418"/>
                  </a:lnTo>
                  <a:lnTo>
                    <a:pt x="629" y="436"/>
                  </a:lnTo>
                  <a:lnTo>
                    <a:pt x="742" y="449"/>
                  </a:lnTo>
                  <a:lnTo>
                    <a:pt x="815" y="449"/>
                  </a:lnTo>
                  <a:lnTo>
                    <a:pt x="881" y="444"/>
                  </a:lnTo>
                  <a:lnTo>
                    <a:pt x="926" y="427"/>
                  </a:lnTo>
                  <a:lnTo>
                    <a:pt x="953" y="407"/>
                  </a:lnTo>
                  <a:lnTo>
                    <a:pt x="885" y="389"/>
                  </a:lnTo>
                  <a:lnTo>
                    <a:pt x="840" y="365"/>
                  </a:lnTo>
                  <a:lnTo>
                    <a:pt x="809" y="339"/>
                  </a:lnTo>
                  <a:lnTo>
                    <a:pt x="778" y="308"/>
                  </a:lnTo>
                  <a:lnTo>
                    <a:pt x="868" y="334"/>
                  </a:lnTo>
                  <a:lnTo>
                    <a:pt x="949" y="348"/>
                  </a:lnTo>
                  <a:lnTo>
                    <a:pt x="1034" y="356"/>
                  </a:lnTo>
                  <a:lnTo>
                    <a:pt x="1109" y="352"/>
                  </a:lnTo>
                  <a:lnTo>
                    <a:pt x="1158" y="334"/>
                  </a:lnTo>
                  <a:lnTo>
                    <a:pt x="1179" y="312"/>
                  </a:lnTo>
                  <a:lnTo>
                    <a:pt x="1131" y="291"/>
                  </a:lnTo>
                  <a:lnTo>
                    <a:pt x="1099" y="269"/>
                  </a:lnTo>
                  <a:lnTo>
                    <a:pt x="1071" y="244"/>
                  </a:lnTo>
                  <a:lnTo>
                    <a:pt x="1073" y="229"/>
                  </a:lnTo>
                  <a:lnTo>
                    <a:pt x="1150" y="246"/>
                  </a:lnTo>
                  <a:lnTo>
                    <a:pt x="1233" y="255"/>
                  </a:lnTo>
                  <a:lnTo>
                    <a:pt x="1311" y="253"/>
                  </a:lnTo>
                  <a:lnTo>
                    <a:pt x="1361" y="244"/>
                  </a:lnTo>
                  <a:lnTo>
                    <a:pt x="1393" y="229"/>
                  </a:lnTo>
                  <a:lnTo>
                    <a:pt x="1412" y="205"/>
                  </a:lnTo>
                  <a:lnTo>
                    <a:pt x="1292" y="187"/>
                  </a:lnTo>
                  <a:lnTo>
                    <a:pt x="1087" y="158"/>
                  </a:lnTo>
                  <a:lnTo>
                    <a:pt x="868" y="119"/>
                  </a:lnTo>
                  <a:lnTo>
                    <a:pt x="670" y="71"/>
                  </a:lnTo>
                  <a:lnTo>
                    <a:pt x="486" y="26"/>
                  </a:lnTo>
                  <a:lnTo>
                    <a:pt x="392" y="9"/>
                  </a:lnTo>
                  <a:lnTo>
                    <a:pt x="314" y="0"/>
                  </a:lnTo>
                  <a:lnTo>
                    <a:pt x="247" y="2"/>
                  </a:lnTo>
                  <a:lnTo>
                    <a:pt x="201" y="7"/>
                  </a:lnTo>
                  <a:lnTo>
                    <a:pt x="158" y="27"/>
                  </a:lnTo>
                  <a:lnTo>
                    <a:pt x="124" y="71"/>
                  </a:lnTo>
                  <a:lnTo>
                    <a:pt x="111" y="117"/>
                  </a:lnTo>
                  <a:lnTo>
                    <a:pt x="96" y="148"/>
                  </a:lnTo>
                  <a:lnTo>
                    <a:pt x="68" y="159"/>
                  </a:lnTo>
                  <a:lnTo>
                    <a:pt x="28" y="156"/>
                  </a:lnTo>
                  <a:lnTo>
                    <a:pt x="0" y="145"/>
                  </a:lnTo>
                  <a:lnTo>
                    <a:pt x="0" y="54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00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7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0889-86B5-438D-ADE8-FEFBBA870C93}" type="slidenum"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6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18"/>
          <p:cNvGrpSpPr/>
          <p:nvPr/>
        </p:nvGrpSpPr>
        <p:grpSpPr>
          <a:xfrm>
            <a:off x="2166840" y="563400"/>
            <a:ext cx="4800600" cy="6151680"/>
            <a:chOff x="2166840" y="563400"/>
            <a:chExt cx="4800600" cy="6151680"/>
          </a:xfrm>
        </p:grpSpPr>
        <p:sp>
          <p:nvSpPr>
            <p:cNvPr id="59" name="Freeform 2"/>
            <p:cNvSpPr/>
            <p:nvPr/>
          </p:nvSpPr>
          <p:spPr>
            <a:xfrm>
              <a:off x="4500720" y="930240"/>
              <a:ext cx="139680" cy="1779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779480"/>
                <a:gd name="textAreaBottom" fmla="*/ 1779840 h 1779480"/>
              </a:gdLst>
              <a:ahLst/>
              <a:rect l="textAreaLeft" t="textAreaTop" r="textAreaRight" b="textAreaBottom"/>
              <a:pathLst>
                <a:path w="88" h="1121">
                  <a:moveTo>
                    <a:pt x="0" y="1120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085"/>
                  </a:lnTo>
                  <a:lnTo>
                    <a:pt x="0" y="1120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0" name="Freeform 3"/>
            <p:cNvSpPr/>
            <p:nvPr/>
          </p:nvSpPr>
          <p:spPr>
            <a:xfrm>
              <a:off x="4498920" y="3016080"/>
              <a:ext cx="133560" cy="57636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84" h="363">
                  <a:moveTo>
                    <a:pt x="0" y="29"/>
                  </a:moveTo>
                  <a:lnTo>
                    <a:pt x="83" y="0"/>
                  </a:lnTo>
                  <a:lnTo>
                    <a:pt x="74" y="329"/>
                  </a:lnTo>
                  <a:lnTo>
                    <a:pt x="0" y="362"/>
                  </a:lnTo>
                  <a:lnTo>
                    <a:pt x="0" y="29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1" name="Freeform 4"/>
            <p:cNvSpPr/>
            <p:nvPr/>
          </p:nvSpPr>
          <p:spPr>
            <a:xfrm>
              <a:off x="4484520" y="3957480"/>
              <a:ext cx="133560" cy="39528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84" h="249">
                  <a:moveTo>
                    <a:pt x="2" y="213"/>
                  </a:moveTo>
                  <a:lnTo>
                    <a:pt x="0" y="28"/>
                  </a:lnTo>
                  <a:lnTo>
                    <a:pt x="83" y="0"/>
                  </a:lnTo>
                  <a:lnTo>
                    <a:pt x="72" y="248"/>
                  </a:lnTo>
                  <a:lnTo>
                    <a:pt x="2" y="213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2" name="Freeform 5"/>
            <p:cNvSpPr/>
            <p:nvPr/>
          </p:nvSpPr>
          <p:spPr>
            <a:xfrm>
              <a:off x="4494240" y="4707000"/>
              <a:ext cx="82440" cy="3682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52" h="232">
                  <a:moveTo>
                    <a:pt x="13" y="204"/>
                  </a:moveTo>
                  <a:lnTo>
                    <a:pt x="0" y="0"/>
                  </a:lnTo>
                  <a:lnTo>
                    <a:pt x="51" y="26"/>
                  </a:lnTo>
                  <a:lnTo>
                    <a:pt x="47" y="231"/>
                  </a:lnTo>
                  <a:lnTo>
                    <a:pt x="13" y="204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3" name="Freeform 6"/>
            <p:cNvSpPr/>
            <p:nvPr/>
          </p:nvSpPr>
          <p:spPr>
            <a:xfrm>
              <a:off x="4525920" y="5324400"/>
              <a:ext cx="57240" cy="2113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36" h="133">
                  <a:moveTo>
                    <a:pt x="4" y="101"/>
                  </a:moveTo>
                  <a:lnTo>
                    <a:pt x="0" y="0"/>
                  </a:lnTo>
                  <a:lnTo>
                    <a:pt x="35" y="20"/>
                  </a:lnTo>
                  <a:lnTo>
                    <a:pt x="28" y="132"/>
                  </a:lnTo>
                  <a:lnTo>
                    <a:pt x="4" y="10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4" name="Freeform 7"/>
            <p:cNvSpPr/>
            <p:nvPr/>
          </p:nvSpPr>
          <p:spPr>
            <a:xfrm>
              <a:off x="4525920" y="5778360"/>
              <a:ext cx="47520" cy="9367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30" h="590">
                  <a:moveTo>
                    <a:pt x="15" y="589"/>
                  </a:moveTo>
                  <a:lnTo>
                    <a:pt x="0" y="0"/>
                  </a:lnTo>
                  <a:lnTo>
                    <a:pt x="29" y="37"/>
                  </a:lnTo>
                  <a:lnTo>
                    <a:pt x="15" y="589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5" name="Freeform 8"/>
            <p:cNvSpPr/>
            <p:nvPr/>
          </p:nvSpPr>
          <p:spPr>
            <a:xfrm>
              <a:off x="4127400" y="5707080"/>
              <a:ext cx="370080" cy="206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233" h="130">
                  <a:moveTo>
                    <a:pt x="0" y="117"/>
                  </a:moveTo>
                  <a:lnTo>
                    <a:pt x="48" y="101"/>
                  </a:lnTo>
                  <a:lnTo>
                    <a:pt x="93" y="79"/>
                  </a:lnTo>
                  <a:lnTo>
                    <a:pt x="146" y="39"/>
                  </a:lnTo>
                  <a:lnTo>
                    <a:pt x="182" y="0"/>
                  </a:lnTo>
                  <a:lnTo>
                    <a:pt x="232" y="42"/>
                  </a:lnTo>
                  <a:lnTo>
                    <a:pt x="188" y="74"/>
                  </a:lnTo>
                  <a:lnTo>
                    <a:pt x="134" y="110"/>
                  </a:lnTo>
                  <a:lnTo>
                    <a:pt x="61" y="129"/>
                  </a:lnTo>
                  <a:lnTo>
                    <a:pt x="0" y="117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6" name="Freeform 9"/>
            <p:cNvSpPr/>
            <p:nvPr/>
          </p:nvSpPr>
          <p:spPr>
            <a:xfrm>
              <a:off x="4100400" y="4584600"/>
              <a:ext cx="738360" cy="1025640"/>
            </a:xfrm>
            <a:custGeom>
              <a:avLst/>
              <a:gdLst>
                <a:gd name="textAreaLeft" fmla="*/ 0 w 738360"/>
                <a:gd name="textAreaRight" fmla="*/ 738720 w 73836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465" h="646">
                  <a:moveTo>
                    <a:pt x="359" y="645"/>
                  </a:moveTo>
                  <a:lnTo>
                    <a:pt x="405" y="616"/>
                  </a:lnTo>
                  <a:lnTo>
                    <a:pt x="447" y="580"/>
                  </a:lnTo>
                  <a:lnTo>
                    <a:pt x="460" y="552"/>
                  </a:lnTo>
                  <a:lnTo>
                    <a:pt x="464" y="515"/>
                  </a:lnTo>
                  <a:lnTo>
                    <a:pt x="451" y="468"/>
                  </a:lnTo>
                  <a:lnTo>
                    <a:pt x="424" y="424"/>
                  </a:lnTo>
                  <a:lnTo>
                    <a:pt x="380" y="385"/>
                  </a:lnTo>
                  <a:lnTo>
                    <a:pt x="168" y="259"/>
                  </a:lnTo>
                  <a:lnTo>
                    <a:pt x="133" y="235"/>
                  </a:lnTo>
                  <a:lnTo>
                    <a:pt x="111" y="208"/>
                  </a:lnTo>
                  <a:lnTo>
                    <a:pt x="104" y="166"/>
                  </a:lnTo>
                  <a:lnTo>
                    <a:pt x="117" y="124"/>
                  </a:lnTo>
                  <a:lnTo>
                    <a:pt x="155" y="95"/>
                  </a:lnTo>
                  <a:lnTo>
                    <a:pt x="222" y="52"/>
                  </a:lnTo>
                  <a:lnTo>
                    <a:pt x="124" y="0"/>
                  </a:lnTo>
                  <a:lnTo>
                    <a:pt x="55" y="41"/>
                  </a:lnTo>
                  <a:lnTo>
                    <a:pt x="27" y="70"/>
                  </a:lnTo>
                  <a:lnTo>
                    <a:pt x="2" y="123"/>
                  </a:lnTo>
                  <a:lnTo>
                    <a:pt x="0" y="189"/>
                  </a:lnTo>
                  <a:lnTo>
                    <a:pt x="29" y="257"/>
                  </a:lnTo>
                  <a:lnTo>
                    <a:pt x="78" y="300"/>
                  </a:lnTo>
                  <a:lnTo>
                    <a:pt x="311" y="442"/>
                  </a:lnTo>
                  <a:lnTo>
                    <a:pt x="358" y="474"/>
                  </a:lnTo>
                  <a:lnTo>
                    <a:pt x="375" y="516"/>
                  </a:lnTo>
                  <a:lnTo>
                    <a:pt x="375" y="550"/>
                  </a:lnTo>
                  <a:lnTo>
                    <a:pt x="308" y="608"/>
                  </a:lnTo>
                  <a:lnTo>
                    <a:pt x="359" y="645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7" name="Freeform 10"/>
            <p:cNvSpPr/>
            <p:nvPr/>
          </p:nvSpPr>
          <p:spPr>
            <a:xfrm>
              <a:off x="4708440" y="3803760"/>
              <a:ext cx="505080" cy="6699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669960"/>
                <a:gd name="textAreaBottom" fmla="*/ 669960 h 669960"/>
              </a:gdLst>
              <a:ahLst/>
              <a:rect l="textAreaLeft" t="textAreaTop" r="textAreaRight" b="textAreaBottom"/>
              <a:pathLst>
                <a:path w="318" h="422">
                  <a:moveTo>
                    <a:pt x="92" y="421"/>
                  </a:moveTo>
                  <a:lnTo>
                    <a:pt x="163" y="399"/>
                  </a:lnTo>
                  <a:lnTo>
                    <a:pt x="218" y="357"/>
                  </a:lnTo>
                  <a:lnTo>
                    <a:pt x="263" y="316"/>
                  </a:lnTo>
                  <a:lnTo>
                    <a:pt x="300" y="265"/>
                  </a:lnTo>
                  <a:lnTo>
                    <a:pt x="317" y="203"/>
                  </a:lnTo>
                  <a:lnTo>
                    <a:pt x="316" y="139"/>
                  </a:lnTo>
                  <a:lnTo>
                    <a:pt x="299" y="95"/>
                  </a:lnTo>
                  <a:lnTo>
                    <a:pt x="276" y="64"/>
                  </a:lnTo>
                  <a:lnTo>
                    <a:pt x="241" y="36"/>
                  </a:lnTo>
                  <a:lnTo>
                    <a:pt x="218" y="14"/>
                  </a:lnTo>
                  <a:lnTo>
                    <a:pt x="180" y="0"/>
                  </a:lnTo>
                  <a:lnTo>
                    <a:pt x="61" y="52"/>
                  </a:lnTo>
                  <a:lnTo>
                    <a:pt x="106" y="93"/>
                  </a:lnTo>
                  <a:lnTo>
                    <a:pt x="137" y="130"/>
                  </a:lnTo>
                  <a:lnTo>
                    <a:pt x="159" y="159"/>
                  </a:lnTo>
                  <a:lnTo>
                    <a:pt x="176" y="196"/>
                  </a:lnTo>
                  <a:lnTo>
                    <a:pt x="176" y="246"/>
                  </a:lnTo>
                  <a:lnTo>
                    <a:pt x="145" y="279"/>
                  </a:lnTo>
                  <a:lnTo>
                    <a:pt x="105" y="309"/>
                  </a:lnTo>
                  <a:lnTo>
                    <a:pt x="50" y="342"/>
                  </a:lnTo>
                  <a:lnTo>
                    <a:pt x="0" y="369"/>
                  </a:lnTo>
                  <a:lnTo>
                    <a:pt x="92" y="42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8" name="Freeform 11"/>
            <p:cNvSpPr/>
            <p:nvPr/>
          </p:nvSpPr>
          <p:spPr>
            <a:xfrm>
              <a:off x="3664080" y="1889280"/>
              <a:ext cx="2228760" cy="1830240"/>
            </a:xfrm>
            <a:custGeom>
              <a:avLst/>
              <a:gdLst>
                <a:gd name="textAreaLeft" fmla="*/ 0 w 2228760"/>
                <a:gd name="textAreaRight" fmla="*/ 2229120 w 2228760"/>
                <a:gd name="textAreaTop" fmla="*/ 0 h 1830240"/>
                <a:gd name="textAreaBottom" fmla="*/ 1830600 h 1830240"/>
              </a:gdLst>
              <a:ahLst/>
              <a:rect l="textAreaLeft" t="textAreaTop" r="textAreaRight" b="textAreaBottom"/>
              <a:pathLst>
                <a:path w="1404" h="1153">
                  <a:moveTo>
                    <a:pt x="466" y="1084"/>
                  </a:moveTo>
                  <a:lnTo>
                    <a:pt x="370" y="1066"/>
                  </a:lnTo>
                  <a:lnTo>
                    <a:pt x="299" y="1035"/>
                  </a:lnTo>
                  <a:lnTo>
                    <a:pt x="257" y="1002"/>
                  </a:lnTo>
                  <a:lnTo>
                    <a:pt x="220" y="956"/>
                  </a:lnTo>
                  <a:lnTo>
                    <a:pt x="209" y="914"/>
                  </a:lnTo>
                  <a:lnTo>
                    <a:pt x="215" y="873"/>
                  </a:lnTo>
                  <a:lnTo>
                    <a:pt x="231" y="836"/>
                  </a:lnTo>
                  <a:lnTo>
                    <a:pt x="273" y="798"/>
                  </a:lnTo>
                  <a:lnTo>
                    <a:pt x="330" y="774"/>
                  </a:lnTo>
                  <a:lnTo>
                    <a:pt x="400" y="748"/>
                  </a:lnTo>
                  <a:lnTo>
                    <a:pt x="1110" y="499"/>
                  </a:lnTo>
                  <a:lnTo>
                    <a:pt x="1207" y="451"/>
                  </a:lnTo>
                  <a:lnTo>
                    <a:pt x="1289" y="398"/>
                  </a:lnTo>
                  <a:lnTo>
                    <a:pt x="1344" y="356"/>
                  </a:lnTo>
                  <a:lnTo>
                    <a:pt x="1381" y="310"/>
                  </a:lnTo>
                  <a:lnTo>
                    <a:pt x="1403" y="249"/>
                  </a:lnTo>
                  <a:lnTo>
                    <a:pt x="1401" y="185"/>
                  </a:lnTo>
                  <a:lnTo>
                    <a:pt x="1386" y="136"/>
                  </a:lnTo>
                  <a:lnTo>
                    <a:pt x="1370" y="90"/>
                  </a:lnTo>
                  <a:lnTo>
                    <a:pt x="1335" y="55"/>
                  </a:lnTo>
                  <a:lnTo>
                    <a:pt x="1280" y="18"/>
                  </a:lnTo>
                  <a:lnTo>
                    <a:pt x="1214" y="0"/>
                  </a:lnTo>
                  <a:lnTo>
                    <a:pt x="1172" y="4"/>
                  </a:lnTo>
                  <a:lnTo>
                    <a:pt x="1111" y="7"/>
                  </a:lnTo>
                  <a:lnTo>
                    <a:pt x="1053" y="20"/>
                  </a:lnTo>
                  <a:lnTo>
                    <a:pt x="989" y="46"/>
                  </a:lnTo>
                  <a:lnTo>
                    <a:pt x="939" y="79"/>
                  </a:lnTo>
                  <a:lnTo>
                    <a:pt x="899" y="106"/>
                  </a:lnTo>
                  <a:lnTo>
                    <a:pt x="878" y="149"/>
                  </a:lnTo>
                  <a:lnTo>
                    <a:pt x="897" y="187"/>
                  </a:lnTo>
                  <a:lnTo>
                    <a:pt x="939" y="183"/>
                  </a:lnTo>
                  <a:lnTo>
                    <a:pt x="987" y="171"/>
                  </a:lnTo>
                  <a:lnTo>
                    <a:pt x="1033" y="158"/>
                  </a:lnTo>
                  <a:lnTo>
                    <a:pt x="1069" y="150"/>
                  </a:lnTo>
                  <a:lnTo>
                    <a:pt x="1111" y="150"/>
                  </a:lnTo>
                  <a:lnTo>
                    <a:pt x="1154" y="163"/>
                  </a:lnTo>
                  <a:lnTo>
                    <a:pt x="1183" y="204"/>
                  </a:lnTo>
                  <a:lnTo>
                    <a:pt x="1179" y="248"/>
                  </a:lnTo>
                  <a:lnTo>
                    <a:pt x="1157" y="286"/>
                  </a:lnTo>
                  <a:lnTo>
                    <a:pt x="1121" y="323"/>
                  </a:lnTo>
                  <a:lnTo>
                    <a:pt x="1047" y="361"/>
                  </a:lnTo>
                  <a:lnTo>
                    <a:pt x="908" y="415"/>
                  </a:lnTo>
                  <a:lnTo>
                    <a:pt x="194" y="675"/>
                  </a:lnTo>
                  <a:lnTo>
                    <a:pt x="123" y="715"/>
                  </a:lnTo>
                  <a:lnTo>
                    <a:pt x="68" y="763"/>
                  </a:lnTo>
                  <a:lnTo>
                    <a:pt x="29" y="809"/>
                  </a:lnTo>
                  <a:lnTo>
                    <a:pt x="6" y="858"/>
                  </a:lnTo>
                  <a:lnTo>
                    <a:pt x="0" y="912"/>
                  </a:lnTo>
                  <a:lnTo>
                    <a:pt x="8" y="952"/>
                  </a:lnTo>
                  <a:lnTo>
                    <a:pt x="22" y="992"/>
                  </a:lnTo>
                  <a:lnTo>
                    <a:pt x="59" y="1036"/>
                  </a:lnTo>
                  <a:lnTo>
                    <a:pt x="127" y="1095"/>
                  </a:lnTo>
                  <a:lnTo>
                    <a:pt x="198" y="1135"/>
                  </a:lnTo>
                  <a:lnTo>
                    <a:pt x="273" y="1152"/>
                  </a:lnTo>
                  <a:lnTo>
                    <a:pt x="466" y="1084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69" name="Freeform 12"/>
            <p:cNvSpPr/>
            <p:nvPr/>
          </p:nvSpPr>
          <p:spPr>
            <a:xfrm>
              <a:off x="4303800" y="5207040"/>
              <a:ext cx="584280" cy="669960"/>
            </a:xfrm>
            <a:custGeom>
              <a:avLst/>
              <a:gdLst/>
              <a:ahLst/>
              <a:rect l="l" t="t" r="r" b="b"/>
              <a:pathLst>
                <a:path w="368" h="422">
                  <a:moveTo>
                    <a:pt x="367" y="421"/>
                  </a:moveTo>
                  <a:lnTo>
                    <a:pt x="171" y="340"/>
                  </a:lnTo>
                  <a:lnTo>
                    <a:pt x="117" y="304"/>
                  </a:lnTo>
                  <a:lnTo>
                    <a:pt x="73" y="265"/>
                  </a:lnTo>
                  <a:lnTo>
                    <a:pt x="31" y="219"/>
                  </a:lnTo>
                  <a:lnTo>
                    <a:pt x="9" y="179"/>
                  </a:lnTo>
                  <a:lnTo>
                    <a:pt x="0" y="137"/>
                  </a:lnTo>
                  <a:lnTo>
                    <a:pt x="2" y="95"/>
                  </a:lnTo>
                  <a:lnTo>
                    <a:pt x="19" y="51"/>
                  </a:lnTo>
                  <a:lnTo>
                    <a:pt x="44" y="0"/>
                  </a:lnTo>
                  <a:lnTo>
                    <a:pt x="120" y="52"/>
                  </a:lnTo>
                  <a:lnTo>
                    <a:pt x="95" y="98"/>
                  </a:lnTo>
                  <a:lnTo>
                    <a:pt x="95" y="143"/>
                  </a:lnTo>
                  <a:lnTo>
                    <a:pt x="122" y="191"/>
                  </a:lnTo>
                  <a:lnTo>
                    <a:pt x="162" y="235"/>
                  </a:lnTo>
                  <a:lnTo>
                    <a:pt x="223" y="284"/>
                  </a:lnTo>
                  <a:lnTo>
                    <a:pt x="290" y="317"/>
                  </a:lnTo>
                  <a:lnTo>
                    <a:pt x="332" y="351"/>
                  </a:lnTo>
                  <a:lnTo>
                    <a:pt x="351" y="378"/>
                  </a:lnTo>
                  <a:lnTo>
                    <a:pt x="367" y="42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70" name="Freeform 13"/>
            <p:cNvSpPr/>
            <p:nvPr/>
          </p:nvSpPr>
          <p:spPr>
            <a:xfrm>
              <a:off x="3860640" y="2844720"/>
              <a:ext cx="1570320" cy="2284560"/>
            </a:xfrm>
            <a:custGeom>
              <a:avLst/>
              <a:gdLst>
                <a:gd name="textAreaLeft" fmla="*/ 0 w 1570320"/>
                <a:gd name="textAreaRight" fmla="*/ 1570680 w 1570320"/>
                <a:gd name="textAreaTop" fmla="*/ 0 h 2284560"/>
                <a:gd name="textAreaBottom" fmla="*/ 2284920 h 2284560"/>
              </a:gdLst>
              <a:ahLst/>
              <a:rect l="textAreaLeft" t="textAreaTop" r="textAreaRight" b="textAreaBottom"/>
              <a:pathLst>
                <a:path w="989" h="1439">
                  <a:moveTo>
                    <a:pt x="525" y="1438"/>
                  </a:moveTo>
                  <a:lnTo>
                    <a:pt x="582" y="1409"/>
                  </a:lnTo>
                  <a:lnTo>
                    <a:pt x="647" y="1355"/>
                  </a:lnTo>
                  <a:lnTo>
                    <a:pt x="670" y="1304"/>
                  </a:lnTo>
                  <a:lnTo>
                    <a:pt x="686" y="1255"/>
                  </a:lnTo>
                  <a:lnTo>
                    <a:pt x="677" y="1198"/>
                  </a:lnTo>
                  <a:lnTo>
                    <a:pt x="637" y="1125"/>
                  </a:lnTo>
                  <a:lnTo>
                    <a:pt x="609" y="1092"/>
                  </a:lnTo>
                  <a:lnTo>
                    <a:pt x="569" y="1063"/>
                  </a:lnTo>
                  <a:lnTo>
                    <a:pt x="259" y="905"/>
                  </a:lnTo>
                  <a:lnTo>
                    <a:pt x="201" y="863"/>
                  </a:lnTo>
                  <a:lnTo>
                    <a:pt x="177" y="843"/>
                  </a:lnTo>
                  <a:lnTo>
                    <a:pt x="160" y="800"/>
                  </a:lnTo>
                  <a:lnTo>
                    <a:pt x="171" y="766"/>
                  </a:lnTo>
                  <a:lnTo>
                    <a:pt x="215" y="738"/>
                  </a:lnTo>
                  <a:lnTo>
                    <a:pt x="294" y="709"/>
                  </a:lnTo>
                  <a:lnTo>
                    <a:pt x="780" y="521"/>
                  </a:lnTo>
                  <a:lnTo>
                    <a:pt x="856" y="471"/>
                  </a:lnTo>
                  <a:lnTo>
                    <a:pt x="918" y="417"/>
                  </a:lnTo>
                  <a:lnTo>
                    <a:pt x="953" y="379"/>
                  </a:lnTo>
                  <a:lnTo>
                    <a:pt x="984" y="334"/>
                  </a:lnTo>
                  <a:lnTo>
                    <a:pt x="988" y="274"/>
                  </a:lnTo>
                  <a:lnTo>
                    <a:pt x="972" y="214"/>
                  </a:lnTo>
                  <a:lnTo>
                    <a:pt x="953" y="167"/>
                  </a:lnTo>
                  <a:lnTo>
                    <a:pt x="920" y="126"/>
                  </a:lnTo>
                  <a:lnTo>
                    <a:pt x="875" y="85"/>
                  </a:lnTo>
                  <a:lnTo>
                    <a:pt x="828" y="50"/>
                  </a:lnTo>
                  <a:lnTo>
                    <a:pt x="803" y="29"/>
                  </a:lnTo>
                  <a:lnTo>
                    <a:pt x="756" y="0"/>
                  </a:lnTo>
                  <a:lnTo>
                    <a:pt x="588" y="61"/>
                  </a:lnTo>
                  <a:lnTo>
                    <a:pt x="649" y="104"/>
                  </a:lnTo>
                  <a:lnTo>
                    <a:pt x="694" y="145"/>
                  </a:lnTo>
                  <a:lnTo>
                    <a:pt x="739" y="182"/>
                  </a:lnTo>
                  <a:lnTo>
                    <a:pt x="780" y="223"/>
                  </a:lnTo>
                  <a:lnTo>
                    <a:pt x="803" y="272"/>
                  </a:lnTo>
                  <a:lnTo>
                    <a:pt x="787" y="323"/>
                  </a:lnTo>
                  <a:lnTo>
                    <a:pt x="729" y="369"/>
                  </a:lnTo>
                  <a:lnTo>
                    <a:pt x="639" y="413"/>
                  </a:lnTo>
                  <a:lnTo>
                    <a:pt x="212" y="589"/>
                  </a:lnTo>
                  <a:lnTo>
                    <a:pt x="160" y="608"/>
                  </a:lnTo>
                  <a:lnTo>
                    <a:pt x="88" y="653"/>
                  </a:lnTo>
                  <a:lnTo>
                    <a:pt x="43" y="698"/>
                  </a:lnTo>
                  <a:lnTo>
                    <a:pt x="9" y="755"/>
                  </a:lnTo>
                  <a:lnTo>
                    <a:pt x="0" y="820"/>
                  </a:lnTo>
                  <a:lnTo>
                    <a:pt x="10" y="872"/>
                  </a:lnTo>
                  <a:lnTo>
                    <a:pt x="40" y="914"/>
                  </a:lnTo>
                  <a:lnTo>
                    <a:pt x="84" y="949"/>
                  </a:lnTo>
                  <a:lnTo>
                    <a:pt x="159" y="999"/>
                  </a:lnTo>
                  <a:lnTo>
                    <a:pt x="487" y="1164"/>
                  </a:lnTo>
                  <a:lnTo>
                    <a:pt x="530" y="1197"/>
                  </a:lnTo>
                  <a:lnTo>
                    <a:pt x="569" y="1236"/>
                  </a:lnTo>
                  <a:lnTo>
                    <a:pt x="557" y="1292"/>
                  </a:lnTo>
                  <a:lnTo>
                    <a:pt x="502" y="1354"/>
                  </a:lnTo>
                  <a:lnTo>
                    <a:pt x="434" y="1394"/>
                  </a:lnTo>
                  <a:lnTo>
                    <a:pt x="525" y="143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71" name="Freeform 14"/>
            <p:cNvSpPr/>
            <p:nvPr/>
          </p:nvSpPr>
          <p:spPr>
            <a:xfrm>
              <a:off x="3333600" y="1844640"/>
              <a:ext cx="1062360" cy="924120"/>
            </a:xfrm>
            <a:custGeom>
              <a:avLst/>
              <a:gdLst>
                <a:gd name="textAreaLeft" fmla="*/ 0 w 1062360"/>
                <a:gd name="textAreaRight" fmla="*/ 1062720 w 1062360"/>
                <a:gd name="textAreaTop" fmla="*/ 0 h 924120"/>
                <a:gd name="textAreaBottom" fmla="*/ 924480 h 924120"/>
              </a:gdLst>
              <a:ahLst/>
              <a:rect l="textAreaLeft" t="textAreaTop" r="textAreaRight" b="textAreaBottom"/>
              <a:pathLst>
                <a:path w="669" h="582">
                  <a:moveTo>
                    <a:pt x="668" y="553"/>
                  </a:moveTo>
                  <a:lnTo>
                    <a:pt x="668" y="450"/>
                  </a:lnTo>
                  <a:lnTo>
                    <a:pt x="562" y="435"/>
                  </a:lnTo>
                  <a:lnTo>
                    <a:pt x="448" y="420"/>
                  </a:lnTo>
                  <a:lnTo>
                    <a:pt x="367" y="400"/>
                  </a:lnTo>
                  <a:lnTo>
                    <a:pt x="314" y="378"/>
                  </a:lnTo>
                  <a:lnTo>
                    <a:pt x="257" y="349"/>
                  </a:lnTo>
                  <a:lnTo>
                    <a:pt x="220" y="314"/>
                  </a:lnTo>
                  <a:lnTo>
                    <a:pt x="193" y="274"/>
                  </a:lnTo>
                  <a:lnTo>
                    <a:pt x="180" y="231"/>
                  </a:lnTo>
                  <a:lnTo>
                    <a:pt x="180" y="189"/>
                  </a:lnTo>
                  <a:lnTo>
                    <a:pt x="193" y="165"/>
                  </a:lnTo>
                  <a:lnTo>
                    <a:pt x="209" y="143"/>
                  </a:lnTo>
                  <a:lnTo>
                    <a:pt x="255" y="127"/>
                  </a:lnTo>
                  <a:lnTo>
                    <a:pt x="297" y="127"/>
                  </a:lnTo>
                  <a:lnTo>
                    <a:pt x="345" y="141"/>
                  </a:lnTo>
                  <a:lnTo>
                    <a:pt x="396" y="156"/>
                  </a:lnTo>
                  <a:lnTo>
                    <a:pt x="448" y="163"/>
                  </a:lnTo>
                  <a:lnTo>
                    <a:pt x="477" y="125"/>
                  </a:lnTo>
                  <a:lnTo>
                    <a:pt x="464" y="86"/>
                  </a:lnTo>
                  <a:lnTo>
                    <a:pt x="415" y="42"/>
                  </a:lnTo>
                  <a:lnTo>
                    <a:pt x="363" y="18"/>
                  </a:lnTo>
                  <a:lnTo>
                    <a:pt x="319" y="7"/>
                  </a:lnTo>
                  <a:lnTo>
                    <a:pt x="273" y="2"/>
                  </a:lnTo>
                  <a:lnTo>
                    <a:pt x="222" y="0"/>
                  </a:lnTo>
                  <a:lnTo>
                    <a:pt x="176" y="4"/>
                  </a:lnTo>
                  <a:lnTo>
                    <a:pt x="136" y="15"/>
                  </a:lnTo>
                  <a:lnTo>
                    <a:pt x="86" y="33"/>
                  </a:lnTo>
                  <a:lnTo>
                    <a:pt x="50" y="66"/>
                  </a:lnTo>
                  <a:lnTo>
                    <a:pt x="22" y="99"/>
                  </a:lnTo>
                  <a:lnTo>
                    <a:pt x="6" y="145"/>
                  </a:lnTo>
                  <a:lnTo>
                    <a:pt x="0" y="189"/>
                  </a:lnTo>
                  <a:lnTo>
                    <a:pt x="9" y="237"/>
                  </a:lnTo>
                  <a:lnTo>
                    <a:pt x="22" y="285"/>
                  </a:lnTo>
                  <a:lnTo>
                    <a:pt x="50" y="330"/>
                  </a:lnTo>
                  <a:lnTo>
                    <a:pt x="81" y="375"/>
                  </a:lnTo>
                  <a:lnTo>
                    <a:pt x="125" y="419"/>
                  </a:lnTo>
                  <a:lnTo>
                    <a:pt x="169" y="457"/>
                  </a:lnTo>
                  <a:lnTo>
                    <a:pt x="217" y="488"/>
                  </a:lnTo>
                  <a:lnTo>
                    <a:pt x="266" y="514"/>
                  </a:lnTo>
                  <a:lnTo>
                    <a:pt x="310" y="534"/>
                  </a:lnTo>
                  <a:lnTo>
                    <a:pt x="369" y="549"/>
                  </a:lnTo>
                  <a:lnTo>
                    <a:pt x="437" y="568"/>
                  </a:lnTo>
                  <a:lnTo>
                    <a:pt x="516" y="581"/>
                  </a:lnTo>
                  <a:lnTo>
                    <a:pt x="595" y="577"/>
                  </a:lnTo>
                  <a:lnTo>
                    <a:pt x="668" y="553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72" name="Freeform 15"/>
            <p:cNvSpPr/>
            <p:nvPr/>
          </p:nvSpPr>
          <p:spPr>
            <a:xfrm>
              <a:off x="2166840" y="925560"/>
              <a:ext cx="2243160" cy="871560"/>
            </a:xfrm>
            <a:custGeom>
              <a:avLst/>
              <a:gdLst>
                <a:gd name="textAreaLeft" fmla="*/ 0 w 2243160"/>
                <a:gd name="textAreaRight" fmla="*/ 2243520 w 2243160"/>
                <a:gd name="textAreaTop" fmla="*/ 0 h 871560"/>
                <a:gd name="textAreaBottom" fmla="*/ 871920 h 871560"/>
              </a:gdLst>
              <a:ahLst/>
              <a:rect l="textAreaLeft" t="textAreaTop" r="textAreaRight" b="textAreaBottom"/>
              <a:pathLst>
                <a:path w="1413" h="549">
                  <a:moveTo>
                    <a:pt x="1412" y="548"/>
                  </a:moveTo>
                  <a:lnTo>
                    <a:pt x="1316" y="537"/>
                  </a:lnTo>
                  <a:lnTo>
                    <a:pt x="1237" y="524"/>
                  </a:lnTo>
                  <a:lnTo>
                    <a:pt x="1179" y="511"/>
                  </a:lnTo>
                  <a:lnTo>
                    <a:pt x="1118" y="499"/>
                  </a:lnTo>
                  <a:lnTo>
                    <a:pt x="1060" y="493"/>
                  </a:lnTo>
                  <a:lnTo>
                    <a:pt x="1000" y="495"/>
                  </a:lnTo>
                  <a:lnTo>
                    <a:pt x="939" y="499"/>
                  </a:lnTo>
                  <a:lnTo>
                    <a:pt x="894" y="482"/>
                  </a:lnTo>
                  <a:lnTo>
                    <a:pt x="962" y="440"/>
                  </a:lnTo>
                  <a:lnTo>
                    <a:pt x="1005" y="411"/>
                  </a:lnTo>
                  <a:lnTo>
                    <a:pt x="1043" y="381"/>
                  </a:lnTo>
                  <a:lnTo>
                    <a:pt x="1069" y="348"/>
                  </a:lnTo>
                  <a:lnTo>
                    <a:pt x="962" y="383"/>
                  </a:lnTo>
                  <a:lnTo>
                    <a:pt x="855" y="418"/>
                  </a:lnTo>
                  <a:lnTo>
                    <a:pt x="783" y="436"/>
                  </a:lnTo>
                  <a:lnTo>
                    <a:pt x="670" y="449"/>
                  </a:lnTo>
                  <a:lnTo>
                    <a:pt x="597" y="449"/>
                  </a:lnTo>
                  <a:lnTo>
                    <a:pt x="531" y="444"/>
                  </a:lnTo>
                  <a:lnTo>
                    <a:pt x="486" y="427"/>
                  </a:lnTo>
                  <a:lnTo>
                    <a:pt x="459" y="407"/>
                  </a:lnTo>
                  <a:lnTo>
                    <a:pt x="527" y="389"/>
                  </a:lnTo>
                  <a:lnTo>
                    <a:pt x="572" y="365"/>
                  </a:lnTo>
                  <a:lnTo>
                    <a:pt x="599" y="339"/>
                  </a:lnTo>
                  <a:lnTo>
                    <a:pt x="634" y="308"/>
                  </a:lnTo>
                  <a:lnTo>
                    <a:pt x="544" y="334"/>
                  </a:lnTo>
                  <a:lnTo>
                    <a:pt x="463" y="348"/>
                  </a:lnTo>
                  <a:lnTo>
                    <a:pt x="378" y="356"/>
                  </a:lnTo>
                  <a:lnTo>
                    <a:pt x="303" y="352"/>
                  </a:lnTo>
                  <a:lnTo>
                    <a:pt x="254" y="334"/>
                  </a:lnTo>
                  <a:lnTo>
                    <a:pt x="233" y="312"/>
                  </a:lnTo>
                  <a:lnTo>
                    <a:pt x="281" y="291"/>
                  </a:lnTo>
                  <a:lnTo>
                    <a:pt x="313" y="269"/>
                  </a:lnTo>
                  <a:lnTo>
                    <a:pt x="341" y="244"/>
                  </a:lnTo>
                  <a:lnTo>
                    <a:pt x="339" y="229"/>
                  </a:lnTo>
                  <a:lnTo>
                    <a:pt x="262" y="246"/>
                  </a:lnTo>
                  <a:lnTo>
                    <a:pt x="179" y="255"/>
                  </a:lnTo>
                  <a:lnTo>
                    <a:pt x="109" y="254"/>
                  </a:lnTo>
                  <a:lnTo>
                    <a:pt x="51" y="244"/>
                  </a:lnTo>
                  <a:lnTo>
                    <a:pt x="19" y="229"/>
                  </a:lnTo>
                  <a:lnTo>
                    <a:pt x="0" y="205"/>
                  </a:lnTo>
                  <a:lnTo>
                    <a:pt x="120" y="187"/>
                  </a:lnTo>
                  <a:lnTo>
                    <a:pt x="309" y="156"/>
                  </a:lnTo>
                  <a:lnTo>
                    <a:pt x="544" y="119"/>
                  </a:lnTo>
                  <a:lnTo>
                    <a:pt x="742" y="71"/>
                  </a:lnTo>
                  <a:lnTo>
                    <a:pt x="926" y="26"/>
                  </a:lnTo>
                  <a:lnTo>
                    <a:pt x="1020" y="9"/>
                  </a:lnTo>
                  <a:lnTo>
                    <a:pt x="1098" y="0"/>
                  </a:lnTo>
                  <a:lnTo>
                    <a:pt x="1165" y="2"/>
                  </a:lnTo>
                  <a:lnTo>
                    <a:pt x="1211" y="7"/>
                  </a:lnTo>
                  <a:lnTo>
                    <a:pt x="1254" y="27"/>
                  </a:lnTo>
                  <a:lnTo>
                    <a:pt x="1288" y="71"/>
                  </a:lnTo>
                  <a:lnTo>
                    <a:pt x="1301" y="117"/>
                  </a:lnTo>
                  <a:lnTo>
                    <a:pt x="1316" y="148"/>
                  </a:lnTo>
                  <a:lnTo>
                    <a:pt x="1344" y="159"/>
                  </a:lnTo>
                  <a:lnTo>
                    <a:pt x="1384" y="156"/>
                  </a:lnTo>
                  <a:lnTo>
                    <a:pt x="1412" y="145"/>
                  </a:lnTo>
                  <a:lnTo>
                    <a:pt x="1412" y="54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73" name="Oval 16"/>
            <p:cNvSpPr/>
            <p:nvPr/>
          </p:nvSpPr>
          <p:spPr>
            <a:xfrm>
              <a:off x="4421160" y="563400"/>
              <a:ext cx="297000" cy="314640"/>
            </a:xfrm>
            <a:prstGeom prst="ellipse">
              <a:avLst/>
            </a:pr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74" name="Freeform 17"/>
            <p:cNvSpPr/>
            <p:nvPr/>
          </p:nvSpPr>
          <p:spPr>
            <a:xfrm>
              <a:off x="4724280" y="925560"/>
              <a:ext cx="2243160" cy="871560"/>
            </a:xfrm>
            <a:custGeom>
              <a:avLst/>
              <a:gdLst>
                <a:gd name="textAreaLeft" fmla="*/ 0 w 2243160"/>
                <a:gd name="textAreaRight" fmla="*/ 2243520 w 2243160"/>
                <a:gd name="textAreaTop" fmla="*/ 0 h 871560"/>
                <a:gd name="textAreaBottom" fmla="*/ 871920 h 871560"/>
              </a:gdLst>
              <a:ahLst/>
              <a:rect l="textAreaLeft" t="textAreaTop" r="textAreaRight" b="textAreaBottom"/>
              <a:pathLst>
                <a:path w="1413" h="549">
                  <a:moveTo>
                    <a:pt x="0" y="548"/>
                  </a:moveTo>
                  <a:lnTo>
                    <a:pt x="96" y="537"/>
                  </a:lnTo>
                  <a:lnTo>
                    <a:pt x="175" y="524"/>
                  </a:lnTo>
                  <a:lnTo>
                    <a:pt x="233" y="511"/>
                  </a:lnTo>
                  <a:lnTo>
                    <a:pt x="294" y="499"/>
                  </a:lnTo>
                  <a:lnTo>
                    <a:pt x="352" y="493"/>
                  </a:lnTo>
                  <a:lnTo>
                    <a:pt x="412" y="495"/>
                  </a:lnTo>
                  <a:lnTo>
                    <a:pt x="473" y="499"/>
                  </a:lnTo>
                  <a:lnTo>
                    <a:pt x="518" y="482"/>
                  </a:lnTo>
                  <a:lnTo>
                    <a:pt x="450" y="440"/>
                  </a:lnTo>
                  <a:lnTo>
                    <a:pt x="407" y="411"/>
                  </a:lnTo>
                  <a:lnTo>
                    <a:pt x="369" y="381"/>
                  </a:lnTo>
                  <a:lnTo>
                    <a:pt x="343" y="348"/>
                  </a:lnTo>
                  <a:lnTo>
                    <a:pt x="450" y="383"/>
                  </a:lnTo>
                  <a:lnTo>
                    <a:pt x="557" y="418"/>
                  </a:lnTo>
                  <a:lnTo>
                    <a:pt x="629" y="436"/>
                  </a:lnTo>
                  <a:lnTo>
                    <a:pt x="742" y="449"/>
                  </a:lnTo>
                  <a:lnTo>
                    <a:pt x="815" y="449"/>
                  </a:lnTo>
                  <a:lnTo>
                    <a:pt x="881" y="444"/>
                  </a:lnTo>
                  <a:lnTo>
                    <a:pt x="926" y="427"/>
                  </a:lnTo>
                  <a:lnTo>
                    <a:pt x="953" y="407"/>
                  </a:lnTo>
                  <a:lnTo>
                    <a:pt x="885" y="389"/>
                  </a:lnTo>
                  <a:lnTo>
                    <a:pt x="840" y="365"/>
                  </a:lnTo>
                  <a:lnTo>
                    <a:pt x="809" y="339"/>
                  </a:lnTo>
                  <a:lnTo>
                    <a:pt x="778" y="308"/>
                  </a:lnTo>
                  <a:lnTo>
                    <a:pt x="868" y="334"/>
                  </a:lnTo>
                  <a:lnTo>
                    <a:pt x="949" y="348"/>
                  </a:lnTo>
                  <a:lnTo>
                    <a:pt x="1034" y="356"/>
                  </a:lnTo>
                  <a:lnTo>
                    <a:pt x="1109" y="352"/>
                  </a:lnTo>
                  <a:lnTo>
                    <a:pt x="1158" y="334"/>
                  </a:lnTo>
                  <a:lnTo>
                    <a:pt x="1179" y="312"/>
                  </a:lnTo>
                  <a:lnTo>
                    <a:pt x="1131" y="291"/>
                  </a:lnTo>
                  <a:lnTo>
                    <a:pt x="1099" y="269"/>
                  </a:lnTo>
                  <a:lnTo>
                    <a:pt x="1071" y="244"/>
                  </a:lnTo>
                  <a:lnTo>
                    <a:pt x="1073" y="229"/>
                  </a:lnTo>
                  <a:lnTo>
                    <a:pt x="1150" y="246"/>
                  </a:lnTo>
                  <a:lnTo>
                    <a:pt x="1233" y="255"/>
                  </a:lnTo>
                  <a:lnTo>
                    <a:pt x="1311" y="253"/>
                  </a:lnTo>
                  <a:lnTo>
                    <a:pt x="1361" y="244"/>
                  </a:lnTo>
                  <a:lnTo>
                    <a:pt x="1393" y="229"/>
                  </a:lnTo>
                  <a:lnTo>
                    <a:pt x="1412" y="205"/>
                  </a:lnTo>
                  <a:lnTo>
                    <a:pt x="1292" y="187"/>
                  </a:lnTo>
                  <a:lnTo>
                    <a:pt x="1087" y="158"/>
                  </a:lnTo>
                  <a:lnTo>
                    <a:pt x="868" y="119"/>
                  </a:lnTo>
                  <a:lnTo>
                    <a:pt x="670" y="71"/>
                  </a:lnTo>
                  <a:lnTo>
                    <a:pt x="486" y="26"/>
                  </a:lnTo>
                  <a:lnTo>
                    <a:pt x="392" y="9"/>
                  </a:lnTo>
                  <a:lnTo>
                    <a:pt x="314" y="0"/>
                  </a:lnTo>
                  <a:lnTo>
                    <a:pt x="247" y="2"/>
                  </a:lnTo>
                  <a:lnTo>
                    <a:pt x="201" y="7"/>
                  </a:lnTo>
                  <a:lnTo>
                    <a:pt x="158" y="27"/>
                  </a:lnTo>
                  <a:lnTo>
                    <a:pt x="124" y="71"/>
                  </a:lnTo>
                  <a:lnTo>
                    <a:pt x="111" y="117"/>
                  </a:lnTo>
                  <a:lnTo>
                    <a:pt x="96" y="148"/>
                  </a:lnTo>
                  <a:lnTo>
                    <a:pt x="68" y="159"/>
                  </a:lnTo>
                  <a:lnTo>
                    <a:pt x="28" y="156"/>
                  </a:lnTo>
                  <a:lnTo>
                    <a:pt x="0" y="145"/>
                  </a:lnTo>
                  <a:lnTo>
                    <a:pt x="0" y="54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00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7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637D-EA78-479F-94E6-FFA356B952AC}" type="slidenum">
              <a:rPr b="0" lang="en-US" sz="14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essure Ulcers 101</a:t>
            </a:r>
            <a:br>
              <a:rPr sz="4000"/>
            </a:br>
            <a:r>
              <a:rPr b="1" lang="en-US" sz="3200" spc="-1" strike="noStrike">
                <a:solidFill>
                  <a:srgbClr val="fafd00"/>
                </a:solidFill>
                <a:latin typeface="Monotype Corsiva"/>
              </a:rPr>
              <a:t>or</a:t>
            </a:r>
            <a:br>
              <a:rPr sz="3200"/>
            </a:br>
            <a:r>
              <a:rPr b="0" lang="en-US" sz="4000" spc="-1" strike="noStrike">
                <a:solidFill>
                  <a:srgbClr val="fafd00"/>
                </a:solidFill>
                <a:latin typeface="Monotype Corsiva"/>
              </a:rPr>
              <a:t>Hospital Acquired Pressure Ulcers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Monotype Corsiva"/>
              </a:rPr>
              <a:t>What you need to know</a:t>
            </a: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549440" y="4127040"/>
            <a:ext cx="6045120" cy="15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Kristin Moeller, M.D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Contra Costa Regional Medical Cent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July 2009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if I identify a 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essure Ulcer?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it in your H &amp; P (or Progress Note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it in your orders as an admit diagnosis, either as a primary or secondary diagnosi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orders for wound ca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y the Charge Nurse and fill out a SERS repor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sure? Ask a Staff member for help (Attending M.D. or Charge Nurse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ging Basics</a:t>
            </a:r>
            <a:endParaRPr b="1" lang="en-US" sz="48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be intimidated, the rules are eas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76080" indent="-2599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Pressure Ulcers are stageabl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040040" indent="-20772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wounds (surgical, venous stasis, neuropathic/diabetic ulcers) a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76080" indent="-2599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wound never “regresses” in stag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040040" indent="-20772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age 2 is always a Stage 2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040040" indent="-20772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it heals, it becomes a “healing Stage 2 ulcer”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2038320" y="152280"/>
          <a:ext cx="5067360" cy="655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8320" y="152280"/>
                    <a:ext cx="5067360" cy="655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ge 1 Pressure Ulcer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blanching erythema over a pressure point; area may be painful, firm, soft, warm or cool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: the skin is intac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rcRect l="1171" t="12101" r="3761" b="12561"/>
          <a:stretch/>
        </p:blipFill>
        <p:spPr>
          <a:xfrm>
            <a:off x="2500200" y="3429000"/>
            <a:ext cx="4129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Stage 2 Pressure Ulcer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al thickness disruption of the dermis with shallow red/pink wound be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ou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lough; no undermining or tunneling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: this includes blister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4" name="Picture 5" descr="CNCD0003_27Jan"/>
          <p:cNvPicPr/>
          <p:nvPr/>
        </p:nvPicPr>
        <p:blipFill>
          <a:blip r:embed="rId1"/>
          <a:srcRect l="0" t="0" r="0" b="29089"/>
          <a:stretch/>
        </p:blipFill>
        <p:spPr>
          <a:xfrm>
            <a:off x="2362320" y="3886200"/>
            <a:ext cx="434340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Skin Tears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o not confuse a Stage 2 Pressure Ulcer with a skin tear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7" name="Picture 4" descr="skintear"/>
          <p:cNvPicPr/>
          <p:nvPr/>
        </p:nvPicPr>
        <p:blipFill>
          <a:blip r:embed="rId1"/>
          <a:stretch/>
        </p:blipFill>
        <p:spPr>
          <a:xfrm>
            <a:off x="2514600" y="3276720"/>
            <a:ext cx="40384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Stage 3 Pressure Ulcer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thickness tissue loss with disruption of the dermis and into SubQ; may have slough, tunneling,undermining.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uscle, tendon or bone is exposed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>
            <a:lum contrast="20000"/>
          </a:blip>
          <a:srcRect l="4003" t="4197" r="52062" b="3554"/>
          <a:stretch/>
        </p:blipFill>
        <p:spPr>
          <a:xfrm>
            <a:off x="457200" y="3433680"/>
            <a:ext cx="3886200" cy="2971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Tunneling 2"/>
          <p:cNvPicPr/>
          <p:nvPr/>
        </p:nvPicPr>
        <p:blipFill>
          <a:blip r:embed="rId2"/>
          <a:srcRect l="0" t="0" r="10528" b="0"/>
          <a:stretch/>
        </p:blipFill>
        <p:spPr>
          <a:xfrm>
            <a:off x="4800600" y="3429000"/>
            <a:ext cx="388620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ge 4 Pressure Ulcer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 deeper disruption, which disrupts the fascia and may or may not involve muscle, bone, tendon or ligamen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: does not necessarily go to bone but be suspicious for osteomyeliti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4" name="Picture 5" descr="PU Cavity"/>
          <p:cNvPicPr/>
          <p:nvPr/>
        </p:nvPicPr>
        <p:blipFill>
          <a:blip r:embed="rId1"/>
          <a:stretch/>
        </p:blipFill>
        <p:spPr>
          <a:xfrm>
            <a:off x="2857680" y="4038480"/>
            <a:ext cx="339084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ep Tissue Injury I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rple or maroon localized area of discolored intact skin or blood-filled blister due to damage to underlying soft tissue from pressur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7" name="Object 3" descr=""/>
          <p:cNvPicPr/>
          <p:nvPr/>
        </p:nvPicPr>
        <p:blipFill>
          <a:blip r:embed="rId1"/>
          <a:srcRect l="0" t="10326" r="-186" b="20668"/>
          <a:stretch/>
        </p:blipFill>
        <p:spPr>
          <a:xfrm>
            <a:off x="3048120" y="3276720"/>
            <a:ext cx="4181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Deep Tissue Injury II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area may be preceded by tissue that is painful, firm, boggy, warmer or cooler as compared to adjacent tissue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Evolution may be rapid exposing additional layers of tissue even with treatmen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Learning Objectives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earn the definition of a Hospital Acquired Pressure Ulcer (HAPU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earn the significance of HAPU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earn how to stage HAPU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earn who is at risk for HAPU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earn how to prevent HAPU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Unstageable I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thickness tissue injury in which the base of the ulcer is covered by slough (yellow, tan, gray, green, brown) or eschar (tan, brown, black)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2" name="Picture 6" descr="Sacral Eschar #1"/>
          <p:cNvPicPr/>
          <p:nvPr/>
        </p:nvPicPr>
        <p:blipFill>
          <a:blip r:embed="rId1"/>
          <a:stretch/>
        </p:blipFill>
        <p:spPr>
          <a:xfrm>
            <a:off x="5200560" y="3962520"/>
            <a:ext cx="3257640" cy="2598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Slough"/>
          <p:cNvPicPr/>
          <p:nvPr/>
        </p:nvPicPr>
        <p:blipFill>
          <a:blip r:embed="rId2"/>
          <a:stretch/>
        </p:blipFill>
        <p:spPr>
          <a:xfrm>
            <a:off x="1066680" y="3962520"/>
            <a:ext cx="327672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</a:rPr>
              <a:t>Unstageable II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pic>
        <p:nvPicPr>
          <p:cNvPr id="175" name="Picture 4" descr="Don't debride heels"/>
          <p:cNvPicPr/>
          <p:nvPr/>
        </p:nvPicPr>
        <p:blipFill>
          <a:blip r:embed="rId1"/>
          <a:stretch/>
        </p:blipFill>
        <p:spPr>
          <a:xfrm>
            <a:off x="2978280" y="3930480"/>
            <a:ext cx="3193920" cy="2546640"/>
          </a:xfrm>
          <a:prstGeom prst="rect">
            <a:avLst/>
          </a:prstGeom>
          <a:ln w="0">
            <a:noFill/>
          </a:ln>
        </p:spPr>
      </p:pic>
      <p:sp>
        <p:nvSpPr>
          <p:cNvPr id="176" name="Content Placeholder 2"/>
          <p:cNvSpPr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Special care must be taken with heel ulcers.       Do NOT unroof unless aided by an experienced physician. They may be better left intac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95200" y="122400"/>
          <a:ext cx="8553600" cy="66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200" y="122400"/>
                    <a:ext cx="8553600" cy="66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eatment I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wounds moist but not too moist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0560" indent="-34056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ride any necrotic or excess fibrinous tissu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p, chemical or autolytic debridement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are getting near bone, tendon or ligament,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ntil you have more experienced hands &amp; eyes with you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0560" indent="-34056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less the wound is a Stage 4 or causing sepsis, this can all be done slowly and cautiously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mp to dry dressing with Saline will get you through the night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0560" indent="-34056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are the new primary team in the AM, look at the identified wound a.s.a.p. and begin to formulate a treatment plan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eatment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II</a:t>
            </a:r>
            <a:endParaRPr b="1" lang="en-US" sz="48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te/reassess prevention strategies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564480" indent="-217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sure reducing mattres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564480" indent="-217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imize mobilit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564480" indent="-217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imize Nutri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564480" indent="-217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e devic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564480" indent="-217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 skin hygien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564480" indent="-217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sure to communicate with your patient &amp; caregiver in his/her native languag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564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ower your patient to partake in his/her car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1" marL="56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76320" y="216000"/>
          <a:ext cx="8991360" cy="642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16000"/>
                    <a:ext cx="8991360" cy="64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ound Care Team</a:t>
            </a:r>
            <a:br>
              <a:rPr sz="48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“Wound Wednesdays”</a:t>
            </a:r>
            <a:endParaRPr b="1" lang="en-US" sz="40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7964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 1:  Educate!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 2:  Prevent Pressure Ulcer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 3:  Prevent worsening of Pressure Ulcers (avoid progression to Stage 3 or 4)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 4:  Help guide treatment via interdisciplinary team approach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 5:  Planned Obsolescence!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ms –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ore paperwork!</a:t>
            </a:r>
            <a:endParaRPr b="1" lang="en-US" sz="48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79280"/>
            <a:ext cx="777240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, they are coming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 Documentation and order form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llow-up documentation form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 week or for any significant change of statu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ms – Initial Documentation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79280"/>
            <a:ext cx="7772400" cy="387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193" name="Object 4"/>
          <p:cNvGraphicFramePr/>
          <p:nvPr/>
        </p:nvGraphicFramePr>
        <p:xfrm>
          <a:off x="2362320" y="1143000"/>
          <a:ext cx="430524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143000"/>
                    <a:ext cx="430524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hoto – op?</a:t>
            </a:r>
            <a:endParaRPr b="1" lang="en-US" sz="48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Pressure Ulcer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ust b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ocumented with photo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on diagnosis and Q week on Wednesday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tos are uploaded in PACS (yup, with the Xrays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wound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ay b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ocumented with photos to document wound progress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essure Ulcer</a:t>
            </a:r>
            <a:endParaRPr b="1" lang="en-US" sz="5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119320"/>
            <a:ext cx="7772400" cy="32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Localized skin injury which develops as a result of unrelieved pressur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quently over a bony promine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as a result of a medical device (Foley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is a result of shear or friction forces combined with pressu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 Brief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4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ation is ke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sician must be part of documentation of HAPU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be documented on admit H &amp; P to document that it was not caused at our facilit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ention is ke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k for help as we are all learning this new system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PU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Hospital-acquired pressure ulcer)</a:t>
            </a:r>
            <a:endParaRPr b="1" lang="en-US" sz="36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22160" y="1979280"/>
            <a:ext cx="7699680" cy="36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PU is the new buzz-word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ention of HAPU is ke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enting Stage 1 and 2 ulcers from progression to Stage 3 or 4 is the next goa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PU</a:t>
            </a:r>
            <a:endParaRPr b="1" lang="en-US" sz="5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lvl="1" marL="7056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CMS (Medicare/Medicaid) will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no longer</a:t>
            </a: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 reimburse for treatment of Stage 3 or 4 pressure ulcers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acquired</a:t>
            </a: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 at our hospita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ge 3 and 4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lcers are reportable event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acquired at CCRMC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f present on admission fill out SERS (Safety and Event Reporting System) report on computer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formation goes to Hospital Administration and the State!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3" name="Picture 5" descr="hat"/>
          <p:cNvPicPr/>
          <p:nvPr/>
        </p:nvPicPr>
        <p:blipFill>
          <a:blip r:embed="rId1"/>
          <a:stretch/>
        </p:blipFill>
        <p:spPr>
          <a:xfrm>
            <a:off x="4191120" y="5486400"/>
            <a:ext cx="68580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o’s at risk?</a:t>
            </a:r>
            <a:endParaRPr b="1" lang="en-US" sz="48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!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ll, OK, not everyone but lots of our patient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isk factors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mobility, poor nutrition, critical illness, chronic disease, dehydration, incontinence, fever, infection, poor sensation, obesity, age, medications, and various other medical diagnos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ose job is it to prevent Pressure Ulcers?</a:t>
            </a:r>
            <a:endParaRPr b="1" lang="en-US" sz="44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41400"/>
            <a:ext cx="7772400" cy="36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’s!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 at the skin, especially in high risk patient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 what you se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lcer, no ulcer/intact skin, color chang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Stage 3 or 4, document in H &amp; P and fill out SERS or bring to attention of the Charge Nurs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can stage the ulcer, great; if not, talk to an attending or the nurses to help you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????</a:t>
            </a:r>
            <a:endParaRPr b="1" lang="en-US" sz="48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, complete patient car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no ulcer on admission, prevent on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here is an ulcer, heal it &amp; prevent worsen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ey $$$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S is one of our main sources of reimbursement – we are charged with caring for some of the most vulnerable members of the popul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do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have to do?</a:t>
            </a:r>
            <a:endParaRPr b="1" lang="en-US" sz="4800" spc="-1" strike="noStrike">
              <a:solidFill>
                <a:srgbClr val="fafd00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4140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We all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eed to Look and Document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 skin exam on H &amp; P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the skin regularly, especially in high risk patients and document updated exa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est help from Attending Staff or Nursing regarding staging and treatm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nursing brings an ulcer to your attention – see it and document it a.s.a.p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04:29:09Z</dcterms:created>
  <dc:creator> </dc:creator>
  <dc:description/>
  <cp:keywords/>
  <dc:language>en-US</dc:language>
  <cp:lastModifiedBy>HCMARTINEZ</cp:lastModifiedBy>
  <dcterms:modified xsi:type="dcterms:W3CDTF">2009-07-21T17:35:57Z</dcterms:modified>
  <cp:revision>3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401033</vt:lpwstr>
  </property>
</Properties>
</file>