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B6FD-180A-4691-B2BC-F57C19381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C057-5AF7-48F0-98B5-CD3C29F5E7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AF1B-F676-49C3-8D3A-B52BE20C2F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CF6F-34E3-4E43-B6AE-27394059F5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8003-0BD7-4000-95E7-21343E0CA6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B157-50B5-4A13-87A9-2E4DE665A7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BF13-2C4A-472F-8A0A-37A3A6A506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D599-F6B0-4919-BC11-95E3887285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574B-9C40-4125-A802-352C2380BC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5544-2B31-460C-AEDC-BF1812AA74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E300-CAE5-4EBF-9EB9-113E5E5E4B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AB17-8CC1-4765-8F2F-877F9067DC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1FED-5915-45CD-82C9-C887E6A496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4796-BD91-4022-934C-887B87D1F3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03C3-DD08-42E4-B5BB-2B57192B75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6772-6BF7-4FAF-96CC-20DE87C7E8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2FED-508A-4617-B0AF-860BFDC0E2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C4AD-48AA-42A8-B611-7533BCF946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234B-352D-4087-810D-F4C6A3524C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83F9-B4E9-491A-B037-BFD8B18AC6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DAAE-D46B-47B0-A13D-6FF0C062F8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ECC6-BBA6-4EFB-96E4-80F61E2829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73DC-7AF1-4963-A282-52AC027119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5ED9-0775-49DA-A4AE-F7385EFED8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5566-FF8A-4486-8B2F-BE5F8E78BD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CEA5-FABA-47F5-BCBD-2704558C3E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FE84-2F0B-43BF-9639-5DE0CEA8B9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1F3F-AAA4-48CC-A24A-5D658101B4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970E-6980-4000-8E11-9BFD3428C2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2A27-2AC0-4DE7-962B-F69065D6C2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6C7B-36FE-47F6-B285-2501377C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8D14E-AB86-431A-8058-C4D7ADFA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494AC-3A9F-48F3-AAD0-1819C70F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67E01-35A8-477D-A2A3-A4619657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6C9D-57E2-46ED-AF66-03C4F253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B5B0-C851-410A-B236-48A3374A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8378-207A-4239-9EBB-D1EE8F6E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4681-0A7C-400E-A80B-2F1334C1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2DA3-7519-442F-AD2C-016E257C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79B3-77CF-43F9-842E-A9DF956F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9F3E-7AD2-40BE-B4F4-25A82887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4BBC2-896C-44AF-BCBB-01EDAFAC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95B6-4ED8-4434-9923-CC053D97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5331-63A1-4592-9771-86B48B0E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652D-FC65-4D8A-9D88-E0834EB1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A256-8246-4178-AD4E-57343B42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0947-EFF1-43E4-83E5-5B445DAF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0E182-C67A-4231-BD83-01A9356D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601BA-F46F-4663-A438-0FAE2236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E1521-4D8F-4889-B183-6EA4EB67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2E23-D214-4061-976D-26FFB071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34C7D-0052-4ABD-8CF6-6A621513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8A730-B85C-49F7-8F39-5E7C902D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816B2-4A99-4868-B878-5F68516A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6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1" name="Freeform 2"/>
            <p:cNvSpPr/>
            <p:nvPr/>
          </p:nvSpPr>
          <p:spPr>
            <a:xfrm>
              <a:off x="4500720" y="930240"/>
              <a:ext cx="139680" cy="1779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79480"/>
                <a:gd name="textAreaBottom" fmla="*/ 1779840 h 177948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4498920" y="3016080"/>
              <a:ext cx="133560" cy="57636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4484520" y="3957480"/>
              <a:ext cx="133560" cy="3952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494240" y="4707000"/>
              <a:ext cx="82440" cy="3682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4525920" y="5324400"/>
              <a:ext cx="57240" cy="2113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4525920" y="5778360"/>
              <a:ext cx="47520" cy="936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4127400" y="5707080"/>
              <a:ext cx="370080" cy="206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4100400" y="4584600"/>
              <a:ext cx="738360" cy="102564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4708440" y="3803760"/>
              <a:ext cx="505080" cy="669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3664080" y="1889280"/>
              <a:ext cx="2228760" cy="1830240"/>
            </a:xfrm>
            <a:custGeom>
              <a:avLst/>
              <a:gdLst>
                <a:gd name="textAreaLeft" fmla="*/ 0 w 2228760"/>
                <a:gd name="textAreaRight" fmla="*/ 2229120 w 2228760"/>
                <a:gd name="textAreaTop" fmla="*/ 0 h 1830240"/>
                <a:gd name="textAreaBottom" fmla="*/ 1830600 h 183024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4303800" y="5207040"/>
              <a:ext cx="584280" cy="669960"/>
            </a:xfrm>
            <a:custGeom>
              <a:avLst/>
              <a:gdLst/>
              <a:ahLst/>
              <a:rect l="l" t="t" r="r" b="b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3860640" y="2844720"/>
              <a:ext cx="1570320" cy="2284560"/>
            </a:xfrm>
            <a:custGeom>
              <a:avLst/>
              <a:gdLst>
                <a:gd name="textAreaLeft" fmla="*/ 0 w 1570320"/>
                <a:gd name="textAreaRight" fmla="*/ 1570680 w 1570320"/>
                <a:gd name="textAreaTop" fmla="*/ 0 h 2284560"/>
                <a:gd name="textAreaBottom" fmla="*/ 2284920 h 228456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3333600" y="1844640"/>
              <a:ext cx="1062360" cy="9241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216684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5" name="Oval 16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472428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00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7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3C8E-3197-4539-9CB0-BC353930F72E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6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18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59" name="Freeform 2"/>
            <p:cNvSpPr/>
            <p:nvPr/>
          </p:nvSpPr>
          <p:spPr>
            <a:xfrm>
              <a:off x="4500720" y="930240"/>
              <a:ext cx="139680" cy="1779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79480"/>
                <a:gd name="textAreaBottom" fmla="*/ 1779840 h 177948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0" name="Freeform 3"/>
            <p:cNvSpPr/>
            <p:nvPr/>
          </p:nvSpPr>
          <p:spPr>
            <a:xfrm>
              <a:off x="4498920" y="3016080"/>
              <a:ext cx="133560" cy="57636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4484520" y="3957480"/>
              <a:ext cx="133560" cy="3952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4494240" y="4707000"/>
              <a:ext cx="82440" cy="3682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4525920" y="5324400"/>
              <a:ext cx="57240" cy="2113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4525920" y="5778360"/>
              <a:ext cx="47520" cy="936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4127400" y="5707080"/>
              <a:ext cx="370080" cy="206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6" name="Freeform 9"/>
            <p:cNvSpPr/>
            <p:nvPr/>
          </p:nvSpPr>
          <p:spPr>
            <a:xfrm>
              <a:off x="4100400" y="4584600"/>
              <a:ext cx="738360" cy="102564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7" name="Freeform 10"/>
            <p:cNvSpPr/>
            <p:nvPr/>
          </p:nvSpPr>
          <p:spPr>
            <a:xfrm>
              <a:off x="4708440" y="3803760"/>
              <a:ext cx="505080" cy="669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8" name="Freeform 11"/>
            <p:cNvSpPr/>
            <p:nvPr/>
          </p:nvSpPr>
          <p:spPr>
            <a:xfrm>
              <a:off x="3664080" y="1889280"/>
              <a:ext cx="2228760" cy="1830240"/>
            </a:xfrm>
            <a:custGeom>
              <a:avLst/>
              <a:gdLst>
                <a:gd name="textAreaLeft" fmla="*/ 0 w 2228760"/>
                <a:gd name="textAreaRight" fmla="*/ 2229120 w 2228760"/>
                <a:gd name="textAreaTop" fmla="*/ 0 h 1830240"/>
                <a:gd name="textAreaBottom" fmla="*/ 1830600 h 183024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9" name="Freeform 12"/>
            <p:cNvSpPr/>
            <p:nvPr/>
          </p:nvSpPr>
          <p:spPr>
            <a:xfrm>
              <a:off x="4303800" y="5207040"/>
              <a:ext cx="584280" cy="669960"/>
            </a:xfrm>
            <a:custGeom>
              <a:avLst/>
              <a:gdLst/>
              <a:ahLst/>
              <a:rect l="l" t="t" r="r" b="b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0" name="Freeform 13"/>
            <p:cNvSpPr/>
            <p:nvPr/>
          </p:nvSpPr>
          <p:spPr>
            <a:xfrm>
              <a:off x="3860640" y="2844720"/>
              <a:ext cx="1570320" cy="2284560"/>
            </a:xfrm>
            <a:custGeom>
              <a:avLst/>
              <a:gdLst>
                <a:gd name="textAreaLeft" fmla="*/ 0 w 1570320"/>
                <a:gd name="textAreaRight" fmla="*/ 1570680 w 1570320"/>
                <a:gd name="textAreaTop" fmla="*/ 0 h 2284560"/>
                <a:gd name="textAreaBottom" fmla="*/ 2284920 h 228456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1" name="Freeform 14"/>
            <p:cNvSpPr/>
            <p:nvPr/>
          </p:nvSpPr>
          <p:spPr>
            <a:xfrm>
              <a:off x="3333600" y="1844640"/>
              <a:ext cx="1062360" cy="9241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2" name="Freeform 15"/>
            <p:cNvSpPr/>
            <p:nvPr/>
          </p:nvSpPr>
          <p:spPr>
            <a:xfrm>
              <a:off x="216684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3" name="Oval 16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4" name="Freeform 17"/>
            <p:cNvSpPr/>
            <p:nvPr/>
          </p:nvSpPr>
          <p:spPr>
            <a:xfrm>
              <a:off x="472428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00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7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333E-119D-43DE-8E78-388D6779ED46}" type="slidenum"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ssure Ulcers 101</a:t>
            </a:r>
            <a:br>
              <a:rPr sz="4000"/>
            </a:br>
            <a:r>
              <a:rPr b="1" lang="en-US" sz="3200" spc="-1" strike="noStrike">
                <a:solidFill>
                  <a:srgbClr val="fafd00"/>
                </a:solidFill>
                <a:latin typeface="Monotype Corsiva"/>
              </a:rPr>
              <a:t>or</a:t>
            </a:r>
            <a:br>
              <a:rPr sz="3200"/>
            </a:br>
            <a:r>
              <a:rPr b="0" lang="en-US" sz="4000" spc="-1" strike="noStrike">
                <a:solidFill>
                  <a:srgbClr val="fafd00"/>
                </a:solidFill>
                <a:latin typeface="Monotype Corsiva"/>
              </a:rPr>
              <a:t>Hospital Acquired Pressure Ulcers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Monotype Corsiva"/>
              </a:rPr>
              <a:t>What you need to know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49440" y="4127040"/>
            <a:ext cx="604512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Kristin Moeller, M.D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Contra Costa Regional Medical Cen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July 2009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f I identify a 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ssure Ulcer?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it in your H &amp; P (or Progress Not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it in your orders as an admit diagnosis, either as a primary or secondary diagnos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orders for wound c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y the Charge Nurse and fill out a SERS repor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sure? Ask a Staff member for help (Attending M.D. or Charge Nurs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ging Basics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be intimidated, the rules are eas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Pressure Ulcers are stageab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wounds (surgical, venous stasis, neuropathic/diabetic ulcers)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ound never “regresses” in stag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age 2 is always a Stage 2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t heals, it becomes a “healing Stage 2 ulcer”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2038320" y="152280"/>
          <a:ext cx="5067360" cy="655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8320" y="152280"/>
                    <a:ext cx="506736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ge 1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blanching erythema over a pressure point; area may be painful, firm, soft, warm or cool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the skin is intac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rcRect l="1171" t="12101" r="3761" b="12561"/>
          <a:stretch/>
        </p:blipFill>
        <p:spPr>
          <a:xfrm>
            <a:off x="2500200" y="3429000"/>
            <a:ext cx="4129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Stage 2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al thickness disruption of the dermis with shallow red/pink wound b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lough; no undermining or tunneling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this includes blister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4" name="Picture 5" descr="CNCD0003_27Jan"/>
          <p:cNvPicPr/>
          <p:nvPr/>
        </p:nvPicPr>
        <p:blipFill>
          <a:blip r:embed="rId1"/>
          <a:srcRect l="0" t="0" r="0" b="29089"/>
          <a:stretch/>
        </p:blipFill>
        <p:spPr>
          <a:xfrm>
            <a:off x="2362320" y="3886200"/>
            <a:ext cx="434340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Skin Tears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o not confuse a Stage 2 Pressure Ulcer with a skin tea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7" name="Picture 4" descr="skintear"/>
          <p:cNvPicPr/>
          <p:nvPr/>
        </p:nvPicPr>
        <p:blipFill>
          <a:blip r:embed="rId1"/>
          <a:stretch/>
        </p:blipFill>
        <p:spPr>
          <a:xfrm>
            <a:off x="2514600" y="3276720"/>
            <a:ext cx="40384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Stage 3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thickness tissue loss with disruption of the dermis and into SubQ; may have slough, tunneling,undermining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cle, tendon or bone is expose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>
            <a:lum contrast="20000"/>
          </a:blip>
          <a:srcRect l="4003" t="4197" r="52062" b="3554"/>
          <a:stretch/>
        </p:blipFill>
        <p:spPr>
          <a:xfrm>
            <a:off x="457200" y="343368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Tunneling 2"/>
          <p:cNvPicPr/>
          <p:nvPr/>
        </p:nvPicPr>
        <p:blipFill>
          <a:blip r:embed="rId2"/>
          <a:srcRect l="0" t="0" r="10528" b="0"/>
          <a:stretch/>
        </p:blipFill>
        <p:spPr>
          <a:xfrm>
            <a:off x="4800600" y="3429000"/>
            <a:ext cx="38862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ge 4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deeper disruption, which disrupts the fascia and may or may not involve muscle, bone, tendon or ligamen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does not necessarily go to bone but be suspicious for osteomyeliti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4" name="Picture 5" descr="PU Cavity"/>
          <p:cNvPicPr/>
          <p:nvPr/>
        </p:nvPicPr>
        <p:blipFill>
          <a:blip r:embed="rId1"/>
          <a:stretch/>
        </p:blipFill>
        <p:spPr>
          <a:xfrm>
            <a:off x="2857680" y="4038480"/>
            <a:ext cx="339084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ep Tissue Injury 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ple or maroon localized area of discolored intact skin or blood-filled blister due to damage to underlying soft tissue from pressur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7" name="Object 3" descr=""/>
          <p:cNvPicPr/>
          <p:nvPr/>
        </p:nvPicPr>
        <p:blipFill>
          <a:blip r:embed="rId1"/>
          <a:srcRect l="0" t="10326" r="-186" b="20668"/>
          <a:stretch/>
        </p:blipFill>
        <p:spPr>
          <a:xfrm>
            <a:off x="3048120" y="3276720"/>
            <a:ext cx="4181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Deep Tissue Injury I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area may be preceded by tissue that is painful, firm, boggy, warmer or cooler as compared to adjacent tissue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Evolution may be rapid exposing additional layers of tissue even with treatmen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Learning Objectives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the definition of a Hospital Acquired Pressure Ulcer (HAPU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the significance of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how to stage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who is at risk for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how to prevent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Unstageable 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thickness tissue injury in which the base of the ulcer is covered by slough (yellow, tan, gray, green, brown) or eschar (tan, brown, black)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2" name="Picture 6" descr="Sacral Eschar #1"/>
          <p:cNvPicPr/>
          <p:nvPr/>
        </p:nvPicPr>
        <p:blipFill>
          <a:blip r:embed="rId1"/>
          <a:stretch/>
        </p:blipFill>
        <p:spPr>
          <a:xfrm>
            <a:off x="5200560" y="3962520"/>
            <a:ext cx="3257640" cy="2598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Slough"/>
          <p:cNvPicPr/>
          <p:nvPr/>
        </p:nvPicPr>
        <p:blipFill>
          <a:blip r:embed="rId2"/>
          <a:stretch/>
        </p:blipFill>
        <p:spPr>
          <a:xfrm>
            <a:off x="1066680" y="3962520"/>
            <a:ext cx="327672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Unstageable I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pic>
        <p:nvPicPr>
          <p:cNvPr id="175" name="Picture 4" descr="Don't debride heels"/>
          <p:cNvPicPr/>
          <p:nvPr/>
        </p:nvPicPr>
        <p:blipFill>
          <a:blip r:embed="rId1"/>
          <a:stretch/>
        </p:blipFill>
        <p:spPr>
          <a:xfrm>
            <a:off x="2978280" y="3930480"/>
            <a:ext cx="3193920" cy="2546640"/>
          </a:xfrm>
          <a:prstGeom prst="rect">
            <a:avLst/>
          </a:prstGeom>
          <a:ln w="0">
            <a:noFill/>
          </a:ln>
        </p:spPr>
      </p:pic>
      <p:sp>
        <p:nvSpPr>
          <p:cNvPr id="176" name="Content Placeholder 2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Special care must be taken with heel ulcers.       Do NOT unroof unless aided by an experienced physician. They may be better left intac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95200" y="122400"/>
          <a:ext cx="8553600" cy="66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122400"/>
                    <a:ext cx="8553600" cy="66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eatment 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wounds moist but not too mois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ride any necrotic or excess fibrinous tissu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, chemical or autolytic debridemen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are getting near bone, tendon or ligament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ntil you have more experienced hands &amp; eyes with you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ess the wound is a Stage 4 or causing sepsis, this can all be done slowly and cautiousl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p to dry dressing with Saline will get you through the nigh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are the new primary team in the AM, look at the identified wound a.s.a.p. and begin to formulate a treatment pla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eatment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II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/reassess prevention strategie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sure reducing mattres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ize mobilit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ize Nutri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 devic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skin hygien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sure to communicate with your patient &amp; caregiver in his/her native languag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ower your patient to partake in his/her car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76320" y="216000"/>
          <a:ext cx="8991360" cy="64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16000"/>
                    <a:ext cx="8991360" cy="64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und Care Team</a:t>
            </a:r>
            <a:br>
              <a:rPr sz="48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Wound Wednesdays”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7964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1:  Educate!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2:  Prevent Pressure Ulcer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3:  Prevent worsening of Pressure Ulcers (avoid progression to Stage 3 or 4)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4:  Help guide treatment via interdisciplinary team approach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5:  Planned Obsolescence!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s –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paperwork!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79280"/>
            <a:ext cx="77724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, they are coming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 Documentation and order for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low-up documentation for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 week or for any significant change of statu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s – Initial Documentation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79280"/>
            <a:ext cx="7772400" cy="38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2362320" y="1143000"/>
          <a:ext cx="430524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143000"/>
                    <a:ext cx="43052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hoto – op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Pressure Ulcer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ust b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cumented with photo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on diagnosis and Q week on Wednesday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os are uploaded in PACS (yup, with the Xrays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wound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b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cumented with photos to document wound progress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ssure Ulcer</a:t>
            </a:r>
            <a:endParaRPr b="1" lang="en-US" sz="5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19320"/>
            <a:ext cx="777240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Localized skin injury which develops as a result of unrelieved pressur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quently over a bony promin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as a result of a medical device (Foley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is a result of shear or friction forces combined with press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 Brief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4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tion is ke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ian must be part of documentation of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be documented on admit H &amp; P to document that it was not caused at our facilit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on is ke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for help as we are all learning this new syste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PU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Hospital-acquired pressure ulcer)</a:t>
            </a:r>
            <a:endParaRPr b="1" lang="en-US" sz="36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22160" y="1979280"/>
            <a:ext cx="7699680" cy="36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PU is the new buzz-word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on of HAPU is ke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ng Stage 1 and 2 ulcers from progression to Stage 3 or 4 is the next go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PU</a:t>
            </a:r>
            <a:endParaRPr b="1" lang="en-US" sz="5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CMS (Medicare/Medicaid) will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no longer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 reimburse for treatment of Stage 3 or 4 pressure ulcers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acquired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 at our hospita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ge 3 and 4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cers are reportable even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cquired at CCRM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f present on admission fill out SERS (Safety and Event Reporting System) report on computer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formation goes to Hospital Administration and the State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Picture 5" descr="hat"/>
          <p:cNvPicPr/>
          <p:nvPr/>
        </p:nvPicPr>
        <p:blipFill>
          <a:blip r:embed="rId1"/>
          <a:stretch/>
        </p:blipFill>
        <p:spPr>
          <a:xfrm>
            <a:off x="4191120" y="5486400"/>
            <a:ext cx="68580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o’s at risk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l, OK, not everyone but lots of our patient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isk factor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mobility, poor nutrition, critical illness, chronic disease, dehydration, incontinence, fever, infection, poor sensation, obesity, age, medications, and various other medical diagnos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ose job is it to prevent Pressure Ulcers?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1400"/>
            <a:ext cx="777240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’s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t the skin, especially in high risk patien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 what you se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cer, no ulcer/intact skin, color chang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Stage 3 or 4, document in H &amp; P and fill out SERS or bring to attention of the Charge Nur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can stage the ulcer, great; if not, talk to an attending or the nurses to help yo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???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, complete patient car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o ulcer on admission, prevent on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re is an ulcer, heal it &amp; prevent worsen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ey $$$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S is one of our main sources of reimbursement – we are charged with caring for some of the most vulnerable members of the popul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have to do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414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e a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ed to Look and Documen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 skin exam on H &amp; P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he skin regularly, especially in high risk patients and document updated exa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 help from Attending Staff or Nursing regarding staging and treat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ursing brings an ulcer to your attention – see it and document it a.s.a.p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4:29:09Z</dcterms:created>
  <dc:creator> </dc:creator>
  <dc:description/>
  <cp:keywords/>
  <dc:language>en-US</dc:language>
  <cp:lastModifiedBy>HCMARTINEZ</cp:lastModifiedBy>
  <dcterms:modified xsi:type="dcterms:W3CDTF">2009-07-21T17:35:57Z</dcterms:modified>
  <cp:revision>3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401033</vt:lpwstr>
  </property>
</Properties>
</file>