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2114-2C3B-4325-B940-614D8D8AD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B6B4-26D8-4095-BF1F-C9F001F067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B043-28B8-4C2B-BFF8-188A813F1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BD63-AB29-4399-B6F7-7725AB68A6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597-7347-4E9E-935F-33DAB5C88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5AB9-6C0B-4455-8149-3E0DCD54B1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15F8-97E7-49AB-B30B-C3DEB3D06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99C-3EBC-4FC5-A4A6-749FAD07F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6094-0A48-412A-96ED-F1EC34E45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87AA-7C26-453F-A098-2A1A19696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1D34-AEFF-4BD5-AB04-E71CEAD19C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9A48-8C51-4B11-8B9D-B3BC06A72B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1DD-7C86-4823-A46C-182092F37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D0F5-3155-4375-8692-55CE98DBA3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828A-05D5-4D58-A733-60ECB85EC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A773-BB8B-467D-8205-CED97BBE83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F449-16F1-4F62-806E-D5C3CBBCCA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92E-303F-45F3-820C-A501B9D1D2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1F5E-1350-4A53-AAEC-7218FF2C0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7143-78E6-4B77-9115-029AAB7DC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11D4-7584-46CB-B928-EE0E239E8A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5194-7C4B-4419-8158-4F9706AF67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0477-B114-48CA-A4E2-52515C811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80B5-3CA0-4092-A8A2-C4EB5AD45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E102-8D51-426D-9D4A-D59BF08F7A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897-3EE8-4C37-B537-2D43C11974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8CA-2169-4040-9C86-52055089B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EF98-9388-4C6F-A86E-D03824D5E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CE1F-8868-41FD-A7EF-4B8CD6BD36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DA9-C78B-47AB-8286-B24675FF95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D1D7-BD7F-42EB-9D31-81E93FF4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172D-FEBA-4A60-B169-4415440E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6AE3-6B28-47DA-8AE4-9CD05F49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83A4-5280-4D68-B803-12C88015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61CA-ACF5-4DAB-B793-133725BB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07DD-5CA8-4A69-90C7-04B119F3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C9B2-3681-48C6-A86E-F4283F46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700E-E262-45F1-B1D2-17AAC950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B266-AEF0-4837-87AE-CED93883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712-13A2-4731-828A-44689CA7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B12A-2367-49F8-BDD8-530886E9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2957-EFB7-4008-9423-2E64257D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598B-B887-470D-923C-7D28DB3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FF38-7D09-4F2E-8557-48CA04AA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6266-4A40-49BE-B047-8FA2A2F9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3AE9-587B-4949-A3AB-E955F446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74D1-3F00-4B9E-BA66-4A4E4068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1F70-D002-4105-BA28-75CC2686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6A7C-DF43-4E5C-A793-1C901779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749D-E822-4B25-9197-E344DB35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43AE-9FBD-4972-94D5-9268833E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4EC5-97A2-4B1C-909C-A2B79CB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1664-58A5-4ED8-9795-680BE61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27BB-6226-4FB8-8638-8548B1A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782-9609-451A-B56A-5C53E56DC577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0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969B-0BBB-4376-9440-2C80DD55492C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s 101</a:t>
            </a:r>
            <a:br>
              <a:rPr sz="4000"/>
            </a:br>
            <a:r>
              <a:rPr b="1" lang="en-US" sz="3200" spc="-1" strike="noStrike">
                <a:solidFill>
                  <a:srgbClr val="fafd00"/>
                </a:solidFill>
                <a:latin typeface="Monotype Corsiva"/>
              </a:rPr>
              <a:t>or</a:t>
            </a:r>
            <a:br>
              <a:rPr sz="32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Hospital Acquired Pressure Ulcer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What you need to know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9440" y="412704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Kristin Moeller, M.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uly 200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f I identify a 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H &amp; P (or Progress No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orders as an admit diagnosis, either as a primary or secondary diagno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orders for wound c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 the Charge Nurse and fill out a SERS rep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ure? Ask a Staff member for help (Attending M.D. or Charge Nurs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ing Basics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e intimidated, the rules are eas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Pressure Ulcers are stage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(surgical, venous stasis, neuropathic/diabetic ulcers)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ound never “regresses” in st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ge 2 is always a Stage 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heals, it becomes a “healing Stage 2 ulcer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038320" y="152280"/>
          <a:ext cx="506736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52280"/>
                    <a:ext cx="506736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1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anching erythema over a pressure point; area may be painful, firm, soft, warm or coo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e skin is intac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1171" t="12101" r="3761" b="12561"/>
          <a:stretch/>
        </p:blipFill>
        <p:spPr>
          <a:xfrm>
            <a:off x="2500200" y="3429000"/>
            <a:ext cx="412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2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thickness disruption of the dermis with shallow red/pink wound b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lough; no undermining or tunnel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is includes blister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5" descr="CNCD0003_27Jan"/>
          <p:cNvPicPr/>
          <p:nvPr/>
        </p:nvPicPr>
        <p:blipFill>
          <a:blip r:embed="rId1"/>
          <a:srcRect l="0" t="0" r="0" b="29089"/>
          <a:stretch/>
        </p:blipFill>
        <p:spPr>
          <a:xfrm>
            <a:off x="2362320" y="3886200"/>
            <a:ext cx="4343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kin Tear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 not confuse a Stage 2 Pressure Ulcer with a skin te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4" descr="skintear"/>
          <p:cNvPicPr/>
          <p:nvPr/>
        </p:nvPicPr>
        <p:blipFill>
          <a:blip r:embed="rId1"/>
          <a:stretch/>
        </p:blipFill>
        <p:spPr>
          <a:xfrm>
            <a:off x="2514600" y="327672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3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loss with disruption of the dermis and into SubQ; may have slough, tunneling,undermining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, tendon or bone is expos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>
            <a:lum contrast="20000"/>
          </a:blip>
          <a:srcRect l="4003" t="4197" r="52062" b="3554"/>
          <a:stretch/>
        </p:blipFill>
        <p:spPr>
          <a:xfrm>
            <a:off x="457200" y="343368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Tunneling 2"/>
          <p:cNvPicPr/>
          <p:nvPr/>
        </p:nvPicPr>
        <p:blipFill>
          <a:blip r:embed="rId2"/>
          <a:srcRect l="0" t="0" r="10528" b="0"/>
          <a:stretch/>
        </p:blipFill>
        <p:spPr>
          <a:xfrm>
            <a:off x="4800600" y="3429000"/>
            <a:ext cx="3886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4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deeper disruption, which disrupts the fascia and may or may not involve muscle, bone, tendon or liga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does not necessarily go to bone but be suspicious for osteomyelit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PU Cavity"/>
          <p:cNvPicPr/>
          <p:nvPr/>
        </p:nvPicPr>
        <p:blipFill>
          <a:blip r:embed="rId1"/>
          <a:stretch/>
        </p:blipFill>
        <p:spPr>
          <a:xfrm>
            <a:off x="2857680" y="4038480"/>
            <a:ext cx="33908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ep Tissue Injury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ple or maroon localized area of discolored intact skin or blood-filled blister due to damage to underlying soft tissue from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Object 3" descr=""/>
          <p:cNvPicPr/>
          <p:nvPr/>
        </p:nvPicPr>
        <p:blipFill>
          <a:blip r:embed="rId1"/>
          <a:srcRect l="0" t="10326" r="-186" b="20668"/>
          <a:stretch/>
        </p:blipFill>
        <p:spPr>
          <a:xfrm>
            <a:off x="3048120" y="3276720"/>
            <a:ext cx="4181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Deep Tissue Injury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rea may be preceded by tissue that is painful, firm, boggy, warmer or cooler as compared to adjacent tissu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Evolution may be rapid exposing additional layers of tissue even with treat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Learning Objective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definition of a Hospital Acquired Pressure Ulcer (HAPU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significance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stage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who is at risk for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prevent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injury in which the base of the ulcer is covered by slough (yellow, tan, gray, green, brown) or eschar (tan, brown, black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6" descr="Sacral Eschar #1"/>
          <p:cNvPicPr/>
          <p:nvPr/>
        </p:nvPicPr>
        <p:blipFill>
          <a:blip r:embed="rId1"/>
          <a:stretch/>
        </p:blipFill>
        <p:spPr>
          <a:xfrm>
            <a:off x="5200560" y="3962520"/>
            <a:ext cx="3257640" cy="259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Slough"/>
          <p:cNvPicPr/>
          <p:nvPr/>
        </p:nvPicPr>
        <p:blipFill>
          <a:blip r:embed="rId2"/>
          <a:stretch/>
        </p:blipFill>
        <p:spPr>
          <a:xfrm>
            <a:off x="1066680" y="3962520"/>
            <a:ext cx="3276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75" name="Picture 4" descr="Don't debride heels"/>
          <p:cNvPicPr/>
          <p:nvPr/>
        </p:nvPicPr>
        <p:blipFill>
          <a:blip r:embed="rId1"/>
          <a:stretch/>
        </p:blipFill>
        <p:spPr>
          <a:xfrm>
            <a:off x="2978280" y="3930480"/>
            <a:ext cx="3193920" cy="254664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Special care must be taken with heel ulcers.       Do NOT unroof unless aided by an experienced physician. They may be better left inta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95200" y="122400"/>
          <a:ext cx="85536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22400"/>
                    <a:ext cx="85536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wounds moist but not too moi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ride any necrotic or excess fibrinous tiss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, chemical or autolytic debridem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getting near bone, tendon or ligament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til you have more experienced hands &amp; eyes with yo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ess the wound is a Stage 4 or causing sepsis, this can all be done slowly and cautiousl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 to dry dressing with Saline will get you through the nigh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the new primary team in the AM, look at the identified wound a.s.a.p. and begin to formulate a treatment pla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II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/reassess prevention strategi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 reducing mattr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mob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Nutr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devic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kin hygie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communicate with your patient &amp; caregiver in his/her native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ower your patient to partake in his/her ca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6320" y="216000"/>
          <a:ext cx="8991360" cy="64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6000"/>
                    <a:ext cx="899136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und Care Team</a:t>
            </a: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Wound Wednesdays”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1:  Educate!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2:  Prevent Pressure Ulce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3:  Prevent worsening of Pressure Ulcers (avoid progression to Stage 3 or 4)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4:  Help guide treatment via interdisciplinary team approach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5:  Planned Obsolescence!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paperwork!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, they are com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Documentation and order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-up documentation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week or for any significant change of statu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Initial Documentation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2362320" y="1143000"/>
          <a:ext cx="43052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4305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to – op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ressure Ulc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ust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on diagnosis and Q week on Wednesd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s are uploaded in PACS (yup, with the Xray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 to document wound progr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1932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ocalized skin injury which develops as a result of unrelieved press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ly over a bony promin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s a result of a medical device (Fole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is a result of shear or friction forces combined with press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rief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ian must be part of documentation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documented on admit H &amp; P to document that it was not caused at our fac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for help as we are all learning this new syst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ospital-acquired pressure ulcer)</a:t>
            </a:r>
            <a:endParaRPr b="1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2160" y="1979280"/>
            <a:ext cx="769968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PU is the new buzz-word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of HAPU is k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Stage 1 and 2 ulcers from progression to Stage 3 or 4 is the next go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CMS (Medicare/Medicaid) wil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no longer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reimburse for treatment of Stage 3 or 4 pressure ulcer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acquired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at our hospit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 3 and 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s are reportable ev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cquired at CCRM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present on admission fill out SERS (Safety and Event Reporting System) report on comput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ormation goes to Hospital Administration and the State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hat"/>
          <p:cNvPicPr/>
          <p:nvPr/>
        </p:nvPicPr>
        <p:blipFill>
          <a:blip r:embed="rId1"/>
          <a:stretch/>
        </p:blipFill>
        <p:spPr>
          <a:xfrm>
            <a:off x="4191120" y="5486400"/>
            <a:ext cx="685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’s at risk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, OK, not everyone but lots of our pati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sk facto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mobility, poor nutrition, critical illness, chronic disease, dehydration, incontinence, fever, infection, poor sensation, obesity, age, medications, and various other medical diagno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se job is it to prevent Pressure Ulcers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’s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skin, especially in high risk patie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what you se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, no ulcer/intact skin, color cha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tage 3 or 4, document in H &amp; P and fill out SERS or bring to attention of the Charge Nur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can stage the ulcer, great; if not, talk to an attending or the nurses to help yo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???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, complete patient ca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ulcer on admission, prevent o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an ulcer, heal it &amp; prevent wors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$$$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S is one of our main sources of reimbursement – we are charged with caring for some of the most vulnerable members of the pop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have to do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 a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ed to Look and Documen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skin exam on H &amp; 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skin regularly, especially in high risk patients and document updated ex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help from Attending Staff or Nursing regarding staging and treat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ursing brings an ulcer to your attention – see it and document it a.s.a.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29:09Z</dcterms:created>
  <dc:creator> </dc:creator>
  <dc:description/>
  <cp:keywords/>
  <dc:language>en-US</dc:language>
  <cp:lastModifiedBy>HCMARTINEZ</cp:lastModifiedBy>
  <dcterms:modified xsi:type="dcterms:W3CDTF">2009-07-21T17:35:57Z</dcterms:modified>
  <cp:revision>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01033</vt:lpwstr>
  </property>
</Properties>
</file>