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777-038A-4B95-9891-E1BE39ED7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401-D7C3-4DD6-B2CB-6237416D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9DA7-FFD6-434F-B0FF-0F53729CB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B11-5A55-441E-A499-314A5B2F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86B9-FE4B-4A75-8D1F-E5713F1B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98BE-FBF0-4947-AD6A-5B9024683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0747-288B-4478-9083-9139BDB19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E322-1F05-4ED8-86E5-E58E3B301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C0B-0D14-4605-9548-6C8B6EB17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AA2E-5E1C-420A-A964-5264E55C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74FB-F9F4-40B3-8FD2-5C0D5858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C6A4-00EC-4CFE-AFA9-253DF0645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9D47-29D5-4D1F-80C5-4B90DF899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99E1-D0BB-4A83-8D67-2CC5BEEE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3956-0E3A-42D3-8891-3F193D43D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16A-9A72-4EE3-A9D2-EC2D279E4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BEF0-602E-4241-AE4C-4281EF47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DEC5-EE66-491E-8C49-1DB357033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E7DF-2801-45C1-A1E2-6F30ACCD5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5FC9-AC6B-4D36-A57C-EB666A752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2097-F001-4DBB-AD2D-49772CBB3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C765-7E78-44FB-82A7-2E93E98EE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08C-914B-44DF-B7D0-6163FA78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5AB5-4113-4FC4-B147-EA516BFA7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CE95-17E9-4E48-9073-5FA757E9F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ADF4-6CA0-40CF-A52F-DE3CF8797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DA22-488C-4350-9EFF-CB3464DB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16EA-40B3-4732-BDD2-2F552124A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30A-B05D-4B20-9B72-3222D09B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0B9C-BD40-4D57-9D09-AEC57881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1B51-2D4E-44C2-A888-26FF922F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562C-96B7-4747-A3C5-D110E63E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6685-B452-4D33-B2D5-CC0ABB07D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3DD5-8318-44B3-BE09-A7DEEFEBA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FF72-467A-4E86-A2BB-3B6B5E409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9FD-6D7E-4EA3-9FD3-65FC0BAB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B717-655C-426C-B3C4-3DB4248B8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660B-05B8-4A0C-992F-77031EBA0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84A6-A1B7-473C-ABED-97D036E2C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F31F-B615-4271-A633-96F969627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C5F3-AFC8-430B-99FC-CE1394930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C649-27A3-40DE-B0EC-AD598DB6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2EEF-7B2D-45CC-A6E1-784DD6EA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9BDD-8E2D-48C7-8C89-AA8DF86B2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30A-FCDC-4512-B0D2-FAF5B5ACD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531-9AD8-4A82-860F-68ED2BF3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3DB-2983-4674-A57B-CC355221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93B-3665-46C9-9F4A-252C0026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626-DD55-4AE6-BB31-65EBBF78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B6F4-8104-47D1-8A5E-4091B927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7297-8119-4818-A1D5-46EA9D58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B2A7-2D3D-44F6-BECD-9BE8A344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34ED-CFF1-4891-AEAF-B229068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CC0B-063E-4BFD-B3EC-77ABDB93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514E-155E-4689-866E-3BDFA56F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6057-7534-4292-9AC2-0EEB5FA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8C2-DF15-472E-A25D-C5BD340C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3C43-84BF-48DF-9DF9-932ED80D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DF1C-7816-46BA-9175-E9ED89CA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B4C5-8330-4F38-AED2-FFAFB0D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C0DF-2C30-4D2F-86A6-4264A4EE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E094-38A8-40A5-8684-101C649D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552-050B-419E-A1F1-8F67BBD8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F88-B872-4ED8-8712-378D5D0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361-C78D-4D32-8F5F-C9F54E9C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199-16CA-4A4E-AC18-8FC2E74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CE9-C7C2-4734-B077-6E42FF8C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684-7EB2-4D90-BEAD-B6B8CEC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51A-8D4C-4F3C-88E5-1D570A47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4D52-60C3-4FEE-8C46-59EF403B2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BAEA-83F1-4EFA-A75B-F0CB9BEC2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Pertussis:</a:t>
            </a:r>
            <a:br>
              <a:rPr sz="6000"/>
            </a:br>
            <a:r>
              <a:rPr b="1" lang="en-US" sz="6000" spc="-1" strike="noStrike">
                <a:solidFill>
                  <a:srgbClr val="23005f"/>
                </a:solidFill>
                <a:latin typeface="Arial"/>
              </a:rPr>
              <a:t>Whoop (there it is!)</a:t>
            </a:r>
            <a:endParaRPr b="0" lang="en-US" sz="6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P. Lee, MD, FA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sion of Infectiou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’s Hospital &amp; Research Center Oak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ge Shift in Pertussis Cas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37680" y="6248520"/>
            <a:ext cx="57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 - United States, 2001-2003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5;54:1283-8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ncrease in reported cases among those ≥10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8-1981: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-2003: 5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 and adults are important reservoirs of infection for 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asons for rising incidence...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of vaccine- and infection-induced immunity (wanes after 5-1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recognition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better diagnostic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Use of less potent pertussis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Emergence of vaccine-resistant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berg D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721-2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Epidemic California,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8/10/2010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77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ses of pertussis have been reported in CA (7.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ases/100,000)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7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fold incre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same time period in 2009 wh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95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s were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urrent trend continues, CA will see more cases of pertussis than it has in over 50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states are reporting 2010 increases to CDC, but none are reporting increases similar to those in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77920" y="626256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Epidemic curve of pertussis cases California, 2005 &amp; 2009-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5"/>
          <p:cNvGrpSpPr/>
          <p:nvPr/>
        </p:nvGrpSpPr>
        <p:grpSpPr>
          <a:xfrm>
            <a:off x="685800" y="1220760"/>
            <a:ext cx="7687800" cy="5256000"/>
            <a:chOff x="685800" y="1220760"/>
            <a:chExt cx="7687800" cy="5256000"/>
          </a:xfrm>
        </p:grpSpPr>
        <p:sp>
          <p:nvSpPr>
            <p:cNvPr id="124" name="AutoShape 96"/>
            <p:cNvSpPr/>
            <p:nvPr/>
          </p:nvSpPr>
          <p:spPr>
            <a:xfrm>
              <a:off x="685800" y="1220760"/>
              <a:ext cx="7687800" cy="52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7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8"/>
            <p:cNvSpPr/>
            <p:nvPr/>
          </p:nvSpPr>
          <p:spPr>
            <a:xfrm>
              <a:off x="1304640" y="1790640"/>
              <a:ext cx="6850080" cy="3747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9"/>
            <p:cNvSpPr/>
            <p:nvPr/>
          </p:nvSpPr>
          <p:spPr>
            <a:xfrm>
              <a:off x="1393200" y="4888440"/>
              <a:ext cx="129960" cy="649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0"/>
            <p:cNvSpPr/>
            <p:nvPr/>
          </p:nvSpPr>
          <p:spPr>
            <a:xfrm>
              <a:off x="1971720" y="4987440"/>
              <a:ext cx="119520" cy="5508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01"/>
            <p:cNvSpPr/>
            <p:nvPr/>
          </p:nvSpPr>
          <p:spPr>
            <a:xfrm>
              <a:off x="2540160" y="4658400"/>
              <a:ext cx="130320" cy="8794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2"/>
            <p:cNvSpPr/>
            <p:nvPr/>
          </p:nvSpPr>
          <p:spPr>
            <a:xfrm>
              <a:off x="3108600" y="4437720"/>
              <a:ext cx="130320" cy="11005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3"/>
            <p:cNvSpPr/>
            <p:nvPr/>
          </p:nvSpPr>
          <p:spPr>
            <a:xfrm>
              <a:off x="3677040" y="4258800"/>
              <a:ext cx="130320" cy="1279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4"/>
            <p:cNvSpPr/>
            <p:nvPr/>
          </p:nvSpPr>
          <p:spPr>
            <a:xfrm>
              <a:off x="4255560" y="4088520"/>
              <a:ext cx="119880" cy="144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5"/>
            <p:cNvSpPr/>
            <p:nvPr/>
          </p:nvSpPr>
          <p:spPr>
            <a:xfrm>
              <a:off x="4824000" y="3739320"/>
              <a:ext cx="128880" cy="179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6"/>
            <p:cNvSpPr/>
            <p:nvPr/>
          </p:nvSpPr>
          <p:spPr>
            <a:xfrm>
              <a:off x="5392440" y="4178880"/>
              <a:ext cx="128880" cy="13593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7"/>
            <p:cNvSpPr/>
            <p:nvPr/>
          </p:nvSpPr>
          <p:spPr>
            <a:xfrm>
              <a:off x="5969520" y="4099320"/>
              <a:ext cx="119880" cy="1438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8"/>
            <p:cNvSpPr/>
            <p:nvPr/>
          </p:nvSpPr>
          <p:spPr>
            <a:xfrm>
              <a:off x="6537960" y="4198320"/>
              <a:ext cx="119880" cy="1339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9"/>
            <p:cNvSpPr/>
            <p:nvPr/>
          </p:nvSpPr>
          <p:spPr>
            <a:xfrm>
              <a:off x="7106400" y="3899160"/>
              <a:ext cx="130320" cy="163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0"/>
            <p:cNvSpPr/>
            <p:nvPr/>
          </p:nvSpPr>
          <p:spPr>
            <a:xfrm>
              <a:off x="7674840" y="3867840"/>
              <a:ext cx="130320" cy="16704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1"/>
            <p:cNvSpPr/>
            <p:nvPr/>
          </p:nvSpPr>
          <p:spPr>
            <a:xfrm>
              <a:off x="1523160" y="5357520"/>
              <a:ext cx="128880" cy="180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2"/>
            <p:cNvSpPr/>
            <p:nvPr/>
          </p:nvSpPr>
          <p:spPr>
            <a:xfrm>
              <a:off x="2091600" y="5328000"/>
              <a:ext cx="128880" cy="210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3"/>
            <p:cNvSpPr/>
            <p:nvPr/>
          </p:nvSpPr>
          <p:spPr>
            <a:xfrm>
              <a:off x="2670840" y="5218200"/>
              <a:ext cx="118080" cy="320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14"/>
            <p:cNvSpPr/>
            <p:nvPr/>
          </p:nvSpPr>
          <p:spPr>
            <a:xfrm>
              <a:off x="3239280" y="5247720"/>
              <a:ext cx="128160" cy="290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5"/>
            <p:cNvSpPr/>
            <p:nvPr/>
          </p:nvSpPr>
          <p:spPr>
            <a:xfrm>
              <a:off x="3807720" y="5098320"/>
              <a:ext cx="128160" cy="4395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4375800" y="4877640"/>
              <a:ext cx="128160" cy="660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4952880" y="4888440"/>
              <a:ext cx="119520" cy="64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18"/>
            <p:cNvSpPr/>
            <p:nvPr/>
          </p:nvSpPr>
          <p:spPr>
            <a:xfrm>
              <a:off x="5521320" y="5117760"/>
              <a:ext cx="129960" cy="420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9"/>
            <p:cNvSpPr/>
            <p:nvPr/>
          </p:nvSpPr>
          <p:spPr>
            <a:xfrm>
              <a:off x="6089760" y="5187240"/>
              <a:ext cx="12996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6658200" y="5226840"/>
              <a:ext cx="129960" cy="311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1"/>
            <p:cNvSpPr/>
            <p:nvPr/>
          </p:nvSpPr>
          <p:spPr>
            <a:xfrm>
              <a:off x="7237080" y="5187240"/>
              <a:ext cx="119520" cy="351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2"/>
            <p:cNvSpPr/>
            <p:nvPr/>
          </p:nvSpPr>
          <p:spPr>
            <a:xfrm>
              <a:off x="7805160" y="5157720"/>
              <a:ext cx="130320" cy="380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3"/>
            <p:cNvSpPr/>
            <p:nvPr/>
          </p:nvSpPr>
          <p:spPr>
            <a:xfrm>
              <a:off x="1652040" y="5128200"/>
              <a:ext cx="129960" cy="410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4"/>
            <p:cNvSpPr/>
            <p:nvPr/>
          </p:nvSpPr>
          <p:spPr>
            <a:xfrm>
              <a:off x="2220480" y="5077440"/>
              <a:ext cx="129960" cy="4604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5"/>
            <p:cNvSpPr/>
            <p:nvPr/>
          </p:nvSpPr>
          <p:spPr>
            <a:xfrm>
              <a:off x="2788920" y="4658400"/>
              <a:ext cx="129960" cy="87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26"/>
            <p:cNvSpPr/>
            <p:nvPr/>
          </p:nvSpPr>
          <p:spPr>
            <a:xfrm>
              <a:off x="3367800" y="4227840"/>
              <a:ext cx="119520" cy="131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7"/>
            <p:cNvSpPr/>
            <p:nvPr/>
          </p:nvSpPr>
          <p:spPr>
            <a:xfrm>
              <a:off x="3935880" y="2390400"/>
              <a:ext cx="130320" cy="3147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8"/>
            <p:cNvSpPr/>
            <p:nvPr/>
          </p:nvSpPr>
          <p:spPr>
            <a:xfrm>
              <a:off x="4504320" y="2060280"/>
              <a:ext cx="130320" cy="34779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9"/>
            <p:cNvSpPr/>
            <p:nvPr/>
          </p:nvSpPr>
          <p:spPr>
            <a:xfrm>
              <a:off x="5072760" y="3899160"/>
              <a:ext cx="130320" cy="1639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30"/>
            <p:cNvSpPr/>
            <p:nvPr/>
          </p:nvSpPr>
          <p:spPr>
            <a:xfrm>
              <a:off x="1304640" y="1790640"/>
              <a:ext cx="0" cy="374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31"/>
            <p:cNvSpPr/>
            <p:nvPr/>
          </p:nvSpPr>
          <p:spPr>
            <a:xfrm>
              <a:off x="1272960" y="55382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32"/>
            <p:cNvSpPr/>
            <p:nvPr/>
          </p:nvSpPr>
          <p:spPr>
            <a:xfrm>
              <a:off x="1272960" y="506736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3"/>
            <p:cNvSpPr/>
            <p:nvPr/>
          </p:nvSpPr>
          <p:spPr>
            <a:xfrm>
              <a:off x="1272960" y="45979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4"/>
            <p:cNvSpPr/>
            <p:nvPr/>
          </p:nvSpPr>
          <p:spPr>
            <a:xfrm>
              <a:off x="1272960" y="4128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5"/>
            <p:cNvSpPr/>
            <p:nvPr/>
          </p:nvSpPr>
          <p:spPr>
            <a:xfrm>
              <a:off x="1272960" y="36694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36"/>
            <p:cNvSpPr/>
            <p:nvPr/>
          </p:nvSpPr>
          <p:spPr>
            <a:xfrm>
              <a:off x="1272960" y="319860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7"/>
            <p:cNvSpPr/>
            <p:nvPr/>
          </p:nvSpPr>
          <p:spPr>
            <a:xfrm>
              <a:off x="1272960" y="272952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38"/>
            <p:cNvSpPr/>
            <p:nvPr/>
          </p:nvSpPr>
          <p:spPr>
            <a:xfrm>
              <a:off x="1272960" y="226008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39"/>
            <p:cNvSpPr/>
            <p:nvPr/>
          </p:nvSpPr>
          <p:spPr>
            <a:xfrm>
              <a:off x="1272960" y="1790640"/>
              <a:ext cx="31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0"/>
            <p:cNvSpPr/>
            <p:nvPr/>
          </p:nvSpPr>
          <p:spPr>
            <a:xfrm>
              <a:off x="1304640" y="5538240"/>
              <a:ext cx="6850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1"/>
            <p:cNvSpPr/>
            <p:nvPr/>
          </p:nvSpPr>
          <p:spPr>
            <a:xfrm flipV="1">
              <a:off x="13046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2"/>
            <p:cNvSpPr/>
            <p:nvPr/>
          </p:nvSpPr>
          <p:spPr>
            <a:xfrm flipV="1">
              <a:off x="1872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3"/>
            <p:cNvSpPr/>
            <p:nvPr/>
          </p:nvSpPr>
          <p:spPr>
            <a:xfrm flipV="1">
              <a:off x="24411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44"/>
            <p:cNvSpPr/>
            <p:nvPr/>
          </p:nvSpPr>
          <p:spPr>
            <a:xfrm flipV="1">
              <a:off x="30182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5"/>
            <p:cNvSpPr/>
            <p:nvPr/>
          </p:nvSpPr>
          <p:spPr>
            <a:xfrm flipV="1">
              <a:off x="35866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6"/>
            <p:cNvSpPr/>
            <p:nvPr/>
          </p:nvSpPr>
          <p:spPr>
            <a:xfrm flipV="1">
              <a:off x="41551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47"/>
            <p:cNvSpPr/>
            <p:nvPr/>
          </p:nvSpPr>
          <p:spPr>
            <a:xfrm flipV="1">
              <a:off x="473400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8"/>
            <p:cNvSpPr/>
            <p:nvPr/>
          </p:nvSpPr>
          <p:spPr>
            <a:xfrm flipV="1">
              <a:off x="53024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9"/>
            <p:cNvSpPr/>
            <p:nvPr/>
          </p:nvSpPr>
          <p:spPr>
            <a:xfrm flipV="1">
              <a:off x="58705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0"/>
            <p:cNvSpPr/>
            <p:nvPr/>
          </p:nvSpPr>
          <p:spPr>
            <a:xfrm flipV="1">
              <a:off x="643896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1"/>
            <p:cNvSpPr/>
            <p:nvPr/>
          </p:nvSpPr>
          <p:spPr>
            <a:xfrm flipV="1">
              <a:off x="701784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2"/>
            <p:cNvSpPr/>
            <p:nvPr/>
          </p:nvSpPr>
          <p:spPr>
            <a:xfrm flipV="1">
              <a:off x="758628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3"/>
            <p:cNvSpPr/>
            <p:nvPr/>
          </p:nvSpPr>
          <p:spPr>
            <a:xfrm flipV="1">
              <a:off x="8154720" y="5538240"/>
              <a:ext cx="0" cy="2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4"/>
            <p:cNvSpPr/>
            <p:nvPr/>
          </p:nvSpPr>
          <p:spPr>
            <a:xfrm>
              <a:off x="1632960" y="14101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5"/>
            <p:cNvSpPr/>
            <p:nvPr/>
          </p:nvSpPr>
          <p:spPr>
            <a:xfrm>
              <a:off x="3188520" y="160992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56"/>
            <p:cNvSpPr/>
            <p:nvPr/>
          </p:nvSpPr>
          <p:spPr>
            <a:xfrm>
              <a:off x="1154520" y="5477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7"/>
            <p:cNvSpPr/>
            <p:nvPr/>
          </p:nvSpPr>
          <p:spPr>
            <a:xfrm>
              <a:off x="1035000" y="5008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8"/>
            <p:cNvSpPr/>
            <p:nvPr/>
          </p:nvSpPr>
          <p:spPr>
            <a:xfrm>
              <a:off x="1035000" y="4538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9"/>
            <p:cNvSpPr/>
            <p:nvPr/>
          </p:nvSpPr>
          <p:spPr>
            <a:xfrm>
              <a:off x="1035000" y="4067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0"/>
            <p:cNvSpPr/>
            <p:nvPr/>
          </p:nvSpPr>
          <p:spPr>
            <a:xfrm>
              <a:off x="1035000" y="35985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1"/>
            <p:cNvSpPr/>
            <p:nvPr/>
          </p:nvSpPr>
          <p:spPr>
            <a:xfrm>
              <a:off x="1035000" y="31291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2"/>
            <p:cNvSpPr/>
            <p:nvPr/>
          </p:nvSpPr>
          <p:spPr>
            <a:xfrm>
              <a:off x="1035000" y="26596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63"/>
            <p:cNvSpPr/>
            <p:nvPr/>
          </p:nvSpPr>
          <p:spPr>
            <a:xfrm>
              <a:off x="1035000" y="2190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64"/>
            <p:cNvSpPr/>
            <p:nvPr/>
          </p:nvSpPr>
          <p:spPr>
            <a:xfrm>
              <a:off x="1035000" y="1719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65"/>
            <p:cNvSpPr/>
            <p:nvPr/>
          </p:nvSpPr>
          <p:spPr>
            <a:xfrm rot="18900000">
              <a:off x="1181520" y="57690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an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66"/>
            <p:cNvSpPr/>
            <p:nvPr/>
          </p:nvSpPr>
          <p:spPr>
            <a:xfrm rot="18900000">
              <a:off x="1710360" y="5790240"/>
              <a:ext cx="407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7"/>
            <p:cNvSpPr/>
            <p:nvPr/>
          </p:nvSpPr>
          <p:spPr>
            <a:xfrm rot="18900000">
              <a:off x="2386800" y="573444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8"/>
            <p:cNvSpPr/>
            <p:nvPr/>
          </p:nvSpPr>
          <p:spPr>
            <a:xfrm rot="18900000">
              <a:off x="3038400" y="5704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9"/>
            <p:cNvSpPr/>
            <p:nvPr/>
          </p:nvSpPr>
          <p:spPr>
            <a:xfrm rot="18900000">
              <a:off x="3621240" y="569592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70"/>
            <p:cNvSpPr/>
            <p:nvPr/>
          </p:nvSpPr>
          <p:spPr>
            <a:xfrm rot="18900000">
              <a:off x="4159440" y="570996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71"/>
            <p:cNvSpPr/>
            <p:nvPr/>
          </p:nvSpPr>
          <p:spPr>
            <a:xfrm rot="18900000">
              <a:off x="4776840" y="5692680"/>
              <a:ext cx="18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72"/>
            <p:cNvSpPr/>
            <p:nvPr/>
          </p:nvSpPr>
          <p:spPr>
            <a:xfrm rot="18900000">
              <a:off x="5212440" y="5756760"/>
              <a:ext cx="31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gu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3"/>
            <p:cNvSpPr/>
            <p:nvPr/>
          </p:nvSpPr>
          <p:spPr>
            <a:xfrm rot="18900000">
              <a:off x="5616000" y="583056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pt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74"/>
            <p:cNvSpPr/>
            <p:nvPr/>
          </p:nvSpPr>
          <p:spPr>
            <a:xfrm rot="18900000">
              <a:off x="6312960" y="577980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o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75"/>
            <p:cNvSpPr/>
            <p:nvPr/>
          </p:nvSpPr>
          <p:spPr>
            <a:xfrm rot="18900000">
              <a:off x="678888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v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76"/>
            <p:cNvSpPr/>
            <p:nvPr/>
          </p:nvSpPr>
          <p:spPr>
            <a:xfrm rot="18900000">
              <a:off x="7358040" y="582444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cemb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77"/>
            <p:cNvSpPr/>
            <p:nvPr/>
          </p:nvSpPr>
          <p:spPr>
            <a:xfrm>
              <a:off x="4322880" y="6167520"/>
              <a:ext cx="73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nth of onse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8"/>
            <p:cNvSpPr/>
            <p:nvPr/>
          </p:nvSpPr>
          <p:spPr>
            <a:xfrm rot="16200000">
              <a:off x="761760" y="3615120"/>
              <a:ext cx="28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9"/>
            <p:cNvSpPr/>
            <p:nvPr/>
          </p:nvSpPr>
          <p:spPr>
            <a:xfrm>
              <a:off x="6788520" y="1860480"/>
              <a:ext cx="677880" cy="51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80"/>
            <p:cNvSpPr/>
            <p:nvPr/>
          </p:nvSpPr>
          <p:spPr>
            <a:xfrm>
              <a:off x="6927480" y="1910880"/>
              <a:ext cx="90000" cy="88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81"/>
            <p:cNvSpPr/>
            <p:nvPr/>
          </p:nvSpPr>
          <p:spPr>
            <a:xfrm>
              <a:off x="7038000" y="18792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82"/>
            <p:cNvSpPr/>
            <p:nvPr/>
          </p:nvSpPr>
          <p:spPr>
            <a:xfrm>
              <a:off x="6927480" y="2079000"/>
              <a:ext cx="90000" cy="9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83"/>
            <p:cNvSpPr/>
            <p:nvPr/>
          </p:nvSpPr>
          <p:spPr>
            <a:xfrm>
              <a:off x="7038000" y="2049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4"/>
            <p:cNvSpPr/>
            <p:nvPr/>
          </p:nvSpPr>
          <p:spPr>
            <a:xfrm>
              <a:off x="6927480" y="2249640"/>
              <a:ext cx="90000" cy="9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85"/>
            <p:cNvSpPr/>
            <p:nvPr/>
          </p:nvSpPr>
          <p:spPr>
            <a:xfrm>
              <a:off x="7038000" y="22096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7454520" y="187920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87"/>
            <p:cNvSpPr/>
            <p:nvPr/>
          </p:nvSpPr>
          <p:spPr>
            <a:xfrm>
              <a:off x="7564680" y="18900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5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8"/>
            <p:cNvSpPr/>
            <p:nvPr/>
          </p:nvSpPr>
          <p:spPr>
            <a:xfrm>
              <a:off x="7444800" y="2070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9"/>
            <p:cNvSpPr/>
            <p:nvPr/>
          </p:nvSpPr>
          <p:spPr>
            <a:xfrm>
              <a:off x="7516080" y="20703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90"/>
            <p:cNvSpPr/>
            <p:nvPr/>
          </p:nvSpPr>
          <p:spPr>
            <a:xfrm>
              <a:off x="7555680" y="207036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9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1"/>
            <p:cNvSpPr/>
            <p:nvPr/>
          </p:nvSpPr>
          <p:spPr>
            <a:xfrm>
              <a:off x="7454520" y="2230560"/>
              <a:ext cx="9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2"/>
            <p:cNvSpPr/>
            <p:nvPr/>
          </p:nvSpPr>
          <p:spPr>
            <a:xfrm>
              <a:off x="7555680" y="2239200"/>
              <a:ext cx="509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10 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3"/>
            <p:cNvSpPr/>
            <p:nvPr/>
          </p:nvSpPr>
          <p:spPr>
            <a:xfrm>
              <a:off x="256032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4"/>
            <p:cNvSpPr/>
            <p:nvPr/>
          </p:nvSpPr>
          <p:spPr>
            <a:xfrm>
              <a:off x="2000520" y="4797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95"/>
            <p:cNvSpPr/>
            <p:nvPr/>
          </p:nvSpPr>
          <p:spPr>
            <a:xfrm>
              <a:off x="5979600" y="3918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96"/>
            <p:cNvSpPr/>
            <p:nvPr/>
          </p:nvSpPr>
          <p:spPr>
            <a:xfrm>
              <a:off x="4823280" y="3558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97"/>
            <p:cNvSpPr/>
            <p:nvPr/>
          </p:nvSpPr>
          <p:spPr>
            <a:xfrm>
              <a:off x="5979600" y="3739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8"/>
            <p:cNvSpPr/>
            <p:nvPr/>
          </p:nvSpPr>
          <p:spPr>
            <a:xfrm>
              <a:off x="3118320" y="422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9"/>
            <p:cNvSpPr/>
            <p:nvPr/>
          </p:nvSpPr>
          <p:spPr>
            <a:xfrm>
              <a:off x="4823280" y="3389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00"/>
            <p:cNvSpPr/>
            <p:nvPr/>
          </p:nvSpPr>
          <p:spPr>
            <a:xfrm>
              <a:off x="767412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01"/>
            <p:cNvSpPr/>
            <p:nvPr/>
          </p:nvSpPr>
          <p:spPr>
            <a:xfrm>
              <a:off x="5551920" y="4928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02"/>
            <p:cNvSpPr/>
            <p:nvPr/>
          </p:nvSpPr>
          <p:spPr>
            <a:xfrm>
              <a:off x="669744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03"/>
            <p:cNvSpPr/>
            <p:nvPr/>
          </p:nvSpPr>
          <p:spPr>
            <a:xfrm>
              <a:off x="3975120" y="223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4"/>
            <p:cNvSpPr/>
            <p:nvPr/>
          </p:nvSpPr>
          <p:spPr>
            <a:xfrm>
              <a:off x="3396600" y="40381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05"/>
            <p:cNvSpPr/>
            <p:nvPr/>
          </p:nvSpPr>
          <p:spPr>
            <a:xfrm>
              <a:off x="2259720" y="47386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6"/>
            <p:cNvSpPr/>
            <p:nvPr/>
          </p:nvSpPr>
          <p:spPr>
            <a:xfrm>
              <a:off x="2828160" y="4467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2259720" y="4917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8"/>
            <p:cNvSpPr/>
            <p:nvPr/>
          </p:nvSpPr>
          <p:spPr>
            <a:xfrm>
              <a:off x="6150600" y="50378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9"/>
            <p:cNvSpPr/>
            <p:nvPr/>
          </p:nvSpPr>
          <p:spPr>
            <a:xfrm>
              <a:off x="5475960" y="6276960"/>
              <a:ext cx="234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*As of 8/3/2010; data are incomplete due to reporting delay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0"/>
            <p:cNvSpPr/>
            <p:nvPr/>
          </p:nvSpPr>
          <p:spPr>
            <a:xfrm>
              <a:off x="510156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1"/>
            <p:cNvSpPr/>
            <p:nvPr/>
          </p:nvSpPr>
          <p:spPr>
            <a:xfrm>
              <a:off x="5101560" y="4219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2"/>
            <p:cNvSpPr/>
            <p:nvPr/>
          </p:nvSpPr>
          <p:spPr>
            <a:xfrm>
              <a:off x="5101560" y="35496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3"/>
            <p:cNvSpPr/>
            <p:nvPr/>
          </p:nvSpPr>
          <p:spPr>
            <a:xfrm>
              <a:off x="5101560" y="37184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cases by race/ethnicity and age, California 2010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3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96"/>
          <p:cNvGrpSpPr/>
          <p:nvPr/>
        </p:nvGrpSpPr>
        <p:grpSpPr>
          <a:xfrm>
            <a:off x="289080" y="682560"/>
            <a:ext cx="8474040" cy="5794560"/>
            <a:chOff x="289080" y="682560"/>
            <a:chExt cx="8474040" cy="5794560"/>
          </a:xfrm>
        </p:grpSpPr>
        <p:sp>
          <p:nvSpPr>
            <p:cNvPr id="245" name="AutoShape 97"/>
            <p:cNvSpPr/>
            <p:nvPr/>
          </p:nvSpPr>
          <p:spPr>
            <a:xfrm>
              <a:off x="289080" y="682560"/>
              <a:ext cx="8474040" cy="57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98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99"/>
            <p:cNvSpPr/>
            <p:nvPr/>
          </p:nvSpPr>
          <p:spPr>
            <a:xfrm>
              <a:off x="981720" y="1541520"/>
              <a:ext cx="7692480" cy="42746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00"/>
            <p:cNvSpPr/>
            <p:nvPr/>
          </p:nvSpPr>
          <p:spPr>
            <a:xfrm>
              <a:off x="1124640" y="2874600"/>
              <a:ext cx="196920" cy="29415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1"/>
            <p:cNvSpPr/>
            <p:nvPr/>
          </p:nvSpPr>
          <p:spPr>
            <a:xfrm>
              <a:off x="2410560" y="5573520"/>
              <a:ext cx="196920" cy="242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02"/>
            <p:cNvSpPr/>
            <p:nvPr/>
          </p:nvSpPr>
          <p:spPr>
            <a:xfrm>
              <a:off x="3696120" y="5375160"/>
              <a:ext cx="196920" cy="44136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3"/>
            <p:cNvSpPr/>
            <p:nvPr/>
          </p:nvSpPr>
          <p:spPr>
            <a:xfrm>
              <a:off x="4982040" y="5441040"/>
              <a:ext cx="198360" cy="3751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04"/>
            <p:cNvSpPr/>
            <p:nvPr/>
          </p:nvSpPr>
          <p:spPr>
            <a:xfrm>
              <a:off x="6257520" y="5772240"/>
              <a:ext cx="196920" cy="44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05"/>
            <p:cNvSpPr/>
            <p:nvPr/>
          </p:nvSpPr>
          <p:spPr>
            <a:xfrm>
              <a:off x="7543080" y="5782680"/>
              <a:ext cx="196920" cy="338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6"/>
            <p:cNvSpPr/>
            <p:nvPr/>
          </p:nvSpPr>
          <p:spPr>
            <a:xfrm>
              <a:off x="1321920" y="4141800"/>
              <a:ext cx="198360" cy="16747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07"/>
            <p:cNvSpPr/>
            <p:nvPr/>
          </p:nvSpPr>
          <p:spPr>
            <a:xfrm>
              <a:off x="2607480" y="5507280"/>
              <a:ext cx="198360" cy="3092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08"/>
            <p:cNvSpPr/>
            <p:nvPr/>
          </p:nvSpPr>
          <p:spPr>
            <a:xfrm>
              <a:off x="3893400" y="5133600"/>
              <a:ext cx="198360" cy="682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9"/>
            <p:cNvSpPr/>
            <p:nvPr/>
          </p:nvSpPr>
          <p:spPr>
            <a:xfrm>
              <a:off x="5180400" y="5242680"/>
              <a:ext cx="196920" cy="57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0"/>
            <p:cNvSpPr/>
            <p:nvPr/>
          </p:nvSpPr>
          <p:spPr>
            <a:xfrm>
              <a:off x="6454440" y="5772240"/>
              <a:ext cx="198360" cy="44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1"/>
            <p:cNvSpPr/>
            <p:nvPr/>
          </p:nvSpPr>
          <p:spPr>
            <a:xfrm>
              <a:off x="7740360" y="5782680"/>
              <a:ext cx="198720" cy="338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2"/>
            <p:cNvSpPr/>
            <p:nvPr/>
          </p:nvSpPr>
          <p:spPr>
            <a:xfrm>
              <a:off x="1520280" y="2015640"/>
              <a:ext cx="196920" cy="38008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3"/>
            <p:cNvSpPr/>
            <p:nvPr/>
          </p:nvSpPr>
          <p:spPr>
            <a:xfrm>
              <a:off x="2806200" y="5629320"/>
              <a:ext cx="196920" cy="187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4"/>
            <p:cNvSpPr/>
            <p:nvPr/>
          </p:nvSpPr>
          <p:spPr>
            <a:xfrm>
              <a:off x="4091760" y="5595840"/>
              <a:ext cx="196920" cy="220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5"/>
            <p:cNvSpPr/>
            <p:nvPr/>
          </p:nvSpPr>
          <p:spPr>
            <a:xfrm>
              <a:off x="5377680" y="5650200"/>
              <a:ext cx="186480" cy="166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6"/>
            <p:cNvSpPr/>
            <p:nvPr/>
          </p:nvSpPr>
          <p:spPr>
            <a:xfrm>
              <a:off x="6653160" y="5782680"/>
              <a:ext cx="196920" cy="33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7"/>
            <p:cNvSpPr/>
            <p:nvPr/>
          </p:nvSpPr>
          <p:spPr>
            <a:xfrm>
              <a:off x="7939080" y="5794200"/>
              <a:ext cx="196560" cy="223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8"/>
            <p:cNvSpPr/>
            <p:nvPr/>
          </p:nvSpPr>
          <p:spPr>
            <a:xfrm>
              <a:off x="1717560" y="5133600"/>
              <a:ext cx="198360" cy="682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9"/>
            <p:cNvSpPr/>
            <p:nvPr/>
          </p:nvSpPr>
          <p:spPr>
            <a:xfrm>
              <a:off x="3003120" y="5794200"/>
              <a:ext cx="19836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0"/>
            <p:cNvSpPr/>
            <p:nvPr/>
          </p:nvSpPr>
          <p:spPr>
            <a:xfrm>
              <a:off x="4289040" y="5738400"/>
              <a:ext cx="198360" cy="777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1"/>
            <p:cNvSpPr/>
            <p:nvPr/>
          </p:nvSpPr>
          <p:spPr>
            <a:xfrm>
              <a:off x="5564520" y="5706000"/>
              <a:ext cx="208800" cy="1101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2"/>
            <p:cNvSpPr/>
            <p:nvPr/>
          </p:nvSpPr>
          <p:spPr>
            <a:xfrm>
              <a:off x="6850440" y="5794200"/>
              <a:ext cx="198720" cy="22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3"/>
            <p:cNvSpPr/>
            <p:nvPr/>
          </p:nvSpPr>
          <p:spPr>
            <a:xfrm>
              <a:off x="8136000" y="5804640"/>
              <a:ext cx="198720" cy="1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4"/>
            <p:cNvSpPr/>
            <p:nvPr/>
          </p:nvSpPr>
          <p:spPr>
            <a:xfrm>
              <a:off x="1915920" y="3766680"/>
              <a:ext cx="196920" cy="20498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25"/>
            <p:cNvSpPr/>
            <p:nvPr/>
          </p:nvSpPr>
          <p:spPr>
            <a:xfrm>
              <a:off x="3201840" y="5672160"/>
              <a:ext cx="196920" cy="1443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6"/>
            <p:cNvSpPr/>
            <p:nvPr/>
          </p:nvSpPr>
          <p:spPr>
            <a:xfrm>
              <a:off x="4487400" y="5706000"/>
              <a:ext cx="196920" cy="11016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7"/>
            <p:cNvSpPr/>
            <p:nvPr/>
          </p:nvSpPr>
          <p:spPr>
            <a:xfrm>
              <a:off x="5773320" y="5750280"/>
              <a:ext cx="186480" cy="6624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28"/>
            <p:cNvSpPr/>
            <p:nvPr/>
          </p:nvSpPr>
          <p:spPr>
            <a:xfrm>
              <a:off x="704916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29"/>
            <p:cNvSpPr/>
            <p:nvPr/>
          </p:nvSpPr>
          <p:spPr>
            <a:xfrm>
              <a:off x="8335080" y="5804640"/>
              <a:ext cx="196920" cy="118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0"/>
            <p:cNvSpPr/>
            <p:nvPr/>
          </p:nvSpPr>
          <p:spPr>
            <a:xfrm>
              <a:off x="981720" y="1541520"/>
              <a:ext cx="0" cy="427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1"/>
            <p:cNvSpPr/>
            <p:nvPr/>
          </p:nvSpPr>
          <p:spPr>
            <a:xfrm>
              <a:off x="937800" y="5816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2"/>
            <p:cNvSpPr/>
            <p:nvPr/>
          </p:nvSpPr>
          <p:spPr>
            <a:xfrm>
              <a:off x="937800" y="53427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33"/>
            <p:cNvSpPr/>
            <p:nvPr/>
          </p:nvSpPr>
          <p:spPr>
            <a:xfrm>
              <a:off x="937800" y="48690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4"/>
            <p:cNvSpPr/>
            <p:nvPr/>
          </p:nvSpPr>
          <p:spPr>
            <a:xfrm>
              <a:off x="937800" y="439488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5"/>
            <p:cNvSpPr/>
            <p:nvPr/>
          </p:nvSpPr>
          <p:spPr>
            <a:xfrm>
              <a:off x="937800" y="39110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6"/>
            <p:cNvSpPr/>
            <p:nvPr/>
          </p:nvSpPr>
          <p:spPr>
            <a:xfrm>
              <a:off x="937800" y="34369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7"/>
            <p:cNvSpPr/>
            <p:nvPr/>
          </p:nvSpPr>
          <p:spPr>
            <a:xfrm>
              <a:off x="937800" y="296316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8"/>
            <p:cNvSpPr/>
            <p:nvPr/>
          </p:nvSpPr>
          <p:spPr>
            <a:xfrm>
              <a:off x="937800" y="248940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9"/>
            <p:cNvSpPr/>
            <p:nvPr/>
          </p:nvSpPr>
          <p:spPr>
            <a:xfrm>
              <a:off x="937800" y="201564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0"/>
            <p:cNvSpPr/>
            <p:nvPr/>
          </p:nvSpPr>
          <p:spPr>
            <a:xfrm>
              <a:off x="937800" y="1541520"/>
              <a:ext cx="43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41"/>
            <p:cNvSpPr/>
            <p:nvPr/>
          </p:nvSpPr>
          <p:spPr>
            <a:xfrm>
              <a:off x="981720" y="5816520"/>
              <a:ext cx="7692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2"/>
            <p:cNvSpPr/>
            <p:nvPr/>
          </p:nvSpPr>
          <p:spPr>
            <a:xfrm flipV="1">
              <a:off x="98172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3"/>
            <p:cNvSpPr/>
            <p:nvPr/>
          </p:nvSpPr>
          <p:spPr>
            <a:xfrm flipV="1">
              <a:off x="226764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4"/>
            <p:cNvSpPr/>
            <p:nvPr/>
          </p:nvSpPr>
          <p:spPr>
            <a:xfrm flipV="1">
              <a:off x="35416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 flipV="1">
              <a:off x="482760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6"/>
            <p:cNvSpPr/>
            <p:nvPr/>
          </p:nvSpPr>
          <p:spPr>
            <a:xfrm flipV="1">
              <a:off x="61149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47"/>
            <p:cNvSpPr/>
            <p:nvPr/>
          </p:nvSpPr>
          <p:spPr>
            <a:xfrm flipV="1">
              <a:off x="740088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8"/>
            <p:cNvSpPr/>
            <p:nvPr/>
          </p:nvSpPr>
          <p:spPr>
            <a:xfrm flipV="1">
              <a:off x="8674560" y="5816520"/>
              <a:ext cx="0" cy="4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9"/>
            <p:cNvSpPr/>
            <p:nvPr/>
          </p:nvSpPr>
          <p:spPr>
            <a:xfrm>
              <a:off x="1355400" y="89136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0"/>
            <p:cNvSpPr/>
            <p:nvPr/>
          </p:nvSpPr>
          <p:spPr>
            <a:xfrm>
              <a:off x="4300560" y="1112040"/>
              <a:ext cx="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1"/>
            <p:cNvSpPr/>
            <p:nvPr/>
          </p:nvSpPr>
          <p:spPr>
            <a:xfrm>
              <a:off x="1089000" y="26877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3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2"/>
            <p:cNvSpPr/>
            <p:nvPr/>
          </p:nvSpPr>
          <p:spPr>
            <a:xfrm>
              <a:off x="2397240" y="538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3"/>
            <p:cNvSpPr/>
            <p:nvPr/>
          </p:nvSpPr>
          <p:spPr>
            <a:xfrm>
              <a:off x="3683520" y="5188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4"/>
            <p:cNvSpPr/>
            <p:nvPr/>
          </p:nvSpPr>
          <p:spPr>
            <a:xfrm>
              <a:off x="4970520" y="5254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.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5"/>
            <p:cNvSpPr/>
            <p:nvPr/>
          </p:nvSpPr>
          <p:spPr>
            <a:xfrm>
              <a:off x="6278760" y="559584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6"/>
            <p:cNvSpPr/>
            <p:nvPr/>
          </p:nvSpPr>
          <p:spPr>
            <a:xfrm>
              <a:off x="7564680" y="560916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7"/>
            <p:cNvSpPr/>
            <p:nvPr/>
          </p:nvSpPr>
          <p:spPr>
            <a:xfrm>
              <a:off x="815400" y="5738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8"/>
            <p:cNvSpPr/>
            <p:nvPr/>
          </p:nvSpPr>
          <p:spPr>
            <a:xfrm>
              <a:off x="750960" y="5264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9"/>
            <p:cNvSpPr/>
            <p:nvPr/>
          </p:nvSpPr>
          <p:spPr>
            <a:xfrm>
              <a:off x="750960" y="4792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0"/>
            <p:cNvSpPr/>
            <p:nvPr/>
          </p:nvSpPr>
          <p:spPr>
            <a:xfrm>
              <a:off x="750960" y="4318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1"/>
            <p:cNvSpPr/>
            <p:nvPr/>
          </p:nvSpPr>
          <p:spPr>
            <a:xfrm>
              <a:off x="750960" y="3844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2"/>
            <p:cNvSpPr/>
            <p:nvPr/>
          </p:nvSpPr>
          <p:spPr>
            <a:xfrm>
              <a:off x="673200" y="33588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3"/>
            <p:cNvSpPr/>
            <p:nvPr/>
          </p:nvSpPr>
          <p:spPr>
            <a:xfrm>
              <a:off x="673200" y="2886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4"/>
            <p:cNvSpPr/>
            <p:nvPr/>
          </p:nvSpPr>
          <p:spPr>
            <a:xfrm>
              <a:off x="673200" y="241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65"/>
            <p:cNvSpPr/>
            <p:nvPr/>
          </p:nvSpPr>
          <p:spPr>
            <a:xfrm>
              <a:off x="673200" y="1937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66"/>
            <p:cNvSpPr/>
            <p:nvPr/>
          </p:nvSpPr>
          <p:spPr>
            <a:xfrm>
              <a:off x="673200" y="1465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67"/>
            <p:cNvSpPr/>
            <p:nvPr/>
          </p:nvSpPr>
          <p:spPr>
            <a:xfrm>
              <a:off x="1410840" y="5926680"/>
              <a:ext cx="41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6 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8"/>
            <p:cNvSpPr/>
            <p:nvPr/>
          </p:nvSpPr>
          <p:spPr>
            <a:xfrm>
              <a:off x="2509200" y="592668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 mos-6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69"/>
            <p:cNvSpPr/>
            <p:nvPr/>
          </p:nvSpPr>
          <p:spPr>
            <a:xfrm>
              <a:off x="3927240" y="592668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-9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70"/>
            <p:cNvSpPr/>
            <p:nvPr/>
          </p:nvSpPr>
          <p:spPr>
            <a:xfrm>
              <a:off x="513684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-18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71"/>
            <p:cNvSpPr/>
            <p:nvPr/>
          </p:nvSpPr>
          <p:spPr>
            <a:xfrm>
              <a:off x="6422760" y="592668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-64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72"/>
            <p:cNvSpPr/>
            <p:nvPr/>
          </p:nvSpPr>
          <p:spPr>
            <a:xfrm>
              <a:off x="7763040" y="5926680"/>
              <a:ext cx="56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5+ ye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3"/>
            <p:cNvSpPr/>
            <p:nvPr/>
          </p:nvSpPr>
          <p:spPr>
            <a:xfrm>
              <a:off x="4519800" y="614592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grou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74"/>
            <p:cNvSpPr/>
            <p:nvPr/>
          </p:nvSpPr>
          <p:spPr>
            <a:xfrm rot="16200000">
              <a:off x="6480" y="3593160"/>
              <a:ext cx="10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 per 100,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75"/>
            <p:cNvSpPr/>
            <p:nvPr/>
          </p:nvSpPr>
          <p:spPr>
            <a:xfrm>
              <a:off x="6840000" y="1773000"/>
              <a:ext cx="1757880" cy="9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76"/>
            <p:cNvSpPr/>
            <p:nvPr/>
          </p:nvSpPr>
          <p:spPr>
            <a:xfrm>
              <a:off x="7059600" y="1828440"/>
              <a:ext cx="98280" cy="98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77"/>
            <p:cNvSpPr/>
            <p:nvPr/>
          </p:nvSpPr>
          <p:spPr>
            <a:xfrm>
              <a:off x="7183800" y="1784520"/>
              <a:ext cx="1326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ll race/ethniciti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78"/>
            <p:cNvSpPr/>
            <p:nvPr/>
          </p:nvSpPr>
          <p:spPr>
            <a:xfrm>
              <a:off x="7059600" y="2025720"/>
              <a:ext cx="98280" cy="1000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9"/>
            <p:cNvSpPr/>
            <p:nvPr/>
          </p:nvSpPr>
          <p:spPr>
            <a:xfrm>
              <a:off x="7182000" y="198180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80"/>
            <p:cNvSpPr/>
            <p:nvPr/>
          </p:nvSpPr>
          <p:spPr>
            <a:xfrm>
              <a:off x="7059600" y="2214360"/>
              <a:ext cx="98280" cy="1098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81"/>
            <p:cNvSpPr/>
            <p:nvPr/>
          </p:nvSpPr>
          <p:spPr>
            <a:xfrm>
              <a:off x="7182360" y="21801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2"/>
            <p:cNvSpPr/>
            <p:nvPr/>
          </p:nvSpPr>
          <p:spPr>
            <a:xfrm>
              <a:off x="7059600" y="2411280"/>
              <a:ext cx="98280" cy="100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83"/>
            <p:cNvSpPr/>
            <p:nvPr/>
          </p:nvSpPr>
          <p:spPr>
            <a:xfrm>
              <a:off x="7182360" y="23788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84"/>
            <p:cNvSpPr/>
            <p:nvPr/>
          </p:nvSpPr>
          <p:spPr>
            <a:xfrm>
              <a:off x="7059600" y="2610000"/>
              <a:ext cx="98280" cy="100080"/>
            </a:xfrm>
            <a:prstGeom prst="rect">
              <a:avLst/>
            </a:prstGeom>
            <a:solidFill>
              <a:srgbClr val="ff66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5"/>
            <p:cNvSpPr/>
            <p:nvPr/>
          </p:nvSpPr>
          <p:spPr>
            <a:xfrm>
              <a:off x="7181640" y="25776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86"/>
            <p:cNvSpPr/>
            <p:nvPr/>
          </p:nvSpPr>
          <p:spPr>
            <a:xfrm>
              <a:off x="7742520" y="625644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1066680" y="1676520"/>
            <a:ext cx="6917040" cy="4704480"/>
            <a:chOff x="1066680" y="1676520"/>
            <a:chExt cx="6917040" cy="4704480"/>
          </a:xfrm>
        </p:grpSpPr>
        <p:sp>
          <p:nvSpPr>
            <p:cNvPr id="336" name="AutoShape 3"/>
            <p:cNvSpPr/>
            <p:nvPr/>
          </p:nvSpPr>
          <p:spPr>
            <a:xfrm>
              <a:off x="1066680" y="1676520"/>
              <a:ext cx="688068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"/>
            <p:cNvSpPr/>
            <p:nvPr/>
          </p:nvSpPr>
          <p:spPr>
            <a:xfrm>
              <a:off x="1566720" y="2105640"/>
              <a:ext cx="6247080" cy="374724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1717560" y="3313080"/>
              <a:ext cx="214200" cy="253980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2244960" y="3277440"/>
              <a:ext cx="204480" cy="25754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2762280" y="3733560"/>
              <a:ext cx="204480" cy="21193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3279600" y="4689720"/>
              <a:ext cx="214200" cy="11631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3807000" y="5145840"/>
              <a:ext cx="20448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4324320" y="5145840"/>
              <a:ext cx="213120" cy="7070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850280" y="5691240"/>
              <a:ext cx="205920" cy="16164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7600" y="5646960"/>
              <a:ext cx="205920" cy="20592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5886360" y="5601600"/>
              <a:ext cx="2131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6412320" y="5816520"/>
              <a:ext cx="20484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6929640" y="5601600"/>
              <a:ext cx="205920" cy="251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7446960" y="5816520"/>
              <a:ext cx="214560" cy="3636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717560" y="2651040"/>
              <a:ext cx="214200" cy="6616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244960" y="2901240"/>
              <a:ext cx="204480" cy="3758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2762280" y="3232080"/>
              <a:ext cx="204480" cy="501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3279600" y="4395600"/>
              <a:ext cx="214200" cy="2941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3807000" y="4645800"/>
              <a:ext cx="204480" cy="5000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4324320" y="5065920"/>
              <a:ext cx="21312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4850280" y="5566320"/>
              <a:ext cx="205920" cy="12492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5367600" y="5566320"/>
              <a:ext cx="20592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5886360" y="5397120"/>
              <a:ext cx="213120" cy="20448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"/>
            <p:cNvSpPr/>
            <p:nvPr/>
          </p:nvSpPr>
          <p:spPr>
            <a:xfrm>
              <a:off x="6412320" y="5601600"/>
              <a:ext cx="204840" cy="214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8"/>
            <p:cNvSpPr/>
            <p:nvPr/>
          </p:nvSpPr>
          <p:spPr>
            <a:xfrm>
              <a:off x="6929640" y="5441400"/>
              <a:ext cx="205920" cy="16020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9"/>
            <p:cNvSpPr/>
            <p:nvPr/>
          </p:nvSpPr>
          <p:spPr>
            <a:xfrm>
              <a:off x="7446960" y="5736600"/>
              <a:ext cx="214560" cy="7956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1717560" y="2525760"/>
              <a:ext cx="214200" cy="124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2244960" y="2686680"/>
              <a:ext cx="204480" cy="214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2"/>
            <p:cNvSpPr/>
            <p:nvPr/>
          </p:nvSpPr>
          <p:spPr>
            <a:xfrm>
              <a:off x="2762280" y="3062880"/>
              <a:ext cx="204480" cy="1688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3"/>
            <p:cNvSpPr/>
            <p:nvPr/>
          </p:nvSpPr>
          <p:spPr>
            <a:xfrm>
              <a:off x="3279600" y="4358880"/>
              <a:ext cx="214200" cy="36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4"/>
            <p:cNvSpPr/>
            <p:nvPr/>
          </p:nvSpPr>
          <p:spPr>
            <a:xfrm>
              <a:off x="3807000" y="4610160"/>
              <a:ext cx="204480" cy="3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4850280" y="5522400"/>
              <a:ext cx="205920" cy="439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367600" y="5486760"/>
              <a:ext cx="205920" cy="79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37"/>
            <p:cNvSpPr/>
            <p:nvPr/>
          </p:nvSpPr>
          <p:spPr>
            <a:xfrm>
              <a:off x="5886360" y="5351760"/>
              <a:ext cx="213120" cy="45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8"/>
            <p:cNvSpPr/>
            <p:nvPr/>
          </p:nvSpPr>
          <p:spPr>
            <a:xfrm>
              <a:off x="1717560" y="2436480"/>
              <a:ext cx="21420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2244960" y="2561400"/>
              <a:ext cx="204480" cy="124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2762280" y="2982240"/>
              <a:ext cx="204480" cy="8064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3279600" y="4314600"/>
              <a:ext cx="214200" cy="4392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2"/>
            <p:cNvSpPr/>
            <p:nvPr/>
          </p:nvSpPr>
          <p:spPr>
            <a:xfrm>
              <a:off x="3807000" y="4564800"/>
              <a:ext cx="204480" cy="450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3"/>
            <p:cNvSpPr/>
            <p:nvPr/>
          </p:nvSpPr>
          <p:spPr>
            <a:xfrm>
              <a:off x="6929640" y="5351760"/>
              <a:ext cx="205920" cy="8928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1566720" y="2105640"/>
              <a:ext cx="0" cy="374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5"/>
            <p:cNvSpPr/>
            <p:nvPr/>
          </p:nvSpPr>
          <p:spPr>
            <a:xfrm>
              <a:off x="1531080" y="58532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6"/>
            <p:cNvSpPr/>
            <p:nvPr/>
          </p:nvSpPr>
          <p:spPr>
            <a:xfrm>
              <a:off x="1531080" y="54414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47"/>
            <p:cNvSpPr/>
            <p:nvPr/>
          </p:nvSpPr>
          <p:spPr>
            <a:xfrm>
              <a:off x="1531080" y="50205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8"/>
            <p:cNvSpPr/>
            <p:nvPr/>
          </p:nvSpPr>
          <p:spPr>
            <a:xfrm>
              <a:off x="1531080" y="46101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49"/>
            <p:cNvSpPr/>
            <p:nvPr/>
          </p:nvSpPr>
          <p:spPr>
            <a:xfrm>
              <a:off x="1531080" y="418968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0"/>
            <p:cNvSpPr/>
            <p:nvPr/>
          </p:nvSpPr>
          <p:spPr>
            <a:xfrm>
              <a:off x="1531080" y="37778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1"/>
            <p:cNvSpPr/>
            <p:nvPr/>
          </p:nvSpPr>
          <p:spPr>
            <a:xfrm>
              <a:off x="1531080" y="335700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52"/>
            <p:cNvSpPr/>
            <p:nvPr/>
          </p:nvSpPr>
          <p:spPr>
            <a:xfrm>
              <a:off x="1531080" y="29379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3"/>
            <p:cNvSpPr/>
            <p:nvPr/>
          </p:nvSpPr>
          <p:spPr>
            <a:xfrm>
              <a:off x="1531080" y="252576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4"/>
            <p:cNvSpPr/>
            <p:nvPr/>
          </p:nvSpPr>
          <p:spPr>
            <a:xfrm>
              <a:off x="1531080" y="2105640"/>
              <a:ext cx="35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55"/>
            <p:cNvSpPr/>
            <p:nvPr/>
          </p:nvSpPr>
          <p:spPr>
            <a:xfrm>
              <a:off x="1566720" y="5853240"/>
              <a:ext cx="6247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56"/>
            <p:cNvSpPr/>
            <p:nvPr/>
          </p:nvSpPr>
          <p:spPr>
            <a:xfrm flipV="1">
              <a:off x="1566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7"/>
            <p:cNvSpPr/>
            <p:nvPr/>
          </p:nvSpPr>
          <p:spPr>
            <a:xfrm flipV="1">
              <a:off x="2084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8"/>
            <p:cNvSpPr/>
            <p:nvPr/>
          </p:nvSpPr>
          <p:spPr>
            <a:xfrm flipV="1">
              <a:off x="2601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59"/>
            <p:cNvSpPr/>
            <p:nvPr/>
          </p:nvSpPr>
          <p:spPr>
            <a:xfrm flipV="1">
              <a:off x="31276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0"/>
            <p:cNvSpPr/>
            <p:nvPr/>
          </p:nvSpPr>
          <p:spPr>
            <a:xfrm flipV="1">
              <a:off x="36460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61"/>
            <p:cNvSpPr/>
            <p:nvPr/>
          </p:nvSpPr>
          <p:spPr>
            <a:xfrm flipV="1">
              <a:off x="41724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 flipV="1">
              <a:off x="4689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63"/>
            <p:cNvSpPr/>
            <p:nvPr/>
          </p:nvSpPr>
          <p:spPr>
            <a:xfrm flipV="1">
              <a:off x="52070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4"/>
            <p:cNvSpPr/>
            <p:nvPr/>
          </p:nvSpPr>
          <p:spPr>
            <a:xfrm flipV="1">
              <a:off x="573444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5"/>
            <p:cNvSpPr/>
            <p:nvPr/>
          </p:nvSpPr>
          <p:spPr>
            <a:xfrm flipV="1">
              <a:off x="625176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6"/>
            <p:cNvSpPr/>
            <p:nvPr/>
          </p:nvSpPr>
          <p:spPr>
            <a:xfrm flipV="1">
              <a:off x="677772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 flipV="1">
              <a:off x="729648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68"/>
            <p:cNvSpPr/>
            <p:nvPr/>
          </p:nvSpPr>
          <p:spPr>
            <a:xfrm flipV="1">
              <a:off x="7813800" y="5853240"/>
              <a:ext cx="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2209320" y="184680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1431000" y="5799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1379160" y="537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1379160" y="4966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1379160" y="454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1379160" y="413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1379160" y="3715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1379160" y="3294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1379160" y="2883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1379160" y="2463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1379160" y="2051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1762920" y="59425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23151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28414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335988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3877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440352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208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7"/>
            <p:cNvSpPr/>
            <p:nvPr/>
          </p:nvSpPr>
          <p:spPr>
            <a:xfrm>
              <a:off x="544824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9655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9"/>
            <p:cNvSpPr/>
            <p:nvPr/>
          </p:nvSpPr>
          <p:spPr>
            <a:xfrm>
              <a:off x="6483960" y="594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698364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7500960" y="594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4352400" y="6112080"/>
              <a:ext cx="86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ge in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 rot="16200000">
              <a:off x="1103040" y="386064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6430680" y="2409480"/>
              <a:ext cx="953640" cy="80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6635520" y="2481840"/>
              <a:ext cx="80640" cy="79200"/>
            </a:xfrm>
            <a:prstGeom prst="rect">
              <a:avLst/>
            </a:prstGeom>
            <a:solidFill>
              <a:srgbClr val="6600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6734160" y="244512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6635520" y="2678040"/>
              <a:ext cx="80640" cy="80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6733800" y="265104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6635520" y="2874240"/>
              <a:ext cx="80640" cy="80640"/>
            </a:xfrm>
            <a:prstGeom prst="rect">
              <a:avLst/>
            </a:prstGeom>
            <a:solidFill>
              <a:srgbClr val="008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6734520" y="284832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6635520" y="3071520"/>
              <a:ext cx="80640" cy="89280"/>
            </a:xfrm>
            <a:prstGeom prst="rect">
              <a:avLst/>
            </a:prstGeom>
            <a:solidFill>
              <a:srgbClr val="000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6734520" y="304344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2637000" y="230400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4"/>
            <p:cNvSpPr/>
            <p:nvPr/>
          </p:nvSpPr>
          <p:spPr>
            <a:xfrm>
              <a:off x="2833200" y="2615400"/>
              <a:ext cx="62280" cy="312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1" h="255">
                  <a:moveTo>
                    <a:pt x="29" y="7"/>
                  </a:moveTo>
                  <a:lnTo>
                    <a:pt x="29" y="211"/>
                  </a:lnTo>
                  <a:lnTo>
                    <a:pt x="22" y="219"/>
                  </a:lnTo>
                  <a:lnTo>
                    <a:pt x="22" y="211"/>
                  </a:lnTo>
                  <a:lnTo>
                    <a:pt x="22" y="7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7"/>
                  </a:lnTo>
                  <a:close/>
                  <a:moveTo>
                    <a:pt x="51" y="204"/>
                  </a:moveTo>
                  <a:lnTo>
                    <a:pt x="22" y="255"/>
                  </a:lnTo>
                  <a:lnTo>
                    <a:pt x="0" y="204"/>
                  </a:lnTo>
                  <a:lnTo>
                    <a:pt x="51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4735080" y="483192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6"/>
            <p:cNvSpPr/>
            <p:nvPr/>
          </p:nvSpPr>
          <p:spPr>
            <a:xfrm>
              <a:off x="4912560" y="514584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8"/>
                  </a:moveTo>
                  <a:lnTo>
                    <a:pt x="29" y="212"/>
                  </a:lnTo>
                  <a:lnTo>
                    <a:pt x="22" y="212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close/>
                  <a:moveTo>
                    <a:pt x="51" y="205"/>
                  </a:moveTo>
                  <a:lnTo>
                    <a:pt x="22" y="248"/>
                  </a:lnTo>
                  <a:lnTo>
                    <a:pt x="0" y="205"/>
                  </a:lnTo>
                  <a:lnTo>
                    <a:pt x="51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3665160" y="3893040"/>
              <a:ext cx="811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DTa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8"/>
            <p:cNvSpPr/>
            <p:nvPr/>
          </p:nvSpPr>
          <p:spPr>
            <a:xfrm>
              <a:off x="3850920" y="4206600"/>
              <a:ext cx="62280" cy="303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51" h="248">
                  <a:moveTo>
                    <a:pt x="29" y="0"/>
                  </a:moveTo>
                  <a:lnTo>
                    <a:pt x="29" y="205"/>
                  </a:lnTo>
                  <a:lnTo>
                    <a:pt x="29" y="212"/>
                  </a:lnTo>
                  <a:lnTo>
                    <a:pt x="22" y="212"/>
                  </a:lnTo>
                  <a:lnTo>
                    <a:pt x="22" y="205"/>
                  </a:lnTo>
                  <a:lnTo>
                    <a:pt x="22" y="0"/>
                  </a:lnTo>
                  <a:lnTo>
                    <a:pt x="29" y="0"/>
                  </a:lnTo>
                  <a:close/>
                  <a:moveTo>
                    <a:pt x="51" y="197"/>
                  </a:moveTo>
                  <a:lnTo>
                    <a:pt x="29" y="248"/>
                  </a:lnTo>
                  <a:lnTo>
                    <a:pt x="0" y="197"/>
                  </a:lnTo>
                  <a:lnTo>
                    <a:pt x="5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7120440" y="622836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As of 8/3/2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Infant Pertussis Case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lifornia 201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4" name="Text Box 95"/>
          <p:cNvSpPr/>
          <p:nvPr/>
        </p:nvSpPr>
        <p:spPr>
          <a:xfrm>
            <a:off x="3877920" y="647712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Classi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ion: 7-10 days (range: 5-21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rrhal (1-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pecific: runny nose, congestion, mild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stinguishable from minor URI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xysmal (2-6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 paroxysms with inspiratory whoop and post-tussive emesis (can be more frequent at 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appearance between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alescent (2-6 weeks up to mon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frequency and severity of coug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equent URI may reactivate c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5560920" y="632448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9,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linical Presentation: Atypic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classic cough and w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present with only apnea, bradycardia, or cyanosis without 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/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ack distinct stages and cough often milder (many report “choking” sens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nly manifest prolonged cough (&gt;3-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32% of adults/adolescents with cough &gt;5 days have serologic evidence of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489560" y="6095880"/>
            <a:ext cx="425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L, Edwards K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Pretend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coplasma 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lamydia trachoma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eumon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: pertussis coinfection reported with several vir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V (0.6-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180680" y="6019920"/>
            <a:ext cx="46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berry GK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ect Control Hosp Ep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6;27:95-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rppi M, Hiltunen J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;26:316-1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Clinical Characteristics of Pertussis in Infants ≤30 day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-533520" y="2176560"/>
          <a:ext cx="9525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2176560"/>
                    <a:ext cx="9525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5"/>
          <p:cNvSpPr/>
          <p:nvPr/>
        </p:nvSpPr>
        <p:spPr>
          <a:xfrm>
            <a:off x="3929040" y="62485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tagnini LA, Munoz, F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 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;156:498-5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-day old girl with 4-days of congestion, fever, cough and difficulty 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36.6 (S10, B8, L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DFA positive for Influenza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amp/cefotax/cont albu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worsening respiratory distress, with apnea and bradycardia, necessitating intubation, HFOV &amp; then EC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ired on hospital day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omplic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s/children: pneumonia, seizures, encephalopathy, death (often due to intractable pulmonary hyperten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/adolescents: pneumothorax, epistaxis, subconjunctival hemorrhage, subdural hematoma, hernia, rectal prolapse, urinary incontinence, rib fra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Hospitaliz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62" name="Object 0"/>
          <p:cNvGraphicFramePr/>
          <p:nvPr/>
        </p:nvGraphicFramePr>
        <p:xfrm>
          <a:off x="533520" y="2176560"/>
          <a:ext cx="764856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76560"/>
                    <a:ext cx="764856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Text Box 4"/>
          <p:cNvSpPr/>
          <p:nvPr/>
        </p:nvSpPr>
        <p:spPr>
          <a:xfrm>
            <a:off x="3418920" y="62485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99224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98296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973680" y="1981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1055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617256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7162920" y="19810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Morta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472" name="Object 1024"/>
          <p:cNvGraphicFramePr/>
          <p:nvPr/>
        </p:nvGraphicFramePr>
        <p:xfrm>
          <a:off x="3505320" y="1676520"/>
          <a:ext cx="7238880" cy="49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76520"/>
                    <a:ext cx="723888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5"/>
          <p:cNvSpPr/>
          <p:nvPr/>
        </p:nvSpPr>
        <p:spPr>
          <a:xfrm>
            <a:off x="3418920" y="6172200"/>
            <a:ext cx="552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Pertussis: United States, 1997-2000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2002;51:73-7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berling DL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;28:19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from pertussis occurs rarely but young infants &lt;6 months of age ar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actors fo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W &lt;2500 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gar &lt;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with &lt;12 years of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panic infant &lt;2 mos old (2.6x higher morta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 Deaths in Californi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7 deaths in 2010, all were Hispanic infants &lt;2 mos (none had received any doses of DT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ertussis deaths in CA since 1996, except one, have been in infants &lt;3 month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Hispanic (compared with 50% birth coh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WBC in fatal cases from 1998-2009 was 7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ose with known status, all had pulmonary hypertension (extreme leukocyte mass obstructs pulmonary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801600" y="6400800"/>
            <a:ext cx="499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ifornia Department of Public Health, Immunization 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C (helpful but non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≥20K with ≥50%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lymphocytosis ≥10,000 cells/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often found in adults, adolescents, and immunize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culture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specific, but sensitivity only 3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th previous vaccination or after antimicrobi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after ≥2-3 weeks of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NP aspirate compared with s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with direct plating vs. using Regan Lowe transport media (charc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takes 3-4 days (incubate culture plates for at least 7 days; 10 days recommended by CD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3722400" y="6019920"/>
            <a:ext cx="514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c 15, 2006;55:RR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: Laboratory Testing, March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Laboratory Test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R (NP aspirate or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with high sensitivity but lower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ized PCR protocol (variation in DNA purification, primers, probes, and Q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mplify single target (IS481) which cross react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holmes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bronchisept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ennel cough) which uncommonly cause disease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positive PCR’s have resulted in unnecessary and resource-intensive contro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3722400" y="609588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MMWR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atric ED triage nurse presented to EH with 2-week h/o cough “just like the cough of the children I’ve seen with pertus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known exposure, no h/o T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swab PO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furloughed and started on 5-day course of azithr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573800" y="6168960"/>
            <a:ext cx="41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er DJ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f Contr Hosp Ep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0;31:306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althcare worker with “Pertussis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vestigation and prophyl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pediatric patients and their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staf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ttendees at educ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epidemiologic implications, DNA sequenced and confir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holmes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men Collection: Ti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P swab, 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cotton or Ca alginate) &amp; leave in posterior NP for 10 s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ulture, place swab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c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media or inoculat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CR, place swab in UTM (p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lab prom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722400" y="6248520"/>
            <a:ext cx="514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Snapshot 2010-08-08 21-49-28"/>
          <p:cNvPicPr/>
          <p:nvPr/>
        </p:nvPicPr>
        <p:blipFill>
          <a:blip r:embed="rId1"/>
          <a:stretch/>
        </p:blipFill>
        <p:spPr>
          <a:xfrm>
            <a:off x="4724280" y="2362320"/>
            <a:ext cx="4038840" cy="29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month old boy with congestion and paroxysmal 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65.1 (N20, B4, L67, M7,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bilateral lower lobe infilt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triaxone and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ssion NP DFA and culture for pertussis wer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 clinical improvement initially, but on HD #14, developed increasing tachypnea and paroxysmal coughing with O2 des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Other Laboratory Tests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 DFA (not recomm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nly 10-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ity limited because test interpretation is subjective and cross reactions with normal flora in up to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ology (not useful for immediate diagn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&amp; convalescent phase sera at least 4-weeks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ample serology for PT IgG collected after 3 weeks of symptoms if &gt;2 years from last pertussis-containing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64608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ly, obtain NP cult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P PCR (if &lt;3 weeks of coug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: media not readily available in office setting, low yield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: difficulty obtaining optimal specimen, false positives,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ly, pertussis is a clinic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28"/>
          <p:cNvSpPr/>
          <p:nvPr/>
        </p:nvSpPr>
        <p:spPr>
          <a:xfrm>
            <a:off x="3722400" y="6172200"/>
            <a:ext cx="514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lines for the Control of Pertussis Outbrea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wlett EF, 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 24, 2005;352:1215-2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Number of Confirmed Pertussis Cases by Confirmation Method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04" name="Picture 4" descr="m633a1f2"/>
          <p:cNvPicPr/>
          <p:nvPr/>
        </p:nvPicPr>
        <p:blipFill>
          <a:blip r:embed="rId1"/>
          <a:srcRect l="0" t="14258" r="0" b="32797"/>
          <a:stretch/>
        </p:blipFill>
        <p:spPr>
          <a:xfrm>
            <a:off x="914400" y="1905120"/>
            <a:ext cx="7086600" cy="42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05" name="Rectangle 5"/>
          <p:cNvSpPr/>
          <p:nvPr/>
        </p:nvSpPr>
        <p:spPr>
          <a:xfrm>
            <a:off x="5483520" y="6324480"/>
            <a:ext cx="32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ug 24, 2007;56:837-4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ole of treatment is to hasten clearance of organisms and limit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3 weeks after cough onset if age &g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s late as 6 weeks after cough onset if age &lt;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during catarrhal or early paroxysmal st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y duration and severity of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 treatment generally does not affect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4563360" y="6095880"/>
            <a:ext cx="413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unaiji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7, Issue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ithin 3 weeks of exposure, prophylaxis recommended for all household and close contacts (regardless of age or vaccination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3 weeks have elapsed since exposure, still consider prophylaxis for households with high risk cont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t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have contact with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5943600" y="6172200"/>
            <a:ext cx="25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P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d Boo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gimens for Treatment/Prophylax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gents: macr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romycin x 14 days (risk: IHPS in &lt;1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thromycin x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thromycin x 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&lt;6 mos: 10 mg/kg daily for 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≥6 mos and children: 10 mg/kg on day 1 (max: 500 mg), followed by 5 mg/kg daily on days 2-5 (max: 250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ag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P/SMX x 14 days (age ≥2 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atient unable to tolerate macro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ertussis isolate is macrolide-resistant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28"/>
          <p:cNvSpPr/>
          <p:nvPr/>
        </p:nvSpPr>
        <p:spPr>
          <a:xfrm>
            <a:off x="5943600" y="6324480"/>
            <a:ext cx="25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54:RR-1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oes anything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elp the clinical cours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have evaluated several thera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histamines (diphenhydr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immunoglob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costeroids (dexamethas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2 agonists (salbuta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evidence (poor quality) does not demonstrate clinical benefit with thes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804760" y="6095880"/>
            <a:ext cx="59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iol S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chrane Database of Systematic Revie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, Issu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ritically Ill Patients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ith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risk of severe disease, low threshold for admitting young infants (especially &lt;3 months of age) with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that develop pneumonia with refractory hypoxemia, pulmonary hypertension, and cardiac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volume exchange trans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MO (mortality approaches of 7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cau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/outpatient cli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let precautions (i.e. wear surgical mask) for any patient with suspected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precautions for 5 days after initi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are/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atic children excluded until completion of 5 days of effective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treated, exclude for 21 days from cough on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evention: Vaccinat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ants &amp; children &lt;7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ose efficacy: 59-8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effective of childhood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fully protect those most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/adults in place of one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CEL: 11-6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RIX: 10-18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A-approval based on immunogenicity, not effi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oal to reduce reservoir of infection for young i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year old with fever to 103.5F, paroxysmal cough and inspiratory whoop at least once per hour and worsening when su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22.8 (67S, 18B, 13L, 2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R: RML in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ussis titers: PT IgM 1 (&lt;5); FHA IgM 48 (&lt;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ness for 4 months, with “bronchiolitis” and “pneumonia” x 3 episodes, refractory to albuterol and antibiotics (incl. erythromy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cefuroxime and erythromycin but no clinical impr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infant vaccinati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first DTaP at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doses 2 and 3 at intervals of 4 weeks (A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one dose has been associated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of hospitalization (68% eff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risk of severe disease (ICU care, mechanical ventilation, de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330520" y="6035760"/>
            <a:ext cx="343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retzko P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2;35:162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and V et al. Vaccine 2007;25:7224-3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Incidence of pertussis hospitalization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Arial"/>
              </a:rPr>
              <a:t>and vaccine coverage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94600" cy="303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30" name="Text Box 5"/>
          <p:cNvSpPr/>
          <p:nvPr/>
        </p:nvSpPr>
        <p:spPr>
          <a:xfrm>
            <a:off x="4818960" y="6172200"/>
            <a:ext cx="38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tese MM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8;121:484-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ize priority populations with Tdap (“cocooning”) (assuming no prior recei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of childbearing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ably before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during pregnancy in 2nd or 3rd trimester or postpartum (prior to hospital/birthing center dis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lose contact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s and caregivers (even those ≥65 years of 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/adolescents ≥10 years of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personnel (required by Cal/OS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wounds (Tdap instead of Td in patients ≥7 y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4193280" y="6172200"/>
            <a:ext cx="457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RR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is often a parent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35" name="Object 0"/>
          <p:cNvGraphicFramePr/>
          <p:nvPr/>
        </p:nvGraphicFramePr>
        <p:xfrm>
          <a:off x="3733920" y="1981080"/>
          <a:ext cx="541008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981080"/>
                    <a:ext cx="541008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"/>
          <p:cNvGraphicFramePr/>
          <p:nvPr/>
        </p:nvGraphicFramePr>
        <p:xfrm>
          <a:off x="-228600" y="1981080"/>
          <a:ext cx="5181480" cy="399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1981080"/>
                    <a:ext cx="518148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9"/>
          <p:cNvSpPr/>
          <p:nvPr/>
        </p:nvSpPr>
        <p:spPr>
          <a:xfrm>
            <a:off x="5100120" y="624852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ndelboe AM et al. PIDJ 2007;26:293-2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rotection from vaccination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anes over tim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41" name="Object 0"/>
          <p:cNvGraphicFramePr/>
          <p:nvPr/>
        </p:nvGraphicFramePr>
        <p:xfrm>
          <a:off x="1824120" y="1752480"/>
          <a:ext cx="526572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4120" y="1752480"/>
                    <a:ext cx="52657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ext Box 5"/>
          <p:cNvSpPr/>
          <p:nvPr/>
        </p:nvSpPr>
        <p:spPr>
          <a:xfrm>
            <a:off x="5405040" y="6172200"/>
            <a:ext cx="341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wards KM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24:S104-S1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J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diatr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05;115:1422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dap vaccination coverage:</a:t>
            </a:r>
            <a:br>
              <a:rPr sz="4400"/>
            </a:b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Much room for improve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: 2.1% of adults nationally (18-64 years) reported receiving Tdap in prior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: 40.8% of adolescents (13-17 years) got Tdap in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.9% for Hisp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.7%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2835000" y="6095880"/>
            <a:ext cx="617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dc.gov/vaccines/stats-surv/nis/downloads/nis-adult-summer-2007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pt 18, 2009;58:997-1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DPH Pertussis Vaccination Recommend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inimum interval between Td and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ages for Tdap vaccination (off-label use permitted by l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≥7 years: Tdap recommended for any child ≥7 years with incomplete DTaP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s ≥6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bsolute contraindications for Td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o anaphylaxis to Tdap or D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ephalopathy within 7 days of pertussis immunization (not due to another c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259880" y="6248520"/>
            <a:ext cx="457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PH. Pertussis Vaccination Recommendations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Further Strategies to Complete “Cocoon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ll children are up to date on their DTaP vacc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lose contacts of young infants,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12 months of age (as long as at least 6 months since last d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P at age 4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ource of pertussis for infants can be a sibling…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553" name="Object 3"/>
          <p:cNvGraphicFramePr/>
          <p:nvPr/>
        </p:nvGraphicFramePr>
        <p:xfrm>
          <a:off x="152280" y="1376280"/>
          <a:ext cx="853452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6280"/>
                    <a:ext cx="85345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5251680" y="6172200"/>
            <a:ext cx="34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Greeff SC et 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10:50:1339-4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Which is pertussi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3-do girl with respiratory distress, apnea &amp; bradycardia, progressing to respiratory failure and death, despite erythromycin (NP DFA + for Influenza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-mo with paroxysmal cough, worsening despite 2-weeks of erythromycin (NP DFA and culture negative for pertussis on adm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-yo with recurrent paroxysmal cough and inspiratory stridor associated with fevers and pneumonias over 4 months, despite erythromycin (pertussis FHA IgM po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9404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 = Latin “intense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Ke = Chinese “100 day cou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: an intense cough that lasts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1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, and mort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apnea, cyanosis, bradycar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fection with other viral pathogens has been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mycin may not change clinical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 days after death, NP culture from admission turned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2: YES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age (for hospitalization, severe dis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symptoms (paroxysmal cou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with mostly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eat NP culture positive for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. pertus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t to erythro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eated with TMP/SMX and re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ase #3: NO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common for children this age to develop severe pertussis requiring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evers and severe exacerbations over several months unusual for 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C elevated but with mostly neutroph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HA antibodies may be caused by non-pertuss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ther infectious agents (only PT is specific to pertus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ient underwent bronchoscopy and found to have sunflower seed in 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ank you for coming!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565" name="Picture 4" descr="smo_smokers-cough"/>
          <p:cNvPicPr/>
          <p:nvPr/>
        </p:nvPicPr>
        <p:blipFill>
          <a:blip r:embed="rId1"/>
          <a:stretch/>
        </p:blipFill>
        <p:spPr>
          <a:xfrm>
            <a:off x="1600200" y="1676520"/>
            <a:ext cx="5867280" cy="39528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534600" y="5791320"/>
            <a:ext cx="79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get your Tdap before this happens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The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ordetella 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idious tiny gram negative coccobacil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virulence factors promote attachment and damage to the respira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=Pertussis toxin (specific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. pertus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major virulence protein and promotes lymphocy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A=filamentous hemagglutinin, PRN=pertactin, &amp; FIM=fimbrial agglutinogens (less specif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ted person-to-person via large respiratory droplets (highly contag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pattern with peaks every 3-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lated Pathogen:</a:t>
            </a:r>
            <a:br>
              <a:rPr sz="4400"/>
            </a:br>
            <a:r>
              <a:rPr b="1" i="1" lang="en-US" sz="4400" spc="-1" strike="noStrike">
                <a:solidFill>
                  <a:srgbClr val="23005f"/>
                </a:solidFill>
                <a:latin typeface="Arial"/>
              </a:rPr>
              <a:t>B. parapertussi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may be under-recog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generally, but not always, less severe th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. pertus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produce pertussis to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sociated with seizures or encephal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tection from pertussis vacc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56600" y="624852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ppe, JE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D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999; 18: 375-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vaccine era (early 1900’s - 1940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ut of every 1000 live-born infants died from pertu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cause of death from communicable disease in age &lt;14 years in the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 in 1934 with 260,000 case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era (1940’s -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atic decrease in reported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dropped 80 fold between 1944-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 has been increasing sinc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Reported Pertussis in U.S.</a:t>
            </a:r>
            <a:br>
              <a:rPr sz="4400"/>
            </a:br>
            <a:r>
              <a:rPr b="1" lang="en-US" sz="2800" spc="-1" strike="noStrike">
                <a:solidFill>
                  <a:srgbClr val="23005f"/>
                </a:solidFill>
                <a:latin typeface="Arial"/>
              </a:rPr>
              <a:t>(1922-2006)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410080" y="62485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W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y 30, 2008;57:1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r704a1f2"/>
          <p:cNvPicPr/>
          <p:nvPr/>
        </p:nvPicPr>
        <p:blipFill>
          <a:blip r:embed="rId1"/>
          <a:srcRect l="0" t="8883" r="0" b="35532"/>
          <a:stretch/>
        </p:blipFill>
        <p:spPr>
          <a:xfrm>
            <a:off x="681120" y="1920960"/>
            <a:ext cx="78534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5:40:49Z</dcterms:created>
  <dc:creator>Brian Lee</dc:creator>
  <dc:description/>
  <dc:language>en-US</dc:language>
  <cp:lastModifiedBy>HCMARTINEZ</cp:lastModifiedBy>
  <dcterms:modified xsi:type="dcterms:W3CDTF">2010-08-17T18:49:25Z</dcterms:modified>
  <cp:revision>273</cp:revision>
  <dc:subject/>
  <dc:title>Pertussis: Whoop (there it is!)</dc:title>
</cp:coreProperties>
</file>