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A2ED-4020-4A44-B652-5E783DD6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D3B4-CF72-4447-89EE-032844CF8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F47B-67D0-4B87-81C2-51A6DB49B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9320" y="135684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9320" y="3831120"/>
            <a:ext cx="250200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EBCE-0AA1-4844-B64B-78AB3AB57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C767-AAD5-4B20-80F2-7EA1CEB2A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E2EF-9726-4C2E-80C6-B5E7A04A3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82A9-75DA-45B3-9875-A43AF4BFC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B7CC-CFC9-4429-8D2F-8FE104ECF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380880"/>
            <a:ext cx="7770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9534-B2F5-4012-85ED-63624B8AD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64C8-1A9F-4090-8538-2120001EB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6360" y="383112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E4D3-7FCF-48A1-A6F4-7DC4C9259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6360" y="1356840"/>
            <a:ext cx="379188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31120"/>
            <a:ext cx="7770960" cy="22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7857-2080-4461-9490-686A6FB52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2103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1036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94240" y="540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E8C609-906B-4F62-A631-06CB293D7B4B}" type="slidenum">
              <a:rPr b="0" lang="en-GB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extBox 1"/>
          <p:cNvGrpSpPr/>
          <p:nvPr/>
        </p:nvGrpSpPr>
        <p:grpSpPr>
          <a:xfrm>
            <a:off x="1060560" y="755640"/>
            <a:ext cx="7022880" cy="5097960"/>
            <a:chOff x="1060560" y="755640"/>
            <a:chExt cx="7022880" cy="5097960"/>
          </a:xfrm>
        </p:grpSpPr>
        <p:pic>
          <p:nvPicPr>
            <p:cNvPr id="43" name="TextBox 1" descr=""/>
            <p:cNvPicPr/>
            <p:nvPr/>
          </p:nvPicPr>
          <p:blipFill>
            <a:blip r:embed="rId1"/>
            <a:stretch/>
          </p:blipFill>
          <p:spPr>
            <a:xfrm>
              <a:off x="1060560" y="755640"/>
              <a:ext cx="702288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66680" y="762120"/>
              <a:ext cx="7010640" cy="50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CONTRA COSTA REGIONAL MEDICAL CENT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NOON CONFERENCE SERI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70c0"/>
                  </a:solidFill>
                  <a:latin typeface="Arial"/>
                </a:rPr>
                <a:t>DISCLOSURE OF CONFLICT OF INTER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ourier New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Speaker has nothing to discl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desiging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hat problem do you want to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w would you frame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have thirty second to look at this test. So off they go to the medical specia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ewer people come in looking for us to treat things. They go right to the medical specialist without us even kno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5" descr="mol.jpg"/>
          <p:cNvPicPr/>
          <p:nvPr/>
        </p:nvPicPr>
        <p:blipFill>
          <a:blip r:embed="rId1"/>
          <a:stretch/>
        </p:blipFill>
        <p:spPr>
          <a:xfrm>
            <a:off x="6675480" y="0"/>
            <a:ext cx="2468520" cy="3809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3" descr="connected health.jpg"/>
          <p:cNvPicPr/>
          <p:nvPr/>
        </p:nvPicPr>
        <p:blipFill>
          <a:blip r:embed="rId2"/>
          <a:stretch/>
        </p:blipFill>
        <p:spPr>
          <a:xfrm>
            <a:off x="826920" y="0"/>
            <a:ext cx="3135600" cy="4221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hoff.jpg"/>
          <p:cNvPicPr/>
          <p:nvPr/>
        </p:nvPicPr>
        <p:blipFill>
          <a:blip r:embed="rId3"/>
          <a:stretch/>
        </p:blipFill>
        <p:spPr>
          <a:xfrm>
            <a:off x="3348000" y="114300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Primary care without Paper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oinette de B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e profess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e Health policy and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smus University Rotter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cmh-house"/>
          <p:cNvPicPr/>
          <p:nvPr/>
        </p:nvPicPr>
        <p:blipFill>
          <a:blip r:embed="rId1"/>
          <a:stretch/>
        </p:blipFill>
        <p:spPr>
          <a:xfrm>
            <a:off x="5508720" y="1413000"/>
            <a:ext cx="23810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irst yield of the reporting system was kind of disappointing, it had all kinds of minor process errors and all that.” GP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all about organizational issues. We don’t think it enhances patient safety because our care is already very safe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 prescribing an anti-mycotic cream in a case of suspected eczema an incident or is it an example of ‘doctoring’, meaning searching for the right treatment through a process of trial and error?”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isk management suggests that [with IRP] things would never go wrong again. A GP could never accomplish that, it makes this risk management frustrating.”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How can safety be managed?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60280"/>
            <a:ext cx="3808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technologies/ Network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5120" y="2060280"/>
            <a:ext cx="38102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planned set of actions and implici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oolbox"/>
          <p:cNvPicPr/>
          <p:nvPr/>
        </p:nvPicPr>
        <p:blipFill>
          <a:blip r:embed="rId1"/>
          <a:stretch/>
        </p:blipFill>
        <p:spPr>
          <a:xfrm>
            <a:off x="7667640" y="549360"/>
            <a:ext cx="79056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879480" y="4818240"/>
            <a:ext cx="67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timal use of risk technologies depend upon implicit and unarticulated rout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A home visit on a Friday afternoon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213000"/>
            <a:ext cx="3808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: missing a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: PCP should always check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: PCP should always call patient to decide upon a home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5120" y="3213000"/>
            <a:ext cx="38102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to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ies: possible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: Explain patient when to contact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icit initiatives: Recall scatter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wachtkamer_365x243"/>
          <p:cNvPicPr/>
          <p:nvPr/>
        </p:nvPicPr>
        <p:blipFill>
          <a:blip r:embed="rId1"/>
          <a:stretch/>
        </p:blipFill>
        <p:spPr>
          <a:xfrm>
            <a:off x="2843280" y="1197000"/>
            <a:ext cx="2808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closure of leading assumptions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2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95320" y="1352520"/>
            <a:ext cx="781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The value of an electronic record is neither straightforward nor easy”</a:t>
            </a:r>
            <a:endParaRPr b="0" lang="en-US" sz="28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914400" y="2406600"/>
            <a:ext cx="7770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09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</a:rPr>
              <a:t>Redesigning primary care</a:t>
            </a:r>
            <a:endParaRPr b="0" lang="en-US" sz="3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56840"/>
            <a:ext cx="777096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health care te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receptionist can schedule overdue screening appointments without an order of the primary care physici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alternatives to face to face vis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tient can send an email to their doctor, instead of 1 to visits, patients are offered a group vis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reach chronic care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nurse or physician see which screening test that are overdue and can plan an appoint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tte de bont</dc:creator>
  <dc:description/>
  <dc:language>en-US</dc:language>
  <cp:lastModifiedBy>Antoinette</cp:lastModifiedBy>
  <dcterms:modified xsi:type="dcterms:W3CDTF">2010-12-16T18:06:45Z</dcterms:modified>
  <cp:revision>94</cp:revision>
  <dc:subject/>
  <dc:title>Dia 1</dc:title>
</cp:coreProperties>
</file>