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A1B4-EDC5-4426-9B1D-F561DEFAF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831120"/>
            <a:ext cx="77709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EB01-8310-4307-B83B-E1081CDBA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636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BFAA-5CCC-4475-B90F-355B969B5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040" y="135684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9320" y="135684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83112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040" y="383112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9320" y="383112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402E-47EC-4ED9-AEDC-DEF4490F2E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486C-3576-4CCA-A561-1FD0817B23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9114-C455-4CE0-A80C-5D477E62E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9B9EF-4ACB-442D-B1DE-52E830EE4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0CA9-8AA5-448B-AABF-B49662442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77709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D31E5-08C3-4B52-85C7-C3A025EBD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3410F-37A8-4802-9DF5-FCEFF64DE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636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2546-3118-46B4-9D99-536FA2F59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831120"/>
            <a:ext cx="77709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5D1F-C277-433E-9CEF-C673EA35D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210360"/>
            <a:ext cx="190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124080" y="621036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194240" y="540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A5190F-553F-43E9-AF89-841638D09EAB}" type="slidenum"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TextBox 1"/>
          <p:cNvGrpSpPr/>
          <p:nvPr/>
        </p:nvGrpSpPr>
        <p:grpSpPr>
          <a:xfrm>
            <a:off x="1060560" y="755640"/>
            <a:ext cx="7022880" cy="5097960"/>
            <a:chOff x="1060560" y="755640"/>
            <a:chExt cx="7022880" cy="5097960"/>
          </a:xfrm>
        </p:grpSpPr>
        <p:pic>
          <p:nvPicPr>
            <p:cNvPr id="43" name="TextBox 1" descr=""/>
            <p:cNvPicPr/>
            <p:nvPr/>
          </p:nvPicPr>
          <p:blipFill>
            <a:blip r:embed="rId1"/>
            <a:stretch/>
          </p:blipFill>
          <p:spPr>
            <a:xfrm>
              <a:off x="1060560" y="755640"/>
              <a:ext cx="7022880" cy="46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066680" y="762120"/>
              <a:ext cx="7010640" cy="50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Arial"/>
                </a:rPr>
                <a:t>CONTRA COSTA REGIONAL MEDICAL CEN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Arial"/>
                </a:rPr>
                <a:t>NOON CONFERENCE SERI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70c0"/>
                  </a:solidFill>
                  <a:latin typeface="Arial"/>
                </a:rPr>
                <a:t>DISCLOSURE OF CONFLICT OF INTERES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06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Speaker has nothing to disclo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Redesiging car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hat problem do you want to s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w would you frame this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 have thirty second to look at this test. So off they go to the medical specia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ewer people come in looking for us to treat things. They go right to the medical specialist without us even kno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5" descr="mol.jpg"/>
          <p:cNvPicPr/>
          <p:nvPr/>
        </p:nvPicPr>
        <p:blipFill>
          <a:blip r:embed="rId1"/>
          <a:stretch/>
        </p:blipFill>
        <p:spPr>
          <a:xfrm>
            <a:off x="6675480" y="0"/>
            <a:ext cx="2468520" cy="3809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Afbeelding 3" descr="connected health.jpg"/>
          <p:cNvPicPr/>
          <p:nvPr/>
        </p:nvPicPr>
        <p:blipFill>
          <a:blip r:embed="rId2"/>
          <a:stretch/>
        </p:blipFill>
        <p:spPr>
          <a:xfrm>
            <a:off x="826920" y="0"/>
            <a:ext cx="3135600" cy="422100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4" descr="hoff.jpg"/>
          <p:cNvPicPr/>
          <p:nvPr/>
        </p:nvPicPr>
        <p:blipFill>
          <a:blip r:embed="rId3"/>
          <a:stretch/>
        </p:blipFill>
        <p:spPr>
          <a:xfrm>
            <a:off x="3348000" y="1143000"/>
            <a:ext cx="380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Primary care without Paper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oinette de B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ociate profess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e Health policy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asmus University Rotterd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cmh-house"/>
          <p:cNvPicPr/>
          <p:nvPr/>
        </p:nvPicPr>
        <p:blipFill>
          <a:blip r:embed="rId1"/>
          <a:stretch/>
        </p:blipFill>
        <p:spPr>
          <a:xfrm>
            <a:off x="5508720" y="1413000"/>
            <a:ext cx="238104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irst yield of the reporting system was kind of disappointing, it had all kinds of minor process errors and all that.” GP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is all about organizational issues. We don’t think it enhances patient safety because our care is already very safe.”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prescribing an anti-mycotic cream in a case of suspected eczema an incident or is it an example of ‘doctoring’, meaning searching for the right treatment through a process of trial and error?”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isk management suggests that [with IRP] things would never go wrong again. A GP could never accomplish that, it makes this risk management frustrating.”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How can safety be managed?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60280"/>
            <a:ext cx="3808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technologies/ Networks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75120" y="2060280"/>
            <a:ext cx="38102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o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pt 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 set of actions and implici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oolbox"/>
          <p:cNvPicPr/>
          <p:nvPr/>
        </p:nvPicPr>
        <p:blipFill>
          <a:blip r:embed="rId1"/>
          <a:stretch/>
        </p:blipFill>
        <p:spPr>
          <a:xfrm>
            <a:off x="7667640" y="549360"/>
            <a:ext cx="790560" cy="571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879480" y="4818240"/>
            <a:ext cx="67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ptimal use of risk technologies depend upon implicit and unarticulated rout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A home visit on a Friday afternoon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3213000"/>
            <a:ext cx="380844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: missing a diagn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: PCP should always check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: PCP should always call patient to decide upon a home vi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5120" y="3213000"/>
            <a:ext cx="381024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o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ies: possible emer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pt: Explain patient when to contact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icit initiatives: Recall scattere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wachtkamer_365x243"/>
          <p:cNvPicPr/>
          <p:nvPr/>
        </p:nvPicPr>
        <p:blipFill>
          <a:blip r:embed="rId1"/>
          <a:stretch/>
        </p:blipFill>
        <p:spPr>
          <a:xfrm>
            <a:off x="2843280" y="1197000"/>
            <a:ext cx="2808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Disclosure of leading assumption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62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895320" y="1352520"/>
            <a:ext cx="7810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The value of an electronic record is neither straightforward nor easy”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64" name="Afbeelding 1" descr=""/>
          <p:cNvPicPr/>
          <p:nvPr/>
        </p:nvPicPr>
        <p:blipFill>
          <a:blip r:embed="rId1"/>
          <a:stretch/>
        </p:blipFill>
        <p:spPr>
          <a:xfrm>
            <a:off x="914400" y="2406600"/>
            <a:ext cx="77709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Redesigning primary car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engthen health care t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receptionist can schedule overdue screening appointments without an order of the primary care physici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alternatives to face to face vis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tient can send an email to their doctor, instead of 1 to visits, patients are offered a group vis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reach chronic care manag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ery nurse or physician see which screening test that are overdue and can plan an appoint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toinette de bont</dc:creator>
  <dc:description/>
  <dc:language>en-US</dc:language>
  <cp:lastModifiedBy>Antoinette</cp:lastModifiedBy>
  <dcterms:modified xsi:type="dcterms:W3CDTF">2010-12-16T18:06:45Z</dcterms:modified>
  <cp:revision>94</cp:revision>
  <dc:subject/>
  <dc:title>Dia 1</dc:title>
</cp:coreProperties>
</file>