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3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824-5257-41C0-8CDB-EBAF38AE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CF7-C846-4D8C-88A3-C5EE9903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55E-2CBA-418D-B9C9-3BC90E07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137-7E31-4DDA-9B8F-46E66761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999D-8066-46C6-9690-9DAFC65A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911B-2505-4240-A07E-22DE5032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DB1A-F769-47C7-BC6A-C8DE7DBB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A7C5-0348-4B31-A260-556051FA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624B-40BC-4EB0-B4A8-F6139DE0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96C5-CB0C-4E65-8A30-CE21A0F4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3A4D-F284-4D2D-BB88-240D8D35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FB76-5BBC-471F-9B6D-7AD8FD06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3BBB-D721-49BC-954C-EC52387B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F389-1E6A-46C7-8C73-FF5A7098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D371-C3B0-45D7-8DFB-E36F609C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8FDA-D549-416E-B952-FD5EA6C9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74F9-9382-4BA5-986F-632B30DF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DBC2C-BE2F-4CA6-8183-1ADCB5BFFE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F18E0-C490-492A-9802-479414DB3F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F4A6E-0BF6-45D4-B350-43177261F8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05E1B-FBB6-4E9B-8AD3-B79B728420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EA858-5A41-4490-BD16-0D6BFC85DE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666-636E-417E-B7F5-C5F0E0A1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1C5A3-0CFC-46B8-9BC2-F17454D76F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3FEDE-8AB2-415D-A4E2-FEE92F2731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9BE14-CBB7-4E93-9159-B58F6C6470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7C9E6-8A8E-4FF3-8D80-20C5718C42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70433-9F8A-4F73-BD86-73895F0F0B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FEEDA-D0E3-4BDA-8E4F-A7E595F940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B1386-91A5-4595-8C71-B3C26FEF14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38D950-823C-4642-A7D6-F224EB8A6C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12938-8822-444F-9330-3C1D5F5E5C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840504-420E-43CC-9B4F-5343931DB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109-F1B1-48FE-9A5B-08E85736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CCED3C-51C9-4340-9739-5605250816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1434A5-93B8-47BB-891D-DF15E6A165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7D56FB-E3D0-4FF6-A71A-5EBAF034EC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E31AEF-4622-40B9-B4D0-DBB8ED2E17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AAB9E0-61C2-4AAD-AE70-352495F67C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6584F2-B630-4CF9-81FD-1B022FA2BC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7DDC80-BDAB-4E7B-BCCA-DB8AD07696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15D44D-6957-4FD4-86FD-7F776F5C5B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CE59E2-A724-4912-B5F7-5834C3364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09D-2F89-428F-A9C3-437861B8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32E-32DF-4BC9-9611-D469549F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1325-7426-457E-8261-5BB1C43C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60A-C25C-415E-BC65-5A34A42A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A10-AD5A-4A9E-9EE5-7D660796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C373-0B05-4652-8585-9B3C8D8B4C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A24E-960A-47F5-840B-FDBAC0891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6E63-70D8-43B8-B79A-DB24F5B6EAB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ADCF-4E87-40E1-909A-296242EE7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29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30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29" descr="lww_wk_logo[1].gif"/>
          <p:cNvPicPr/>
          <p:nvPr/>
        </p:nvPicPr>
        <p:blipFill>
          <a:blip r:embed="rId2"/>
          <a:stretch/>
        </p:blipFill>
        <p:spPr>
          <a:xfrm>
            <a:off x="457200" y="6350040"/>
            <a:ext cx="2171880" cy="3585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9 Wolters Kluwer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508A-C528-48E1-9C08-D7670B110EB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93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194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29" descr="lww_wk_logo[1].gif"/>
          <p:cNvPicPr/>
          <p:nvPr/>
        </p:nvPicPr>
        <p:blipFill>
          <a:blip r:embed="rId2"/>
          <a:stretch/>
        </p:blipFill>
        <p:spPr>
          <a:xfrm>
            <a:off x="457200" y="6350040"/>
            <a:ext cx="2171880" cy="358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9 Wolters Kluwer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8B82-D163-47D3-86D4-0935E5F47A4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dc.gov/hiv/treatment.htm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journals.lww.com/aidsonline/Fulltext/2004/03260/Use_of_postexposure_prophylaxis_against_HIV.10.aspx" TargetMode="External"/><Relationship Id="rId2" Type="http://schemas.openxmlformats.org/officeDocument/2006/relationships/hyperlink" Target="http://journals.lww.com/aidsonline/Fulltext/2004/03260/Use_of_postexposure_prophylaxis_against_HIV.10.aspx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, the needlestick and You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Farnitano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ational exposure to HIV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n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, March 25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6934320" y="609480"/>
            <a:ext cx="168588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trospective analysi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s Ratio of acquiring HI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eep injury (I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1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visible blood on the shar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6.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ource with preterminal A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harp was in source artery/v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all transmission rat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% percutaneous expo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5% confidence interval {CI}=0.2%-0.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.0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bloody splash to mucous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5% CI=0.006%-0.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lt;&lt;0.1% blood splash to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ocumented cases of transmission to HCWs from skin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ther body fluids besides blood with potential transmission risk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Visibly blo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Semen, vaginal secretions, CSF, synovial fluid, pleural fluid, peritoneal fluid, pericardial fluid, amniotic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No documented cases of transmission of any of these fluid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exposures not to treat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Feces, nasal secretions, saliva, sputum, sweat, tears, urine, and vomit are not considered potentially infectious unless they are visibly blo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Source patient known HIV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31f20"/>
                </a:solidFill>
                <a:uFillTx/>
                <a:latin typeface="AGaramond-Regular"/>
              </a:rPr>
              <a:t>Consider</a:t>
            </a: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 treatment if source unknown or source HIV status unknown </a:t>
            </a:r>
            <a:r>
              <a:rPr b="0" lang="en-US" sz="3200" spc="-1" strike="noStrike" u="sng">
                <a:solidFill>
                  <a:srgbClr val="231f20"/>
                </a:solidFill>
                <a:uFillTx/>
                <a:latin typeface="AGaramond-Regular"/>
              </a:rPr>
              <a:t>only</a:t>
            </a:r>
            <a:r>
              <a:rPr b="0" lang="en-US" sz="3200" spc="-1" strike="noStrike">
                <a:solidFill>
                  <a:srgbClr val="231f20"/>
                </a:solidFill>
                <a:latin typeface="AGaramond-Regular"/>
              </a:rPr>
              <a:t> if risk factors make source likely to have H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isk of transmission of other ag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utaneous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 B: 2-4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atitis C: 1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mediate Postexposure wound car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 with soap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tiseptics no proven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sh eyes with sterile saline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ean water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038480" y="3581280"/>
            <a:ext cx="2283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texposure HIV Chemo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andard of Care since 199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262728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?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’s the evidenc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4008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iologically plausibl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IV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ginal inocul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24 hrs: virus limited to dendritic cells in mucosa with no evidence of active repli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24-48 hrs: virus found in lymph nodes, replicat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+5 days: free virus detected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for aborted infe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cell mediated immune responses to viral antigens detectable in humans with high risk exposures who did no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infec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Understand that PEP, while unproven, is likely to be of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Know the protocol for dealing with occupational expo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T effective in tissue culture models, SIV monkey model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ctive human trials - the perinatal transmission mod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G 076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ZT reduced perinatal transmission 67%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reatment benefit not solely explained by reduction in maternal viral t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d benefit of initiating infant AZT up to 72 hours after birth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If mom did not receive antivirals, still &gt;50% reduction in transmission if AZT started in infant 0-72 hrs after bir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erinatal Transmission rate directly related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to use of maternal 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Picture Placeholder 1" descr="Fig. 1"/>
          <p:cNvPicPr/>
          <p:nvPr/>
        </p:nvPicPr>
        <p:blipFill>
          <a:blip r:embed="rId1"/>
          <a:stretch/>
        </p:blipFill>
        <p:spPr>
          <a:xfrm>
            <a:off x="1106640" y="990720"/>
            <a:ext cx="8037360" cy="46479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2590920"/>
            <a:ext cx="7467480" cy="38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. 1. Trends in mother-to-infant transmission rate and maternal antiretroviral therapy: 1990-1999+ (Women and Infants Transmission Study Group). Rates per 100 (95% confidence interval)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 JAIDS Journal of Acquired Immune Deficiency Syndromes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20E9-49C8-4DD3-B5F2-B013231615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DC case-control study of occupational HIV expo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receiving AZT 81% less likely (odds ratio = 0.19) to acquire infection, controlled for other variabl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CRMC guidelines mirror Current CDC guideline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MdBT,Bold"/>
              </a:rPr>
              <a:t>U.S. Public Health Service Guidelines for the Management of Occupational Exposures to HIV and Recommendations for Postexposure Prophyl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-ThirtyThreeBC"/>
              </a:rPr>
              <a:t>Department of Health and Huma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-ThirtyThreeBC"/>
              </a:rPr>
              <a:t>Centers for Disease Control and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cdc.gov/hiv/treatmen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updated September 30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rt treatment ASAP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ake the first dose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k about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/>
          <a:stretch/>
        </p:blipFill>
        <p:spPr>
          <a:xfrm>
            <a:off x="2705040" y="2743200"/>
            <a:ext cx="5810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rt treatment ASAP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ow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hours to p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do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http://upload.wikimedia.org/wikipedia/commons/3/31/Man_sitting_under_beach_umbrella.JPG"/>
          <p:cNvPicPr/>
          <p:nvPr/>
        </p:nvPicPr>
        <p:blipFill>
          <a:blip r:embed="rId1"/>
          <a:stretch/>
        </p:blipFill>
        <p:spPr>
          <a:xfrm>
            <a:off x="5533920" y="1380960"/>
            <a:ext cx="36100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eatment initiation after 72 hour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recommended in high risk exposur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e 2 dru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imen:</a:t>
            </a:r>
            <a:br>
              <a:rPr sz="2800"/>
            </a:br>
            <a:r>
              <a:rPr b="1" lang="en-US" sz="2800" spc="-1" strike="noStrike">
                <a:solidFill>
                  <a:srgbClr val="231f20"/>
                </a:solidFill>
                <a:latin typeface="AGaramond-Bold"/>
              </a:rPr>
              <a:t>Truvada (tenofovir + emtricitabine) 1 tab q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regim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vir (Zidovudine/Lamivudin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tab B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Zidovudine (Retrovir; AZT) 300mg BID+ emtrictabine (Emtriva; FTC) 200mg q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Garamond-Bold"/>
              </a:rPr>
              <a:t>Tenofovir (Viread; TDF) 300mg qday + lamivudine (Epivir; 3TC) 300mg q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2895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Swallow first, ask questions la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doses of antivirals are available at all our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Know protocols for non-occupational P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28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’s better toler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73% completed 4 week course of Truv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vs. 42% with Combi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e effects of Truvada with P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Diarrhea 3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Bloating, stomach pain 4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Few discontinuations due to side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e effects of Combivir with PE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Nausea/vomiting &gt;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AGaramond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Many discontinuations due to side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Garamond-Bold"/>
              </a:rPr>
              <a:t>(Study done with sexual PEP pts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Truvada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tion: Truvada contraindicated in individuals with inpaired renal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istant Viru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lternate regimens if source patient likely to harbor resistant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medication history: do they have a high viral load (over 1000) despite being on m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f patient had an HIV genotyp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istant Viru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% of newly diagnosed HIV+ are infected with a resistant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nly 3.6% have resistance to “nuke”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s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rial"/>
              </a:rPr>
              <a:t>In more severe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For example, large-bore hollow needle, deep puncture, visible blood on device, or needle used in patient’s artery or v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high risk source pati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31f2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Symptomatic HIV infection, AIDS, acute seroconversion, or known high viral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s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rial"/>
              </a:rPr>
              <a:t>For mucous membrane expos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vere expos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gh risk sour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 regimen recommended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Garamond-Bold"/>
              </a:rPr>
              <a:t>Basic regimen pl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1f20"/>
                </a:solidFill>
                <a:latin typeface="AGaramond-Bold"/>
              </a:rPr>
              <a:t>Lopinavir/ritonavir (Kaletra; LPV/RTV) 200/50 2 tabs B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f20"/>
                </a:solidFill>
                <a:latin typeface="AGaramond-Bold"/>
              </a:rPr>
              <a:t>ANTIRETROVIRAL AGENTS GENERALLY NOT RECOMMENDED FOR USE AS PE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Garamond-Bold"/>
              </a:rPr>
              <a:t>Nevirapine (Viramune; N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ssociated with severe hepatotoxicity (including at least one case of liver failure requiring liver transplantation in an exposed person taking P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ssociated with rash (early onset) that can be severe</a:t>
            </a:r>
            <a:br>
              <a:rPr sz="2000"/>
            </a:br>
            <a:r>
              <a:rPr b="0" lang="en-US" sz="2000" spc="-1" strike="noStrike">
                <a:solidFill>
                  <a:srgbClr val="231f20"/>
                </a:solidFill>
                <a:latin typeface="AGaramond-Regular"/>
              </a:rPr>
              <a:t>and progress to Stevens-Johnson synd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-Bold"/>
              </a:rPr>
              <a:t>Efavirenz (Sustiva, EF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Garamond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aramond-Regular"/>
              </a:rPr>
              <a:t>Contraindicated in women who might be pregnant due to risk of birth de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eat X 4 wee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3048120" y="2400480"/>
            <a:ext cx="4800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05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340668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053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531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aging the Exposed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d fill out red needlestick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mention source patient’s name or medical record number in patient’s paper chart or di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record the source patient’s name and MR# on the needlestick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leave Cathy Ferris a voice mail (370-5079) with source patient’s name and MR#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b tests -Baseline for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cument prior non-infected status to support/refute worker’s comp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BSab, Hep C ab, LFTs, Urgent H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entry under lab order “B/BF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itional tests if initiating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G, CBC/d, UA, AST, alk phos, CK, t.bili, 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b tests - on source pati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HIV, HepBSag, HepC Ab, VD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entry under lab order “B/BF S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pdate immunization status of employ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 B vaccine, H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tanus (give Tdap while you are at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llow up lab monitoring on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CBC, LFTs after 2weeks on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glucose if on 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fe Se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il 3 month testing results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43434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P is not Perfect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EP failures well documented since 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hollow needles, 1/6 unknown sh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6 source patients had AIDS, 1/6 had asymptomatic HIV infection but not on m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 took 2 drug (2) 3 drug (3) or 4 drug (1) regimens, all initiated in&lt;2hours after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eveloped symptoms of acute HIV within 7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had documented seroconversion within 10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 antibody testing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aseline, 6 weeks, 3 months,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eroconvert within 6-1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 does not delay seroconver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V viral lo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f symptoms suggestive of acute HIV syndrome (fever, rash, lymphadenopathy, pharyngitis, myalgia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Study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's 2AM.  Your sewing up a 2nd degree lac on a primiparous HIV positive mom who just delivered a healthy baby bo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c is deep into the vagina, and it is hard to see where to place your stitches due to bleeding from the lace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atient's attention is devoted to the infant, whom she is trying to take a picture of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4800600" y="22860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de effects of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% HCW had 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 (2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 sl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igue (2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(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al upset (13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Es with 3 drug regi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cdotally are higher than in patients taking same meds for established HIV inf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619600" y="457200"/>
            <a:ext cx="35244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liance with 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ce with Occupational PEP is po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ource patient known HIV positiv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% employees initiate P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ose starting me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% fail to complete 4 weeks of m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% failed to complete due to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rug regimens had lower completion r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EP line 1-888-HIV-4911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y Ferris, 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 control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0-50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per 26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se #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 y.o. woman presents to the 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states she had intercourse 7 days ago with her boyfriend and the condom b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does not know her boyfriend’s HIV status, nor he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asks about medication to prevent HIV from this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offer 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exual and other Non-occupational Post-Exposure Prophylax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of one episode of receptive vaginal intercourse is 0.1%, similar to needle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higher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ve anal inter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e and traumatic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partner with genital lesions/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7162920" cy="506556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1600200" y="609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ctiousness is directly related to vir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scen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om b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night 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 (S-PEP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of S-PEP biologically plau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often present later in time than occupational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nclear who source patient is or their risk factors, HIV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risk reduction counseling for future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risk reduction counseling for future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taking S-PEP reduced instances of unprotected sex by 80% during month of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atients reported being high on alcohol or drugs or both when had unprotected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place your first stitch, your patient yells "ouch" and jum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feel a pinprick and inspect your nondominant ha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ee blood under the glove of your index fing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052" descr=""/>
          <p:cNvPicPr/>
          <p:nvPr/>
        </p:nvPicPr>
        <p:blipFill>
          <a:blip r:embed="rId1"/>
          <a:stretch/>
        </p:blipFill>
        <p:spPr>
          <a:xfrm>
            <a:off x="4343400" y="3886200"/>
            <a:ext cx="2438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Use of postexposure prophylaxis against HIV infection following sexual exposure does not lead to increases in high-risk behavio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7" name="Picture Placeholder 1" descr="Fig. 1"/>
          <p:cNvPicPr/>
          <p:nvPr/>
        </p:nvPicPr>
        <p:blipFill>
          <a:blip r:embed="rId3"/>
          <a:stretch/>
        </p:blipFill>
        <p:spPr>
          <a:xfrm>
            <a:off x="2133720" y="1523880"/>
            <a:ext cx="5715000" cy="43243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398" name="Footer Placeholder 4"/>
          <p:cNvSpPr/>
          <p:nvPr/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 AIDS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4637-9A7A-430C-BB39-4F618637E5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xual Post-Exposure Prophylaxis – Recommendation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28-day course of HAART is recommended for persons who have had nonoccupational exposure to blood, genital secretions, or other potentially infected body fluids of a persons known to be HIV infected when that exposure represent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tant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sk for HIV transmission and when the person seeks care within 72 hours of expos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3" name="Object 0"/>
          <p:cNvGraphicFramePr/>
          <p:nvPr/>
        </p:nvGraphicFramePr>
        <p:xfrm>
          <a:off x="-380880" y="-41400"/>
          <a:ext cx="9524880" cy="7143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-41400"/>
                    <a:ext cx="9524880" cy="71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drugs recommended in S-P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likelihood patient may already be HIV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ay in presenting to care after exposure increases risk of PEP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mi-related iss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iss a lot of opportunities to t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Urban ER study on offering routine testing to all patients seen in 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 of patients accep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% of all patients were HIV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% of these had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6% of patients with risk behaviors had 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had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% of those testing positive entered HIV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1 - Don't Panic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3949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2 - Get someone else to take care of the pati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3 - Clean the woun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2283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ep 4 - Go to ER or Charge nurse of site to get care per protocol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3738600" y="2176560"/>
            <a:ext cx="25066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vention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iversal precau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2727360" y="1981080"/>
            <a:ext cx="466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o you do now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http://www.ibiblio.org/wm/paint/auth/munch/munch.scream.jpg"/>
          <p:cNvPicPr/>
          <p:nvPr/>
        </p:nvPicPr>
        <p:blipFill>
          <a:blip r:embed="rId1"/>
          <a:stretch/>
        </p:blipFill>
        <p:spPr>
          <a:xfrm>
            <a:off x="3200400" y="914400"/>
            <a:ext cx="4417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do you do now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053"/>
          <p:cNvSpPr/>
          <p:nvPr/>
        </p:nvSpPr>
        <p:spPr>
          <a:xfrm>
            <a:off x="1676520" y="1905120"/>
            <a:ext cx="70102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p off your f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caring for the patient and try to forget about the whole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someone else to take care of the patient, wash the wound, and go to the 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ccupational infection of health care workers with HI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December, 2006, i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 documented cases HCW-associated HIV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were percutaneous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were hollow bore need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ucous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unknow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0,000 est. needlesticks/year in US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2:59:44Z</dcterms:created>
  <dc:creator>Joseph Barger</dc:creator>
  <dc:description/>
  <dc:language>en-US</dc:language>
  <cp:lastModifiedBy>cfarnita</cp:lastModifiedBy>
  <cp:lastPrinted>2002-12-05T20:33:39Z</cp:lastPrinted>
  <dcterms:modified xsi:type="dcterms:W3CDTF">2010-03-22T23:29:25Z</dcterms:modified>
  <cp:revision>24</cp:revision>
  <dc:subject/>
  <dc:title>HIV, the needle and You</dc:title>
</cp:coreProperties>
</file>