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394-250F-4390-B467-CD7C0DA6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072-1D32-46AD-AF8C-AB0CCCA4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1DE-44F3-4666-BCD5-4429D36C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FF4-6D72-436D-95C1-909E8190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08ED-4F9B-404D-B4E8-7A35D94C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2976-A8C7-4112-958A-1AC53660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FA41-2716-4E10-B1ED-57A358CA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B053-64E3-463A-8B66-5ADB1381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2BB1-0BB0-42A0-9783-FEAF0A4D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D625-3072-47F2-8659-1791873B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7E7E-7819-47A7-B93C-29FC1A91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404-6DFA-44D8-B9AF-13AB8C9C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1CBC-B802-41F9-BF04-FACD15C6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A3CB-7AE3-45B7-8902-F18B04C2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3B36-58A1-4692-9C24-D8FFBE5D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ABB9-5CF2-4D99-9E61-B4DC23C5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5E73-12F9-4210-8C47-1881075F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5828D-78C0-4677-B691-D787BE893F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ACAD1-C405-48D1-9B89-3D822D2C38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D77ED-C7BC-4B9F-A7B1-C68DA8AFCB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65E94-3F3F-4826-9E43-17DD7749CC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A1F39-639F-4F3E-9E7F-14255C02DD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539-4893-45F8-B44E-7DBA82D9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C100F-4112-4188-8A46-4AFCC766B7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2AE98-BBD1-4EB0-8B8C-8E954BF264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23E7B-0C88-4C4E-A824-2EFD74160C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BA801-26F2-43CF-B1A3-6D406C4378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A5FC5-82BA-4AB9-8509-94DACD2435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EFC31-F602-4E58-9F5B-39AAB31379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F6E22-9314-4CB4-B568-E455E60C6D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BC71F4-8C59-40F3-850F-1A2E294648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A46D1F-88B3-41C4-8EF7-32D33E1996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52D48-7D9B-46C8-8F52-BAFC23964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DB9-AB80-4FEE-BAFA-DB4EA027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9C61F-C922-486F-8B26-C4284180B9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35049A-61A7-41C4-A830-1FBCAB0790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4B672-EE24-4E6B-BB81-4B082EB836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D4E25A-DA65-42A0-8AF6-C94A4906AA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EB3F7-671B-45C3-9D08-0A90F1BE8C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4BEB7-78C2-417F-BE1A-A1FAE3B425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FB9F3-C0C4-4C85-8D13-9AC6DBCF81D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65E15-5BE2-4CE3-B130-DE67EF59C3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01D23-464C-4609-9F2A-0A455AB1F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72F-5B82-407A-A621-68598D7C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6BF-FC39-485D-8D13-D9E162A5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F28-6B9F-4E7E-8C55-CE2F1425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F17-EA00-4099-A61C-B137F962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4E2-3D77-4248-A262-8BB0E03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0059-63A0-4286-BE57-833FE24B47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7E72-268F-42F7-B730-A1F9FD0EA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09B8-FA82-4ADD-91E7-237CD0E6A00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8A2E-AF5F-4D50-94BA-CA731A336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29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30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D701-FC7B-46EC-9DC9-C3078461750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3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94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DC4C-2DEB-4B14-BBFF-231C1DEA52F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dc.gov/hiv/treatment.htm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journals.lww.com/aidsonline/Fulltext/2004/03260/Use_of_postexposure_prophylaxis_against_HIV.10.aspx" TargetMode="External"/><Relationship Id="rId2" Type="http://schemas.openxmlformats.org/officeDocument/2006/relationships/hyperlink" Target="http://journals.lww.com/aidsonline/Fulltext/2004/03260/Use_of_postexposure_prophylaxis_against_HIV.10.aspx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, the needlestick and Yo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al exposure to HIV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March 25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68588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trospective analysi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s Ratio of acquiring HI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eep injury (I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1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isible blood on the sha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6.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urce with preterminal A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arp was in source artery/v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all transmission rat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% percutaneous expo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onfidence interval {CI}=0.2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.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bloody splash to mucous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I=0.006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lt;&lt;0.1% blood splash to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ocumented cases of transmission to HCWs from skin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ther body fluids besides blood with potential transmission risk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Visibly blo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emen, vaginal secretions, CSF, synovial fluid, pleural fluid, peritoneal fluid, pericardial fluid, amni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No documented cases of transmission of any of these flui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exposures not to trea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Feces, nasal secretions, saliva, sputum, sweat, tears, urine, and vomit are not considered potentially infectious unless they are visibly blo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ource patient known HIV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Consider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treatment if source unknown or source HIV status unknown </a:t>
            </a: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only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if risk factors make source likely to have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isk of transmission of other ag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utaneous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B: 2-4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C: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mediate Postexposure wound car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 with soap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tiseptics no proven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 eyes with sterile saline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n water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038480" y="3581280"/>
            <a:ext cx="2283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texposure HIV Chemo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andard of Care since 199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262728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?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’s the evidenc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4008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iologically plausibl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IV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ginal inocul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 hrs: virus limited to dendritic cells in mucosa with no evidence of active repl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-48 hrs: virus found in lymph nodes, replica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5 days: free virus detected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or aborted infe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cell mediated immune responses to viral antigens detectable in humans with high risk exposures who did n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infec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Understand that PEP, while unproven, is likely to be of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Know the protocol for dealing with occupational expo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T effective in tissue culture models, SIV monkey model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human trials - the perinatal transmission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G 076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ZT reduced perinatal transmission 67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reatment benefit not solely explained by reduction in maternal viral t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d benefit of initiating infant AZT up to 72 hours after birth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f mom did not receive antivirals, still &gt;50% reduction in transmission if AZT started in infant 0-72 hrs after bir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erinatal Transmission rate directly related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to use of maternal 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Picture Placeholder 1" descr="Fig. 1"/>
          <p:cNvPicPr/>
          <p:nvPr/>
        </p:nvPicPr>
        <p:blipFill>
          <a:blip r:embed="rId1"/>
          <a:stretch/>
        </p:blipFill>
        <p:spPr>
          <a:xfrm>
            <a:off x="1106640" y="990720"/>
            <a:ext cx="8037360" cy="46479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2590920"/>
            <a:ext cx="74674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 1. Trends in mother-to-infant transmission rate and maternal antiretroviral therapy: 1990-1999+ (Women and Infants Transmission Study Group). Rates per 100 (95% confidence interval)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JAIDS Journal of Acquired Immune Deficiency Syndrome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3D3B-ECD6-4F04-9A98-309EF00F73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DC case-control study of occupational HIV expo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receiving AZT 81% less likely (odds ratio = 0.19) to acquire infection, controlled for other variabl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CRMC guidelines mirror Current CDC guidelin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MdBT,Bold"/>
              </a:rPr>
              <a:t>U.S. Public Health Service Guidelines for the Management of Occupational Exposures to HIV and Recommendations for Postexposure Prophyl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Department of Health and Huma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cdc.gov/hiv/treatmen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updated September 30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ake the first dos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about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2705040" y="2743200"/>
            <a:ext cx="5810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w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hours to p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do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upload.wikimedia.org/wikipedia/commons/3/31/Man_sitting_under_beach_umbrella.JPG"/>
          <p:cNvPicPr/>
          <p:nvPr/>
        </p:nvPicPr>
        <p:blipFill>
          <a:blip r:embed="rId1"/>
          <a:stretch/>
        </p:blipFill>
        <p:spPr>
          <a:xfrm>
            <a:off x="5533920" y="1380960"/>
            <a:ext cx="36100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ment initiation after 72 hour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recommended in high risk exposur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e 2 dru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imen:</a:t>
            </a:r>
            <a:br>
              <a:rPr sz="2800"/>
            </a:b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Truvada (tenofovir + emtricitabine) 1 tab q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regim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vir (Zidovudine/Lamivudin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tab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Zidovudine (Retrovir; AZT) 300mg BID+ emtrictabine (Emtriva; FTC) 2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Garamond-Bold"/>
              </a:rPr>
              <a:t>Tenofovir (Viread; TDF) 300mg qday + lamivudine (Epivir; 3TC) 3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2895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wallow first, ask questions la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oses of antivirals are available at all our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Know protocols for non-occupational P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28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better toler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73% completed 4 week course of Truv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vs. 42% with Comb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Truvada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Diarrhea 3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Bloating, stomach pain 4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Few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Combivir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Nausea/vomiting &gt;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Many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(Study done with sexual PEP pts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tion: Truvada contraindicated in individuals with inpaired renal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lternate regimens if source patient likely to harbor resistant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medication history: do they have a high viral load (over 1000) despite being on m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patient had an HIV genotyp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newly diagnosed HIV+ are infected with a resistant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ly 3.6% have resistance to “nuke”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In more sever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For example, large-bore hollow needle, deep puncture, visible blood on device, or needle used in patient’s artery or v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igh risk source pat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Symptomatic HIV infection, AIDS, acute seroconversion, or known high vir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For mucous membran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vere expo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gh risk sour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Basic regimen pl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Lopinavir/ritonavir (Kaletra; LPV/RTV) 200/50 2 tabs 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ANTIRETROVIRAL AGENTS GENERALLY NOT RECOMMENDED FOR USE AS P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Nevirapine (Viramune; N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severe hepatotoxicity (including at least one case of liver failure requiring liver transplantation in an exposed person taking P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rash (early onset) that can be severe</a:t>
            </a:r>
            <a:br>
              <a:rPr sz="2000"/>
            </a:b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nd progress to Stevens-Johnson sy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-Bold"/>
              </a:rPr>
              <a:t>Efavirenz (Sustiva, EF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aramond-Regular"/>
              </a:rPr>
              <a:t>Contraindicated in women who might be pregnant due to risk of birth 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 X 4 wee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3048120" y="2400480"/>
            <a:ext cx="4800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05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340668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53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531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aging the Exposed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fill out red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ention source patient’s name or medical record number in patient’s paper chart or di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record the source patient’s name and MR# on the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leave Cathy Ferris a voice mail (370-5079) with source patient’s name and MR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Baseline for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cument prior non-infected status to support/refute worker’s comp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BSab, Hep C ab, LFTs, Urgent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tests if initiating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G, CBC/d, UA, AST, alk phos, CK, t.bili, 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 on source pat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HIV, HepBSag, HepC Ab, VD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S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pdate immunization status of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 B vaccine, H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anus (give Tdap while you are at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llow up lab monitoring on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CBC, LFTs after 2weeks on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lucose if on 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fe Se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3 month testing result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43434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is not Perfec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EP failures well documented since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hollow needles, 1/6 unknown sh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source patients had AIDS, 1/6 had asymptomatic HIV infection but not on m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took 2 drug (2) 3 drug (3) or 4 drug (1) regimens, all initiated in&lt;2hours after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eveloped symptoms of acute HIV within 7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ad documented seroconversion within 10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antibody testing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aseline, 6 weeks, 3 months,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roconvert within 6-1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does not delay sero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viral lo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f symptoms suggestive of acute HIV syndrome (fever, rash, lymphadenopathy, pharyngitis, myalgia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Study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2AM.  Your sewing up a 2nd degree lac on a primiparous HIV positive mom who just delivered a healthy baby b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c is deep into the vagina, and it is hard to see where to place your stitches due to bleeding from the lace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atient's attention is devoted to the infant, whom she is trying to take a picture of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de effects of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% HCW had 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 (2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 sl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 (2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(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upset 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s with 3 drug regi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cdotally are higher than in patients taking same meds for established HIV inf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619600" y="457200"/>
            <a:ext cx="35244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liance with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Occupational PEP is po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ource patient known HIV positiv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% employees initiate P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ose starting m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fail to complete 4 weeks of m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% failed to complete due to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rug regimens had lower completion r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line 1-888-HIV-4911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y Ferris, 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contro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0-5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per 26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 y.o. woman presents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tates she had intercourse 7 days ago with her boyfriend and the 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does not know her boyfriend’s HIV status, nor he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sks about medication to prevent HIV from this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offer 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xual and other Non-occupational Post-Exposure Prophylax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one episode of receptive vaginal intercourse is 0.1%, similar to needle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higher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ve anal inter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and traumatic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partner with genital lesions/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7162920" cy="50655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60020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ctiousness is directly related to vir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night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(S-PE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of S-PEP biologically plau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often present later in time than occupational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nclear who source patient is or their risk factors, HIV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taking S-PEP reduced instances of unprotected sex by 80% during month of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atients reported being high on alcohol or drugs or both when had unprotected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place your first stitch, your patient yells "ouch" and jum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feel a pinprick and inspect your nondominant ha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ee blood under the glove of your index fing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2438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Use of postexposure prophylaxis against HIV infection following sexual exposure does not lead to increases in high-risk behavio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Picture Placeholder 1" descr="Fig. 1"/>
          <p:cNvPicPr/>
          <p:nvPr/>
        </p:nvPicPr>
        <p:blipFill>
          <a:blip r:embed="rId3"/>
          <a:stretch/>
        </p:blipFill>
        <p:spPr>
          <a:xfrm>
            <a:off x="2133720" y="1523880"/>
            <a:ext cx="5715000" cy="4324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98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AID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7C8B-BEE8-4BB0-9B1D-90866377EE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– Recommendation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28-day course of HAART is recommended for persons who have had nonoccupational exposure to blood, genital secretions, or other potentially infected body fluids of a persons known to be HIV infected when that exposure represent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k for HIV transmission and when the person seeks care within 72 hours of expos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Object 0"/>
          <p:cNvGraphicFramePr/>
          <p:nvPr/>
        </p:nvGraphicFramePr>
        <p:xfrm>
          <a:off x="-380880" y="-41400"/>
          <a:ext cx="9524880" cy="714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41400"/>
                    <a:ext cx="9524880" cy="71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s recommended in S-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ikelihood patient may already be HIV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y in presenting to care after exposure increases risk of PEP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mi-related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iss a lot of opportunities to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Urban ER study on offering routine testing to all patients seen in 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 of patients accep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% of all patients were HIV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% of these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6% of patients with risk behaviors had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of those testing positive entered HIV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1 - Don't Panic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3949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2 - Get someone else to take care of the pati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3 - Clean the woun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2283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4 - Go to ER or Charge nurse of site to get care per protocol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3738600" y="2176560"/>
            <a:ext cx="25066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ven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iversal precau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2727360" y="1981080"/>
            <a:ext cx="466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http://www.ibiblio.org/wm/paint/auth/munch/munch.scream.jpg"/>
          <p:cNvPicPr/>
          <p:nvPr/>
        </p:nvPicPr>
        <p:blipFill>
          <a:blip r:embed="rId1"/>
          <a:stretch/>
        </p:blipFill>
        <p:spPr>
          <a:xfrm>
            <a:off x="3200400" y="914400"/>
            <a:ext cx="4417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53"/>
          <p:cNvSpPr/>
          <p:nvPr/>
        </p:nvSpPr>
        <p:spPr>
          <a:xfrm>
            <a:off x="1676520" y="1905120"/>
            <a:ext cx="7010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p off your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caring for the patient and try to forget about the whol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omeone else to take care of the patient, wash the wound, and go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ccupational infection of health care workers with HI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December, 2006, i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 documented cases HCW-associated HIV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were percutaneous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were hollow bore nee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ucous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unknow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,000 est. needlesticks/year in US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2:59:44Z</dcterms:created>
  <dc:creator>Joseph Barger</dc:creator>
  <dc:description/>
  <dc:language>en-US</dc:language>
  <cp:lastModifiedBy>cfarnita</cp:lastModifiedBy>
  <cp:lastPrinted>2002-12-05T20:33:39Z</cp:lastPrinted>
  <dcterms:modified xsi:type="dcterms:W3CDTF">2010-03-22T23:29:25Z</dcterms:modified>
  <cp:revision>24</cp:revision>
  <dc:subject/>
  <dc:title>HIV, the needle and You</dc:title>
</cp:coreProperties>
</file>