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8B17-DCDD-467F-973A-0A387C259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B91F-2558-4CB7-A0E0-A5B501274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87A3-09EA-4490-A55E-1A9CA21DD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B86B-E3E2-457F-9EA2-CCA402D47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man, Hellman-Wylie, Steinhart, Akin, McCormick, Tzvieli (and maybe some oth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5B42-175B-437C-AD10-61C17B9B0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B3F2-4D1E-494A-B701-7A188CDCC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of patient with chf, four days in the hospital before learning she would not want cath or other interven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2916-8E96-4853-85B5-F3AA8369F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2C12-01E1-47EA-87CC-EBEB46E17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2BC9-BF95-4846-828E-2D1842069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vast literature on this topic - I’ll just choose two studie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show the results, I want to survey the room - close your eyes - let’s take a representative sample of healthcare provid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A357-5F20-4823-9230-A57CB9A87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142D-DCFA-4850-A8DF-FA64D0544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DD0D-22BA-4411-9333-D075DB1BB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EA8D-603E-41D2-AC0B-498A63693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on spectrum of patients, physicial comfort and psychosocial suppo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7CC3-330F-4866-80A4-0C95957B8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46D6-08AB-410E-8908-C66048ED0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argeting public hospitals for this fund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C0E4-8EB4-46AB-A829-27963A4DC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rovide better palliative care, will there be fewer prolonged stays ending in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61 total dea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hospital stay prior to death ranged from less than 24 hours to 49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patients were admitted for less than 24 hours prior to their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n length of stay prior to death was 6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148E-57FB-4433-A27E-FEE663D70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deaths we anticipate, can we provide better care to patients in less resource-intense settings?  Are these deaths occuring in the ICU because of acuity of care? Nursing experti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A016-8C3E-43F0-97FF-6FB4A89FE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death reported included septicemia (18), acute respiratory failure or pneumonia (9), liver or renal failure including cirrhosis (8), malignancy (6), COPD (4), acute MI (4), and other causes (12)  [other causes included: SLE, amyloid, nec facs, c. diff, CHF, anoxic brain injury (2), cerebral embolism, lower extremity embolism, NIDDM, ulcer, unspecified systolic heart dys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552B3-512E-4D9C-BEF2-3759E867E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75D4-4703-4A3D-8AC9-30966A7F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3CF3-1432-4AEC-B471-99E7B2A7D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B75AF-FC72-47EF-87E3-62EC8E2D4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FD154-746D-4567-BD14-ED947F54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E9DEC-997D-45F2-B7C6-5EF67CFB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75E11-295F-4B4A-A881-9BDD79CE9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B84ED-D0E1-4124-88C4-1F70CD1C8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7CFA6-4743-447B-8737-19B26C0F3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162C-BEBE-410D-BCF9-510F0D403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7EE9-597D-46DB-BEB9-62A2D5EA5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6463-4E40-42E9-A1CE-C93F99C2A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604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357C-BF1A-4833-B836-8FC6735720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4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lliative Care Consultation Te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n Introd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asics of Pain Manag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11.30.09</a:t>
            </a:r>
            <a:endParaRPr b="0" lang="en-US" sz="2800" spc="-1" strike="noStrike">
              <a:solidFill>
                <a:srgbClr val="000000"/>
              </a:solidFill>
              <a:latin typeface="Arial"/>
            </a:endParaRPr>
          </a:p>
        </p:txBody>
      </p:sp>
      <p:pic>
        <p:nvPicPr>
          <p:cNvPr id="50" name="Picture 5" descr="20081128-_MG_1766"/>
          <p:cNvPicPr/>
          <p:nvPr/>
        </p:nvPicPr>
        <p:blipFill>
          <a:blip r:embed="rId1"/>
          <a:stretch/>
        </p:blipFill>
        <p:spPr>
          <a:xfrm>
            <a:off x="3733920" y="547560"/>
            <a:ext cx="479880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4dee6"/>
                </a:solidFill>
                <a:latin typeface="Garamond"/>
              </a:rPr>
              <a:t>The CCRMC Palliative Care Consultation Service</a:t>
            </a:r>
            <a:endParaRPr b="0" lang="en-US" sz="3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 multidisciplinary team which will collaborate with CCRMC staff in providing palliative care to our patients</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n integrative service</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vailable for inpatients in our first year</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xpanding to the ED in our second y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dee6"/>
                </a:solidFill>
                <a:latin typeface="Garamond"/>
              </a:rPr>
              <a:t>Multidisciplinary</a:t>
            </a:r>
            <a:endParaRPr b="0" lang="en-US" sz="40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linicians</a:t>
            </a:r>
            <a:r>
              <a:rPr b="0" lang="en-US" sz="2000" spc="-1" strike="noStrike">
                <a:solidFill>
                  <a:srgbClr val="e4dee6"/>
                </a:solidFill>
                <a:latin typeface="Garamond"/>
              </a:rPr>
              <a:t> (Hellman-Wylie, Steinhart, Freedman, Akin, Tzvieli, Kuruvilla, McCormick…and you?)</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Social work</a:t>
            </a:r>
            <a:r>
              <a:rPr b="0" lang="en-US" sz="2000" spc="-1" strike="noStrike">
                <a:solidFill>
                  <a:srgbClr val="e4dee6"/>
                </a:solidFill>
                <a:latin typeface="Garamond"/>
              </a:rPr>
              <a:t> (Linda Russell)</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harmacists</a:t>
            </a:r>
            <a:r>
              <a:rPr b="0" lang="en-US" sz="2000" spc="-1" strike="noStrike">
                <a:solidFill>
                  <a:srgbClr val="e4dee6"/>
                </a:solidFill>
                <a:latin typeface="Garamond"/>
              </a:rPr>
              <a:t> (Katherine Dial, Sharon Sihota)</a:t>
            </a: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terpreters</a:t>
            </a:r>
            <a:endParaRPr b="0" lang="en-US" sz="24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sychiatry consult-liaison staff</a:t>
            </a:r>
            <a:r>
              <a:rPr b="0" lang="en-US" sz="2000" spc="-1" strike="noStrike">
                <a:solidFill>
                  <a:srgbClr val="e4dee6"/>
                </a:solidFill>
                <a:latin typeface="Garamond"/>
              </a:rPr>
              <a:t> (Liat Porat, John Echols)</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Nursing education</a:t>
            </a:r>
            <a:r>
              <a:rPr b="0" lang="en-US" sz="2000" spc="-1" strike="noStrike">
                <a:solidFill>
                  <a:srgbClr val="e4dee6"/>
                </a:solidFill>
                <a:latin typeface="Garamond"/>
              </a:rPr>
              <a:t> (Marianne Bunce)</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Residents</a:t>
            </a:r>
            <a:r>
              <a:rPr b="0" lang="en-US" sz="2000" spc="-1" strike="noStrike">
                <a:solidFill>
                  <a:srgbClr val="e4dee6"/>
                </a:solidFill>
                <a:latin typeface="Garamond"/>
              </a:rPr>
              <a:t> (Matt Foster, Sergio Urcuyo)</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Any resident on elective block who wants to join us for consultations is welcome</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erminal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ronic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tient/family prefer to be at home rather than hospital</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rolonged critical care course with poor prognosi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Lack of clarity in goals of care</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hronic illness with frequent hospitalization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tient/family lack understanding of diagnosis and prognosi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dvance care planning - choosing a DPOA, completing an advance directive</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You just don’t have time to find out what is going 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will we do?</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referred cases and arrange family meeting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Support relationship of primary team with patient and famil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xplore social histor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current medications and other order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stablish advance directiv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rrange home or hospice servic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o-follow patients with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for an ethnically diverse population</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grative care - effective collaboration between two team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ducation throughout the institution - nursing staff, residents, and other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CF sponsored survey of 1,800 California adults in 2006</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ich comes closer to your view?</a:t>
            </a:r>
            <a:endParaRPr b="0" lang="en-US" sz="32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Doctors and nurses should always do everything possible to save a life.”</a:t>
            </a:r>
            <a:endParaRPr b="0" lang="en-US" sz="28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Sometimes there are circumstances where a patient should be allowed to d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9" name="Object 4"/>
          <p:cNvGraphicFramePr/>
          <p:nvPr/>
        </p:nvGraphicFramePr>
        <p:xfrm>
          <a:off x="1219320" y="2209680"/>
          <a:ext cx="6859440" cy="4064040"/>
        </p:xfrm>
        <a:graphic>
          <a:graphicData uri="http://schemas.openxmlformats.org/presentationml/2006/ole">
            <p:oleObj r:id="rId1" spid="">
              <p:embed/>
              <p:pic>
                <p:nvPicPr>
                  <p:cNvPr id="90" name="Object 4" descr=""/>
                  <p:cNvPicPr/>
                  <p:nvPr/>
                </p:nvPicPr>
                <p:blipFill>
                  <a:blip r:embed="rId2"/>
                  <a:stretch/>
                </p:blipFill>
                <p:spPr>
                  <a:xfrm>
                    <a:off x="1219320" y="2209680"/>
                    <a:ext cx="685944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ulturally appropriate palliative care</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rpretation - Interpreters trained to act as cultural brokers, not simply translator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ultural humility</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trength of  provider-patient therapeutic relationship key to navigating gaps in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Integrative care - effective collaboration between two team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rimary team included in meetings whenever possible</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ncourage residents to lead meetings</a:t>
            </a:r>
            <a:endParaRPr b="0" lang="en-US" sz="2400" spc="-1" strike="noStrike">
              <a:solidFill>
                <a:srgbClr val="000000"/>
              </a:solidFill>
              <a:latin typeface="Arial"/>
            </a:endParaRPr>
          </a:p>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ducation throughout the institution - nursing staff and other discipline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clusion of the bedside nurse in meetings with patients and families.</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ontinuing education sessions for nursing staff</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ducational programs with other disciplines? (RTs, etc.)</a:t>
            </a:r>
            <a:endParaRPr b="0" lang="en-US" sz="24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2120"/>
            <a:ext cx="77724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team is available Monday - Friday, 8 am - 5 pm</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all schedule available on amion.com with password “ccrmc”</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hink of palliative care broadly, not just in terminal illnes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will learn as we go - please give us feedback so that we can do just th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One definition:</a:t>
            </a:r>
            <a:endParaRPr b="0" lang="en-US" sz="2800" spc="-1" strike="noStrike">
              <a:solidFill>
                <a:srgbClr val="000000"/>
              </a:solidFill>
              <a:latin typeface="Arial"/>
            </a:endParaRPr>
          </a:p>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comprehensive, interdisciplinary care, focusing primarily on promoting quality of life for patients living with a serious, chronic, or terminal illness and for their families…assuring physical comfort and psychosocial support.  It is provided simultaneously with all other appropriate medical treatments.”</a:t>
            </a:r>
            <a:endParaRPr b="0" lang="en-US" sz="2800" spc="-1" strike="noStrike">
              <a:solidFill>
                <a:srgbClr val="000000"/>
              </a:solidFill>
              <a:latin typeface="Arial"/>
            </a:endParaRPr>
          </a:p>
          <a:p>
            <a:pPr marL="318960" indent="-318960" algn="r">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illings, J Palliative Medicine,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9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dee6"/>
                </a:solidFill>
                <a:latin typeface="Garamond"/>
              </a:rPr>
              <a:t>California HealthCare Foundation</a:t>
            </a:r>
            <a:endParaRPr b="0" lang="en-US" sz="36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preading Palliative Care in Public Hospitals Initiativ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Focus on providing culturally sensitive car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have one of six implementation grants state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California public hospitals lag private </a:t>
            </a:r>
            <a:br>
              <a:rPr sz="3000"/>
            </a:br>
            <a:r>
              <a:rPr b="0" lang="en-US" sz="3000" spc="-1" strike="noStrike">
                <a:solidFill>
                  <a:srgbClr val="e4dee6"/>
                </a:solidFill>
                <a:latin typeface="Garamond"/>
              </a:rPr>
              <a:t>hospitals in palliative care</a:t>
            </a:r>
            <a:endParaRPr b="0" lang="en-US" sz="30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9" name="Object 6"/>
          <p:cNvGraphicFramePr/>
          <p:nvPr/>
        </p:nvGraphicFramePr>
        <p:xfrm>
          <a:off x="1523880" y="1778040"/>
          <a:ext cx="6324840" cy="4241880"/>
        </p:xfrm>
        <a:graphic>
          <a:graphicData uri="http://schemas.openxmlformats.org/presentationml/2006/ole">
            <p:oleObj progId="Excel.Sheet.12" r:id="rId1" spid="">
              <p:embed/>
              <p:pic>
                <p:nvPicPr>
                  <p:cNvPr id="60" name="Object 6" descr=""/>
                  <p:cNvPicPr/>
                  <p:nvPr/>
                </p:nvPicPr>
                <p:blipFill>
                  <a:blip r:embed="rId2"/>
                  <a:stretch/>
                </p:blipFill>
                <p:spPr>
                  <a:xfrm>
                    <a:off x="1523880" y="1778040"/>
                    <a:ext cx="6324840" cy="42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CRMC data</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Review of data from patient deaths, January - June 2009 </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How many patient deaths after &gt; 30 days in the hospital?</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 which unit do most patient deaths occur?</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at are the major causes of death among our pat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ength of stay for patients who ultimately died</a:t>
            </a:r>
            <a:endParaRPr b="0" lang="en-US" sz="4400" spc="-1" strike="noStrike">
              <a:solidFill>
                <a:srgbClr val="000000"/>
              </a:solidFill>
              <a:latin typeface="Arial"/>
            </a:endParaRPr>
          </a:p>
        </p:txBody>
      </p:sp>
      <p:pic>
        <p:nvPicPr>
          <p:cNvPr id="64" name="" descr=""/>
          <p:cNvPicPr/>
          <p:nvPr/>
        </p:nvPicPr>
        <p:blipFill>
          <a:blip r:embed="rId1"/>
          <a:stretch/>
        </p:blipFill>
        <p:spPr>
          <a:xfrm>
            <a:off x="685800" y="1981080"/>
            <a:ext cx="7772400" cy="4114800"/>
          </a:xfrm>
          <a:prstGeom prst="rect">
            <a:avLst/>
          </a:prstGeom>
          <a:ln w="0">
            <a:noFill/>
          </a:ln>
        </p:spPr>
      </p:pic>
      <p:graphicFrame>
        <p:nvGraphicFramePr>
          <p:cNvPr id="65" name="Object 5"/>
          <p:cNvGraphicFramePr/>
          <p:nvPr/>
        </p:nvGraphicFramePr>
        <p:xfrm>
          <a:off x="1295280" y="1828800"/>
          <a:ext cx="6248520" cy="4336920"/>
        </p:xfrm>
        <a:graphic>
          <a:graphicData uri="http://schemas.openxmlformats.org/presentationml/2006/ole">
            <p:oleObj progId="Word.Document.12" r:id="rId2" spid="">
              <p:embed/>
              <p:pic>
                <p:nvPicPr>
                  <p:cNvPr id="66" name="Object 5" descr=""/>
                  <p:cNvPicPr/>
                  <p:nvPr/>
                </p:nvPicPr>
                <p:blipFill>
                  <a:blip r:embed="rId3"/>
                  <a:stretch/>
                </p:blipFill>
                <p:spPr>
                  <a:xfrm>
                    <a:off x="1295280" y="1828800"/>
                    <a:ext cx="624852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ocation at time of death</a:t>
            </a:r>
            <a:endParaRPr b="0" lang="en-US" sz="4400" spc="-1" strike="noStrike">
              <a:solidFill>
                <a:srgbClr val="000000"/>
              </a:solidFill>
              <a:latin typeface="Arial"/>
            </a:endParaRPr>
          </a:p>
        </p:txBody>
      </p:sp>
      <p:graphicFrame>
        <p:nvGraphicFramePr>
          <p:cNvPr id="68" name="Object 3"/>
          <p:cNvGraphicFramePr/>
          <p:nvPr/>
        </p:nvGraphicFramePr>
        <p:xfrm>
          <a:off x="2003400" y="1981080"/>
          <a:ext cx="5135760" cy="4114800"/>
        </p:xfrm>
        <a:graphic>
          <a:graphicData uri="http://schemas.openxmlformats.org/presentationml/2006/ole">
            <p:oleObj progId="Word.Document.12" r:id="rId1" spid="">
              <p:embed/>
              <p:pic>
                <p:nvPicPr>
                  <p:cNvPr id="69" name="Object 3" descr=""/>
                  <p:cNvPicPr/>
                  <p:nvPr/>
                </p:nvPicPr>
                <p:blipFill>
                  <a:blip r:embed="rId2"/>
                  <a:stretch/>
                </p:blipFill>
                <p:spPr>
                  <a:xfrm>
                    <a:off x="2003400" y="1981080"/>
                    <a:ext cx="5135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auses of death at CCRMC, January-June 2009</a:t>
            </a:r>
            <a:endParaRPr b="0" lang="en-US" sz="4400" spc="-1" strike="noStrike">
              <a:solidFill>
                <a:srgbClr val="000000"/>
              </a:solidFill>
              <a:latin typeface="Arial"/>
            </a:endParaRPr>
          </a:p>
        </p:txBody>
      </p:sp>
      <p:graphicFrame>
        <p:nvGraphicFramePr>
          <p:cNvPr id="71" name="Object 3"/>
          <p:cNvGraphicFramePr/>
          <p:nvPr/>
        </p:nvGraphicFramePr>
        <p:xfrm>
          <a:off x="2006640" y="1981080"/>
          <a:ext cx="5130720" cy="4114800"/>
        </p:xfrm>
        <a:graphic>
          <a:graphicData uri="http://schemas.openxmlformats.org/presentationml/2006/ole">
            <p:oleObj progId="Word.Document.12" r:id="rId1" spid="">
              <p:embed/>
              <p:pic>
                <p:nvPicPr>
                  <p:cNvPr id="72" name="Object 3" descr=""/>
                  <p:cNvPicPr/>
                  <p:nvPr/>
                </p:nvPicPr>
                <p:blipFill>
                  <a:blip r:embed="rId2"/>
                  <a:stretch/>
                </p:blipFill>
                <p:spPr>
                  <a:xfrm>
                    <a:off x="2006640" y="1981080"/>
                    <a:ext cx="513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8:54:59Z</dcterms:created>
  <dc:creator>Julie Freedman</dc:creator>
  <dc:description/>
  <dc:language>en-US</dc:language>
  <cp:lastModifiedBy>HCMARTINEZ</cp:lastModifiedBy>
  <dcterms:modified xsi:type="dcterms:W3CDTF">2009-11-30T19:40:57Z</dcterms:modified>
  <cp:revision>9</cp:revision>
  <dc:subject/>
  <dc:title>Palliative Care Consultation Team</dc:title>
</cp:coreProperties>
</file>