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FDF4-279D-470E-B309-3972A5783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137C-1849-476C-A31D-24E44FBBB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DA82-A444-4ABB-94E4-9764B2975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2C86-47D2-4FF7-A2B3-4F801F1F6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dman, Hellman-Wylie, Steinhart, Akin, McCormick, Tzvieli (and maybe some oth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1912-9050-4D7C-A080-CF707CEFA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B358-820C-4F65-8D8E-55D31BDC0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of patient with chf, four days in the hospital before learning she would not want cath or other interven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4E2D-ED1A-4316-9FB3-BFCFFAAC5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5BDC-FA0D-43CF-A975-FAAC9E87C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8AB9-02CB-4604-80FD-A98C0B7BC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vast literature on this topic - I’ll just choose two studies to demon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 show the results, I want to survey the room - close your eyes - let’s take a representative sample of healthcare provid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44EF-430E-4051-9482-273E6B9A5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F0DC-2660-4B7B-98D7-1FA0AF247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3FD4-4375-44B5-853F-2116D20A3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idea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3A3C-EA5D-48FE-A13E-7EDDB7D71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on spectrum of patients, physicial comfort and psychosocial suppor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1A82-038E-4978-AE30-8FC69AE9F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C6F7-7B89-46BB-BB16-DCAAE3564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argeting public hospitals for this fund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499B-66AA-4CD6-A761-3307C6E8B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rovide better palliative care, will there be fewer prolonged stays ending in de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61 total deat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of hospital stay prior to death ranged from less than 24 hours to 49 day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patients were admitted for less than 24 hours prior to their de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n length of stay prior to death was 6 day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6814-FC4D-429D-BF56-F4EF7680A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deaths we anticipate, can we provide better care to patients in less resource-intense settings?  Are these deaths occuring in the ICU because of acuity of care? Nursing experti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E264-8766-4D91-B3D9-F123EBEF4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death reported included septicemia (18), acute respiratory failure or pneumonia (9), liver or renal failure including cirrhosis (8), malignancy (6), COPD (4), acute MI (4), and other causes (12)  [other causes included: SLE, amyloid, nec facs, c. diff, CHF, anoxic brain injury (2), cerebral embolism, lower extremity embolism, NIDDM, ulcer, unspecified systolic heart dys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87F91-75F2-49DA-AC4F-0F4E833DA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4C60C-211F-414A-9978-390C0FD9B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8ED8D-ACCB-4B40-BFD2-2B1F20E96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6D0D0-D010-4FF2-9AF7-5D3EA1111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17DD1-C794-4C78-91DE-D3BD928D9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3C326-F559-4B6C-84BD-90BF051A3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AAE15-C99D-47FB-A06A-F783AAC02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C9332-9E27-43C6-ABEF-24ED5CF1F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D051A-9247-4020-99C5-6B8B981BE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D00D-02AD-445A-B9DA-46ABCB482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FC8CC-3E3C-4B01-8966-81F6D6557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2FBD4-9C2E-43A9-A5FD-2C6DCEADF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604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DFD9-D00D-427E-BBE1-3CC5556EFB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dee6"/>
              </a:solidFill>
              <a:latin typeface="Garamond"/>
            </a:endParaRPr>
          </a:p>
        </p:txBody>
      </p:sp>
      <p:sp>
        <p:nvSpPr>
          <p:cNvPr id="4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Palliative Care Consultation Te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n Introdu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Basics of Pain Manag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11.30.09</a:t>
            </a:r>
            <a:endParaRPr b="0" lang="en-US" sz="2800" spc="-1" strike="noStrike">
              <a:solidFill>
                <a:srgbClr val="000000"/>
              </a:solidFill>
              <a:latin typeface="Arial"/>
            </a:endParaRPr>
          </a:p>
        </p:txBody>
      </p:sp>
      <p:pic>
        <p:nvPicPr>
          <p:cNvPr id="50" name="Picture 5" descr="20081128-_MG_1766"/>
          <p:cNvPicPr/>
          <p:nvPr/>
        </p:nvPicPr>
        <p:blipFill>
          <a:blip r:embed="rId1"/>
          <a:stretch/>
        </p:blipFill>
        <p:spPr>
          <a:xfrm>
            <a:off x="3733920" y="547560"/>
            <a:ext cx="479880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4dee6"/>
                </a:solidFill>
                <a:latin typeface="Garamond"/>
              </a:rPr>
              <a:t>The CCRMC Palliative Care Consultation Service</a:t>
            </a:r>
            <a:endParaRPr b="0" lang="en-US" sz="3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 multidisciplinary team which will collaborate with CCRMC staff in providing palliative care to our patients</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n integrative service</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vailable for inpatients in our first year</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Expanding to the ED in our second ye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dee6"/>
                </a:solidFill>
                <a:latin typeface="Garamond"/>
              </a:rPr>
              <a:t>Multidisciplinary</a:t>
            </a:r>
            <a:endParaRPr b="0" lang="en-US" sz="40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Clinicians</a:t>
            </a:r>
            <a:r>
              <a:rPr b="0" lang="en-US" sz="2000" spc="-1" strike="noStrike">
                <a:solidFill>
                  <a:srgbClr val="e4dee6"/>
                </a:solidFill>
                <a:latin typeface="Garamond"/>
              </a:rPr>
              <a:t> (Hellman-Wylie, Steinhart, Freedman, Akin, Tzvieli, Kuruvilla, McCormick…and you?)</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Social work</a:t>
            </a:r>
            <a:r>
              <a:rPr b="0" lang="en-US" sz="2000" spc="-1" strike="noStrike">
                <a:solidFill>
                  <a:srgbClr val="e4dee6"/>
                </a:solidFill>
                <a:latin typeface="Garamond"/>
              </a:rPr>
              <a:t> (Linda Russell)</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harmacists</a:t>
            </a:r>
            <a:r>
              <a:rPr b="0" lang="en-US" sz="2000" spc="-1" strike="noStrike">
                <a:solidFill>
                  <a:srgbClr val="e4dee6"/>
                </a:solidFill>
                <a:latin typeface="Garamond"/>
              </a:rPr>
              <a:t> (Katherine Dial, Sharon Sihota)</a:t>
            </a:r>
            <a:endParaRPr b="0" lang="en-US" sz="2000" spc="-1" strike="noStrike">
              <a:solidFill>
                <a:srgbClr val="000000"/>
              </a:solidFill>
              <a:latin typeface="Arial"/>
            </a:endParaRPr>
          </a:p>
          <a:p>
            <a:pPr marL="329040" indent="-32904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Interpreters</a:t>
            </a:r>
            <a:endParaRPr b="0" lang="en-US" sz="24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sychiatry consult-liaison staff</a:t>
            </a:r>
            <a:r>
              <a:rPr b="0" lang="en-US" sz="2000" spc="-1" strike="noStrike">
                <a:solidFill>
                  <a:srgbClr val="e4dee6"/>
                </a:solidFill>
                <a:latin typeface="Garamond"/>
              </a:rPr>
              <a:t> (Liat Porat, John Echols)</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Nursing education</a:t>
            </a:r>
            <a:r>
              <a:rPr b="0" lang="en-US" sz="2000" spc="-1" strike="noStrike">
                <a:solidFill>
                  <a:srgbClr val="e4dee6"/>
                </a:solidFill>
                <a:latin typeface="Garamond"/>
              </a:rPr>
              <a:t> (Marianne Bunce)</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Residents</a:t>
            </a:r>
            <a:r>
              <a:rPr b="0" lang="en-US" sz="2000" spc="-1" strike="noStrike">
                <a:solidFill>
                  <a:srgbClr val="e4dee6"/>
                </a:solidFill>
                <a:latin typeface="Garamond"/>
              </a:rPr>
              <a:t> (Matt Foster, Sergio Urcuyo)</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Any resident on elective block who wants to join us for consultations is welcome</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en do I consult?</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Terminal illness with distressing symptom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hronic illness with distressing symptom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tient/family prefer to be at home rather than hospital</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rolonged critical care course with poor prognosi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Lack of clarity in goals of care</a:t>
            </a: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en do I consult?</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Chronic illness with frequent hospitalizations</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Patient/family lack understanding of diagnosis and prognosis</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dvance care planning - choosing a DPOA, completing an advance directive</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You just don’t have time to find out what is going 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will we do?</a:t>
            </a: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Review referred cases and arrange family meeting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Support relationship of primary team with patient and family</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xplore social history</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Review current medications and other order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stablish advance directive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rrange home or hospice service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Co-follow patients with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Our Challenges</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lliative care for an ethnically diverse population</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tegrative care - effective collaboration between two team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Education throughout the institution - nursing staff, residents, and other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Attitudes toward care at the end of life vary by race and ethnicity</a:t>
            </a:r>
            <a:endParaRPr b="0" lang="en-US" sz="30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HCF sponsored survey of 1,800 California adults in 2006</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hich comes closer to your view?</a:t>
            </a:r>
            <a:endParaRPr b="0" lang="en-US" sz="3200" spc="-1" strike="noStrike">
              <a:solidFill>
                <a:srgbClr val="000000"/>
              </a:solidFill>
              <a:latin typeface="Arial"/>
            </a:endParaRPr>
          </a:p>
          <a:p>
            <a:pPr lvl="1" marL="743040" indent="-28584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Doctors and nurses should always do everything possible to save a life.”</a:t>
            </a:r>
            <a:endParaRPr b="0" lang="en-US" sz="2800" spc="-1" strike="noStrike">
              <a:solidFill>
                <a:srgbClr val="000000"/>
              </a:solidFill>
              <a:latin typeface="Arial"/>
            </a:endParaRPr>
          </a:p>
          <a:p>
            <a:pPr lvl="1" marL="743040" indent="-28584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Sometimes there are circumstances where a patient should be allowed to d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Attitudes toward care at the end of life vary by race and ethnicity</a:t>
            </a:r>
            <a:endParaRPr b="0" lang="en-US" sz="30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9" name="Object 4"/>
          <p:cNvGraphicFramePr/>
          <p:nvPr/>
        </p:nvGraphicFramePr>
        <p:xfrm>
          <a:off x="1219320" y="2209680"/>
          <a:ext cx="6859440" cy="4064040"/>
        </p:xfrm>
        <a:graphic>
          <a:graphicData uri="http://schemas.openxmlformats.org/presentationml/2006/ole">
            <p:oleObj r:id="rId1" spid="">
              <p:embed/>
              <p:pic>
                <p:nvPicPr>
                  <p:cNvPr id="90" name="Object 4" descr=""/>
                  <p:cNvPicPr/>
                  <p:nvPr/>
                </p:nvPicPr>
                <p:blipFill>
                  <a:blip r:embed="rId2"/>
                  <a:stretch/>
                </p:blipFill>
                <p:spPr>
                  <a:xfrm>
                    <a:off x="1219320" y="2209680"/>
                    <a:ext cx="685944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ulturally appropriate palliative care</a:t>
            </a: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terpretation - Interpreters trained to act as cultural brokers, not simply translator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ultural humility</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Strength of  provider-patient therapeutic relationship key to navigating gaps in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Our Challenge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Integrative care - effective collaboration between two teams</a:t>
            </a:r>
            <a:endParaRPr b="0" lang="en-US" sz="28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rimary team included in meetings whenever possible</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Encourage residents to lead meetings</a:t>
            </a:r>
            <a:endParaRPr b="0" lang="en-US" sz="2400" spc="-1" strike="noStrike">
              <a:solidFill>
                <a:srgbClr val="000000"/>
              </a:solidFill>
              <a:latin typeface="Arial"/>
            </a:endParaRPr>
          </a:p>
          <a:p>
            <a:pPr marL="298440" indent="-29844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ducation throughout the institution - nursing staff and other disciplines</a:t>
            </a:r>
            <a:endParaRPr b="0" lang="en-US" sz="28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Inclusion of the bedside nurse in meetings with patients and families.</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Continuing education sessions for nursing staff</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Educational programs with other disciplines? (RTs, etc.)</a:t>
            </a:r>
            <a:endParaRPr b="0" lang="en-US" sz="24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62120"/>
            <a:ext cx="777240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is Palliative Care?</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lliative care team is available Monday - Friday, 8 am - 5 pm</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all schedule available on amion.com with password “ccrmc”</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Think of palliative care broadly, not just in terminal illnes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e will learn as we go - please give us feedback so that we can do just th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is Palliative Care?</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One definition:</a:t>
            </a:r>
            <a:endParaRPr b="0" lang="en-US" sz="2800" spc="-1" strike="noStrike">
              <a:solidFill>
                <a:srgbClr val="000000"/>
              </a:solidFill>
              <a:latin typeface="Arial"/>
            </a:endParaRPr>
          </a:p>
          <a:p>
            <a:pPr marL="318960" indent="-31896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comprehensive, interdisciplinary care, focusing primarily on promoting quality of life for patients living with a serious, chronic, or terminal illness and for their families…assuring physical comfort and psychosocial support.  It is provided simultaneously with all other appropriate medical treatments.”</a:t>
            </a:r>
            <a:endParaRPr b="0" lang="en-US" sz="2800" spc="-1" strike="noStrike">
              <a:solidFill>
                <a:srgbClr val="000000"/>
              </a:solidFill>
              <a:latin typeface="Arial"/>
            </a:endParaRPr>
          </a:p>
          <a:p>
            <a:pPr marL="318960" indent="-318960" algn="r">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Billings, J Palliative Medicine,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dee6"/>
              </a:solidFill>
              <a:latin typeface="Garamond"/>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9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dee6"/>
                </a:solidFill>
                <a:latin typeface="Garamond"/>
              </a:rPr>
              <a:t>California HealthCare Foundation</a:t>
            </a:r>
            <a:endParaRPr b="0" lang="en-US" sz="3600" spc="-1" strike="noStrike">
              <a:solidFill>
                <a:srgbClr val="000000"/>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Spreading Palliative Care in Public Hospitals Initiative</a:t>
            </a: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Focus on providing culturally sensitive care</a:t>
            </a: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e have one of six implementation grants statew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California public hospitals lag private </a:t>
            </a:r>
            <a:br>
              <a:rPr sz="3000"/>
            </a:br>
            <a:r>
              <a:rPr b="0" lang="en-US" sz="3000" spc="-1" strike="noStrike">
                <a:solidFill>
                  <a:srgbClr val="e4dee6"/>
                </a:solidFill>
                <a:latin typeface="Garamond"/>
              </a:rPr>
              <a:t>hospitals in palliative care</a:t>
            </a:r>
            <a:endParaRPr b="0" lang="en-US" sz="30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9" name="Object 6"/>
          <p:cNvGraphicFramePr/>
          <p:nvPr/>
        </p:nvGraphicFramePr>
        <p:xfrm>
          <a:off x="1523880" y="1778040"/>
          <a:ext cx="6324840" cy="4241880"/>
        </p:xfrm>
        <a:graphic>
          <a:graphicData uri="http://schemas.openxmlformats.org/presentationml/2006/ole">
            <p:oleObj progId="Excel.Sheet.12" r:id="rId1" spid="">
              <p:embed/>
              <p:pic>
                <p:nvPicPr>
                  <p:cNvPr id="60" name="Object 6" descr=""/>
                  <p:cNvPicPr/>
                  <p:nvPr/>
                </p:nvPicPr>
                <p:blipFill>
                  <a:blip r:embed="rId2"/>
                  <a:stretch/>
                </p:blipFill>
                <p:spPr>
                  <a:xfrm>
                    <a:off x="1523880" y="1778040"/>
                    <a:ext cx="6324840" cy="42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CRMC data</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Review of data from patient deaths, January - June 2009 </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How many patient deaths after &gt; 30 days in the hospital?</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 which unit do most patient deaths occur?</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hat are the major causes of death among our pati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Length of stay for patients who ultimately died</a:t>
            </a:r>
            <a:endParaRPr b="0" lang="en-US" sz="4400" spc="-1" strike="noStrike">
              <a:solidFill>
                <a:srgbClr val="000000"/>
              </a:solidFill>
              <a:latin typeface="Arial"/>
            </a:endParaRPr>
          </a:p>
        </p:txBody>
      </p:sp>
      <p:pic>
        <p:nvPicPr>
          <p:cNvPr id="64" name="" descr=""/>
          <p:cNvPicPr/>
          <p:nvPr/>
        </p:nvPicPr>
        <p:blipFill>
          <a:blip r:embed="rId1"/>
          <a:stretch/>
        </p:blipFill>
        <p:spPr>
          <a:xfrm>
            <a:off x="685800" y="1981080"/>
            <a:ext cx="7772400" cy="4114800"/>
          </a:xfrm>
          <a:prstGeom prst="rect">
            <a:avLst/>
          </a:prstGeom>
          <a:ln w="0">
            <a:noFill/>
          </a:ln>
        </p:spPr>
      </p:pic>
      <p:graphicFrame>
        <p:nvGraphicFramePr>
          <p:cNvPr id="65" name="Object 5"/>
          <p:cNvGraphicFramePr/>
          <p:nvPr/>
        </p:nvGraphicFramePr>
        <p:xfrm>
          <a:off x="1295280" y="1828800"/>
          <a:ext cx="6248520" cy="4336920"/>
        </p:xfrm>
        <a:graphic>
          <a:graphicData uri="http://schemas.openxmlformats.org/presentationml/2006/ole">
            <p:oleObj progId="Word.Document.12" r:id="rId2" spid="">
              <p:embed/>
              <p:pic>
                <p:nvPicPr>
                  <p:cNvPr id="66" name="Object 5" descr=""/>
                  <p:cNvPicPr/>
                  <p:nvPr/>
                </p:nvPicPr>
                <p:blipFill>
                  <a:blip r:embed="rId3"/>
                  <a:stretch/>
                </p:blipFill>
                <p:spPr>
                  <a:xfrm>
                    <a:off x="1295280" y="1828800"/>
                    <a:ext cx="6248520" cy="43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Location at time of death</a:t>
            </a:r>
            <a:endParaRPr b="0" lang="en-US" sz="4400" spc="-1" strike="noStrike">
              <a:solidFill>
                <a:srgbClr val="000000"/>
              </a:solidFill>
              <a:latin typeface="Arial"/>
            </a:endParaRPr>
          </a:p>
        </p:txBody>
      </p:sp>
      <p:graphicFrame>
        <p:nvGraphicFramePr>
          <p:cNvPr id="68" name="Object 3"/>
          <p:cNvGraphicFramePr/>
          <p:nvPr/>
        </p:nvGraphicFramePr>
        <p:xfrm>
          <a:off x="2003400" y="1981080"/>
          <a:ext cx="5135760" cy="4114800"/>
        </p:xfrm>
        <a:graphic>
          <a:graphicData uri="http://schemas.openxmlformats.org/presentationml/2006/ole">
            <p:oleObj progId="Word.Document.12" r:id="rId1" spid="">
              <p:embed/>
              <p:pic>
                <p:nvPicPr>
                  <p:cNvPr id="69" name="Object 3" descr=""/>
                  <p:cNvPicPr/>
                  <p:nvPr/>
                </p:nvPicPr>
                <p:blipFill>
                  <a:blip r:embed="rId2"/>
                  <a:stretch/>
                </p:blipFill>
                <p:spPr>
                  <a:xfrm>
                    <a:off x="2003400" y="1981080"/>
                    <a:ext cx="51357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auses of death at CCRMC, January-June 2009</a:t>
            </a:r>
            <a:endParaRPr b="0" lang="en-US" sz="4400" spc="-1" strike="noStrike">
              <a:solidFill>
                <a:srgbClr val="000000"/>
              </a:solidFill>
              <a:latin typeface="Arial"/>
            </a:endParaRPr>
          </a:p>
        </p:txBody>
      </p:sp>
      <p:graphicFrame>
        <p:nvGraphicFramePr>
          <p:cNvPr id="71" name="Object 3"/>
          <p:cNvGraphicFramePr/>
          <p:nvPr/>
        </p:nvGraphicFramePr>
        <p:xfrm>
          <a:off x="2006640" y="1981080"/>
          <a:ext cx="5130720" cy="4114800"/>
        </p:xfrm>
        <a:graphic>
          <a:graphicData uri="http://schemas.openxmlformats.org/presentationml/2006/ole">
            <p:oleObj progId="Word.Document.12" r:id="rId1" spid="">
              <p:embed/>
              <p:pic>
                <p:nvPicPr>
                  <p:cNvPr id="72" name="Object 3" descr=""/>
                  <p:cNvPicPr/>
                  <p:nvPr/>
                </p:nvPicPr>
                <p:blipFill>
                  <a:blip r:embed="rId2"/>
                  <a:stretch/>
                </p:blipFill>
                <p:spPr>
                  <a:xfrm>
                    <a:off x="2006640" y="1981080"/>
                    <a:ext cx="51307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18:54:59Z</dcterms:created>
  <dc:creator>Julie Freedman</dc:creator>
  <dc:description/>
  <dc:language>en-US</dc:language>
  <cp:lastModifiedBy>HCMARTINEZ</cp:lastModifiedBy>
  <dcterms:modified xsi:type="dcterms:W3CDTF">2009-11-30T19:40:57Z</dcterms:modified>
  <cp:revision>9</cp:revision>
  <dc:subject/>
  <dc:title>Palliative Care Consultation Team</dc:title>
</cp:coreProperties>
</file>