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36BF-4416-4523-BBE9-A8EE09BDC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4170-95AB-4A29-9D86-73A2DF8BF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HA differences vs AAF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mily history of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fan’s family history or stigm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pecific item for heart murmu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positive response to any item listed may be sufficient evidence to provide a referral for a cardiovascular ex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with permission from Maron BJ, Thompson PD, Ackerman MJ, Balady G, Berger S, Cohen D, et al. Recommendations and considerations related to preparticipation screening for cardiovascular abnormalities in competitive athletes: 2007 update. Circulation 2007;115:16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65195-EF44-4D0C-9201-71D8A412F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ypertrophic cardiomyopathy</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ronary artery anomali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diopathic LV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0%</a:t>
            </a:r>
            <a:br>
              <a:rPr sz="1200"/>
            </a:b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other third include mostly CV isuu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rfans, myocarditis, aortic stenosis, arrhythmogenic RV</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ysplasia, dysrhythmias, WPW, long QT, cocaine, steroids, alcoho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0ACA0-525A-4A8B-A31B-4DC56A727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2212E-9AD3-43C0-B33C-C149F8998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BD147-746D-4B60-953B-13C54AC26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4EC54-DB89-455F-8C82-2C29114A2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2B053-E405-477B-BC2C-4593CBA48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A9D2B-7A8F-4CF6-9168-D2923B835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BD9F5-68D2-489A-9E78-EB31AB9C4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28B4C-C679-4C4D-BC3B-D663844A8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9EA58-6538-4971-8FCB-FD71CDAC3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805E2-8810-4079-9919-A22D3F9B6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8F9D7-570B-401A-A377-76C578FB5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F0A7B-277C-489F-9FCC-670622CA9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2C80-3E4A-4CE2-A425-55CD2E8A4D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Overview of the Sports Preparticipation Physical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se Yasul, M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CRMC</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ez, 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etting of Evaluation</a:t>
            </a:r>
            <a:endParaRPr b="0" lang="en-US" sz="4400" spc="-1" strike="noStrike">
              <a:solidFill>
                <a:srgbClr val="000000"/>
              </a:solidFill>
              <a:latin typeface="Times New Roman"/>
            </a:endParaRPr>
          </a:p>
        </p:txBody>
      </p:sp>
      <p:sp>
        <p:nvSpPr>
          <p:cNvPr id="68" name="PlaceHolder 2"/>
          <p:cNvSpPr>
            <a:spLocks noGrp="1"/>
          </p:cNvSpPr>
          <p:nvPr>
            <p:ph/>
          </p:nvPr>
        </p:nvSpPr>
        <p:spPr>
          <a:xfrm>
            <a:off x="609120" y="1676160"/>
            <a:ext cx="769644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Stag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u="sng">
                <a:solidFill>
                  <a:srgbClr val="000000"/>
                </a:solidFill>
                <a:uFillTx/>
                <a:latin typeface="Times New Roman"/>
                <a:ea typeface="Times New Roman"/>
              </a:rPr>
              <a:t>Purpo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aiting Are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ign in and review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structions abou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lling out for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itals station</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eight, weight, BP, vis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am Are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view history,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erform physical, sign ou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o precepto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on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ducational/Rehab are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s for coordinated approach</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 athletes in advance about the detailed nature of the exam and the appropriate attire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ports bras for girl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horts for boys</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 areas for examining boys and girls</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te counseling room for sensitive iss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s for coordinated approach</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protocols for referral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m physicians or athletic trainers should have a list of disqualified athletes or those who require further evaluation before final cleara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athlete is not cleared for their desired sport, the evaluating physician should be prepared to counsel on alternative activiti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PE Medical History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rucial compon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identify approximately </a:t>
            </a:r>
            <a:r>
              <a:rPr b="0" lang="en-US" sz="3200" spc="-1" strike="noStrike" u="sng">
                <a:solidFill>
                  <a:srgbClr val="000000"/>
                </a:solidFill>
                <a:uFillTx/>
                <a:latin typeface="Times New Roman"/>
              </a:rPr>
              <a:t>75%</a:t>
            </a:r>
            <a:r>
              <a:rPr b="0" lang="en-US" sz="3200" spc="-1" strike="noStrike">
                <a:solidFill>
                  <a:srgbClr val="000000"/>
                </a:solidFill>
                <a:latin typeface="Times New Roman"/>
              </a:rPr>
              <a:t> of problems affecting athle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PE Medical History</a:t>
            </a: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History (1-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s &amp; supplements (5-6)</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ergies (7)</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diovascular problems (8-18)</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al illness (17)</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rmatological conditions (1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urological conditions (20-2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t Illness (26)</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hma/allergic rhinitis (27-29)</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yes &amp; Vision (31-3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phylaxis (3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culoskeletal injury (34-3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tritional concerns (36-3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concerns (38-39)</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strual history (4-4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Questions I ask</a:t>
            </a:r>
            <a:endParaRPr b="0" lang="en-US" sz="4400" spc="-1" strike="noStrike">
              <a:solidFill>
                <a:srgbClr val="000000"/>
              </a:solidFill>
              <a:latin typeface="Times New Roman"/>
            </a:endParaRPr>
          </a:p>
        </p:txBody>
      </p:sp>
      <p:sp>
        <p:nvSpPr>
          <p:cNvPr id="79" name="PlaceHolder 2"/>
          <p:cNvSpPr>
            <a:spLocks noGrp="1"/>
          </p:cNvSpPr>
          <p:nvPr>
            <p:ph/>
          </p:nvPr>
        </p:nvSpPr>
        <p:spPr>
          <a:xfrm>
            <a:off x="228240" y="1981080"/>
            <a:ext cx="8915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d you have any injuries last season – did you miss any games or practices because of an injur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ve you ever passed out while exercis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s anyone in your family died unexpectedly under the age of 5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 you find it hard to catch your breath when you exerci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exercising, do you get tired more quickly than your frien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 you cramp up easi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e you taking any suppleme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PE Medical History</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TH RISK BEHAVIOR</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to be asked in the exam room</a:t>
            </a:r>
            <a:endParaRPr b="0" lang="en-US" sz="2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 you feel stressed out or under a lot of pressure?</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 you feel so sad or hopeless that you stop your usual routine for more than a few days?</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 you feel safe?</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ve you ever tried cigarette smoking, even 1 or 2 puffs?</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ing the past 30 days have you used smokeless tobacco?</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ing the past 30 days have you had at least 1 drink of alcohol?</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ve you ever taken steroid pills or shots without a doctor’s rx?</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 you taking anything to lose weight or improve your performance?</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s about guns, seatbelts, unprotected sex, D. V., drugs, etc.</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Youth Risk Behavior Surve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sical Examination</a:t>
            </a:r>
            <a:endParaRPr b="0" lang="en-US" sz="4400" spc="-1" strike="noStrike">
              <a:solidFill>
                <a:srgbClr val="000000"/>
              </a:solidFill>
              <a:latin typeface="Times New Roman"/>
            </a:endParaRPr>
          </a:p>
        </p:txBody>
      </p:sp>
      <p:sp>
        <p:nvSpPr>
          <p:cNvPr id="8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tals, height, weigh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yes</a:t>
            </a:r>
            <a:br>
              <a:rPr sz="2400"/>
            </a:br>
            <a:r>
              <a:rPr b="0" lang="en-US" sz="2400" spc="-1" strike="noStrike">
                <a:solidFill>
                  <a:srgbClr val="000000"/>
                </a:solidFill>
                <a:latin typeface="Times New Roman"/>
              </a:rPr>
              <a:t>Visual acuity (Snellen)</a:t>
            </a:r>
            <a:br>
              <a:rPr sz="2400"/>
            </a:br>
            <a:r>
              <a:rPr b="0" lang="en-US" sz="2400" spc="-1" strike="noStrike">
                <a:solidFill>
                  <a:srgbClr val="000000"/>
                </a:solidFill>
                <a:latin typeface="Times New Roman"/>
              </a:rPr>
              <a:t>Pupi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l cavity/Ears/No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diovascular exam</a:t>
            </a:r>
            <a:br>
              <a:rPr sz="2400"/>
            </a:br>
            <a:r>
              <a:rPr b="0" lang="en-US" sz="2400" spc="-1" strike="noStrike">
                <a:solidFill>
                  <a:srgbClr val="000000"/>
                </a:solidFill>
                <a:latin typeface="Times New Roman"/>
              </a:rPr>
              <a:t>&gt;Blood Pressure</a:t>
            </a:r>
            <a:br>
              <a:rPr sz="2400"/>
            </a:br>
            <a:r>
              <a:rPr b="0" lang="en-US" sz="2400" spc="-1" strike="noStrike">
                <a:solidFill>
                  <a:srgbClr val="000000"/>
                </a:solidFill>
                <a:latin typeface="Times New Roman"/>
              </a:rPr>
              <a:t>&gt;Pulses (radial, femoral)</a:t>
            </a:r>
            <a:br>
              <a:rPr sz="2400"/>
            </a:br>
            <a:r>
              <a:rPr b="0" lang="en-US" sz="2400" spc="-1" strike="noStrike">
                <a:solidFill>
                  <a:srgbClr val="000000"/>
                </a:solidFill>
                <a:latin typeface="Times New Roman"/>
              </a:rPr>
              <a:t>&gt;Heart (rate, rhythm, murmur)</a:t>
            </a:r>
            <a:endParaRPr b="0" lang="en-US" sz="2400" spc="-1" strike="noStrike">
              <a:solidFill>
                <a:srgbClr val="000000"/>
              </a:solidFill>
              <a:latin typeface="Times New Roman"/>
            </a:endParaRPr>
          </a:p>
        </p:txBody>
      </p:sp>
      <p:sp>
        <p:nvSpPr>
          <p:cNvPr id="8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dom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italia (males only)</a:t>
            </a:r>
            <a:br>
              <a:rPr sz="2800"/>
            </a:br>
            <a:r>
              <a:rPr b="0" lang="en-US" sz="2800" spc="-1" strike="noStrike">
                <a:solidFill>
                  <a:srgbClr val="000000"/>
                </a:solidFill>
                <a:latin typeface="Times New Roman"/>
              </a:rPr>
              <a:t>Cryptorchidism</a:t>
            </a:r>
            <a:br>
              <a:rPr sz="2800"/>
            </a:br>
            <a:r>
              <a:rPr b="0" lang="en-US" sz="2800" spc="-1" strike="noStrike">
                <a:solidFill>
                  <a:srgbClr val="000000"/>
                </a:solidFill>
                <a:latin typeface="Times New Roman"/>
              </a:rPr>
              <a:t>Testicular m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culoskeletal ex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od Pressure</a:t>
            </a:r>
            <a:endParaRPr b="0" lang="en-US" sz="4400" spc="-1" strike="noStrike">
              <a:solidFill>
                <a:srgbClr val="000000"/>
              </a:solidFill>
              <a:latin typeface="Times New Roman"/>
            </a:endParaRPr>
          </a:p>
        </p:txBody>
      </p:sp>
      <p:sp>
        <p:nvSpPr>
          <p:cNvPr id="87" name="PlaceHolder 2"/>
          <p:cNvSpPr>
            <a:spLocks noGrp="1"/>
          </p:cNvSpPr>
          <p:nvPr>
            <p:ph/>
          </p:nvPr>
        </p:nvSpPr>
        <p:spPr>
          <a:xfrm>
            <a:off x="151920" y="1981080"/>
            <a:ext cx="89917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L VALUES FOR KIDS DIFFER FROM ADUL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BP &amp; DBP are compared by sex, age and heigh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P is &lt;9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percentile, child is normotensi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P between 9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and 95</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percentiles, child is high-normal</a:t>
            </a:r>
            <a:br>
              <a:rPr sz="2800"/>
            </a:br>
            <a:r>
              <a:rPr b="0" lang="en-US" sz="2800" spc="-1" strike="noStrike">
                <a:solidFill>
                  <a:srgbClr val="000000"/>
                </a:solidFill>
                <a:latin typeface="Times New Roman"/>
              </a:rPr>
              <a:t>observe and consider other risk facto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P &gt; 95</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percentile, child may be hypertensive</a:t>
            </a:r>
            <a:br>
              <a:rPr sz="2800"/>
            </a:br>
            <a:r>
              <a:rPr b="0" lang="en-US" sz="2800" spc="-1" strike="noStrike">
                <a:solidFill>
                  <a:srgbClr val="000000"/>
                </a:solidFill>
                <a:latin typeface="Times New Roman"/>
              </a:rPr>
              <a:t>repeated measurements are indicate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cc.nih.gov/ccc/pedweb/pedsstaff/bp.ht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why we do a P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your responsi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he major features of the P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miliarize you with the comprehensive musculoskeletal ex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HA Recommended Elements of Preparticipation Cardiovascular Screening in Young Athlet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9" name="PlaceHolder 2"/>
          <p:cNvSpPr>
            <a:spLocks noGrp="1"/>
          </p:cNvSpPr>
          <p:nvPr>
            <p:ph/>
          </p:nvPr>
        </p:nvSpPr>
        <p:spPr>
          <a:xfrm>
            <a:off x="0" y="1980720"/>
            <a:ext cx="9144000" cy="48769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cal history</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mily</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ath from heart disease in one or more relatives younger than 50 year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ability from heart disease in a close relative younger than 50 year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ertrophic or dilated cardiomyopathy, long QT syndrome or other ion channelopathies, Marfan syndrome, or clinically important arrhythmias in any family membe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sonal</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vated systemic blood pressur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cessive exertional and unexplained dyspnea or fatigue associated with exercis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ertional chest pain or discomfor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tory of heart murmu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explained syncope or near-syncop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 examination</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chial artery blood pressure (measured while seated)</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moral pulses to exclude coarctation of the aorta</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rt murmu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 stigmata of Marfan syndrom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ncidence of sudden death in athletes</a:t>
            </a:r>
            <a:endParaRPr b="0" lang="en-US" sz="40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uto accident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30/100,0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micid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100,0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icid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00,0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port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0.5/100,000</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ause of sudden death in young athletes</a:t>
            </a:r>
            <a:endParaRPr b="0" lang="en-US" sz="4000" spc="-1" strike="noStrike">
              <a:solidFill>
                <a:srgbClr val="000000"/>
              </a:solidFill>
              <a:latin typeface="Times New Roman"/>
            </a:endParaRPr>
          </a:p>
        </p:txBody>
      </p:sp>
      <p:pic>
        <p:nvPicPr>
          <p:cNvPr id="93" name="Picture 3" descr=""/>
          <p:cNvPicPr/>
          <p:nvPr/>
        </p:nvPicPr>
        <p:blipFill>
          <a:blip r:embed="rId1"/>
          <a:stretch/>
        </p:blipFill>
        <p:spPr>
          <a:xfrm>
            <a:off x="152280" y="1295280"/>
            <a:ext cx="8991720" cy="556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ertrophic cardiomyopathy</a:t>
            </a:r>
            <a:endParaRPr b="0" lang="en-US" sz="4400" spc="-1" strike="noStrike">
              <a:solidFill>
                <a:srgbClr val="000000"/>
              </a:solidFill>
              <a:latin typeface="Times New Roman"/>
            </a:endParaRPr>
          </a:p>
        </p:txBody>
      </p:sp>
      <p:sp>
        <p:nvSpPr>
          <p:cNvPr id="95" name="PlaceHolder 2"/>
          <p:cNvSpPr>
            <a:spLocks noGrp="1"/>
          </p:cNvSpPr>
          <p:nvPr>
            <p:ph/>
          </p:nvPr>
        </p:nvSpPr>
        <p:spPr>
          <a:xfrm>
            <a:off x="0" y="1981080"/>
            <a:ext cx="91440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AD, variable penetrance and expression</a:t>
            </a:r>
            <a:br>
              <a:rPr sz="3200"/>
            </a:br>
            <a:r>
              <a:rPr b="0" lang="en-US" sz="3200" spc="-1" strike="noStrike">
                <a:solidFill>
                  <a:srgbClr val="000000"/>
                </a:solidFill>
                <a:latin typeface="Times New Roman"/>
              </a:rPr>
              <a:t>Murmur – systolic and increases with standing and valsalva and decreases with squatting and isometric handgr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arfan’s syndrome - stigmat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achnodacty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all st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ectus excavatu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yphoscolio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enticular disloc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urmur of mitral valve prolapse and/or aortic regurgi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usculoskeletal</a:t>
            </a:r>
            <a:r>
              <a:rPr b="0" lang="en-US" sz="4400" spc="-1" strike="noStrike">
                <a:solidFill>
                  <a:srgbClr val="000000"/>
                </a:solidFill>
                <a:latin typeface="Times New Roman"/>
              </a:rPr>
              <a:t> System</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ermining Clearance</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amp; occasionally difficult deci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 to 13.9% of student athletes require further evaluation before a final clearance status can be giv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ermining Clearance</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Clearance has 4 categor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red without restri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red, with recommendations for further evaluation or treatment (i. e. check BP in 1 mon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cleared, reconsideration after completion of further evaluation, treatment, or rehabili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cleared for certain types of sports or all spor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eparticipation Physical Evaluation:</a:t>
            </a:r>
            <a:br>
              <a:rPr sz="4000"/>
            </a:br>
            <a:r>
              <a:rPr b="0" lang="en-US" sz="4000" spc="-1" strike="noStrike">
                <a:solidFill>
                  <a:srgbClr val="000000"/>
                </a:solidFill>
                <a:latin typeface="Times New Roman"/>
              </a:rPr>
              <a:t>Third Edition (2005)</a:t>
            </a:r>
            <a:endParaRPr b="0" lang="en-US" sz="4000" spc="-1" strike="noStrike">
              <a:solidFill>
                <a:srgbClr val="000000"/>
              </a:solidFill>
              <a:latin typeface="Times New Roman"/>
            </a:endParaRPr>
          </a:p>
        </p:txBody>
      </p:sp>
      <p:pic>
        <p:nvPicPr>
          <p:cNvPr id="53" name="Picture 3" descr=""/>
          <p:cNvPicPr/>
          <p:nvPr/>
        </p:nvPicPr>
        <p:blipFill>
          <a:blip r:embed="rId1"/>
          <a:stretch/>
        </p:blipFill>
        <p:spPr>
          <a:xfrm>
            <a:off x="685800" y="1981080"/>
            <a:ext cx="3352680" cy="4114800"/>
          </a:xfrm>
          <a:prstGeom prst="rect">
            <a:avLst/>
          </a:prstGeom>
          <a:ln w="0">
            <a:noFill/>
          </a:ln>
        </p:spPr>
      </p:pic>
      <p:sp>
        <p:nvSpPr>
          <p:cNvPr id="54" name="PlaceHolder 2"/>
          <p:cNvSpPr>
            <a:spLocks noGrp="1"/>
          </p:cNvSpPr>
          <p:nvPr>
            <p:ph/>
          </p:nvPr>
        </p:nvSpPr>
        <p:spPr>
          <a:xfrm>
            <a:off x="3962520" y="1981080"/>
            <a:ext cx="487656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ditorial Board:</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American Academy of Family Physicians </a:t>
            </a:r>
            <a:br>
              <a:rPr sz="2000"/>
            </a:br>
            <a:r>
              <a:rPr b="0" lang="en-US" sz="2000" spc="-1" strike="noStrike">
                <a:solidFill>
                  <a:srgbClr val="000000"/>
                </a:solidFill>
                <a:latin typeface="Times New Roman"/>
              </a:rPr>
              <a:t>American Academy of Pediatrics </a:t>
            </a:r>
            <a:br>
              <a:rPr sz="2000"/>
            </a:br>
            <a:r>
              <a:rPr b="0" lang="en-US" sz="2000" spc="-1" strike="noStrike">
                <a:solidFill>
                  <a:srgbClr val="000000"/>
                </a:solidFill>
                <a:latin typeface="Times New Roman"/>
              </a:rPr>
              <a:t>American College of Sports Medicine </a:t>
            </a:r>
            <a:br>
              <a:rPr sz="2000"/>
            </a:br>
            <a:r>
              <a:rPr b="0" lang="en-US" sz="2000" spc="-1" strike="noStrike">
                <a:solidFill>
                  <a:srgbClr val="000000"/>
                </a:solidFill>
                <a:latin typeface="Times New Roman"/>
              </a:rPr>
              <a:t>American Medical Society for Sports Medicine </a:t>
            </a:r>
            <a:br>
              <a:rPr sz="2000"/>
            </a:br>
            <a:r>
              <a:rPr b="0" lang="en-US" sz="2000" spc="-1" strike="noStrike">
                <a:solidFill>
                  <a:srgbClr val="000000"/>
                </a:solidFill>
                <a:latin typeface="Times New Roman"/>
              </a:rPr>
              <a:t>American Orthopaedic Society for Sports Medicine </a:t>
            </a:r>
            <a:br>
              <a:rPr sz="2000"/>
            </a:br>
            <a:r>
              <a:rPr b="0" lang="en-US" sz="2000" spc="-1" strike="noStrike">
                <a:solidFill>
                  <a:srgbClr val="000000"/>
                </a:solidFill>
                <a:latin typeface="Times New Roman"/>
              </a:rPr>
              <a:t>American Osteopathic Academy of Sports Medicin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ermining Clearance</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ERICAN ACADEMY OF PEDIATRICS:</a:t>
            </a:r>
            <a:br>
              <a:rPr sz="2400"/>
            </a:br>
            <a:r>
              <a:rPr b="1" lang="en-US" sz="2000" spc="-1" strike="noStrike">
                <a:solidFill>
                  <a:srgbClr val="000000"/>
                </a:solidFill>
                <a:latin typeface="Times New Roman"/>
              </a:rPr>
              <a:t>Medical Conditions Affecting Sports Participation</a:t>
            </a:r>
            <a:br>
              <a:rPr sz="2000"/>
            </a:br>
            <a:r>
              <a:rPr b="1" lang="en-US" sz="1800" spc="-1" strike="noStrike">
                <a:solidFill>
                  <a:srgbClr val="000000"/>
                </a:solidFill>
                <a:latin typeface="Times New Roman"/>
              </a:rPr>
              <a:t>PEDIATRICS Vol. 121 No. 4 April 2008, pp. 841-848 (doi:10.1542/peds.2008-0080)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ssification of Sports by Contac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ssification of Sports by Strenuousnes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cal Conditions and Sports Participation</a:t>
            </a:r>
            <a:br>
              <a:rPr sz="2400"/>
            </a:br>
            <a:br>
              <a:rPr sz="2400"/>
            </a:br>
            <a:r>
              <a:rPr b="1" lang="en-US" sz="2400" spc="-1" strike="noStrike">
                <a:solidFill>
                  <a:srgbClr val="000000"/>
                </a:solidFill>
                <a:latin typeface="Times New Roman"/>
              </a:rPr>
              <a:t> </a:t>
            </a:r>
            <a:r>
              <a:rPr b="0" lang="en-US" sz="2400" spc="-1" strike="noStrike">
                <a:solidFill>
                  <a:srgbClr val="0000ff"/>
                </a:solidFill>
                <a:latin typeface="Times New Roman"/>
              </a:rPr>
              <a:t>http://www.pediatrics.org/cgi/content/full/107/5/12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ummar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examin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ddition to reviewing the history, ask pertinent questions to the athlete di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is to assure safe student-athlete participation in a spor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 doctor told me I shouldn’t work out until I’m in better sha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told him, “All right, don’t send me a bill until I pay you.”</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teven Wrigh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ception</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ewed in different ways among:</a:t>
            </a:r>
            <a:br>
              <a:rPr sz="3200"/>
            </a:br>
            <a:r>
              <a:rPr b="0" lang="en-US" sz="3200" spc="-1" strike="noStrike">
                <a:solidFill>
                  <a:srgbClr val="000000"/>
                </a:solidFill>
                <a:latin typeface="Times New Roman"/>
              </a:rPr>
              <a:t>Athletes</a:t>
            </a:r>
            <a:br>
              <a:rPr sz="3200"/>
            </a:br>
            <a:r>
              <a:rPr b="0" lang="en-US" sz="3200" spc="-1" strike="noStrike">
                <a:solidFill>
                  <a:srgbClr val="000000"/>
                </a:solidFill>
                <a:latin typeface="Times New Roman"/>
              </a:rPr>
              <a:t>Coaches</a:t>
            </a:r>
            <a:br>
              <a:rPr sz="3200"/>
            </a:br>
            <a:r>
              <a:rPr b="0" lang="en-US" sz="3200" spc="-1" strike="noStrike">
                <a:solidFill>
                  <a:srgbClr val="000000"/>
                </a:solidFill>
                <a:latin typeface="Times New Roman"/>
              </a:rPr>
              <a:t>Parents</a:t>
            </a:r>
            <a:br>
              <a:rPr sz="3200"/>
            </a:br>
            <a:r>
              <a:rPr b="0" lang="en-US" sz="3200" spc="-1" strike="noStrike">
                <a:solidFill>
                  <a:srgbClr val="000000"/>
                </a:solidFill>
                <a:latin typeface="Times New Roman"/>
              </a:rPr>
              <a:t>Athletic Trainers</a:t>
            </a:r>
            <a:br>
              <a:rPr sz="3200"/>
            </a:br>
            <a:r>
              <a:rPr b="0" lang="en-US" sz="3200" spc="-1" strike="noStrike">
                <a:solidFill>
                  <a:srgbClr val="000000"/>
                </a:solidFill>
                <a:latin typeface="Times New Roman"/>
              </a:rPr>
              <a:t>Administrators</a:t>
            </a:r>
            <a:br>
              <a:rPr sz="3200"/>
            </a:br>
            <a:r>
              <a:rPr b="0" lang="en-US" sz="3200" spc="-1" strike="noStrike">
                <a:solidFill>
                  <a:srgbClr val="000000"/>
                </a:solidFill>
                <a:latin typeface="Times New Roman"/>
              </a:rPr>
              <a:t>Physicia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Goa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s to ensure the student-athlete is healthy to participate in sports</a:t>
            </a:r>
            <a:br>
              <a:rPr sz="3200"/>
            </a:b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problem is identified, then it can be addressed</a:t>
            </a:r>
            <a:br>
              <a:rPr sz="3200"/>
            </a:b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 not looking for a reason to disqualify or exclude students from participa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of the PP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Primary</a:t>
            </a:r>
            <a:br>
              <a:rPr sz="2800"/>
            </a:b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creen for conditions that may be life-threatening or disab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creen for conditions that may predispose to injury or illn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et administrative requirements</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of the PP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Second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termine general heal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rve as an entry point to the healthcare system for adolesc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vide an opportunity to initiate discussion on health-related topi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ing of evaluation</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llow time to treat or rehabilitate any identified problem (&gt;6 weeks prior)</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ferably with their PERSONAL PHYSICIAN with access to medical records</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option is midsummer or the end of the previous school ye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ting of evaluation</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ian’s office versus coordinated team approach</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ither setting it is preferred that the history and PE be done by the same physician</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20:44:15Z</dcterms:created>
  <dc:creator> </dc:creator>
  <dc:description/>
  <dc:language>en-US</dc:language>
  <cp:lastModifiedBy>HCMARTINEZ</cp:lastModifiedBy>
  <dcterms:modified xsi:type="dcterms:W3CDTF">2009-08-12T18:55:21Z</dcterms:modified>
  <cp:revision>15</cp:revision>
  <dc:subject/>
  <dc:title>Overview of the Sports Preparticipation Physical </dc:title>
</cp:coreProperties>
</file>