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294-7E8A-41FC-8453-6C5CCCF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A68-6B4D-40D2-A54D-D6CD0D6B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FD1-5004-44F7-9D2D-B9819547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190-0044-4AF8-AF33-70A924D5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028-9944-45E2-B694-B2532433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AF-7A4B-4170-B17A-9A817773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020-A122-4CA3-BA7D-F3CF912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B6D-F445-4DC4-8E05-9FD026A3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189-D282-49C6-B417-A1B766F8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4C2-E21B-4925-83FD-C150D42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D9E-0328-4A51-BA63-C023339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60B-0F45-4D1E-8B41-1E715E3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25D-B0F6-461F-A4C4-E939A47F3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08-27T18:03:51Z</dcterms:modified>
  <cp:revision>20</cp:revision>
  <dc:subject/>
  <dc:title>Primer on Opportunistic Infections</dc:title>
</cp:coreProperties>
</file>