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F0A1-A4F8-47DE-A515-5289771B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FDAB-8BA9-4A92-B3C9-59DE18BC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F6D8-30D1-4B78-9B05-B37C9CF3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552E-63A5-4C85-8D45-25A141B6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B638-F8F3-422B-9B6C-9962A0A4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877E-3CB7-41F6-8FE6-D7E97722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E276-26E6-489A-A8AC-7A4C8E0C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33D2-F2FF-4B65-88B0-2D5F3164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F30C-CAAE-4504-AB92-4E3FD749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7AB5-E0B7-47CD-AB2B-923C2EAE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AD30-3BE6-4C24-A1A5-DEF83FC6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6F9B-2CA7-42A5-9393-F334C88E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F195-4310-4441-B0EB-D68A956DB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Opportunistic Infections in HIV Pati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Farnitano,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, August 31,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on Co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96216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a of Pyram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350 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0-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-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42483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gt;350 T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incidence of diseases that also affect normal ho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rent Vaginal Candidi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monary Tubercul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uemococcal Pneu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vical Dysp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lmonary 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028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514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-350 T Cell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pes Si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pes Zoster (Shingl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051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-200 T Cell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eumocystis Carinii Pnuemo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xoplasm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coc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xoplasm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51055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lt;50 T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V Reti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cobacterium Avium Comp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sporid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ive Multifocal Leukencephalopat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027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kham's razor does not apply for advanced AI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often multiple diagnoses present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 PCP, CMV, KS, Co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% of bacterial pneumonias also have P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of PCP pneumonia complicated by bacterial inf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for second etiology if patient not impro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most common opportunistic infections (OIs): Dx and R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immune reconstitution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primary OI prophyl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une reconstitution disea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ART attack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ade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 OI prophylaxi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P -T cells &lt;200 or 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xo -T cells &lt;100 and +Toxo t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-  Tcells 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– INH x 9 months if PPD &gt;5mm or quantiferon-TB 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ntiferon vs. TST in HIV pat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iferon not approved for use in immunocomprim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7 HIV patients in New Orleans given both te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% did not return for TST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positive by quantif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ositive by 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feron is more sensitive but without a gold standard for latent TB infection cannot say whether it is more or less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study showed similar positive test result rates but a better correlation with risk factors for quantiferon vs. TST suggesting quantiferon is a more specific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ntiferon vs. TST in HIV pat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Given the high risk for progression to active disease in HIV-infected persons, any HIV-infected person with reactivity on any of the current LTBI diagnostic tests should be considered infected with </a:t>
            </a:r>
            <a:r>
              <a:rPr b="0" i="1" lang="en-US" sz="2800" spc="-1" strike="noStrike">
                <a:solidFill>
                  <a:srgbClr val="000000"/>
                </a:solidFill>
                <a:latin typeface="AGaramondPro-Italic"/>
              </a:rPr>
              <a:t>M. tuberculosi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----CDC guidelines, 3/24/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ra SS or DS qd or DS TI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strength has similar efficacy with fewer adverse reactions (I.e. late onset rash, hepatotoxicity, fe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-50% of AIDS pts. D/c Septra DS due to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ra Desensitiz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cc qd x 3d, then 2cc qd x 3d, then 5ccqd x 3d, then one SS tab q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psone 100mg qd +pyramethamine 50mg qweek + leukovorin 25mg q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rosolized pentamadine 300mg q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avaquone 1500mg q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erosolized pentamidine bo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xo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SS or DS qd or DS TI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Desensitis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cc qd x 3d, then 2cc qd x 3d, then 5ccqd x 3d, then one SS tab q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sone 100mg qd +pyramethamine 50mg qweek + leukovorin 25mg q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vaquone 1500mg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 prophyl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ithromax 600mg x 2 tabs qweek reduces infection rate 5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eems to reduce risk of P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fic Opportunistic Inf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1 yo male with poor adherence to m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V + since at least 19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pisode thrush March,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/o dry m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: white patches on buccal muc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ed with fluconazole, sx reso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rent thrush July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conazole again prescri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/o odynopha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x: probably esophageal candidi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conazole again prescri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x resolve in 3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rent odynophagia January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to itraconazole 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weeks la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ynophagia 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ush persists, resolved on re-exam March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, 2006-March,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rent episodes of thrush and esophageal candidiasis due to non-adherence to intra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episode improves when patient is adh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,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t thrush despite stated adh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to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x re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, 2007  T Cells 5 Weight 121# (baseline 198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recurrent odynophagia despite adherence to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tted for IV Capsofun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x markedly improve in 24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gal Cx: Candida Alb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tivities: resistant to fluconazole, itraconazole and voriconaz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: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ember 2007-August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istent extensive thru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d on Vori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cells 54 -&gt;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 2008:  moves in with sisters after hospital stay, adherence improves marke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uary 2009: T cells 77, thrush much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, 2009: T cells 239, thrush res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d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ginal Candidi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ttage cheese pla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 palate, buccal mucosa, tons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removed with a tongue bl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erythematous form without exu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u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027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724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s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yt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y opening m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lar Che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525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rent Vagin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frequent than you would expect, unless T Cells&lt;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Fluconazole 200mg qweek for sup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most common OI’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hort Studies in pre-triple therapy 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d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eumocystis Carin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tomegalo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cobacterium Avium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eumocystis - second epis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xoplasmi gond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ynopha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also has thrush (positive predictive value is 90%, but 18% of esophageal candidiasis presents without thru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empirically x 5-7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 better, scope to r/o other cau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V, HSV, idopathic esophageal ulcers, lymph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ary prophylaxi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02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conazole 100-200mg qd until sx reso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s for resistant Candi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dose fluconazole (400-800 mg/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ra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riconaz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 Capsofun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 Amphoteric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Who gets i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prophylaxis highly efficat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if T Cells &lt;200 or thr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idious on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4 weeks of progressive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ver, sweats, weight loss, fatigue, nonproductive c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ive dysp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rosternal discom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ng exam usually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XR: bilateral diffuse interstitial infiltrate in 80-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DH&gt;400 in 6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2&lt;75 in 6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Pneumo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027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814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vere P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http://www.mevis.de/~hhj/Lunge/ima/InfPcPEmphCTThA53_4.JPG"/>
          <p:cNvPicPr/>
          <p:nvPr/>
        </p:nvPicPr>
        <p:blipFill>
          <a:blip r:embed="rId1"/>
          <a:stretch/>
        </p:blipFill>
        <p:spPr>
          <a:xfrm>
            <a:off x="2590920" y="1371600"/>
            <a:ext cx="413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ced sputum x 3 in early AM (all on same day): 50-70% 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nchoscopy (+/-Bx): 80-90% 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R based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llect sputums or go directly to bron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P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gin before Dx confirmed without affecting diagnostic y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isone 40mg BID x 5d. Then taper over total 21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ra 15mgTMP/kg/d IV div. Q8h x 21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 to po when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first dose prednisone 15-30 minutes before Sep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death, PHC HIV clin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7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: Crypto 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: street drug over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: sepsis, pneumonia and massive hemopt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: metastatic prostate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: CVA, laryngeal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: PML (progressive multifocal leukencephalopath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: bacterial pneumonia, ETOH cirrhosis, w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ach to HIV patient with Pneumo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T Cell Cou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cell Count &gt;20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presents in typical fash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vitary in 50-6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e only if CXR suspicious for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stic infections unlik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reat empirically for bacterial inf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 pneumoniae, H. Flu most common (encapsul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consider: Non-Hodgkin’s Lymph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cell Count &lt;20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 presents as lower lobe disease, adenopathy, miliary or interstitial 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vitary in only 2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e all abnormal CXR until TB ruled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stic infections lik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 definitive diagnosis whenever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ccidiomycosis, Cryptococcus, Aspergil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V, KS, M.TB, M. Kansas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Treat PCP empiric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enced physicians make wrong clinical diagnosis in 20% of suspected P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 treated empirically have higher risk of death than patients who underwent bro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incidence of rash toward end of 21 d. Septra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nctive steroids may exacerbate other 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etiologies left uncov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Who Get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re above 50 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ivation disease: most HIV patients CMV IgG+ (90% of gay HIV+ m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 of CMV disease is reti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less, progressive visual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lateral blurry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lescing white perivascular exud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rounded by hemorrh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shfire pattern or tomato and cheese piz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suspect it, obtain ophthalmologist confirmation within 24-48 h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Is diagnosed, PHC HIV clin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5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P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ophageal Candidi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pes Si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pes Z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. Kansasii immune reconstitution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cobacterium Avium Complex (M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ptococcal Fungemia, mening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plasmo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tomegalovirus Retinitis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gancyclovir 900m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D x 21 days, then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se effect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tropenia ANC&lt;500 in 1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mbocytop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%: nausea, vomiting, abdominal pain or diarrh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ngcyclivir intraocular impl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in addition to systemic therap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gically implanted depo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 for 6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at 6 months if still not immune reconstit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for sight threatening lesions near the central visual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Who get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Cells &lt;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een with blood culture for AFB x 1 q 3 months to detect subclinical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Symp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ver, night sw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rrh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ope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od culture usually positive if symptomatic but takes weeks to g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ed to know sooner then do bone marrow B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sputum culture usually colonization, not active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stool culture may be colonization, not active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-filled macrophages in spl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cobacterium avium Complex -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rithromycin 500mg BID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ambutol 15mg/kg/d +/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fabutin 300mg q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ment failure rate is high without immune reconstit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ug tox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of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452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rami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hylaxis simple: Septra and Zithrom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TB in pneumonia with T Cells &lt;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treating PCP empir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unce of prevention pills is worth a pound of Treatment p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 of HAART on Opportunistic Infection Inci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I’s have declined 80-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I’s seen now mostly in 3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iagnosed HIV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in care or not adhering to 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time “battle-scarred warriors” failing after a long history of multiple regim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unce of prevention pills is worth a pound of Treatment p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eople living with A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0"/>
          <p:cNvGraphicFramePr/>
          <p:nvPr/>
        </p:nvGraphicFramePr>
        <p:xfrm>
          <a:off x="304920" y="1600200"/>
          <a:ext cx="8534160" cy="5232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53416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ramid or iceberg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2572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16:40:48Z</dcterms:created>
  <dc:creator>health</dc:creator>
  <dc:description/>
  <dc:language>en-US</dc:language>
  <cp:lastModifiedBy>Lydia Rodriguez</cp:lastModifiedBy>
  <cp:lastPrinted>2003-02-13T16:33:18Z</cp:lastPrinted>
  <dcterms:modified xsi:type="dcterms:W3CDTF">2009-08-27T18:03:51Z</dcterms:modified>
  <cp:revision>20</cp:revision>
  <dc:subject/>
  <dc:title>Primer on Opportunistic Infections</dc:title>
</cp:coreProperties>
</file>