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930-BBEE-41D2-8EDE-B3B92580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5536-58DE-4E2D-ADDA-A4ED9BC6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B1A7-24BD-4953-98A1-1F56FA7B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84C-9DD8-418D-A895-B94C2A48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95B2-7B6E-4F30-AEC8-CC0C1AF8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23ED-5B46-46A2-94DA-2E844ADA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8DFC-B8EA-4C84-BE31-D34B8051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A0EC-67EE-472E-8945-77E29DE7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E1ED-D6A4-4D68-B46C-53EF8493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885D-29DA-480A-BC86-D52AF546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131D-743D-463A-A066-5DE973D1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7168-67F4-479D-9CD0-DEB669AC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4C24-5E66-435B-A332-F2C8605CB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Opportunistic Infections in HIV Pati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Farnitano,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August 31,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on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9621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a of Pyram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350 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0-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-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42483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gt;350 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incidence of diseases that also affect normal ho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t Vaginal 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monary Tubercul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uemococcal Pneu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vical Dys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lmonary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028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514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-350 T Cell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 Si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pes Zoster (Shing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051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-200 T Cell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eumocystis Carinii Pnuemo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xoplasm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coc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xoplasm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5105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lt;50 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V Reti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cobacterium Avium Co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sporid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ve Multifocal Leukencephalopa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27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kham's razor does not apply for advanced A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often multiple diagnoses present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 PCP, CMV, KS, Co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% of bacterial pneumonias also have P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PCP pneumonia complicated by bacterial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for second etiology if patient not impro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most common opportunistic infections (OIs): Dx and R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immune reconstitution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primary OI prophyl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une reconstitution disea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ART attack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ade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OI prophylaxi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P -T cells &lt;200 or 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xo -T cells &lt;100 and +Toxo t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-  Tcells 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– INH x 9 months if PPD &gt;5mm or quantiferon-TB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feron vs. TST in HIV pat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feron not approved for use in immunocomprim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7 HIV patients in New Orleans given both te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% did not return for TST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positive by quantif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ositive by 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feron is more sensitive but without a gold standard for latent TB infection cannot say whether it is more or less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study showed similar positive test result rates but a better correlation with risk factors for quantiferon vs. TST suggesting quantiferon is a more specific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feron vs. TST in HIV pat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Given the high risk for progression to active disease in HIV-infected persons, any HIV-infected person with reactivity on any of the current LTBI diagnostic tests should be considered infected with </a:t>
            </a:r>
            <a:r>
              <a:rPr b="0" i="1" lang="en-US" sz="2800" spc="-1" strike="noStrike">
                <a:solidFill>
                  <a:srgbClr val="000000"/>
                </a:solidFill>
                <a:latin typeface="AGaramondPro-Italic"/>
              </a:rPr>
              <a:t>M. tuberculosi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----CDC guidelines, 3/24/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ra SS or DS qd or DS TI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strength has similar efficacy with fewer adverse reactions (I.e. late onset rash, hepatotoxicity, fe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-50% of AIDS pts. D/c Septra DS due to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ra Desensitiz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cc qd x 3d, then 2cc qd x 3d, then 5ccqd x 3d, then one SS tab q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psone 100mg qd +pyramethamine 50mg qweek + leukovorin 25mg q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rosolized pentamadine 300mg q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avaquone 1500mg q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erosolized pentamidine bo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xo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SS or DS qd or DS TI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Desensitis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cc qd x 3d, then 2cc qd x 3d, then 5ccqd x 3d, then one SS tab q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sone 100mg qd +pyramethamine 50mg qweek + leukovorin 25mg q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vaquone 1500mg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thromax 600mg x 2 tabs qweek reduces infection rate 5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eems to reduce risk of P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fic Opportunistic Inf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1 yo male with poor adherence to m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V + since at least 19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pisode thrush March,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o dry m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: white patches on buccal muc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ed with fluconazole, sx res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rent thrush July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 again prescri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o odynopha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x: probably esophageal 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 again prescri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x resolve in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t odynophagia January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to itraconazole 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weeks la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ynophagia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ush persists, resolved on re-exam March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, 2006-March,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rent episodes of thrush and esophageal candidiasis due to non-adherence to intra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episode improves when patient is adh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,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 thrush despite stated adh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to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x re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, 2007  T Cells 5 Weight 121# (baseline 198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recurrent odynophagia despite adherence to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tted for IV Capsofun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x markedly improve in 24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gal Cx: Candida Alb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ities: resistant to fluconazole, itraconazole and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mber 2007-August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t extensive thru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d on Vori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54 -&gt;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 2008:  moves in with sisters after hospital stay, adherence improves marke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uary 2009: T cells 77, thrush much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, 2009: T cells 239, thrush res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d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ginal Candidi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ttage cheese pla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 palate, buccal mucosa, tons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removed with a tongue b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erythematous form without exu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027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724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yt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y opening m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525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rent Vagin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frequent than you would expect, unless T Cells&lt;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Fluconazole 200mg qweek for sup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most common OI’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hort Studies in pre-triple therapy 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cystis Carin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tomegalo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cobacterium Avium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cystis - second epis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xoplasmi gond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ynopha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lso has thrush (positive predictive value is 90%, but 18% of esophageal candidiasis presents without thru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empirically x 5-7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better, scope to r/o other cau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V, HSV, idopathic esophageal ulcers, lymph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ary prophylax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02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conazole 100-200mg qd until sx res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s for resistant Candi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dose fluconazole (400-800 mg/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ra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ri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Capsofun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Amphoteri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Who gets i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prophylaxis highly efficat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if T Cells &lt;200 or 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idious on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4 weeks of progressive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ver, sweats, weight loss, fatigue, nonproductive c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ve dysp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osternal discom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ng exam usually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XR: bilateral diffuse interstitial infiltrate in 80-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DH&gt;400 in 6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2&lt;75 in 6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Pneumo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027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814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vere P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http://www.mevis.de/~hhj/Lunge/ima/InfPcPEmphCTThA53_4.JPG"/>
          <p:cNvPicPr/>
          <p:nvPr/>
        </p:nvPicPr>
        <p:blipFill>
          <a:blip r:embed="rId1"/>
          <a:stretch/>
        </p:blipFill>
        <p:spPr>
          <a:xfrm>
            <a:off x="2590920" y="1371600"/>
            <a:ext cx="413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ced sputum x 3 in early AM (all on same day): 50-70%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nchoscopy (+/-Bx): 80-90%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R based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llect sputums or go directly to bron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gin before Dx confirmed without affecting diagnostic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isone 40mg BID x 5d. Then taper over total 21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15mgTMP/kg/d IV div. Q8h x 21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 to po when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first dose prednisone 15-30 minutes before Sep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death, PHC HIV cli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7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: Crypto 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: street drug over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: sepsis, pneumonia and massive hemopt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: metastatic prostate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: CVA, laryngeal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: PML (progressive multifocal leukencephalopath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: bacterial pneumonia, ETOH cirrhosis, w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 to HIV patient with Pneumo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T Cell Cou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cell Count &gt;20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presents in typical fash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vitary in 50-6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only if CXR suspicious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stic infections unlik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reat empirically for bacterial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 pneumoniae, H. Flu most common (encapsul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onsider: Non-Hodgkin’s Lymph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cell Count &lt;20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presents as lower lobe disease, adenopathy, miliary or interstitial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vitary in only 2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all abnormal CXR until TB rule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stic infections lik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definitive diagnosis whenever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ccidiomycosis, Cryptococcus, Aspergil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V, KS, M.TB, M. Kansas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Treat PCP empir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enced physicians make wrong clinical diagnosis in 20% of suspected P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treated empirically have higher risk of death than patients who underwent bro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incidence of rash toward end of 21 d. Septra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nctive steroids may exacerbate other 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etiologies left uncov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Who Get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re above 50 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vation disease: most HIV patients CMV IgG+ (90% of gay HIV+ m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of CMV disease is reti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less, progressive visual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lateral blurry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escing white perivascular exud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rounded by hemorrh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hfire pattern or tomato and cheese piz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suspect it, obtain ophthalmologist confirmation within 24-48 h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Is diagnosed, PHC HIV cli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5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P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pes Si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 Kansasii immune reconstitution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cobacterium Avium Complex (M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coccal Fungemia, 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plasm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gancyclovir 900m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D x 21 days, then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se effec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tropenia ANC&lt;500 in 1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: nausea, vomiting, abdominal pain or diarrh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ngcyclivir intraocular impl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n addition to systemic therap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ically implanted depo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for 6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at 6 months if still not immune reconstit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for sight threatening lesions near the central visua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Who get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Cells 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een with blood culture for AFB x 1 q 3 months to detect subclinical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ver, night sw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rrh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op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od culture usually positive if symptomatic but takes weeks to g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ed to know sooner then do bone marrow B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sputum culture usually colonization, not active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stool culture may be colonization, not active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-filled macrophages in spl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rithromycin 500mg BID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ambutol 15mg/kg/d +/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fabutin 300mg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 failure rate is high without immune reconstit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ug tox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of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rami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hylaxis simple: Septra and Zithrom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TB in pneumonia with T Cells &lt;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treating PCP empir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unce of prevention pills is worth a pound of Treatment p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f HAART on Opportunistic Infection Inci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I’s have declined 80-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I’s seen now mostly in 3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iagnosed HIV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in care or not adhering to 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time “battle-scarred warriors” failing after a long history of multiple regim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unce of prevention pills is worth a pound of Treatment p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eople living with A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0"/>
          <p:cNvGraphicFramePr/>
          <p:nvPr/>
        </p:nvGraphicFramePr>
        <p:xfrm>
          <a:off x="304920" y="1600200"/>
          <a:ext cx="8534160" cy="5232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53416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ramid or iceberg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2572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16:40:48Z</dcterms:created>
  <dc:creator>health</dc:creator>
  <dc:description/>
  <dc:language>en-US</dc:language>
  <cp:lastModifiedBy>Lydia Rodriguez</cp:lastModifiedBy>
  <cp:lastPrinted>2003-02-13T16:33:18Z</cp:lastPrinted>
  <dcterms:modified xsi:type="dcterms:W3CDTF">2009-08-27T18:03:51Z</dcterms:modified>
  <cp:revision>20</cp:revision>
  <dc:subject/>
  <dc:title>Primer on Opportunistic Infections</dc:title>
</cp:coreProperties>
</file>