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594-B2A1-45CE-8621-E8993E84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EC3-CAE5-410C-8AE2-86699BEB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728-0CE1-4EEE-98F2-3833C8B8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4A2-6A96-4FB3-9655-35E21EFC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AFF-754F-4327-84D2-86580E88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471-F924-4ACE-8DFB-93C243A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534-5914-4451-BFD5-7A511B9C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E684-AA74-43FE-A248-A75732FA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BC1-D171-4D49-BEC2-036E8C9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E1D-8D69-483F-9422-9C96036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2EB-7BBD-4741-A1E4-C086208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5EF-B86D-458D-B4D0-9DAE980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3C6-216D-4011-B7AC-EBC0503ED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08-27T18:03:51Z</dcterms:modified>
  <cp:revision>20</cp:revision>
  <dc:subject/>
  <dc:title>Primer on Opportunistic Infections</dc:title>
</cp:coreProperties>
</file>