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25.jpeg" ContentType="image/jpeg"/>
  <Override PartName="/ppt/media/image24.png" ContentType="image/png"/>
  <Override PartName="/ppt/media/image11.jpeg" ContentType="image/jpeg"/>
  <Override PartName="/ppt/media/image2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png" ContentType="image/png"/>
  <Override PartName="/ppt/media/image6.wmf" ContentType="image/x-wmf"/>
  <Override PartName="/ppt/media/image19.jpeg" ContentType="image/jpeg"/>
  <Override PartName="/ppt/media/image34.jpeg" ContentType="image/jpeg"/>
  <Override PartName="/ppt/media/image37.jpeg" ContentType="image/jpeg"/>
  <Override PartName="/ppt/media/image39.wmf" ContentType="image/x-wmf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6A11F5-6A7B-4557-8CCC-A3515C6BD56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81160" y="696600"/>
            <a:ext cx="46432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lick to move the slid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47FA1E-58FB-4BB2-ADCE-5E5F66BF6B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04504C-6D3A-4890-8C80-4182FB60239D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43A33B-E4E2-42C4-B496-FBE7118294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EB0D9B-7154-4D53-9B86-5916BF4DB718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A8F00E-B778-4C26-8DC1-DDFC3278FF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A7F63C-E1E3-4F43-8ABA-1B00C1D4587D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09087C-B13A-4137-ADAF-B7440AF130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63C52A-1016-426E-BCFE-1BCC5219CE04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D371A2-1F9C-4CB0-8147-568E3FB2A5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8E1056-199A-4754-9BD3-603ECC8E94EC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88C00A-650D-4D4C-AF3F-51E1978CC4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9A86CB-4B34-40BC-B44F-6025A96CCE15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BB13CD-88B9-4CC3-AACC-C21A26FF85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C080D2-387F-4112-BD26-2107E5544B80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6B3D20-87F5-4248-A477-B89CA3DA04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0DA957-3DEB-466D-8CB5-ACA151F510D4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B5E29D-26EC-4D98-8B35-10ADA1824F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595876-CDE9-4FE4-A4F0-74BB8E15BA99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D8B0A6-EE9E-4DAB-A285-1CDA5B3F63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F069C9-60D6-48C3-9D68-E71E9A79FB49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CBE4A9-C428-482B-85C7-39825CF690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018E79-F786-439D-B3C6-D0DFE7E17A2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6239A8-C11A-405E-8270-875536B677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633A40-18F9-475D-BED0-18AED02C54ED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C8287B-E3B4-4B0B-924B-C654FA2556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4EC7C4-86B5-445D-8FE7-5B1136674ECC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20CE9A-8513-41AE-BED7-1C255A5876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DB1211-8029-4BD8-AAF6-C9DEC03C57FE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EAB0B8-85C6-41AB-8391-60AA340DEE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FBE396-53DE-4290-B11C-C49D1A376C55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2F171D-608A-4081-B999-8C1A34C944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0F3E75-1BF2-4DC7-92B4-BF17E63A4ED5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28BB9C-70B7-4E97-B29C-BF85B35936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A5D88E-7C73-4DB9-A063-D724E3E13FE8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FAD1B1-D273-442C-B229-AAB9D0147F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74CE81-C193-4217-8D0A-FA3B093C5310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DBE225-BAEA-4295-88D7-DB4AE8DDBE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DA4316-3BFD-41BC-9A94-7CAE00ABF355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0BF085-ADF6-4214-B67A-14C7D6E7DF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AB7398-27EC-4C31-859B-D28CCE12A308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52F047-422A-40ED-A7EA-0D72C62FB8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5C9BD5-2763-49D2-B409-FD2B2D667911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7FC3D1-B6B3-4E87-80A5-68227BBFAE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B0C695-F4E0-44D8-A2E2-48522DE2C71E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9856A7-6AFD-4D98-B0BE-FD0AF2340F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8223BC-5D99-4282-AE85-E45895031D2F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F1604D-B469-4EF0-91F4-ADCBCC608D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1397B4-FD6D-42EF-AD3A-BFADEB45DC05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372044-1CB6-4AE6-8C23-A24A7ECEDA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C089CF-FC13-4C53-9B91-77479B44B8BD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16335B-3CE6-4F82-8C2E-E70358A5B0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B179E7-6563-4086-BD8B-490677886AAD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E511FF-49C9-4AFA-A795-8B7907FC02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FE80E4-7C3A-4059-921D-7D18FF523DAD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7E0130-0072-432E-8EB0-A35B01E7C4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23A97A-8662-4358-A316-0E880C4452F3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2A4F06-F81C-4617-AB53-55F9487C73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702603-6936-4FD8-A0B1-6F25452C1356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2A56F7-EBF8-4E24-8EF8-3DCC517507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CC310A-6186-4B52-8717-6B062221992A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FF4937-5D35-4C7C-9C32-2887302136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75B5A5-98D2-427F-9040-641C5BE90A23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4AD8B6-6717-40AE-803A-155D24116E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029FCC-B404-4FFE-9740-631C171DF7EB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218BA7-16AA-4A57-905B-C2F4B0BD45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087F1F-313F-4F07-9E82-1A48C11E5E19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469E8C-4AF5-4844-9CE9-C3AD218380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2392A2-9E21-4BB1-B4E6-3E8064C373F2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7986C5-BB04-4EE4-9985-E0323ABA74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1B05E2-E2FB-4132-AA15-DE7F84BB8824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3B37F4-B625-4207-87B4-2A843172FA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026"/>
          <p:cNvSpPr/>
          <p:nvPr/>
        </p:nvSpPr>
        <p:spPr>
          <a:xfrm>
            <a:off x="0" y="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P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27"/>
          <p:cNvSpPr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B43157-D127-444B-811A-187710A83799}" type="datetime3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31"/>
          <p:cNvSpPr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A288B3-D441-4B65-A549-242C5064E2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3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970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702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38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970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702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47560" y="304920"/>
            <a:ext cx="73911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9970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70280" y="19810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5238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9970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70280" y="4409280"/>
            <a:ext cx="23551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47560" y="304920"/>
            <a:ext cx="73911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2560" y="44092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2560" y="1981080"/>
            <a:ext cx="356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409280"/>
            <a:ext cx="7315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7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594360" indent="-22860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2" marL="91440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3" marL="128016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4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5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6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219320" cy="6858000"/>
            <a:chOff x="0" y="0"/>
            <a:chExt cx="1219320" cy="685800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121932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Picture 6" descr="C:\Program Files\Microsoft Office\Clipart\standard\stddir3\hh01661_.wmf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7" descr="C:\Documents and Settings\pparthas\Application Data\Microsoft\Media Catalog\Downloaded Clips\cl94\j0371086.wmf"/>
            <p:cNvPicPr/>
            <p:nvPr/>
          </p:nvPicPr>
          <p:blipFill>
            <a:blip r:embed="rId3"/>
            <a:stretch/>
          </p:blipFill>
          <p:spPr>
            <a:xfrm>
              <a:off x="0" y="13572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8" descr="C:\Documents and Settings\pparthas\Application Data\Microsoft\Media Catalog\Downloaded Clips\cl97\j0379179.wmf"/>
            <p:cNvPicPr/>
            <p:nvPr/>
          </p:nvPicPr>
          <p:blipFill>
            <a:blip r:embed="rId4"/>
            <a:stretch/>
          </p:blipFill>
          <p:spPr>
            <a:xfrm>
              <a:off x="76320" y="2289240"/>
              <a:ext cx="9903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C:\Program Files\Microsoft Office\Clipart\standard\stddir3\hh01661_.wmf"/>
            <p:cNvPicPr/>
            <p:nvPr/>
          </p:nvPicPr>
          <p:blipFill>
            <a:blip r:embed="rId5"/>
            <a:stretch/>
          </p:blipFill>
          <p:spPr>
            <a:xfrm>
              <a:off x="0" y="359244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0" descr="C:\Documents and Settings\pparthas\Application Data\Microsoft\Media Catalog\Downloaded Clips\cl94\j0371086.wmf"/>
            <p:cNvPicPr/>
            <p:nvPr/>
          </p:nvPicPr>
          <p:blipFill>
            <a:blip r:embed="rId6"/>
            <a:stretch/>
          </p:blipFill>
          <p:spPr>
            <a:xfrm>
              <a:off x="0" y="48006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1" descr="C:\Documents and Settings\pparthas\Application Data\Microsoft\Media Catalog\Downloaded Clips\cl97\j0379179.wmf"/>
            <p:cNvPicPr/>
            <p:nvPr/>
          </p:nvPicPr>
          <p:blipFill>
            <a:blip r:embed="rId7"/>
            <a:stretch/>
          </p:blipFill>
          <p:spPr>
            <a:xfrm>
              <a:off x="76320" y="5715000"/>
              <a:ext cx="990360" cy="98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Line 12"/>
          <p:cNvSpPr/>
          <p:nvPr/>
        </p:nvSpPr>
        <p:spPr>
          <a:xfrm>
            <a:off x="1447920" y="1676520"/>
            <a:ext cx="746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H:\Logos\cchs black logo.png"/>
          <p:cNvPicPr/>
          <p:nvPr/>
        </p:nvPicPr>
        <p:blipFill>
          <a:blip r:embed="rId8"/>
          <a:stretch/>
        </p:blipFill>
        <p:spPr>
          <a:xfrm>
            <a:off x="8001000" y="6246720"/>
            <a:ext cx="998640" cy="48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7d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0" y="0"/>
            <a:ext cx="1219320" cy="6858000"/>
            <a:chOff x="0" y="0"/>
            <a:chExt cx="1219320" cy="6858000"/>
          </a:xfrm>
        </p:grpSpPr>
        <p:sp>
          <p:nvSpPr>
            <p:cNvPr id="49" name="Rectangle 5"/>
            <p:cNvSpPr/>
            <p:nvPr/>
          </p:nvSpPr>
          <p:spPr>
            <a:xfrm>
              <a:off x="0" y="0"/>
              <a:ext cx="121932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Picture 6" descr="C:\Program Files\Microsoft Office\Clipart\standard\stddir3\hh01661_.wmf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C:\Documents and Settings\pparthas\Application Data\Microsoft\Media Catalog\Downloaded Clips\cl94\j0371086.wmf"/>
            <p:cNvPicPr/>
            <p:nvPr/>
          </p:nvPicPr>
          <p:blipFill>
            <a:blip r:embed="rId3"/>
            <a:stretch/>
          </p:blipFill>
          <p:spPr>
            <a:xfrm>
              <a:off x="0" y="13572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8" descr="C:\Documents and Settings\pparthas\Application Data\Microsoft\Media Catalog\Downloaded Clips\cl97\j0379179.wmf"/>
            <p:cNvPicPr/>
            <p:nvPr/>
          </p:nvPicPr>
          <p:blipFill>
            <a:blip r:embed="rId4"/>
            <a:stretch/>
          </p:blipFill>
          <p:spPr>
            <a:xfrm>
              <a:off x="76320" y="2289240"/>
              <a:ext cx="9903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9" descr="C:\Program Files\Microsoft Office\Clipart\standard\stddir3\hh01661_.wmf"/>
            <p:cNvPicPr/>
            <p:nvPr/>
          </p:nvPicPr>
          <p:blipFill>
            <a:blip r:embed="rId5"/>
            <a:stretch/>
          </p:blipFill>
          <p:spPr>
            <a:xfrm>
              <a:off x="0" y="3592440"/>
              <a:ext cx="12193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0" descr="C:\Documents and Settings\pparthas\Application Data\Microsoft\Media Catalog\Downloaded Clips\cl94\j0371086.wmf"/>
            <p:cNvPicPr/>
            <p:nvPr/>
          </p:nvPicPr>
          <p:blipFill>
            <a:blip r:embed="rId6"/>
            <a:stretch/>
          </p:blipFill>
          <p:spPr>
            <a:xfrm>
              <a:off x="0" y="4800600"/>
              <a:ext cx="9716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1" descr="C:\Documents and Settings\pparthas\Application Data\Microsoft\Media Catalog\Downloaded Clips\cl97\j0379179.wmf"/>
            <p:cNvPicPr/>
            <p:nvPr/>
          </p:nvPicPr>
          <p:blipFill>
            <a:blip r:embed="rId7"/>
            <a:stretch/>
          </p:blipFill>
          <p:spPr>
            <a:xfrm>
              <a:off x="76320" y="5715000"/>
              <a:ext cx="990360" cy="98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Picture 12" descr="H:\Logos\cchs black logo.png"/>
          <p:cNvPicPr/>
          <p:nvPr/>
        </p:nvPicPr>
        <p:blipFill>
          <a:blip r:embed="rId8"/>
          <a:stretch/>
        </p:blipFill>
        <p:spPr>
          <a:xfrm>
            <a:off x="8001000" y="6246720"/>
            <a:ext cx="998640" cy="48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594360" indent="-22860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2" marL="91440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3" marL="128016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4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5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6" marL="1645920" indent="-182880">
              <a:spcBef>
                <a:spcPts val="3501"/>
              </a:spcBef>
              <a:buClr>
                <a:srgbClr val="000000"/>
              </a:buClr>
              <a:buFont typeface="Verdana Re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4678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Oral Health for MCAH Population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828800" y="46483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 Ref"/>
              </a:rPr>
              <a:t>Children’s Oral Health Program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 Ref"/>
              </a:rPr>
              <a:t>Contra Costa Health Services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 Ref"/>
              </a:rPr>
              <a:t>November 2008</a:t>
            </a: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04" name="Picture 6" descr="DSC_7961"/>
          <p:cNvPicPr/>
          <p:nvPr/>
        </p:nvPicPr>
        <p:blipFill>
          <a:blip r:embed="rId1"/>
          <a:stretch/>
        </p:blipFill>
        <p:spPr>
          <a:xfrm>
            <a:off x="3238560" y="2112840"/>
            <a:ext cx="35812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White Spot Lesion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3657600" y="4770360"/>
            <a:ext cx="0" cy="4572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whspotbig"/>
          <p:cNvPicPr/>
          <p:nvPr/>
        </p:nvPicPr>
        <p:blipFill>
          <a:blip r:embed="rId1"/>
          <a:stretch/>
        </p:blipFill>
        <p:spPr>
          <a:xfrm>
            <a:off x="1600200" y="3560760"/>
            <a:ext cx="3581280" cy="2687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stage1"/>
          <p:cNvPicPr/>
          <p:nvPr/>
        </p:nvPicPr>
        <p:blipFill>
          <a:blip r:embed="rId2"/>
          <a:stretch/>
        </p:blipFill>
        <p:spPr>
          <a:xfrm>
            <a:off x="5334120" y="1905120"/>
            <a:ext cx="344160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Mild/Moderate EC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42" name="Picture 1029" descr="decay"/>
          <p:cNvPicPr/>
          <p:nvPr/>
        </p:nvPicPr>
        <p:blipFill>
          <a:blip r:embed="rId1"/>
          <a:stretch/>
        </p:blipFill>
        <p:spPr>
          <a:xfrm>
            <a:off x="5181480" y="2590920"/>
            <a:ext cx="3746520" cy="250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30" descr="decay2"/>
          <p:cNvPicPr/>
          <p:nvPr/>
        </p:nvPicPr>
        <p:blipFill>
          <a:blip r:embed="rId2"/>
          <a:stretch/>
        </p:blipFill>
        <p:spPr>
          <a:xfrm>
            <a:off x="1371600" y="1905120"/>
            <a:ext cx="3505320" cy="2309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31" descr="S:\fmch\Everyone\Children's Oral Health Program\Oral Health Report\Photos\moderate ECC.jpg"/>
          <p:cNvPicPr/>
          <p:nvPr/>
        </p:nvPicPr>
        <p:blipFill>
          <a:blip r:embed="rId3"/>
          <a:stretch/>
        </p:blipFill>
        <p:spPr>
          <a:xfrm>
            <a:off x="1447920" y="4343400"/>
            <a:ext cx="35049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Severe EC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46" name="Picture 1030" descr="abscess"/>
          <p:cNvPicPr/>
          <p:nvPr/>
        </p:nvPicPr>
        <p:blipFill>
          <a:blip r:embed="rId1"/>
          <a:stretch/>
        </p:blipFill>
        <p:spPr>
          <a:xfrm>
            <a:off x="5321160" y="1905120"/>
            <a:ext cx="3060720" cy="214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31" descr="badteeth"/>
          <p:cNvPicPr/>
          <p:nvPr/>
        </p:nvPicPr>
        <p:blipFill>
          <a:blip r:embed="rId2"/>
          <a:stretch/>
        </p:blipFill>
        <p:spPr>
          <a:xfrm>
            <a:off x="1600200" y="1981080"/>
            <a:ext cx="3429000" cy="2394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32" descr="severedecay"/>
          <p:cNvPicPr/>
          <p:nvPr/>
        </p:nvPicPr>
        <p:blipFill>
          <a:blip r:embed="rId3"/>
          <a:stretch/>
        </p:blipFill>
        <p:spPr>
          <a:xfrm>
            <a:off x="1752480" y="4673520"/>
            <a:ext cx="3264120" cy="1650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33" descr="S:\fmch\Everyone\Children's Oral Health Program\Oral Health Report\Photos\severe ECC.jpg"/>
          <p:cNvPicPr/>
          <p:nvPr/>
        </p:nvPicPr>
        <p:blipFill>
          <a:blip r:embed="rId4"/>
          <a:stretch/>
        </p:blipFill>
        <p:spPr>
          <a:xfrm>
            <a:off x="5334120" y="4191120"/>
            <a:ext cx="30477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Risk Factors for Carie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58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Having a mother with a high caries rate or a high bacterial count of cavity-causing germ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monstrable caries, plaque, demineralization, and/or staining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Being a later-order offspring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57800" y="1904760"/>
            <a:ext cx="358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leeping with a bottle or breastfeeding throughout the night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Low socioeconomic statu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Lack of access to dental car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Children with Disabilities and Other Special Needs 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duced saliva flow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weetened medication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ompeting medical need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58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The Effects of EC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3581280" cy="3429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486040" y="2057400"/>
            <a:ext cx="335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Loss of primary teet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ai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Infectio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Self-esteem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Loss of Primary Teeth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rimary teeth are important for: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Nutrition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Speech development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Holding spaces for permanent teeth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Untreated decay in primary teeth can lead to decay in permanent teeth, or permanent teeth may not erupt at al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rimary and Permanent Teeth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67053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ain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hildren learn to live with the pai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Missed preschool and school day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Inability to concentrate; impairs school readines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an affect sleep and overall health and well-being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Infection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ailure to thrive and delayed growth pattern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581640" cy="2438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44604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Image1"/>
          <p:cNvPicPr/>
          <p:nvPr/>
        </p:nvPicPr>
        <p:blipFill>
          <a:blip r:embed="rId2"/>
          <a:stretch/>
        </p:blipFill>
        <p:spPr>
          <a:xfrm>
            <a:off x="1981080" y="3733920"/>
            <a:ext cx="27640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resentation Outlin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Early childhood carie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Periodontal disease and perinatal health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dolescent oral health:  Oral piercing and grill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Prevention of dental decay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ccess to oral health care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Take-home message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Self-esteem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Ref"/>
              </a:rPr>
              <a:t>Stainless steel crowns</a:t>
            </a:r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Ref"/>
              </a:rPr>
              <a:t>Unattractive smiles</a:t>
            </a:r>
            <a:endParaRPr b="0" lang="en-US" sz="32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3352680" y="3860640"/>
            <a:ext cx="3733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Importance of Oral Health for Pregnant Women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eriodontal disease in a pregnant woman has been linked to increased risk for preterm delivery and having a low birth weight baby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or mom:  pain, infection, poor nutrition, sleep deprivation, inability to concentrate, work or take care of children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4"/>
          <p:cNvGrpSpPr/>
          <p:nvPr/>
        </p:nvGrpSpPr>
        <p:grpSpPr>
          <a:xfrm>
            <a:off x="1967400" y="1828800"/>
            <a:ext cx="6179040" cy="4498200"/>
            <a:chOff x="1967400" y="1828800"/>
            <a:chExt cx="6179040" cy="4498200"/>
          </a:xfrm>
        </p:grpSpPr>
        <p:sp>
          <p:nvSpPr>
            <p:cNvPr id="176" name="Line 3"/>
            <p:cNvSpPr/>
            <p:nvPr/>
          </p:nvSpPr>
          <p:spPr>
            <a:xfrm>
              <a:off x="4876920" y="237168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4"/>
            <p:cNvSpPr/>
            <p:nvPr/>
          </p:nvSpPr>
          <p:spPr>
            <a:xfrm>
              <a:off x="4876920" y="336240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>
              <a:off x="4876920" y="442908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6"/>
            <p:cNvSpPr/>
            <p:nvPr/>
          </p:nvSpPr>
          <p:spPr>
            <a:xfrm>
              <a:off x="4876920" y="5419800"/>
              <a:ext cx="0" cy="380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3813120" y="182880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Bacteria in P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4356000" y="2819520"/>
              <a:ext cx="10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Blo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4225320" y="380988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Plac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3865680" y="4876920"/>
              <a:ext cx="21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Inflam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1967400" y="5867280"/>
              <a:ext cx="617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 Ref"/>
                  <a:ea typeface="Times New Roman"/>
                </a:rPr>
                <a:t>Cervical Dilation and Uterine Contra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ossible Biological Pathwa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Between PD and PTB/LBW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eriodontal Diseas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Gingiviti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Periodontal Disease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Gingiviti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523880" y="18288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Early stage of gum disease – only gums are inf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Caused by bacterial plaque and host risk factors:  smoking, diabetes, stress, gen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Bacteria in plaque create toxins that irritate the gums and cause redness, swelling, blee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Reversible with good oral hyg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severe ging"/>
          <p:cNvPicPr/>
          <p:nvPr/>
        </p:nvPicPr>
        <p:blipFill>
          <a:blip r:embed="rId1"/>
          <a:stretch/>
        </p:blipFill>
        <p:spPr>
          <a:xfrm>
            <a:off x="5334120" y="4019400"/>
            <a:ext cx="2971800" cy="2000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moderate ging"/>
          <p:cNvPicPr/>
          <p:nvPr/>
        </p:nvPicPr>
        <p:blipFill>
          <a:blip r:embed="rId2"/>
          <a:stretch/>
        </p:blipFill>
        <p:spPr>
          <a:xfrm>
            <a:off x="5334120" y="2038320"/>
            <a:ext cx="29718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Severe Pregnancy gingivitis"/>
          <p:cNvPicPr/>
          <p:nvPr/>
        </p:nvPicPr>
        <p:blipFill>
          <a:blip r:embed="rId1"/>
          <a:stretch/>
        </p:blipFill>
        <p:spPr>
          <a:xfrm>
            <a:off x="3048120" y="3789360"/>
            <a:ext cx="3886200" cy="2230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regnancy Gingiviti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Infection that is more superficial and brought on by hormonal changes during pregnancy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eriodontiti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n inflammation and degeneration below the gum line (bone and tissues surrounding the teeth)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Multi-factorial and episodic in natur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Prevalence in women of childbearing age is 5-40%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struction of the bone is not reversibl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If left untreated can cause tooth los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391160" cy="11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Progression of Periodontiti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grpSp>
        <p:nvGrpSpPr>
          <p:cNvPr id="198" name="Group 6"/>
          <p:cNvGrpSpPr/>
          <p:nvPr/>
        </p:nvGrpSpPr>
        <p:grpSpPr>
          <a:xfrm>
            <a:off x="1371600" y="2438280"/>
            <a:ext cx="7543800" cy="2381400"/>
            <a:chOff x="1371600" y="2438280"/>
            <a:chExt cx="7543800" cy="2381400"/>
          </a:xfrm>
        </p:grpSpPr>
        <p:pic>
          <p:nvPicPr>
            <p:cNvPr id="199" name="Picture 3" descr="ada co-peri1"/>
            <p:cNvPicPr/>
            <p:nvPr/>
          </p:nvPicPr>
          <p:blipFill>
            <a:blip r:embed="rId1"/>
            <a:stretch/>
          </p:blipFill>
          <p:spPr>
            <a:xfrm>
              <a:off x="1371600" y="2438280"/>
              <a:ext cx="2514600" cy="238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" descr="ada co-peri2"/>
            <p:cNvPicPr/>
            <p:nvPr/>
          </p:nvPicPr>
          <p:blipFill>
            <a:blip r:embed="rId2"/>
            <a:stretch/>
          </p:blipFill>
          <p:spPr>
            <a:xfrm>
              <a:off x="3886200" y="2438280"/>
              <a:ext cx="2514600" cy="236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5" descr="ada co-peri3"/>
            <p:cNvPicPr/>
            <p:nvPr/>
          </p:nvPicPr>
          <p:blipFill>
            <a:blip r:embed="rId3"/>
            <a:stretch/>
          </p:blipFill>
          <p:spPr>
            <a:xfrm>
              <a:off x="6400800" y="2438280"/>
              <a:ext cx="2514600" cy="236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Severe Periodontitis - Gingival Recession in Incisor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203" name="Picture 3" descr="Periodontitis Photo"/>
          <p:cNvPicPr/>
          <p:nvPr/>
        </p:nvPicPr>
        <p:blipFill>
          <a:blip r:embed="rId1"/>
          <a:stretch/>
        </p:blipFill>
        <p:spPr>
          <a:xfrm>
            <a:off x="1523880" y="1828800"/>
            <a:ext cx="7086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Treatment of Periodontal Disease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Professional deep scaling and root planing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nti-microbial mouth rinse (chlorhexidine)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ystemic and/or site-specific antibiotic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Gum surgery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047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A Silent Epidemic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Dental disease is the most common chronic and infectious disease affecting children in the U.S.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Five times more common than asthma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7% of Contra Costa children miss school because of a dental problem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Oral Piercing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otential consequences of oral piercing include: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Infection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rolonged or uncontrolled bleeding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ain and swelling (in extreme cases, a severely swollen tongue can close off the airway and restrict breathing)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Chipped or cracked teeth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Injury to the gums, possibly resulting in bone loss and root decay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Problems with chewing, swallowing, and pronouncing words properly;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Blood-borne diseases including various strains of hepatitis; and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  <a:p>
            <a:pPr lvl="1" marL="698400" indent="-268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 Ref"/>
              </a:rPr>
              <a:t>Endocarditis, an inflammation of the heart valves or tissues. </a:t>
            </a:r>
            <a:endParaRPr b="0" lang="en-US" sz="21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Oral Piercing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Because of the risks involved even after an initial oral piercing wound has healed, the ADA recommends that both teens and adults avoid oral piercing.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Grill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Made from gold, silver, or jewel-encrusted precious metals 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Use of permanent cement not intended for internal us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o-it-yourself kits and unlicensed jeweler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35816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Adolescent Oral Health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Grills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Grills can wear away the enamel on the opposing teeth and inflame the gums; cement can damage teeth and gum tissue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Food collect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 tooth decay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DA recommends that youth avoid wearing grills, but if they are considering it, youth should: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talk to their dentists first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find out what materials the grills are made of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limit the time the grills are worn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remove the grills when eating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practice good oral hygiene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revention of Dental Decay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Regular dental visits starting at age 1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Referral by medical providers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Oral hygien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Fluorid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Sealant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Healthy feeding practice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Modifying caregiver’s oral health:  Xylitol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Oral Hygiene:  Infant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257800" y="2133360"/>
            <a:ext cx="358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Before teeth come in, wipe gums clean with gauze or washcloth, before or after last feeding at night 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20" name="Picture 9" descr="S:\Users\pparthas\My Pictures\Abby\AbbyJean_035ed_1_1.jpg"/>
          <p:cNvPicPr/>
          <p:nvPr/>
        </p:nvPicPr>
        <p:blipFill>
          <a:blip r:embed="rId1"/>
          <a:stretch/>
        </p:blipFill>
        <p:spPr>
          <a:xfrm>
            <a:off x="1600200" y="2133720"/>
            <a:ext cx="358128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Oral Hygiene: “Lift the Lip”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3880" y="2209320"/>
            <a:ext cx="3276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When teeth are in, “lift the lip” monthly to check for chalky white spots or brown spot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3581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Oral Hygiene:  Brushing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Begins when first tooth erupt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An adult should help brush a child’s teeth until child is around 8 years old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486400" y="3809880"/>
            <a:ext cx="2362320" cy="2819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babybrush"/>
          <p:cNvPicPr/>
          <p:nvPr/>
        </p:nvPicPr>
        <p:blipFill>
          <a:blip r:embed="rId2"/>
          <a:stretch/>
        </p:blipFill>
        <p:spPr>
          <a:xfrm>
            <a:off x="5486400" y="1752480"/>
            <a:ext cx="25146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Fluoride Toothpast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Encourage daily use in the morning and before bed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 small smear is the appropriate amount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pply toothpaste across width, not length of toothbrush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299200" y="2666880"/>
            <a:ext cx="3463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Fluoride Varnish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Brown resin that sets on contact with moisture in the mouth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Prevents ECC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Easy application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Contains 5% of NaF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33" name="Picture 4" descr="S:\fmch\Everyone\Children's Oral Health Program\Dental - Contracts, Grants &amp; Proposals\First 5 Oral Health Education and Training Project\Fluoride Varnish\varnish america pic.jpg"/>
          <p:cNvPicPr/>
          <p:nvPr/>
        </p:nvPicPr>
        <p:blipFill>
          <a:blip r:embed="rId1"/>
          <a:stretch/>
        </p:blipFill>
        <p:spPr>
          <a:xfrm>
            <a:off x="3486240" y="5181480"/>
            <a:ext cx="33717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National Policy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76920" y="1981080"/>
            <a:ext cx="3962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ll children should see a dentist by age one or six months after the eruption of the first toot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merican Academy of Pediatric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lvl="1" marL="743040" indent="-285840">
              <a:buClr>
                <a:srgbClr val="000000"/>
              </a:buClr>
              <a:buFont typeface="Verdana Re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merican Academy of Pediatric Dentistry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  <p:graphicFrame>
        <p:nvGraphicFramePr>
          <p:cNvPr id="111" name="Object 6"/>
          <p:cNvGraphicFramePr/>
          <p:nvPr/>
        </p:nvGraphicFramePr>
        <p:xfrm>
          <a:off x="1676520" y="2133720"/>
          <a:ext cx="3327120" cy="39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332712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Community Water Fluoridation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0" y="190476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Only about 30% of Californians have  fluoridated drinking water (vs. 67% nationwide)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n Francisco Public Utilities Commission areas all fluoridated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275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All of Contra Costa is fluoridated </a:t>
            </a:r>
            <a:r>
              <a:rPr b="0" i="1" lang="en-US" sz="2200" spc="-1" strike="noStrike">
                <a:solidFill>
                  <a:srgbClr val="000000"/>
                </a:solidFill>
                <a:latin typeface="Verdana Ref"/>
              </a:rPr>
              <a:t>except</a:t>
            </a:r>
            <a:r>
              <a:rPr b="0" lang="en-US" sz="2200" spc="-1" strike="noStrike">
                <a:solidFill>
                  <a:srgbClr val="000000"/>
                </a:solidFill>
                <a:latin typeface="Verdana Ref"/>
              </a:rPr>
              <a:t> Bay Point, Byron, Knightsen, and Brentwood</a:t>
            </a:r>
            <a:endParaRPr b="0" lang="en-US" sz="2200" spc="-1" strike="noStrike">
              <a:solidFill>
                <a:srgbClr val="000000"/>
              </a:solidFill>
              <a:latin typeface="Verdana Ref"/>
            </a:endParaRPr>
          </a:p>
        </p:txBody>
      </p:sp>
      <p:graphicFrame>
        <p:nvGraphicFramePr>
          <p:cNvPr id="236" name="Object 4"/>
          <p:cNvGraphicFramePr/>
          <p:nvPr/>
        </p:nvGraphicFramePr>
        <p:xfrm>
          <a:off x="1873080" y="2338560"/>
          <a:ext cx="254664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3080" y="2338560"/>
                    <a:ext cx="254664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Dental Sealant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Plastic coatings that dentists apply to the chewing surfaces of the molar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Make it difficult for plaque to adhere to the grooves of these teeth, reducing the risk of developing cavitie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Most effective in children who have newly developed molars (ages six and 12)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Last for several year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Dental Sealant Placement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pic>
        <p:nvPicPr>
          <p:cNvPr id="241" name="Picture 3" descr="S:\fmch\Everyone\Children's Oral Health Program\Oral Health Report\Photos\sealants.jpg"/>
          <p:cNvPicPr/>
          <p:nvPr/>
        </p:nvPicPr>
        <p:blipFill>
          <a:blip r:embed="rId1"/>
          <a:stretch/>
        </p:blipFill>
        <p:spPr>
          <a:xfrm>
            <a:off x="2057400" y="1914480"/>
            <a:ext cx="60865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Healthy Feeding Practice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Eat healthy foods and avoid sticky, starchy foods between meal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Don’t let infants and toddlers go to bed with a bottle or sipper cup or carry one around during the day, unless it contains only water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aregiver’s Oral Health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Modify caregiver’s dental flora during the period from birth until the child is 2 years old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Use anti-bacterials like xylitol 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1"/>
          <a:stretch/>
        </p:blipFill>
        <p:spPr>
          <a:xfrm>
            <a:off x="5715000" y="2057400"/>
            <a:ext cx="2514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Xylitol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n antibacterial, non-cariogenic sweetener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Used in some foods, chewing gum, candies; available over-the-counter and onlin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Caries-causing bacteria cannot feed on xylitol (it does not produce acid)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Increases saliva flow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Studies show that when used by mothers, there is a 30 to 60% reduction in tooth decay in their  children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revention of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Periodontal Disease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gular brushing and flossing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gular dental exams and professional cleaning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Eliminating tobacco use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ducing stress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Access to Oral Health Care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21% of children (0-17) and 35% of adults (18+) in CA do not have dental insurance (’05 &amp; ’03 CHIS)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Many employers do not cover dental insurance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Lack of dentists and specialists accepting Medi-Cal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County and community clinics overburdened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Need more dentists to see young children and pregnant women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Lack of dental specialists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  <a:p>
            <a:pPr marL="335880" indent="-3358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Ref"/>
              </a:rPr>
              <a:t>Regular threats by state to cut or eliminate Medi-Cal dental benefits for pregnant women &amp; children</a:t>
            </a:r>
            <a:endParaRPr b="0" lang="en-US" sz="20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Take-home Message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Oral health is integral part of total health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disease is very common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disease is infectious and transmissible, but it is preventable in many way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Dental visit by age one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</a:rPr>
              <a:t>Access to care barriers can be very significant, especially for low-income families</a:t>
            </a: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What are Early Childhood Caries (ECC)?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9840" y="358092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Previously known as Baby Bottle Tooth Decay (BBTD) or Nursing Caries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 Ref"/>
              </a:rPr>
              <a:t>Can appear as soon as the first tooth erupts (around 6 months of age)</a:t>
            </a:r>
            <a:endParaRPr b="0" lang="en-US" sz="2600" spc="-1" strike="noStrike">
              <a:solidFill>
                <a:srgbClr val="000000"/>
              </a:solidFill>
              <a:latin typeface="Verdana Ref"/>
            </a:endParaRPr>
          </a:p>
        </p:txBody>
      </p:sp>
      <p:sp>
        <p:nvSpPr>
          <p:cNvPr id="115" name="Rectangle 1030"/>
          <p:cNvSpPr/>
          <p:nvPr/>
        </p:nvSpPr>
        <p:spPr>
          <a:xfrm>
            <a:off x="1447920" y="21337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ECC is an infectious and transmissible disease; however, it is prev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Felt"/>
              </a:rPr>
              <a:t>ECC is an infectious, transmissible disease</a:t>
            </a:r>
            <a:endParaRPr b="0" lang="en-US" sz="50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358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Mutans streptococci, lactobacilli, and other acid-producing bacteria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ransmission is both vertical and horizontal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18" name="Picture 11" descr="germs"/>
          <p:cNvPicPr/>
          <p:nvPr/>
        </p:nvPicPr>
        <p:blipFill>
          <a:blip r:embed="rId1"/>
          <a:stretch/>
        </p:blipFill>
        <p:spPr>
          <a:xfrm>
            <a:off x="5181480" y="2590920"/>
            <a:ext cx="35816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Colonization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590560"/>
            <a:ext cx="3200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Can begin even before the eruption of teet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5105520" y="2286000"/>
            <a:ext cx="35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The Chain of Decay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295280" y="19051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1523880" y="1905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Cariogenic Bacteria (S. mutans, lactobacill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738160" y="3116160"/>
            <a:ext cx="5080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Sucrose, Glucose, Fructose, St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34920" y="4295880"/>
            <a:ext cx="4202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Acids dissolve tooth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3048120" y="57913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Caries</a:t>
            </a:r>
            <a:r>
              <a:rPr b="1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  No C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7572240" y="501984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Ref"/>
                <a:ea typeface="Times New Roman"/>
              </a:rPr>
              <a:t>Fluo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7"/>
          <p:cNvSpPr/>
          <p:nvPr/>
        </p:nvSpPr>
        <p:spPr>
          <a:xfrm>
            <a:off x="4648320" y="2438280"/>
            <a:ext cx="533160" cy="609840"/>
          </a:xfrm>
          <a:prstGeom prst="downArrow">
            <a:avLst>
              <a:gd name="adj1" fmla="val 50000"/>
              <a:gd name="adj2" fmla="val 2859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8"/>
          <p:cNvSpPr/>
          <p:nvPr/>
        </p:nvSpPr>
        <p:spPr>
          <a:xfrm>
            <a:off x="4648320" y="3657600"/>
            <a:ext cx="533160" cy="609480"/>
          </a:xfrm>
          <a:prstGeom prst="downArrow">
            <a:avLst>
              <a:gd name="adj1" fmla="val 50000"/>
              <a:gd name="adj2" fmla="val 2857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9"/>
          <p:cNvSpPr/>
          <p:nvPr/>
        </p:nvSpPr>
        <p:spPr>
          <a:xfrm>
            <a:off x="6781680" y="5029200"/>
            <a:ext cx="685800" cy="485640"/>
          </a:xfrm>
          <a:prstGeom prst="leftArrow">
            <a:avLst>
              <a:gd name="adj1" fmla="val 50000"/>
              <a:gd name="adj2" fmla="val 35304"/>
            </a:avLst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3429000" y="495288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1"/>
          <p:cNvSpPr/>
          <p:nvPr/>
        </p:nvSpPr>
        <p:spPr>
          <a:xfrm>
            <a:off x="5715000" y="495288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Felt"/>
              </a:rPr>
              <a:t>White Spot Lesions</a:t>
            </a:r>
            <a:endParaRPr b="0" lang="en-US" sz="5600" spc="-1" strike="noStrike">
              <a:solidFill>
                <a:srgbClr val="000000"/>
              </a:solidFill>
              <a:latin typeface="Fel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The first visible sign of tooth decay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Verdana Re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 Ref"/>
              </a:rPr>
              <a:t>Reversible with fluoride varnish</a:t>
            </a:r>
            <a:endParaRPr b="0" lang="en-US" sz="2800" spc="-1" strike="noStrike">
              <a:solidFill>
                <a:srgbClr val="000000"/>
              </a:solidFill>
              <a:latin typeface="Verdana Re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1:38Z</dcterms:created>
  <dc:creator>Janet</dc:creator>
  <dc:description/>
  <dc:language>en-US</dc:language>
  <cp:lastModifiedBy>lthomas</cp:lastModifiedBy>
  <dcterms:modified xsi:type="dcterms:W3CDTF">2009-04-27T17:12:09Z</dcterms:modified>
  <cp:revision>154</cp:revision>
  <dc:subject/>
  <dc:title>The effects of ECC</dc:title>
</cp:coreProperties>
</file>