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5.jpeg" ContentType="image/jpeg"/>
  <Override PartName="/ppt/media/image24.png" ContentType="image/png"/>
  <Override PartName="/ppt/media/image11.jpeg" ContentType="image/jpeg"/>
  <Override PartName="/ppt/media/image2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7.jpeg" ContentType="image/jpeg"/>
  <Override PartName="/ppt/media/image39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98531D-E223-412F-BB45-E838B3C27CF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move the slid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86BC26-99F8-4928-A609-22150EC9A0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74B5B4-7280-438B-8A91-830DE457152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F91150-44E8-49A8-A168-88BF1DA710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54B9C7-D4DD-4084-931A-48CF3F18487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C076EF-8D64-45AB-B233-576B0F5A60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4FB4FC-ACD5-4D9B-AA72-E0552FFBC3F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E27B75-13CA-4F74-AFDE-A793A1716C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3A7B9F-9C70-4D1E-8ECF-B8775AEF68E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D083D0-CE0A-4862-83C0-29FFDE986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B578A2-C714-477E-9D51-0AB9327E85F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8D8753-5DCE-4ADD-AC5D-EB1CE6260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C91FD2-63BF-4C70-AF5C-E846F3DBB53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261A62-944B-43E4-919F-3245A5B2CC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576493-0DC7-4882-844C-35A0CB4CC1A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58130D-BBD7-4B99-BCEC-A3E6E7F53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F231BE-C560-435A-B679-27B7EC2A81E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DAE589-36EF-4114-9311-11594A8FC3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856C0F-3B53-4D89-9FA1-84FE88D29F8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4F20F2-7B1C-4072-8E98-EB53F509C9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1933EF-18B1-4442-ABE8-0C5E5EA3146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58627B-04CA-4D6B-8850-DFD762D687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F2F7B5-31B6-4E97-8E1B-70EF723E261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F3ED8B-FCB6-40E0-86D8-69A5164342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E4353D-BC1F-45C0-A963-89F142F2D3A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FE1BFF-5D68-41BF-A7E0-34A0E368A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3D05D1-B926-405E-8D0A-05A73300FBA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290AAF-0049-4C4A-8566-BBAB2EFAB6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9F13EB-7B42-4902-ACFE-9343988C8A30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7A915D-48A7-4B9F-BA2C-102E3C2450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C3A2A1-B29F-4F73-B24F-A8E5D1DFDEC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A24D25-27D8-4AC8-BB8E-C95484859D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8F6500-725E-4534-A96B-0FAE728E8C3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AED367-791C-4635-9CCF-5C9614B6B1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939EA0-0411-4272-8750-8C3D401D2FB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2013AD-90BF-4E72-8B5C-2B765B82BA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566A2E-DAA8-4DEB-91BF-0B7D04C8D04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F3B9BE-C5D6-447F-B094-BAB2A35E7D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A983B7-13CC-4532-80FE-2DB61FD18B1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692978-555A-416D-B29B-58C5183029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3FEF1E-893A-4EB5-B2D1-3944B742E70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C5DDEE-498D-493C-9392-5C93C07E8D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C700D8-ED00-485F-8210-25B94451E45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DEFDA2-5426-4C13-BDCE-C1F2802FD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BBD796-5B1D-4E9D-AD2F-5113D24E67F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B6474D-8399-4F5C-A39D-3F4B157B19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E0199F-FF64-4A63-991B-790A920BE79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C7608A-2108-4D90-BA03-B784CCC42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442086-DE03-45E7-9230-281CFC8017C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5B5510-8EE0-46A6-A111-C14D793A4A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531922-4076-4EF3-B469-C509DC5358F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AB90BC-C01C-40FF-9CED-B721D1438D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98E9AF-DEF9-489B-9EA8-469E040634F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9DA51C-166C-40D5-9D6A-72B32717F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19025C-DEEE-424E-A2FA-BC22E1764E1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931854-50C0-4D56-9050-A0A7FEBA20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8C84C5-B6BC-4EC4-87AD-E67BBF3A62C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334498-74E8-4F5B-9179-FB805AF7B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7E01DB-B89A-4BBB-A926-2DA527B8A35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4456F8-BC93-4153-96C8-241E682080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F88D0E-3A05-48AB-8DE8-CCAA7B496B7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27F85E-1377-47F3-904A-43BD2196B1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99C103-CBC2-44B7-B436-70D07A60242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3B0C5F-6065-4B9F-A4D6-4C3D06A06C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7B0712-2BFC-4990-8BAA-4135C94A88F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41FEBA-0044-4891-8DFB-C687117AA1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9D387A-2FB0-46BE-B197-E2DB247980B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D12B70-0A2F-41C3-B8D0-6193F69AD1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A81D98-9488-4A1C-9818-D761AA22A57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EFFC37-33AB-4370-B010-298DA12AC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370BA9-8C2D-4CE7-B76B-DF6C3E87089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3C6C0A-0471-4BDE-9938-6DF70B1047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A52C91-6478-4711-920C-6BF3DA75779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3BB9E7-24F1-44B1-9B95-5E9150CB7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Line 12"/>
          <p:cNvSpPr/>
          <p:nvPr/>
        </p:nvSpPr>
        <p:spPr>
          <a:xfrm>
            <a:off x="1447920" y="1676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49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2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Health for MCAH Population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880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hildren’s Oral Health Program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ontra Costa Health Services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November 2008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04" name="Picture 6" descr="DSC_7961"/>
          <p:cNvPicPr/>
          <p:nvPr/>
        </p:nvPicPr>
        <p:blipFill>
          <a:blip r:embed="rId1"/>
          <a:stretch/>
        </p:blipFill>
        <p:spPr>
          <a:xfrm>
            <a:off x="3238560" y="2112840"/>
            <a:ext cx="3581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657600" y="4770360"/>
            <a:ext cx="0" cy="4572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whspotbig"/>
          <p:cNvPicPr/>
          <p:nvPr/>
        </p:nvPicPr>
        <p:blipFill>
          <a:blip r:embed="rId1"/>
          <a:stretch/>
        </p:blipFill>
        <p:spPr>
          <a:xfrm>
            <a:off x="1600200" y="3560760"/>
            <a:ext cx="3581280" cy="268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stage1"/>
          <p:cNvPicPr/>
          <p:nvPr/>
        </p:nvPicPr>
        <p:blipFill>
          <a:blip r:embed="rId2"/>
          <a:stretch/>
        </p:blipFill>
        <p:spPr>
          <a:xfrm>
            <a:off x="5334120" y="1905120"/>
            <a:ext cx="34416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Mild/Moderat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2" name="Picture 1029" descr="decay"/>
          <p:cNvPicPr/>
          <p:nvPr/>
        </p:nvPicPr>
        <p:blipFill>
          <a:blip r:embed="rId1"/>
          <a:stretch/>
        </p:blipFill>
        <p:spPr>
          <a:xfrm>
            <a:off x="5181480" y="2590920"/>
            <a:ext cx="3746520" cy="250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30" descr="decay2"/>
          <p:cNvPicPr/>
          <p:nvPr/>
        </p:nvPicPr>
        <p:blipFill>
          <a:blip r:embed="rId2"/>
          <a:stretch/>
        </p:blipFill>
        <p:spPr>
          <a:xfrm>
            <a:off x="1371600" y="1905120"/>
            <a:ext cx="3505320" cy="230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31" descr="S:\fmch\Everyone\Children's Oral Health Program\Oral Health Report\Photos\moderate ECC.jpg"/>
          <p:cNvPicPr/>
          <p:nvPr/>
        </p:nvPicPr>
        <p:blipFill>
          <a:blip r:embed="rId3"/>
          <a:stretch/>
        </p:blipFill>
        <p:spPr>
          <a:xfrm>
            <a:off x="1447920" y="4343400"/>
            <a:ext cx="35049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ver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6" name="Picture 1030" descr="abscess"/>
          <p:cNvPicPr/>
          <p:nvPr/>
        </p:nvPicPr>
        <p:blipFill>
          <a:blip r:embed="rId1"/>
          <a:stretch/>
        </p:blipFill>
        <p:spPr>
          <a:xfrm>
            <a:off x="5321160" y="1905120"/>
            <a:ext cx="306072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31" descr="badteeth"/>
          <p:cNvPicPr/>
          <p:nvPr/>
        </p:nvPicPr>
        <p:blipFill>
          <a:blip r:embed="rId2"/>
          <a:stretch/>
        </p:blipFill>
        <p:spPr>
          <a:xfrm>
            <a:off x="1600200" y="198108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32" descr="severedecay"/>
          <p:cNvPicPr/>
          <p:nvPr/>
        </p:nvPicPr>
        <p:blipFill>
          <a:blip r:embed="rId3"/>
          <a:stretch/>
        </p:blipFill>
        <p:spPr>
          <a:xfrm>
            <a:off x="1752480" y="4673520"/>
            <a:ext cx="3264120" cy="165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33" descr="S:\fmch\Everyone\Children's Oral Health Program\Oral Health Report\Photos\severe ECC.jpg"/>
          <p:cNvPicPr/>
          <p:nvPr/>
        </p:nvPicPr>
        <p:blipFill>
          <a:blip r:embed="rId4"/>
          <a:stretch/>
        </p:blipFill>
        <p:spPr>
          <a:xfrm>
            <a:off x="5334120" y="4191120"/>
            <a:ext cx="3047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Risk Factors for Cari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8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aving a mother with a high caries rate or a high bacterial count of cavity-causing germ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monstrable caries, plaque, demineralization, and/or stai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eing a later-order offspr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57800" y="19047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leeping with a bottle or breastfeeding throughout the nigh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ow socioeconomic statu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ack of access to dental ca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hildren with Disabilities and Other Special Needs 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ed saliva flow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weetened medicatio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ompeting medical need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Effects of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86040" y="20574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Loss of primary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lf-este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Loss of Primary Tee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rimary teeth are important for: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Nutrition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Speech development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Holding spaces for permanent teeth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ntreated decay in primary teeth can lead to decay in permanent teeth, or permanent teeth may not erupt at al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imary and Permanent Teeth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705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ai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hildren learn to live with the 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issed preschool and school day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ability to concentrate; impairs school readin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affect sleep and overall health and well-be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Infec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ailure to thrive and delayed growth patter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581640" cy="2438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44604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Image1"/>
          <p:cNvPicPr/>
          <p:nvPr/>
        </p:nvPicPr>
        <p:blipFill>
          <a:blip r:embed="rId2"/>
          <a:stretch/>
        </p:blipFill>
        <p:spPr>
          <a:xfrm>
            <a:off x="1981080" y="3733920"/>
            <a:ext cx="2764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sentation Outlin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Early childhood cari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eriodontal disease and perinatal health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olescent oral health:  Oral piercing and grill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evention of dental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ccess to oral health car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ke-home messag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lf-esteem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Stainless steel crown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Unattractive smile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352680" y="3860640"/>
            <a:ext cx="373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Importance of Oral Health for Pregnant Wome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 in a pregnant woman has been linked to increased risk for preterm delivery and having a low birth weight bab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r mom:  pain, infection, poor nutrition, sleep deprivation, inability to concentrate, work or take care of childre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4"/>
          <p:cNvGrpSpPr/>
          <p:nvPr/>
        </p:nvGrpSpPr>
        <p:grpSpPr>
          <a:xfrm>
            <a:off x="1967400" y="1828800"/>
            <a:ext cx="6179040" cy="4498200"/>
            <a:chOff x="1967400" y="1828800"/>
            <a:chExt cx="6179040" cy="4498200"/>
          </a:xfrm>
        </p:grpSpPr>
        <p:sp>
          <p:nvSpPr>
            <p:cNvPr id="176" name="Line 3"/>
            <p:cNvSpPr/>
            <p:nvPr/>
          </p:nvSpPr>
          <p:spPr>
            <a:xfrm>
              <a:off x="4876920" y="23716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4876920" y="33624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876920" y="44290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4876920" y="54198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3813120" y="18288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acteria in 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4356000" y="28195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225320" y="380988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Plac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3865680" y="4876920"/>
              <a:ext cx="21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Inflam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1967400" y="5867280"/>
              <a:ext cx="617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Cervical Dilation and Uterine Contr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ossible Biological Pathw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Between PD and PTB/LBW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Gingiviti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5238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Early stage of gum disease – only gums are inf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aused by bacterial plaque and host risk factors:  smoking, diabetes, stress, gen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Bacteria in plaque create toxins that irritate the gums and cause redness, swelling, bl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versible with good or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severe ging"/>
          <p:cNvPicPr/>
          <p:nvPr/>
        </p:nvPicPr>
        <p:blipFill>
          <a:blip r:embed="rId1"/>
          <a:stretch/>
        </p:blipFill>
        <p:spPr>
          <a:xfrm>
            <a:off x="5334120" y="4019400"/>
            <a:ext cx="2971800" cy="200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oderate ging"/>
          <p:cNvPicPr/>
          <p:nvPr/>
        </p:nvPicPr>
        <p:blipFill>
          <a:blip r:embed="rId2"/>
          <a:stretch/>
        </p:blipFill>
        <p:spPr>
          <a:xfrm>
            <a:off x="5334120" y="2038320"/>
            <a:ext cx="29718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Severe Pregnancy gingivitis"/>
          <p:cNvPicPr/>
          <p:nvPr/>
        </p:nvPicPr>
        <p:blipFill>
          <a:blip r:embed="rId1"/>
          <a:stretch/>
        </p:blipFill>
        <p:spPr>
          <a:xfrm>
            <a:off x="3048120" y="3789360"/>
            <a:ext cx="3886200" cy="2230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gnancy Gingiv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 that is more superficial and brought on by hormonal changes during pregnanc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inflammation and degeneration below the gum line (bone and tissues surrounding the teeth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ulti-factorial and episodic in natu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alence in women of childbearing age is 5-40%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struction of the bone is not reversibl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f left untreated can cause tooth los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ogression of 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1371600" y="2438280"/>
            <a:ext cx="7543800" cy="2381400"/>
            <a:chOff x="1371600" y="2438280"/>
            <a:chExt cx="7543800" cy="2381400"/>
          </a:xfrm>
        </p:grpSpPr>
        <p:pic>
          <p:nvPicPr>
            <p:cNvPr id="199" name="Picture 3" descr="ada co-peri1"/>
            <p:cNvPicPr/>
            <p:nvPr/>
          </p:nvPicPr>
          <p:blipFill>
            <a:blip r:embed="rId1"/>
            <a:stretch/>
          </p:blipFill>
          <p:spPr>
            <a:xfrm>
              <a:off x="1371600" y="2438280"/>
              <a:ext cx="251460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" descr="ada co-peri2"/>
            <p:cNvPicPr/>
            <p:nvPr/>
          </p:nvPicPr>
          <p:blipFill>
            <a:blip r:embed="rId2"/>
            <a:stretch/>
          </p:blipFill>
          <p:spPr>
            <a:xfrm>
              <a:off x="38862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ada co-peri3"/>
            <p:cNvPicPr/>
            <p:nvPr/>
          </p:nvPicPr>
          <p:blipFill>
            <a:blip r:embed="rId3"/>
            <a:stretch/>
          </p:blipFill>
          <p:spPr>
            <a:xfrm>
              <a:off x="64008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Severe Periodontitis - Gingival Recession in Incisor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03" name="Picture 3" descr="Periodontitis Photo"/>
          <p:cNvPicPr/>
          <p:nvPr/>
        </p:nvPicPr>
        <p:blipFill>
          <a:blip r:embed="rId1"/>
          <a:stretch/>
        </p:blipFill>
        <p:spPr>
          <a:xfrm>
            <a:off x="1523880" y="18288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Treatment of 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ofessional deep scaling and root pla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ti-microbial mouth rinse (chlorhexidine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ystemic and/or site-specific antibiot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Gum surge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 Silent Epidemi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ental disease is the most common chronic and infectious disease affecting children in the U.S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ve times more common than asthm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7% of Contra Costa children miss school because of a dental probl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otential consequences of oral piercing include: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fection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longed or uncontrolled bleeding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ain and swelling (in extreme cases, a severely swollen tongue can close off the airway and restrict breathing)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Chipped or cracked teeth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jury to the gums, possibly resulting in bone loss and root deca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blems with chewing, swallowing, and pronouncing words properl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Blood-borne diseases including various strains of hepatitis; and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Endocarditis, an inflammation of the heart valves or tissues. 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cause of the risks involved even after an initial oral piercing wound has healed, the ADA recommends that both teens and adults avoid oral piercing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ade from gold, silver, or jewel-encrusted precious metals 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 of permanent cement not intended for internal us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-it-yourself kits and unlicensed jeweler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Grills can wear away the enamel on the opposing teeth and inflame the gums; cement can damage teeth and gum tissu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ood collect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tooth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A recommends that youth avoid wearing grills, but if they are considering it, youth should: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lk to their dentists first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ind out what materials the grills are made of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limit the time the grills are worn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move the grills when eating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actice good oral hygien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 Dental Decay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Regular dental visits starting at age 1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ferral by medical provider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ygie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Sealant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ealthy feeding practic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odifying caregiver’s oral health:  Xylito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Inf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57800" y="21333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fore teeth come in, wipe gums clean with gauze or washcloth, before or after last feeding at night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0" name="Picture 9" descr="S:\Users\pparthas\My Pictures\Abby\AbbyJean_035ed_1_1.jpg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“Lift the Lip”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When teeth are in, “lift the lip” monthly to check for chalky white spots or brown spo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Brushing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gins when first tooth erup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An adult should help brush a child’s teeth until child is around 8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2362320" cy="281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babybrush"/>
          <p:cNvPicPr/>
          <p:nvPr/>
        </p:nvPicPr>
        <p:blipFill>
          <a:blip r:embed="rId2"/>
          <a:stretch/>
        </p:blipFill>
        <p:spPr>
          <a:xfrm>
            <a:off x="5486400" y="1752480"/>
            <a:ext cx="2514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Toothpast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ncourage daily use in the morning and before bed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 small smear is the appropriate amoun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pply toothpaste across width, not length of toothbrus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299200" y="2666880"/>
            <a:ext cx="3463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Varnis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rown resin that sets on contact with moisture in the mou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ents ECC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asy applicati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ontains 5% of NaF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3" name="Picture 4" descr="S:\fmch\Everyone\Children's Oral Health Program\Dental - Contracts, Grants &amp; Proposals\First 5 Oral Health Education and Training Project\Fluoride Varnish\varnish america pic.jpg"/>
          <p:cNvPicPr/>
          <p:nvPr/>
        </p:nvPicPr>
        <p:blipFill>
          <a:blip r:embed="rId1"/>
          <a:stretch/>
        </p:blipFill>
        <p:spPr>
          <a:xfrm>
            <a:off x="3486240" y="5181480"/>
            <a:ext cx="33717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National Polic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3962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ll children should see a dentist by age one or six months after the eruption of the first too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 Dentist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1676520" y="2133720"/>
          <a:ext cx="33271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33271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ommunity Water Fluoridatio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0" y="190476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nly about 30% of Californians have  fluoridated drinking water (vs. 67% nationwide)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n Francisco Public Utilities Commission areas all fluoridate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ll of Contra Costa is fluoridated </a:t>
            </a:r>
            <a:r>
              <a:rPr b="0" i="1" lang="en-US" sz="2200" spc="-1" strike="noStrike">
                <a:solidFill>
                  <a:srgbClr val="000000"/>
                </a:solidFill>
                <a:latin typeface="Verdana Ref"/>
              </a:rPr>
              <a:t>except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Bay Point, Byron, Knightsen, and Brentwoo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1873080" y="2338560"/>
          <a:ext cx="254664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2338560"/>
                    <a:ext cx="254664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lastic coatings that dentists apply to the chewing surfaces of the mol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ake it difficult for plaque to adhere to the grooves of these teeth, reducing the risk of developing cavit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ost effective in children who have newly developed molars (ages six and 12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Last for several ye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 Placemen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41" name="Picture 3" descr="S:\fmch\Everyone\Children's Oral Health Program\Oral Health Report\Photos\sealants.jpg"/>
          <p:cNvPicPr/>
          <p:nvPr/>
        </p:nvPicPr>
        <p:blipFill>
          <a:blip r:embed="rId1"/>
          <a:stretch/>
        </p:blipFill>
        <p:spPr>
          <a:xfrm>
            <a:off x="2057400" y="1914480"/>
            <a:ext cx="6086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Healthy Feeding Practic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at healthy foods and avoid sticky, starchy foods between meal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on’t let infants and toddlers go to bed with a bottle or sipper cup or carry one around during the day, unless it contains only water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aregiver’s Oral Heal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odify caregiver’s dental flora during the period from birth until the child is 2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se anti-bacterials like xylitol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Xylitol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antibacterial, non-cariogenic sweetener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d in some foods, chewing gum, candies; available over-the-counter and onli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aries-causing bacteria cannot feed on xylitol (it does not produce acid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ncreases saliva flow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tudies show that when used by mothers, there is a 30 to 60% reduction in tooth decay in their  childre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brushing and floss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dental exams and professional cleaning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liminating tobacco u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ing str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ccess to Oral Health Car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21% of children (0-17) and 35% of adults (18+) in CA do not have dental insurance (’05 &amp; ’03 CHIS)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Many employers do not cover dental insuranc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ists and specialists accepting Medi-Ca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ounty and community clinics overburdened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Need more dentists to see young children and pregnant wom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al specialists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gular threats by state to cut or eliminate Medi-Cal dental benefits for pregnant women &amp; childr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ake-home Messag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ealth is integral part of total heal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very comm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infectious and transmissible, but it is preventable in many way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visit by age o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ccess to care barriers can be very significant, especially for low-income famili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What are Early Childhood Caries (ECC)?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35809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reviously known as Baby Bottle Tooth Decay (BBTD) or Nursing Car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Can appear as soon as the first tooth erupts (around 6 months of age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15" name="Rectangle 1030"/>
          <p:cNvSpPr/>
          <p:nvPr/>
        </p:nvSpPr>
        <p:spPr>
          <a:xfrm>
            <a:off x="1447920" y="21337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ECC is an infectious and transmissible disease; however, it is prev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ECC is an infectious, transmissible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utans streptococci, lactobacilli, and other acid-producing bacteri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ransmission is both vertical and horizonta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18" name="Picture 11" descr="germs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oloniza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590560"/>
            <a:ext cx="3200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begin even before the eruption of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Chain of Deca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95280" y="19051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523880" y="1905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ogenic Bacteria (S. mutans, lactobacil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738160" y="3116160"/>
            <a:ext cx="50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Sucrose, Glucose, Fructose,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34920" y="4295880"/>
            <a:ext cx="420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cids dissolve tooth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048120" y="5791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es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  No C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7572240" y="50198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4648320" y="2438280"/>
            <a:ext cx="533160" cy="609840"/>
          </a:xfrm>
          <a:prstGeom prst="downArrow">
            <a:avLst>
              <a:gd name="adj1" fmla="val 50000"/>
              <a:gd name="adj2" fmla="val 2859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4648320" y="365760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6781680" y="5029200"/>
            <a:ext cx="685800" cy="485640"/>
          </a:xfrm>
          <a:prstGeom prst="leftArrow">
            <a:avLst>
              <a:gd name="adj1" fmla="val 50000"/>
              <a:gd name="adj2" fmla="val 35304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3429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5715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e first visible sign of tooth deca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versible with fluoride varnis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1:38Z</dcterms:created>
  <dc:creator>Janet</dc:creator>
  <dc:description/>
  <dc:language>en-US</dc:language>
  <cp:lastModifiedBy>lthomas</cp:lastModifiedBy>
  <dcterms:modified xsi:type="dcterms:W3CDTF">2009-04-27T17:12:09Z</dcterms:modified>
  <cp:revision>154</cp:revision>
  <dc:subject/>
  <dc:title>The effects of ECC</dc:title>
</cp:coreProperties>
</file>