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5.jpeg" ContentType="image/jpeg"/>
  <Override PartName="/ppt/media/image24.png" ContentType="image/png"/>
  <Override PartName="/ppt/media/image11.jpeg" ContentType="image/jpeg"/>
  <Override PartName="/ppt/media/image2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png" ContentType="image/png"/>
  <Override PartName="/ppt/media/image6.wmf" ContentType="image/x-wmf"/>
  <Override PartName="/ppt/media/image19.jpeg" ContentType="image/jpeg"/>
  <Override PartName="/ppt/media/image34.jpeg" ContentType="image/jpeg"/>
  <Override PartName="/ppt/media/image37.jpeg" ContentType="image/jpeg"/>
  <Override PartName="/ppt/media/image39.wmf" ContentType="image/x-wmf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E0D806-FC44-4126-B560-3D55869B890B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1160" y="696600"/>
            <a:ext cx="46432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move the slid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5CC418-CCAC-42C1-9087-1A9CFAF273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02A2BC-42F5-4FE9-9A26-2F96A0D4BB88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382577-5DF5-416D-AE54-2D4771416B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845450-76EC-40CD-A486-A1C6F76281D4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B8E91D-DD64-4778-9413-0A8DB03E61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94B9E7-8494-456B-B38C-5F56FF84AEE3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9C60E8-060A-412F-8F5A-EF5ABA3729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2D8D4E-3045-4BA8-810B-31FABB235587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A96706-D49C-427B-A650-40761A517A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604848-DE27-40F9-8355-139C1A20C885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EBCE2A-03B4-4D45-802F-F2C0D2E6A1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FBFC0F-8A7D-4717-8A33-A84974C90C22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B30429-204D-4E94-AA90-B723F1CF5A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BF5153-C248-4B8A-8EF1-206739EEAB72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E523F3-4821-40E3-8ABB-6CFD37C636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F49CD0-1DA6-49C2-9F45-A3B749F1ECB5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DD6897-2375-4192-A7DC-C19EFE95DD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272642-F7E6-4367-99AD-20D2838CD2C4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F94D8A-5347-4B0D-BC46-545E8B522C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1D72F5-6709-4011-8AB1-D43EF36E6F7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AD8033-0F4E-4112-B906-E408C392A0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8BC5C3-0885-47C7-AD6F-5FAFA6AB61A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E486CC-6B1F-4B32-993C-368E951311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6938DD-D0CA-447B-9C38-6605D5800935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73BE30-D5F6-4A91-90AF-903FF38AE5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C9D2F0-1EFF-4A1A-A181-1FF9906F3F3E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9A1C1A-BC44-4583-96E1-EE9F4848B7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951EEE-13AB-451F-85F6-E950BCF7F16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8F26ED-A684-4054-A3DD-7A4025AEB9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CD7BF3-4D16-45BE-AA4F-3DE53A7702C8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32B443-26AD-498F-A8D3-8B3C2E54F5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8B4C72-31B8-43EA-B097-BAED41FFEFB5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5948D6-3547-4CEF-91EF-6C344DD40E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A1D41E-0D8F-40B0-9DAE-1B4296E611E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EEC988-FACA-49E8-9F66-0A4B671434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8F0C9E-FE5A-42C4-93A5-AFF196DE964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0AE5DA-5EE7-40E9-AB25-49C4702176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7653AB-933D-4585-A6DE-B2267224627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20EED1-098A-4ED1-ADA7-DF609BC621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01C9A0-3635-4E74-BD3D-5C158890B285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293520-E835-4ADA-8773-418C003AAD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CA6CD5-71FF-415A-B240-80EACF449C4F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E1F870-4EE4-4CAB-8860-6574801FA6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62CC8F-0EA0-4FA8-9F06-5894565D5FFE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524106-B11B-4256-B01B-CB9C668C6C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C31D73-0A3B-4709-95C9-7CA8D03F52E8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C68E77-2853-457F-B118-C24E4E4264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1CF5C9-A905-4DB3-B545-0668B555E881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58B289-9AA9-4211-ACEA-A749834F0C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D81F6B-7765-4BC2-B5EB-7F315DF2DC0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AF4F8F-52ED-44C6-80E6-234B2766F0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2FB8BD-BAEA-48E1-B9F7-7CF772F940E3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9802F9-B72A-472F-A559-F7E8E481B3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B03323-E40B-48E5-BB41-ABC1DE1F688B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6E70F3-2D58-42B5-9ACF-5569EAED4D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B8F40F-8B90-4C75-BD85-1C4841B27B6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621A8D-BF05-4283-ADF1-8B557522E2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A4485E-FC67-450D-BBB7-D24A4D0818E4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18A300-DD8D-462B-B6B3-A03EB377FD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B77D79-A6DE-4AE7-8CD4-E7443993153F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550A20-4B90-4434-90CF-8054334CF5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A8356E-588C-48EE-BF38-90CBCDDF3669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FC7F92-427A-4FC5-B7BD-8665955DC8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0BEC85-CBD6-4FD5-88BD-94AAA1A0DEF4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4F5295-B463-4F85-8833-D91DCC035E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EAC9DB-FFAF-4C47-AAE4-9D10B533506B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88C285-9BEB-4DE0-8592-CA8E2444C8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89EF0F-BD46-4062-896A-597004A777C1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D075C9-6448-400D-A343-8CD8FCBB75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D34611-A534-4F55-827E-7968359EB821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090FA3-B655-4DF4-AA2C-D41B907DD4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C722D5-2248-45B7-9C9B-72C15D91045E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04DF4B-6534-46A8-9FCE-AC372F9A1A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970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702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38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970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702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47560" y="304920"/>
            <a:ext cx="73911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970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702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5238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9970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702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47560" y="304920"/>
            <a:ext cx="73911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594360" indent="-22860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2" marL="91440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3" marL="128016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4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5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6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219320" cy="6858000"/>
            <a:chOff x="0" y="0"/>
            <a:chExt cx="1219320" cy="685800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121932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Picture 6" descr="C:\Program Files\Microsoft Office\Clipart\standard\stddir3\hh01661_.wmf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C:\Documents and Settings\pparthas\Application Data\Microsoft\Media Catalog\Downloaded Clips\cl94\j0371086.wmf"/>
            <p:cNvPicPr/>
            <p:nvPr/>
          </p:nvPicPr>
          <p:blipFill>
            <a:blip r:embed="rId3"/>
            <a:stretch/>
          </p:blipFill>
          <p:spPr>
            <a:xfrm>
              <a:off x="0" y="13572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8" descr="C:\Documents and Settings\pparthas\Application Data\Microsoft\Media Catalog\Downloaded Clips\cl97\j0379179.wmf"/>
            <p:cNvPicPr/>
            <p:nvPr/>
          </p:nvPicPr>
          <p:blipFill>
            <a:blip r:embed="rId4"/>
            <a:stretch/>
          </p:blipFill>
          <p:spPr>
            <a:xfrm>
              <a:off x="76320" y="2289240"/>
              <a:ext cx="9903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C:\Program Files\Microsoft Office\Clipart\standard\stddir3\hh01661_.wmf"/>
            <p:cNvPicPr/>
            <p:nvPr/>
          </p:nvPicPr>
          <p:blipFill>
            <a:blip r:embed="rId5"/>
            <a:stretch/>
          </p:blipFill>
          <p:spPr>
            <a:xfrm>
              <a:off x="0" y="359244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0" descr="C:\Documents and Settings\pparthas\Application Data\Microsoft\Media Catalog\Downloaded Clips\cl94\j0371086.wmf"/>
            <p:cNvPicPr/>
            <p:nvPr/>
          </p:nvPicPr>
          <p:blipFill>
            <a:blip r:embed="rId6"/>
            <a:stretch/>
          </p:blipFill>
          <p:spPr>
            <a:xfrm>
              <a:off x="0" y="48006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1" descr="C:\Documents and Settings\pparthas\Application Data\Microsoft\Media Catalog\Downloaded Clips\cl97\j0379179.wmf"/>
            <p:cNvPicPr/>
            <p:nvPr/>
          </p:nvPicPr>
          <p:blipFill>
            <a:blip r:embed="rId7"/>
            <a:stretch/>
          </p:blipFill>
          <p:spPr>
            <a:xfrm>
              <a:off x="76320" y="5715000"/>
              <a:ext cx="990360" cy="98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Line 12"/>
          <p:cNvSpPr/>
          <p:nvPr/>
        </p:nvSpPr>
        <p:spPr>
          <a:xfrm>
            <a:off x="1447920" y="167652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H:\Logos\cchs black logo.png"/>
          <p:cNvPicPr/>
          <p:nvPr/>
        </p:nvPicPr>
        <p:blipFill>
          <a:blip r:embed="rId8"/>
          <a:stretch/>
        </p:blipFill>
        <p:spPr>
          <a:xfrm>
            <a:off x="8001000" y="6246720"/>
            <a:ext cx="998640" cy="48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0" y="0"/>
            <a:ext cx="1219320" cy="6858000"/>
            <a:chOff x="0" y="0"/>
            <a:chExt cx="1219320" cy="6858000"/>
          </a:xfrm>
        </p:grpSpPr>
        <p:sp>
          <p:nvSpPr>
            <p:cNvPr id="49" name="Rectangle 5"/>
            <p:cNvSpPr/>
            <p:nvPr/>
          </p:nvSpPr>
          <p:spPr>
            <a:xfrm>
              <a:off x="0" y="0"/>
              <a:ext cx="121932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Picture 6" descr="C:\Program Files\Microsoft Office\Clipart\standard\stddir3\hh01661_.wmf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C:\Documents and Settings\pparthas\Application Data\Microsoft\Media Catalog\Downloaded Clips\cl94\j0371086.wmf"/>
            <p:cNvPicPr/>
            <p:nvPr/>
          </p:nvPicPr>
          <p:blipFill>
            <a:blip r:embed="rId3"/>
            <a:stretch/>
          </p:blipFill>
          <p:spPr>
            <a:xfrm>
              <a:off x="0" y="13572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8" descr="C:\Documents and Settings\pparthas\Application Data\Microsoft\Media Catalog\Downloaded Clips\cl97\j0379179.wmf"/>
            <p:cNvPicPr/>
            <p:nvPr/>
          </p:nvPicPr>
          <p:blipFill>
            <a:blip r:embed="rId4"/>
            <a:stretch/>
          </p:blipFill>
          <p:spPr>
            <a:xfrm>
              <a:off x="76320" y="2289240"/>
              <a:ext cx="9903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9" descr="C:\Program Files\Microsoft Office\Clipart\standard\stddir3\hh01661_.wmf"/>
            <p:cNvPicPr/>
            <p:nvPr/>
          </p:nvPicPr>
          <p:blipFill>
            <a:blip r:embed="rId5"/>
            <a:stretch/>
          </p:blipFill>
          <p:spPr>
            <a:xfrm>
              <a:off x="0" y="359244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0" descr="C:\Documents and Settings\pparthas\Application Data\Microsoft\Media Catalog\Downloaded Clips\cl94\j0371086.wmf"/>
            <p:cNvPicPr/>
            <p:nvPr/>
          </p:nvPicPr>
          <p:blipFill>
            <a:blip r:embed="rId6"/>
            <a:stretch/>
          </p:blipFill>
          <p:spPr>
            <a:xfrm>
              <a:off x="0" y="48006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1" descr="C:\Documents and Settings\pparthas\Application Data\Microsoft\Media Catalog\Downloaded Clips\cl97\j0379179.wmf"/>
            <p:cNvPicPr/>
            <p:nvPr/>
          </p:nvPicPr>
          <p:blipFill>
            <a:blip r:embed="rId7"/>
            <a:stretch/>
          </p:blipFill>
          <p:spPr>
            <a:xfrm>
              <a:off x="76320" y="5715000"/>
              <a:ext cx="990360" cy="98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12" descr="H:\Logos\cchs black logo.png"/>
          <p:cNvPicPr/>
          <p:nvPr/>
        </p:nvPicPr>
        <p:blipFill>
          <a:blip r:embed="rId8"/>
          <a:stretch/>
        </p:blipFill>
        <p:spPr>
          <a:xfrm>
            <a:off x="8001000" y="6246720"/>
            <a:ext cx="998640" cy="48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594360" indent="-22860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2" marL="91440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3" marL="128016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4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5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6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4678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Health for MCAH Population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828800" y="46483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Children’s Oral Health Program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Contra Costa Health Services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November 2008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04" name="Picture 6" descr="DSC_7961"/>
          <p:cNvPicPr/>
          <p:nvPr/>
        </p:nvPicPr>
        <p:blipFill>
          <a:blip r:embed="rId1"/>
          <a:stretch/>
        </p:blipFill>
        <p:spPr>
          <a:xfrm>
            <a:off x="3238560" y="2112840"/>
            <a:ext cx="35812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White Spot Lesion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3657600" y="4770360"/>
            <a:ext cx="0" cy="4572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whspotbig"/>
          <p:cNvPicPr/>
          <p:nvPr/>
        </p:nvPicPr>
        <p:blipFill>
          <a:blip r:embed="rId1"/>
          <a:stretch/>
        </p:blipFill>
        <p:spPr>
          <a:xfrm>
            <a:off x="1600200" y="3560760"/>
            <a:ext cx="3581280" cy="268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stage1"/>
          <p:cNvPicPr/>
          <p:nvPr/>
        </p:nvPicPr>
        <p:blipFill>
          <a:blip r:embed="rId2"/>
          <a:stretch/>
        </p:blipFill>
        <p:spPr>
          <a:xfrm>
            <a:off x="5334120" y="1905120"/>
            <a:ext cx="34416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Mild/Moderate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42" name="Picture 1029" descr="decay"/>
          <p:cNvPicPr/>
          <p:nvPr/>
        </p:nvPicPr>
        <p:blipFill>
          <a:blip r:embed="rId1"/>
          <a:stretch/>
        </p:blipFill>
        <p:spPr>
          <a:xfrm>
            <a:off x="5181480" y="2590920"/>
            <a:ext cx="3746520" cy="250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30" descr="decay2"/>
          <p:cNvPicPr/>
          <p:nvPr/>
        </p:nvPicPr>
        <p:blipFill>
          <a:blip r:embed="rId2"/>
          <a:stretch/>
        </p:blipFill>
        <p:spPr>
          <a:xfrm>
            <a:off x="1371600" y="1905120"/>
            <a:ext cx="3505320" cy="2309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31" descr="S:\fmch\Everyone\Children's Oral Health Program\Oral Health Report\Photos\moderate ECC.jpg"/>
          <p:cNvPicPr/>
          <p:nvPr/>
        </p:nvPicPr>
        <p:blipFill>
          <a:blip r:embed="rId3"/>
          <a:stretch/>
        </p:blipFill>
        <p:spPr>
          <a:xfrm>
            <a:off x="1447920" y="4343400"/>
            <a:ext cx="35049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Severe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46" name="Picture 1030" descr="abscess"/>
          <p:cNvPicPr/>
          <p:nvPr/>
        </p:nvPicPr>
        <p:blipFill>
          <a:blip r:embed="rId1"/>
          <a:stretch/>
        </p:blipFill>
        <p:spPr>
          <a:xfrm>
            <a:off x="5321160" y="1905120"/>
            <a:ext cx="306072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31" descr="badteeth"/>
          <p:cNvPicPr/>
          <p:nvPr/>
        </p:nvPicPr>
        <p:blipFill>
          <a:blip r:embed="rId2"/>
          <a:stretch/>
        </p:blipFill>
        <p:spPr>
          <a:xfrm>
            <a:off x="1600200" y="1981080"/>
            <a:ext cx="3429000" cy="239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32" descr="severedecay"/>
          <p:cNvPicPr/>
          <p:nvPr/>
        </p:nvPicPr>
        <p:blipFill>
          <a:blip r:embed="rId3"/>
          <a:stretch/>
        </p:blipFill>
        <p:spPr>
          <a:xfrm>
            <a:off x="1752480" y="4673520"/>
            <a:ext cx="3264120" cy="165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33" descr="S:\fmch\Everyone\Children's Oral Health Program\Oral Health Report\Photos\severe ECC.jpg"/>
          <p:cNvPicPr/>
          <p:nvPr/>
        </p:nvPicPr>
        <p:blipFill>
          <a:blip r:embed="rId4"/>
          <a:stretch/>
        </p:blipFill>
        <p:spPr>
          <a:xfrm>
            <a:off x="5334120" y="4191120"/>
            <a:ext cx="30477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Risk Factors for Cari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58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Having a mother with a high caries rate or a high bacterial count of cavity-causing germ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monstrable caries, plaque, demineralization, and/or stain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Being a later-order offspr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57800" y="1904760"/>
            <a:ext cx="358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leeping with a bottle or breastfeeding throughout the night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Low socioeconomic statu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Lack of access to dental car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Children with Disabilities and Other Special Needs 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duced saliva flow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weetened medication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ompeting medical need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58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he Effects of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3581280" cy="3429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86040" y="20574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Loss of primary tee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lf-esteem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Loss of Primary Teet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rimary teeth are important for: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Nutrition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Speech development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Holding spaces for permanent teeth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Untreated decay in primary teeth can lead to decay in permanent teeth, or permanent teeth may not erupt at al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imary and Permanent Teeth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7053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ai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hildren learn to live with the pai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issed preschool and school day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ability to concentrate; impairs school readines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an affect sleep and overall health and well-being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Infectio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ailure to thrive and delayed growth pattern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581640" cy="2438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44604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Image1"/>
          <p:cNvPicPr/>
          <p:nvPr/>
        </p:nvPicPr>
        <p:blipFill>
          <a:blip r:embed="rId2"/>
          <a:stretch/>
        </p:blipFill>
        <p:spPr>
          <a:xfrm>
            <a:off x="1981080" y="3733920"/>
            <a:ext cx="27640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esentation Outlin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Early childhood cari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eriodontal disease and perinatal health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dolescent oral health:  Oral piercing and grill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revention of dental decay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ccess to oral health care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Take-home messag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Self-esteem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Stainless steel crowns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Unattractive smiles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352680" y="3860640"/>
            <a:ext cx="373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Importance of Oral Health for Pregnant Women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eriodontal disease in a pregnant woman has been linked to increased risk for preterm delivery and having a low birth weight bab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r mom:  pain, infection, poor nutrition, sleep deprivation, inability to concentrate, work or take care of childre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4"/>
          <p:cNvGrpSpPr/>
          <p:nvPr/>
        </p:nvGrpSpPr>
        <p:grpSpPr>
          <a:xfrm>
            <a:off x="1967400" y="1828800"/>
            <a:ext cx="6179040" cy="4498200"/>
            <a:chOff x="1967400" y="1828800"/>
            <a:chExt cx="6179040" cy="4498200"/>
          </a:xfrm>
        </p:grpSpPr>
        <p:sp>
          <p:nvSpPr>
            <p:cNvPr id="176" name="Line 3"/>
            <p:cNvSpPr/>
            <p:nvPr/>
          </p:nvSpPr>
          <p:spPr>
            <a:xfrm>
              <a:off x="4876920" y="237168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4"/>
            <p:cNvSpPr/>
            <p:nvPr/>
          </p:nvSpPr>
          <p:spPr>
            <a:xfrm>
              <a:off x="4876920" y="336240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4876920" y="442908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4876920" y="541980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3813120" y="182880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Bacteria in P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4356000" y="2819520"/>
              <a:ext cx="10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Bl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225320" y="380988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Plac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3865680" y="4876920"/>
              <a:ext cx="21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Inflam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1967400" y="5867280"/>
              <a:ext cx="617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Cervical Dilation and Uterine Contra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ossible Biological Pathwa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Between PD and PTB/LBW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eriodontal Diseas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Gingiviti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eriodontal Disease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Gingiviti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523880" y="18288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Early stage of gum disease – only gums are inf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Caused by bacterial plaque and host risk factors:  smoking, diabetes, stress, gen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Bacteria in plaque create toxins that irritate the gums and cause redness, swelling, blee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Reversible with good oral 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severe ging"/>
          <p:cNvPicPr/>
          <p:nvPr/>
        </p:nvPicPr>
        <p:blipFill>
          <a:blip r:embed="rId1"/>
          <a:stretch/>
        </p:blipFill>
        <p:spPr>
          <a:xfrm>
            <a:off x="5334120" y="4019400"/>
            <a:ext cx="2971800" cy="2000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moderate ging"/>
          <p:cNvPicPr/>
          <p:nvPr/>
        </p:nvPicPr>
        <p:blipFill>
          <a:blip r:embed="rId2"/>
          <a:stretch/>
        </p:blipFill>
        <p:spPr>
          <a:xfrm>
            <a:off x="5334120" y="2038320"/>
            <a:ext cx="29718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Severe Pregnancy gingivitis"/>
          <p:cNvPicPr/>
          <p:nvPr/>
        </p:nvPicPr>
        <p:blipFill>
          <a:blip r:embed="rId1"/>
          <a:stretch/>
        </p:blipFill>
        <p:spPr>
          <a:xfrm>
            <a:off x="3048120" y="3789360"/>
            <a:ext cx="3886200" cy="2230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egnancy Gingiv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fection that is more superficial and brought on by hormonal changes during pregnanc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eriodont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 inflammation and degeneration below the gum line (bone and tissues surrounding the teeth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ulti-factorial and episodic in natur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evalence in women of childbearing age is 5-40%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struction of the bone is not reversibl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If left untreated can cause tooth los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39116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ogression of Periodont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grpSp>
        <p:nvGrpSpPr>
          <p:cNvPr id="198" name="Group 6"/>
          <p:cNvGrpSpPr/>
          <p:nvPr/>
        </p:nvGrpSpPr>
        <p:grpSpPr>
          <a:xfrm>
            <a:off x="1371600" y="2438280"/>
            <a:ext cx="7543800" cy="2381400"/>
            <a:chOff x="1371600" y="2438280"/>
            <a:chExt cx="7543800" cy="2381400"/>
          </a:xfrm>
        </p:grpSpPr>
        <p:pic>
          <p:nvPicPr>
            <p:cNvPr id="199" name="Picture 3" descr="ada co-peri1"/>
            <p:cNvPicPr/>
            <p:nvPr/>
          </p:nvPicPr>
          <p:blipFill>
            <a:blip r:embed="rId1"/>
            <a:stretch/>
          </p:blipFill>
          <p:spPr>
            <a:xfrm>
              <a:off x="1371600" y="2438280"/>
              <a:ext cx="2514600" cy="23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" descr="ada co-peri2"/>
            <p:cNvPicPr/>
            <p:nvPr/>
          </p:nvPicPr>
          <p:blipFill>
            <a:blip r:embed="rId2"/>
            <a:stretch/>
          </p:blipFill>
          <p:spPr>
            <a:xfrm>
              <a:off x="3886200" y="2438280"/>
              <a:ext cx="2514600" cy="236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5" descr="ada co-peri3"/>
            <p:cNvPicPr/>
            <p:nvPr/>
          </p:nvPicPr>
          <p:blipFill>
            <a:blip r:embed="rId3"/>
            <a:stretch/>
          </p:blipFill>
          <p:spPr>
            <a:xfrm>
              <a:off x="6400800" y="2438280"/>
              <a:ext cx="2514600" cy="236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Severe Periodontitis - Gingival Recession in Incisor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203" name="Picture 3" descr="Periodontitis Photo"/>
          <p:cNvPicPr/>
          <p:nvPr/>
        </p:nvPicPr>
        <p:blipFill>
          <a:blip r:embed="rId1"/>
          <a:stretch/>
        </p:blipFill>
        <p:spPr>
          <a:xfrm>
            <a:off x="1523880" y="182880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Treatment of Periodontal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ofessional deep scaling and root plan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ti-microbial mouth rinse (chlorhexidine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ystemic and/or site-specific antibiotic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Gum surgery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047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A Silent Epidemi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Dental disease is the most common chronic and infectious disease affecting children in the U.S.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ve times more common than asthma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7% of Contra Costa children miss school because of a dental problem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Piercing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otential consequences of oral piercing include: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Infection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rolonged or uncontrolled bleeding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ain and swelling (in extreme cases, a severely swollen tongue can close off the airway and restrict breathing)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Chipped or cracked teeth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Injury to the gums, possibly resulting in bone loss and root decay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roblems with chewing, swallowing, and pronouncing words properly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Blood-borne diseases including various strains of hepatitis; and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Endocarditis, an inflammation of the heart valves or tissues. 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Piercing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cause of the risks involved even after an initial oral piercing wound has healed, the ADA recommends that both teens and adults avoid oral piercing.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Grill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ade from gold, silver, or jewel-encrusted precious metals 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Use of permanent cement not intended for internal us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o-it-yourself kits and unlicensed jeweler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5816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Grill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Grills can wear away the enamel on the opposing teeth and inflame the gums; cement can damage teeth and gum tissu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Food collect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 tooth decay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DA recommends that youth avoid wearing grills, but if they are considering it, youth should: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talk to their dentists first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find out what materials the grills are made of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limit the time the grills are worn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remove the grills when eating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ractice good oral hygiene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evention of Dental Decay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Regular dental visits starting at age 1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Referral by medical provider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Oral hygie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Sealant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Healthy feeding practice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odifying caregiver’s oral health:  Xylito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 Infant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257800" y="2133360"/>
            <a:ext cx="358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fore teeth come in, wipe gums clean with gauze or washcloth, before or after last feeding at night 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0" name="Picture 9" descr="S:\Users\pparthas\My Pictures\Abby\AbbyJean_035ed_1_1.jpg"/>
          <p:cNvPicPr/>
          <p:nvPr/>
        </p:nvPicPr>
        <p:blipFill>
          <a:blip r:embed="rId1"/>
          <a:stretch/>
        </p:blipFill>
        <p:spPr>
          <a:xfrm>
            <a:off x="1600200" y="2133720"/>
            <a:ext cx="358128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“Lift the Lip”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880" y="220932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When teeth are in, “lift the lip” monthly to check for chalky white spots or brown spot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581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 Brushing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gins when first tooth erupt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An adult should help brush a child’s teeth until child is around 8 years old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2362320" cy="2819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babybrush"/>
          <p:cNvPicPr/>
          <p:nvPr/>
        </p:nvPicPr>
        <p:blipFill>
          <a:blip r:embed="rId2"/>
          <a:stretch/>
        </p:blipFill>
        <p:spPr>
          <a:xfrm>
            <a:off x="5486400" y="1752480"/>
            <a:ext cx="2514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Fluoride Toothpast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Encourage daily use in the morning and before bed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 small smear is the appropriate amount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pply toothpaste across width, not length of toothbrus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299200" y="2666880"/>
            <a:ext cx="3463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Fluoride Varnis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Brown resin that sets on contact with moisture in the mout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events ECC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Easy applicatio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ontains 5% of NaF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33" name="Picture 4" descr="S:\fmch\Everyone\Children's Oral Health Program\Dental - Contracts, Grants &amp; Proposals\First 5 Oral Health Education and Training Project\Fluoride Varnish\varnish america pic.jpg"/>
          <p:cNvPicPr/>
          <p:nvPr/>
        </p:nvPicPr>
        <p:blipFill>
          <a:blip r:embed="rId1"/>
          <a:stretch/>
        </p:blipFill>
        <p:spPr>
          <a:xfrm>
            <a:off x="3486240" y="5181480"/>
            <a:ext cx="33717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National Policy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6920" y="1981080"/>
            <a:ext cx="3962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ll children should see a dentist by age one or six months after the eruption of the first too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merican Academy of Pediatric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merican Academy of Pediatric Dentistry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1676520" y="2133720"/>
          <a:ext cx="3327120" cy="39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332712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Community Water Fluoridation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0" y="190476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Only about 30% of Californians have  fluoridated drinking water (vs. 67% nationwide)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n Francisco Public Utilities Commission areas all fluoridated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ll of Contra Costa is fluoridated </a:t>
            </a:r>
            <a:r>
              <a:rPr b="0" i="1" lang="en-US" sz="2200" spc="-1" strike="noStrike">
                <a:solidFill>
                  <a:srgbClr val="000000"/>
                </a:solidFill>
                <a:latin typeface="Verdana Ref"/>
              </a:rPr>
              <a:t>except</a:t>
            </a: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 Bay Point, Byron, Knightsen, and Brentwood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  <p:graphicFrame>
        <p:nvGraphicFramePr>
          <p:cNvPr id="236" name="Object 4"/>
          <p:cNvGraphicFramePr/>
          <p:nvPr/>
        </p:nvGraphicFramePr>
        <p:xfrm>
          <a:off x="1873080" y="2338560"/>
          <a:ext cx="254664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3080" y="2338560"/>
                    <a:ext cx="254664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Dental Sealant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Plastic coatings that dentists apply to the chewing surfaces of the molar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Make it difficult for plaque to adhere to the grooves of these teeth, reducing the risk of developing cavitie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Most effective in children who have newly developed molars (ages six and 12)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Last for several year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Dental Sealant Placemen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241" name="Picture 3" descr="S:\fmch\Everyone\Children's Oral Health Program\Oral Health Report\Photos\sealants.jpg"/>
          <p:cNvPicPr/>
          <p:nvPr/>
        </p:nvPicPr>
        <p:blipFill>
          <a:blip r:embed="rId1"/>
          <a:stretch/>
        </p:blipFill>
        <p:spPr>
          <a:xfrm>
            <a:off x="2057400" y="1914480"/>
            <a:ext cx="60865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Healthy Feeding Practic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Eat healthy foods and avoid sticky, starchy foods between meal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Don’t let infants and toddlers go to bed with a bottle or sipper cup or carry one around during the day, unless it contains only water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aregiver’s Oral Healt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odify caregiver’s dental flora during the period from birth until the child is 2 years old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Use anti-bacterials like xylitol 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514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Xylitol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 antibacterial, non-cariogenic sweetener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Used in some foods, chewing gum, candies; available over-the-counter and onli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aries-causing bacteria cannot feed on xylitol (it does not produce acid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Increases saliva flow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tudies show that when used by mothers, there is a 30 to 60% reduction in tooth decay in their  childre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evention of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eriodontal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gular brushing and flossing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gular dental exams and professional cleaning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Eliminating tobacco use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ducing stres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Access to Oral Health Car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21% of children (0-17) and 35% of adults (18+) in CA do not have dental insurance (’05 &amp; ’03 CHIS)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Many employers do not cover dental insurance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Lack of dentists and specialists accepting Medi-Cal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County and community clinics overburdened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Need more dentists to see young children and pregnant women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Lack of dental specialists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Regular threats by state to cut or eliminate Medi-Cal dental benefits for pregnant women &amp; children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ake-home Messag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Oral health is integral part of total healt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disease is very commo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disease is infectious and transmissible, but it is preventable in many way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visit by age o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ccess to care barriers can be very significant, especially for low-income familie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What are Early Childhood Caries (ECC)?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358092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Previously known as Baby Bottle Tooth Decay (BBTD) or Nursing Carie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Can appear as soon as the first tooth erupts (around 6 months of age)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15" name="Rectangle 1030"/>
          <p:cNvSpPr/>
          <p:nvPr/>
        </p:nvSpPr>
        <p:spPr>
          <a:xfrm>
            <a:off x="1447920" y="21337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ECC is an infectious and transmissible disease; however, it is prev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ECC is an infectious, transmissible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utans streptococci, lactobacilli, and other acid-producing bacteria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ransmission is both vertical and horizonta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18" name="Picture 11" descr="germs"/>
          <p:cNvPicPr/>
          <p:nvPr/>
        </p:nvPicPr>
        <p:blipFill>
          <a:blip r:embed="rId1"/>
          <a:stretch/>
        </p:blipFill>
        <p:spPr>
          <a:xfrm>
            <a:off x="5181480" y="2590920"/>
            <a:ext cx="35816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olonizatio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590560"/>
            <a:ext cx="3200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an begin even before the eruption of tee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he Chain of Decay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95280" y="19051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1523880" y="1905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Cariogenic Bacteria (S. mutans, lactobacil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738160" y="3116160"/>
            <a:ext cx="5080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Sucrose, Glucose, Fructose, St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34920" y="4295880"/>
            <a:ext cx="4202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cids dissolve tooth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3048120" y="5791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Caries</a:t>
            </a: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  No C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7572240" y="50198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4648320" y="2438280"/>
            <a:ext cx="533160" cy="609840"/>
          </a:xfrm>
          <a:prstGeom prst="downArrow">
            <a:avLst>
              <a:gd name="adj1" fmla="val 50000"/>
              <a:gd name="adj2" fmla="val 2859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4648320" y="365760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9"/>
          <p:cNvSpPr/>
          <p:nvPr/>
        </p:nvSpPr>
        <p:spPr>
          <a:xfrm>
            <a:off x="6781680" y="5029200"/>
            <a:ext cx="685800" cy="485640"/>
          </a:xfrm>
          <a:prstGeom prst="leftArrow">
            <a:avLst>
              <a:gd name="adj1" fmla="val 50000"/>
              <a:gd name="adj2" fmla="val 35304"/>
            </a:avLst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3429000" y="495288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5715000" y="495288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White Spot Lesion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e first visible sign of tooth deca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versible with fluoride varnis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1:38Z</dcterms:created>
  <dc:creator>Janet</dc:creator>
  <dc:description/>
  <dc:language>en-US</dc:language>
  <cp:lastModifiedBy>lthomas</cp:lastModifiedBy>
  <dcterms:modified xsi:type="dcterms:W3CDTF">2009-04-27T17:12:09Z</dcterms:modified>
  <cp:revision>154</cp:revision>
  <dc:subject/>
  <dc:title>The effects of ECC</dc:title>
</cp:coreProperties>
</file>