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FCD0-7C83-4873-B065-E45DB0911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hese vitamins in cystic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infants at an increased for vitamin deficiency because (1) likely to have low vitamin stores (2) increased requirement because of rapid growth (3) immaturity leading to ineffective metabolism.  Premature infants also at increased risk of vitamin toxicity secondary to altered urinary excre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for fat and carbohydrate metabolis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nduced hemolysis is caused by the oxidant effect of ir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medications- anticonvulsants, warfarin, anti-TB m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ory IgA- highest concentration in early breast milk, binds to viruses and bacteria, prevents invasion of mucos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 greater amount of long chain unsaturated fatty acids. Provides increased lipases to help fat digestion, TG variable depending on maternal diet, GA, time; greater amount of cholesterol (independent of maternal di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n- maternal HIV, mom with herpes on the breast, symptomatic mother with positive PPD and CXR, active breast abs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s- cocaine, cyclosporine, lithium, methotrexate, phencyclidine, radioactive ag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amigen- hydrolyzed (milk protein all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gen- MCT (fat malabsorption, ascites, chylotho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estimil-elemental (milk protein in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cate- most ele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y-based: lactose free, sucrose and/or cornstarch.  Do not use in premature infants &lt; 1800g because the phyates bind Ca and PO4.  Do not use for cow’s milk induced entercoliti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lactose because intestinal lactase may be de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polymers, which maintain low osmol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MCTs to compensate for lower intestinal lipase and bile sal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al growth rate increases with advanced gestation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transferred across the placenta by facilitated diffusion.  Acquired glucose has 3 major roles: glycolysis, carbon source for fetal growth, and glycogen storag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A.  Given less than 1500g to prevent CLD.  Preterm infants are deficient.  Need to treat 14 babies to prevent 1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tine improves fatty acid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tamine might be helpful for short bowel syndrom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stasis- both intracellular and intracannicular hepatic involvement which leads to portal inflammation and bile duct proliferation.  If prolonged, risk of cirrhosis.  High for LBW infants and TPN &gt; 90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osis- increased nonprotein metabolizabl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possible impairment of host defense.  Accumulation in macrophages.  Competes with bilirubin for albumin binding sites so may increase hyperbili (not seen with 3g/kg/day), hyperlipidemia in sick infants secondary to decreased lipoprotein lipase activ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indicates excretion, storage, and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ing metabolic rate is increased with prematurity, disease states, and low birth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ources recommend caloric requirement of 120-150kcal/kg/day to balance energy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postnatal growth should mirror in utero growth of a fetus at the same postconceptual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accounts for only 10% since infants sleep 80-90% of the time but this can increase with a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the preterm infant should grow the same as the fetus in utero 15g/kg/d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y and Casein are major protein sources in neon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digestion of fatty acids by lipases and bile acid emulsification is often underdeveloped in newborns; therefore, neonates rely on intragastric lip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oleic and Linolenic FAs are important for neural and retinal maturation as are LCPUFA-absorbed in the mucosal cells by diffusion, believed to be important in brain and reti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T- easily hydolyzed by pancreatic lipase to free fatty acids, which can be easily transported across the mucosal cell (easier to absorb than LCPUFA).  MCTs are increased in preterm BM, but there is still only a small fraction of fatty acids in breast milk.  Disadvantage-not as good for tissue buil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ose is the predominant carb in breast milk and most standard formu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formulas often replace some of the lactose content with corn syrup and short chain glucose poly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acin is formed from tryptop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ADA94-9206-4662-BB4B-03B996899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F3AAC-8347-459B-8E61-38C6917E6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45EC6-31A5-4AC9-8022-902347CDC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E3DE2-CCC0-483D-A65A-7ABA21D70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251431-8810-4F9C-87CC-45465B72A0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F5B87-60D7-472E-9986-3772807290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6D998-5B10-4B5B-B9A4-7904671C1E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AD5D94-77A6-4939-8113-A9E9B49940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3C7BCA-A74B-416A-A6EA-C54B0FBC00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F9A22A-8AA0-4103-8917-72D40F3B8B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53881-7DF7-4466-9A46-7B83A31B40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F7A3-A9C0-4B61-8A91-AB7BF650A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A962A-463E-4B11-99AA-1C1487FEF4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B8C6C-B607-4C53-A872-391DDFD1FB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D1C1C2-6F9F-405A-83DF-5C70DAE3C4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C7DA14-DC43-4108-BB43-19A4D16DE5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543E57-CD2D-44CF-8783-3D930255236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03F4-C727-4568-AC38-2E9AC36D1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D1FAF-8BBC-4C45-834E-6C566855A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38BA6-C014-484C-A4CB-591F9084C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C6EEC-529E-4DFD-9C3D-880BFD8C7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896B-7258-4FE1-B9CE-D3DFFA86B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8AE8B-9A6E-497B-BFC9-08D84B6F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2D9C-AFEB-4570-9DA1-9F83284B1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0342-1748-40AC-B12F-D36C992C2B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0964-8C23-4736-A137-9DC508AFF0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ant Nutrition</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nnifer Levy, M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ldren’s Hospital of Oak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s A, D, E, 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nthesiz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not usually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easily excreted and can accumulat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by simple or facilitated diffu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B</a:t>
            </a:r>
            <a:r>
              <a:rPr b="0" lang="en-US" sz="3200" spc="-1" strike="noStrike" baseline="-25000">
                <a:solidFill>
                  <a:srgbClr val="ffff00"/>
                </a:solidFill>
                <a:latin typeface="Tahoma"/>
              </a:rPr>
              <a:t>12</a:t>
            </a:r>
            <a:r>
              <a:rPr b="0" lang="en-US" sz="3200" spc="-1" strike="noStrike">
                <a:solidFill>
                  <a:srgbClr val="ffff00"/>
                </a:solidFill>
                <a:latin typeface="Tahoma"/>
              </a:rPr>
              <a:t> and Folate</a:t>
            </a:r>
            <a:endParaRPr b="0" lang="en-US" sz="32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 B</a:t>
            </a:r>
            <a:r>
              <a:rPr b="0" lang="en-US" sz="2400" spc="-1" strike="noStrike" baseline="-25000">
                <a:solidFill>
                  <a:srgbClr val="ffffff"/>
                </a:solidFill>
                <a:latin typeface="Tahoma"/>
              </a:rPr>
              <a:t>12</a:t>
            </a:r>
            <a:r>
              <a:rPr b="0" lang="en-US" sz="2400" spc="-1" strike="noStrike">
                <a:solidFill>
                  <a:srgbClr val="ffffff"/>
                </a:solidFill>
                <a:latin typeface="Tahoma"/>
              </a:rPr>
              <a:t> is synthesized by GI microorganisms and is required for folate metabolism</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a:t>
            </a:r>
            <a:r>
              <a:rPr b="0" lang="en-US" sz="2400" spc="-1" strike="noStrike" baseline="-25000">
                <a:solidFill>
                  <a:srgbClr val="ffffff"/>
                </a:solidFill>
                <a:latin typeface="Tahoma"/>
              </a:rPr>
              <a:t>12</a:t>
            </a:r>
            <a:r>
              <a:rPr b="0" lang="en-US" sz="2400" spc="-1" strike="noStrike">
                <a:solidFill>
                  <a:srgbClr val="ffffff"/>
                </a:solidFill>
                <a:latin typeface="Tahoma"/>
              </a:rPr>
              <a:t> deficiency in breast-fed infants of vegetarian mothers who do not ingest dairy or eggs</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folic acid deficiency in infants fed evaporated or goat’s milk</a:t>
            </a:r>
            <a:endParaRPr b="0" lang="en-US" sz="2400" spc="-1" strike="noStrike">
              <a:solidFill>
                <a:srgbClr val="ffffff"/>
              </a:solidFill>
              <a:latin typeface="Tahoma"/>
            </a:endParaRPr>
          </a:p>
          <a:p>
            <a:pPr marL="343080" indent="-343080">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loblastic anemia and hypersegmented neutroph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D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D regulates the concentration of calcium and phosphorus in the bloodstream and bon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for bone mineralization and growth</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ciency results in osteopenia -&gt; ricket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ypocalcemia -&gt; tetany, seizur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itamin E Deficiency</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 E has antioxidant properties and is recommended to be taken concurrently with iron administration to protect from iron-induced hemolysi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ifests with anemia and reticulocyto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 Deficiencies</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Vitamin K</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d for carboxylation of prothrombin into the active form</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borns are predisposed:</a:t>
            </a:r>
            <a:endParaRPr b="0" lang="en-US" sz="28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Initial lack of microorganisms that synthesize Vitamin 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Immature newborn liver</a:t>
            </a:r>
            <a:endParaRPr b="0" lang="en-US" sz="20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medication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east fed infants</a:t>
            </a:r>
            <a:endParaRPr b="0" lang="en-US" sz="2800" spc="-1" strike="noStrike">
              <a:solidFill>
                <a:srgbClr val="ffffff"/>
              </a:solidFill>
              <a:latin typeface="Tahoma"/>
            </a:endParaRPr>
          </a:p>
          <a:p>
            <a:pPr marL="335880" indent="-335880">
              <a:lnSpc>
                <a:spcPct val="80000"/>
              </a:lnSpc>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ed with hemorrhagic disease of the newbor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ron Deficiency</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crocytic anemia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d with short term and long term neurodevelopmental defici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rm infants more susceptible due to small iron stores at birth, high growth velocity, and phlebotomy l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hysiolog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lactin is secreted by maternal anterior pituitary throughout pregnanc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delivery, the decrease in estrogen and progesterone leads to increased milk production and delivery</a:t>
            </a:r>
            <a:endParaRPr b="0" lang="en-US" sz="3200" spc="-1" strike="noStrike">
              <a:solidFill>
                <a:srgbClr val="ffffff"/>
              </a:solidFill>
              <a:latin typeface="Tahoma"/>
            </a:endParaRPr>
          </a:p>
          <a:p>
            <a:pPr marL="322200" indent="-32220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lk ejection is mediated by oxytocin from the posterior pitu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Immunologic and Antibacterial Fact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ory IgA</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ctive and bactericidal enzym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ctobacilli growth is increas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strum has increased lymphocytes, macrophages, and immunoglobuli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ectrolyt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Na, K, Ca, Ph, Cl, and Mg</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tei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breast milk matures, protein decreas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 are lowe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a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calorie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variab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remature Milk</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electrolyt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dequate protein, calcium, phosphorus, and vitamin D for prem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ed to supplement with human milk fortifier (2 packets/ 50ml = 24kcal/30m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verview</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Energy Expenditure &amp; Sourc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onatal Energy Expenditure &amp; Requiremen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bohydrate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eral Nutri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uman Milk</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enefit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DDM, IBD, NEC, obe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reased infection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ved neurodevelopmental outcome</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ntraindications (in U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n</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lactosemia</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g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tritional Supplements</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Preter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u="sng">
                <a:solidFill>
                  <a:srgbClr val="ffffff"/>
                </a:solidFill>
                <a:uFillTx/>
                <a:latin typeface="Tahoma"/>
              </a:rPr>
              <a:t>Full term</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a:t>
            </a:r>
            <a:r>
              <a:rPr b="0" lang="en-US" sz="2400" spc="-1" strike="noStrike" u="sng">
                <a:solidFill>
                  <a:srgbClr val="ffffff"/>
                </a:solidFill>
                <a:uFillTx/>
                <a:latin typeface="Tahoma"/>
              </a:rPr>
              <a:t>P. Form</a:t>
            </a:r>
            <a:r>
              <a:rPr b="0" lang="en-US" sz="2400" spc="-1" strike="noStrike" u="sng">
                <a:solidFill>
                  <a:srgbClr val="ffffff"/>
                </a:solidFill>
                <a:uFillTx/>
                <a:latin typeface="Tahoma"/>
              </a:rPr>
              <a:t>	</a:t>
            </a:r>
            <a:r>
              <a:rPr b="0" lang="en-US" sz="2400" spc="-1" strike="noStrike" u="sng">
                <a:solidFill>
                  <a:srgbClr val="ffffff"/>
                </a:solidFill>
                <a:uFillTx/>
                <a:latin typeface="Tahoma"/>
              </a:rPr>
              <a:t>BM</a:t>
            </a:r>
            <a:r>
              <a:rPr b="0" lang="en-US" sz="2400" spc="-1" strike="noStrike" u="sng">
                <a:solidFill>
                  <a:srgbClr val="ffffff"/>
                </a:solidFill>
                <a:uFillTx/>
                <a:latin typeface="Tahoma"/>
              </a:rPr>
              <a:t>	</a:t>
            </a:r>
            <a:r>
              <a:rPr b="0" lang="en-US" sz="2400" spc="-1" strike="noStrike" u="sng">
                <a:solidFill>
                  <a:srgbClr val="ffffff"/>
                </a:solidFill>
                <a:uFillTx/>
                <a:latin typeface="Tahoma"/>
              </a:rPr>
              <a:t>    Formula</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a:t>
            </a:r>
            <a:r>
              <a:rPr b="0" lang="en-US" sz="2800" spc="-1" strike="noStrike">
                <a:solidFill>
                  <a:srgbClr val="ffffff"/>
                </a:solidFill>
                <a:latin typeface="Tahoma"/>
              </a:rPr>
              <a:t>	</a:t>
            </a:r>
            <a:r>
              <a:rPr b="0" lang="en-US" sz="2800" spc="-1" strike="noStrike">
                <a:solidFill>
                  <a:srgbClr val="ffffff"/>
                </a:solidFill>
                <a:latin typeface="Tahoma"/>
              </a:rPr>
              <a:t>	</a:t>
            </a:r>
            <a:r>
              <a:rPr b="0" lang="en-US" sz="2000" spc="-1" strike="noStrike">
                <a:solidFill>
                  <a:srgbClr val="ffffff"/>
                </a:solidFill>
                <a:latin typeface="Tahoma"/>
              </a:rPr>
              <a:t>2w-2mos</a:t>
            </a:r>
            <a:r>
              <a:rPr b="0" lang="en-US" sz="2000" spc="-1" strike="noStrike">
                <a:solidFill>
                  <a:srgbClr val="ffffff"/>
                </a:solidFill>
                <a:latin typeface="Tahoma"/>
              </a:rPr>
              <a:t>	</a:t>
            </a:r>
            <a:r>
              <a:rPr b="0" lang="en-US" sz="2000" spc="-1" strike="noStrike">
                <a:solidFill>
                  <a:srgbClr val="ffffff"/>
                </a:solidFill>
                <a:latin typeface="Tahoma"/>
              </a:rPr>
              <a:t>Fe Fortified</a:t>
            </a:r>
            <a:r>
              <a:rPr b="0" lang="en-US" sz="2000" spc="-1" strike="noStrike">
                <a:solidFill>
                  <a:srgbClr val="ffffff"/>
                </a:solidFill>
                <a:latin typeface="Tahoma"/>
              </a:rPr>
              <a:t>	</a:t>
            </a:r>
            <a:r>
              <a:rPr b="0" lang="en-US" sz="2000" spc="-1" strike="noStrike">
                <a:solidFill>
                  <a:srgbClr val="ffffff"/>
                </a:solidFill>
                <a:latin typeface="Tahoma"/>
              </a:rPr>
              <a:t>6mos</a:t>
            </a:r>
            <a:r>
              <a:rPr b="0" lang="en-US" sz="2000" spc="-1" strike="noStrike">
                <a:solidFill>
                  <a:srgbClr val="ffffff"/>
                </a:solidFill>
                <a:latin typeface="Tahoma"/>
              </a:rPr>
              <a:t>	</a:t>
            </a:r>
            <a:r>
              <a:rPr b="0" lang="en-US" sz="2000" spc="-1" strike="noStrike">
                <a:solidFill>
                  <a:srgbClr val="ffffff"/>
                </a:solidFill>
                <a:latin typeface="Tahoma"/>
              </a:rPr>
              <a:t>    Fe Fortified</a:t>
            </a:r>
            <a:endParaRPr b="0" lang="en-US" sz="20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4 mg/kg/day)</a:t>
            </a: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amins</a:t>
            </a:r>
            <a:r>
              <a:rPr b="0" lang="en-US" sz="2800" spc="-1" strike="noStrike">
                <a:solidFill>
                  <a:srgbClr val="ffffff"/>
                </a:solidFill>
                <a:latin typeface="Tahoma"/>
              </a:rPr>
              <a:t>	</a:t>
            </a:r>
            <a:r>
              <a:rPr b="0" lang="en-US" sz="2400" spc="-1" strike="noStrike">
                <a:solidFill>
                  <a:srgbClr val="ffffff"/>
                </a:solidFill>
                <a:latin typeface="Tahoma"/>
              </a:rPr>
              <a:t>HMF (ICN)</a:t>
            </a:r>
            <a:r>
              <a:rPr b="0" lang="en-US" sz="2400" spc="-1" strike="noStrike">
                <a:solidFill>
                  <a:srgbClr val="ffffff"/>
                </a:solidFill>
                <a:latin typeface="Tahoma"/>
              </a:rPr>
              <a:t>	</a:t>
            </a:r>
            <a:r>
              <a:rPr b="0" lang="en-US" sz="2400" spc="-1" strike="noStrike">
                <a:solidFill>
                  <a:srgbClr val="ffffff"/>
                </a:solidFill>
                <a:latin typeface="Tahoma"/>
              </a:rPr>
              <a:t>N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Vit D</a:t>
            </a:r>
            <a:r>
              <a:rPr b="0" lang="en-US" sz="2400" spc="-1" strike="noStrike">
                <a:solidFill>
                  <a:srgbClr val="ffffff"/>
                </a:solidFill>
                <a:latin typeface="Tahoma"/>
              </a:rPr>
              <a:t>	</a:t>
            </a:r>
            <a:r>
              <a:rPr b="0" lang="en-US" sz="2400" spc="-1" strike="noStrike">
                <a:solidFill>
                  <a:srgbClr val="ffffff"/>
                </a:solidFill>
                <a:latin typeface="Tahoma"/>
              </a:rPr>
              <a:t>    None</a:t>
            </a:r>
            <a:endParaRPr b="0" lang="en-US" sz="24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1000" spc="-1" strike="noStrike">
                <a:solidFill>
                  <a:srgbClr val="ffffff"/>
                </a:solidFill>
                <a:latin typeface="Tahoma"/>
              </a:rPr>
              <a:t>(200IU/day)</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uoride    </a:t>
            </a:r>
            <a:r>
              <a:rPr b="0" lang="en-US" sz="2800" spc="-1" strike="noStrike">
                <a:solidFill>
                  <a:srgbClr val="ffffff"/>
                </a:solidFill>
                <a:latin typeface="Wingdings"/>
                <a:ea typeface="Wingdings"/>
              </a:rPr>
              <a:t></a:t>
            </a:r>
            <a:r>
              <a:rPr b="0" lang="en-US" sz="2800" spc="-1" strike="noStrike">
                <a:solidFill>
                  <a:srgbClr val="ffffff"/>
                </a:solidFill>
                <a:latin typeface="Tahoma"/>
              </a:rPr>
              <a:t>----------after 6 months---------------</a:t>
            </a:r>
            <a:r>
              <a:rPr b="0" lang="en-US" sz="2800" spc="-1" strike="noStrike">
                <a:solidFill>
                  <a:srgbClr val="ffffff"/>
                </a:solidFill>
                <a:latin typeface="Wingdings"/>
                <a:ea typeface="Wingdings"/>
              </a:rPr>
              <a:t></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0.25-0.5 mg/day)</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ulas</a:t>
            </a:r>
            <a:endParaRPr b="0" lang="en-US" sz="4400" spc="-1" strike="noStrike">
              <a:solidFill>
                <a:srgbClr val="ffffff"/>
              </a:solidFill>
              <a:latin typeface="Tahoma"/>
            </a:endParaRPr>
          </a:p>
        </p:txBody>
      </p:sp>
      <p:sp>
        <p:nvSpPr>
          <p:cNvPr id="133" name="PlaceHolder 2"/>
          <p:cNvSpPr>
            <a:spLocks noGrp="1"/>
          </p:cNvSpPr>
          <p:nvPr>
            <p:ph/>
          </p:nvPr>
        </p:nvSpPr>
        <p:spPr>
          <a:xfrm>
            <a:off x="304920" y="1600200"/>
            <a:ext cx="4038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ification by Carbohydrate Sou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34" name=""/>
          <p:cNvGraphicFramePr/>
          <p:nvPr/>
        </p:nvGraphicFramePr>
        <p:xfrm>
          <a:off x="4191120" y="1447920"/>
          <a:ext cx="4038480" cy="5118120"/>
        </p:xfrm>
        <a:graphic>
          <a:graphicData uri="http://schemas.openxmlformats.org/drawingml/2006/table">
            <a:tbl>
              <a:tblPr/>
              <a:tblGrid>
                <a:gridCol w="2019240"/>
                <a:gridCol w="2019240"/>
              </a:tblGrid>
              <a:tr h="1117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ype of Carbohydr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cto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famil, Neosure, Simila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rose and 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mentum, Isomil, Portage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ucose polym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famil Lactofree, Neocate, Nutramigen, Pregestimi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Formula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imilac Special Care and Enfamil Premature Lipi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kcal/30 mL or 20kcal/30mL</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lactose (50%) and glucose polymers</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 MCT, ARA and DHA added</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protein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calcium and phosphorus content</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oric density</a:t>
            </a:r>
            <a:endParaRPr b="0" lang="en-US" sz="2800" spc="-1" strike="noStrike">
              <a:solidFill>
                <a:srgbClr val="ffffff"/>
              </a:solidFill>
              <a:latin typeface="Tahoma"/>
            </a:endParaRPr>
          </a:p>
          <a:p>
            <a:pPr marL="339480" indent="-3394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in infants less than 1800g or 32 weeks G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mature Discharge Formulas</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Neosure or Enfacare Lipi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kcal/30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protein </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cium and phosphorus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d caloric conten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until 9 months P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mmend 80-90 kcal/kg/da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lories are provided by lipids and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cose infusion rate: 6-8mg/kg/m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IR: </a:t>
            </a:r>
            <a:r>
              <a:rPr b="0" lang="en-US" sz="3200" spc="-1" strike="noStrike" u="sng">
                <a:solidFill>
                  <a:srgbClr val="ffffff"/>
                </a:solidFill>
                <a:uFillTx/>
                <a:latin typeface="Tahoma"/>
              </a:rPr>
              <a:t>0.167 x concentration x r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eigh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2"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bohydrat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ly glucose</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g CHO provides 3.4 kcal</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creasing glucose concentration, increasing osmolarity</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provide 55-65% of total kilocalories</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ximum concentration is 12.5% peripheral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at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g fat provides 9 kcal (20% solution provides 2 kcal/1 ml)</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uld provide 30-50% of total calorie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mit to 3g/kg/day</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 serum TG leve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al is to prevent negative energy and nitrogen balance</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d early in life to achieve goal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g of protein provides 4 kcal</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provide 7-10% of total calor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lcium and Phosphorus</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io should be 1.3:1 to 1.7:1</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of bone demineralization</a:t>
            </a:r>
            <a:endParaRPr b="0" lang="en-US" sz="2400" spc="-1" strike="noStrike">
              <a:solidFill>
                <a:srgbClr val="ffffff"/>
              </a:solidFill>
              <a:latin typeface="Tahoma"/>
            </a:endParaRPr>
          </a:p>
          <a:p>
            <a:pPr marL="343080" indent="-343080">
              <a:lnSpc>
                <a:spcPct val="90000"/>
              </a:lnSpc>
              <a:spcBef>
                <a:spcPts val="601"/>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steine prevents precip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457200" y="291600"/>
            <a:ext cx="8229600" cy="5727960"/>
          </a:xfrm>
          <a:prstGeom prst="rect">
            <a:avLst/>
          </a:prstGeom>
          <a:ln w="0">
            <a:noFill/>
          </a:ln>
        </p:spPr>
      </p:pic>
      <p:pic>
        <p:nvPicPr>
          <p:cNvPr id="148" name="" descr=""/>
          <p:cNvPicPr/>
          <p:nvPr/>
        </p:nvPicPr>
        <p:blipFill>
          <a:blip r:embed="rId3"/>
          <a:stretch/>
        </p:blipFill>
        <p:spPr>
          <a:xfrm>
            <a:off x="1905120" y="304920"/>
            <a:ext cx="5046480" cy="584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etal Energy</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imated Fetal Energy Expediture = 35 to 55 kcal/kg/day</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ergy Sourc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Maternal glucose (2/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Placental lactate (1/4)</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Maternal amino acid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mple TPN for  Just Born </a:t>
            </a:r>
            <a:br>
              <a:rPr sz="4400"/>
            </a:b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LBW Infants</a:t>
            </a:r>
            <a:br>
              <a:rPr sz="4400"/>
            </a:br>
            <a:r>
              <a:rPr b="0" lang="en-US" sz="1400" spc="-1" strike="noStrike">
                <a:solidFill>
                  <a:srgbClr val="ffffff"/>
                </a:solidFill>
                <a:latin typeface="Tahoma"/>
              </a:rPr>
              <a:t>Adapted from Nutrition and Gastroenterology Clinical Review Committee, 2002</a:t>
            </a:r>
            <a:endParaRPr b="0" lang="en-US" sz="1400" spc="-1" strike="noStrike">
              <a:solidFill>
                <a:srgbClr val="ffffff"/>
              </a:solidFill>
              <a:latin typeface="Tahoma"/>
            </a:endParaRPr>
          </a:p>
        </p:txBody>
      </p:sp>
      <p:graphicFrame>
        <p:nvGraphicFramePr>
          <p:cNvPr id="150" name=""/>
          <p:cNvGraphicFramePr/>
          <p:nvPr/>
        </p:nvGraphicFramePr>
        <p:xfrm>
          <a:off x="457200" y="1905120"/>
          <a:ext cx="8229600" cy="4114800"/>
        </p:xfrm>
        <a:graphic>
          <a:graphicData uri="http://schemas.openxmlformats.org/drawingml/2006/table">
            <a:tbl>
              <a:tblPr/>
              <a:tblGrid>
                <a:gridCol w="4114800"/>
                <a:gridCol w="4114800"/>
              </a:tblGrid>
              <a:tr h="58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onen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ant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ino Aci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10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ium gluconat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650mg/100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VI-Pediatri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par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U/mL</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pi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mL/kg/da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Daily</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ine for glycosuri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ake and Outpu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electrolytes (initial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advanced dextr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 (advancing lipi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onitoring Parenteral Nutrition </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Weekly</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glucose, electrolytes, Ca, Phos, and M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albumin and total protei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ver function tests, bilirubin (T &amp; 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um triglycerid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blood c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TPN Supplements for </a:t>
            </a:r>
            <a:br>
              <a:rPr sz="4000"/>
            </a:br>
            <a:r>
              <a:rPr b="0" lang="en-US" sz="4000" spc="-1" strike="noStrike">
                <a:solidFill>
                  <a:srgbClr val="ffffff"/>
                </a:solidFill>
                <a:latin typeface="Tahoma"/>
              </a:rPr>
              <a:t>	</a:t>
            </a:r>
            <a:r>
              <a:rPr b="0" lang="en-US" sz="4000" spc="-1" strike="noStrike">
                <a:solidFill>
                  <a:srgbClr val="ffffff"/>
                </a:solidFill>
                <a:latin typeface="Tahoma"/>
              </a:rPr>
              <a:t>   Premature Infants</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lin infus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ysteine hydrochlorid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nit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utam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PN</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ica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lesta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Acidosi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perglycemia</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bolic Bone Disease</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socomial Infections</a:t>
            </a:r>
            <a:endParaRPr b="0" lang="en-US" sz="3200" spc="-1" strike="noStrike">
              <a:solidFill>
                <a:srgbClr val="ffffff"/>
              </a:solidFill>
              <a:latin typeface="Tahoma"/>
            </a:endParaRPr>
          </a:p>
          <a:p>
            <a:pPr marL="339480" indent="-3394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ions of f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Feeding for Preterm and Sick Infants</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gin at day 2-3 if stable</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milk 12-24 mL/kg/d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hospital stay</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sepsis and sepsis evaluation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d days to full feedings</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calcium and phosphorus absorption</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increased incidence of NEC</a:t>
            </a:r>
            <a:endParaRPr b="0" lang="en-US" sz="2800" spc="-1" strike="noStrike">
              <a:solidFill>
                <a:srgbClr val="ffffff"/>
              </a:solidFill>
              <a:latin typeface="Tahoma"/>
            </a:endParaRPr>
          </a:p>
          <a:p>
            <a:pPr marL="335880" indent="-3358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wer infants with central venous cath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onatal Energ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Form of Energy</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	</a:t>
            </a:r>
            <a:r>
              <a:rPr b="1" lang="en-US" sz="2400" spc="-1" strike="noStrike" u="sng">
                <a:solidFill>
                  <a:srgbClr val="ffffff"/>
                </a:solidFill>
                <a:uFillTx/>
                <a:latin typeface="Tahoma"/>
              </a:rPr>
              <a:t>Caloric Expenditur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ting Metabolic Rate*</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ctivity</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5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d Stress</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utrition Processing</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5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120 kcal/kg/da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teins</a:t>
            </a:r>
            <a:endParaRPr b="0" lang="en-US" sz="4400" spc="-1" strike="noStrike">
              <a:solidFill>
                <a:srgbClr val="ffffff"/>
              </a:solidFill>
              <a:latin typeface="Tahoma"/>
            </a:endParaRPr>
          </a:p>
        </p:txBody>
      </p:sp>
      <p:graphicFrame>
        <p:nvGraphicFramePr>
          <p:cNvPr id="99" name=""/>
          <p:cNvGraphicFramePr/>
          <p:nvPr/>
        </p:nvGraphicFramePr>
        <p:xfrm>
          <a:off x="457200" y="1905120"/>
          <a:ext cx="8229240" cy="4114440"/>
        </p:xfrm>
        <a:graphic>
          <a:graphicData uri="http://schemas.openxmlformats.org/drawingml/2006/table">
            <a:tbl>
              <a:tblPr/>
              <a:tblGrid>
                <a:gridCol w="4114440"/>
                <a:gridCol w="4114800"/>
              </a:tblGrid>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ilk Sour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hey-to-Casein Rati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ostru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0: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ure Mil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4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8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term Formul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l transfer of essential and non-essential fatty aci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t stores are formed by lipogenesis from glucos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poorly digested macronutri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ahoma"/>
              </a:rPr>
              <a:t>Types of Fatty Acids</a:t>
            </a:r>
            <a:endParaRPr b="0" lang="en-US" sz="32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aric, Oleic, and Palmitic are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oleic and Linolenic are the most common</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ng-chain polyunsaturated (LCPUFA)</a:t>
            </a:r>
            <a:endParaRPr b="0" lang="en-US" sz="2800" spc="-1" strike="noStrike">
              <a:solidFill>
                <a:srgbClr val="ffffff"/>
              </a:solidFill>
              <a:latin typeface="Tahoma"/>
            </a:endParaRPr>
          </a:p>
          <a:p>
            <a:pPr marL="343080" indent="-343080">
              <a:spcBef>
                <a:spcPts val="700"/>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and Medium Chain Triglycerides (MC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bohydrates</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actose</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es absorption of calcium and magnesium</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es intestinal growth of lactobacill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itamins</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ater Soluble Vitamin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tamin B Complex and Vitamin C</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ly not formed from precursor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intake required</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accumulation (except Vitamin B</a:t>
            </a:r>
            <a:r>
              <a:rPr b="0" lang="en-US" sz="3200" spc="-1" strike="noStrike" baseline="-25000">
                <a:solidFill>
                  <a:srgbClr val="ffffff"/>
                </a:solidFill>
                <a:latin typeface="Tahoma"/>
              </a:rPr>
              <a:t>1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oss placenta by active tran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8:58:59Z</dcterms:created>
  <dc:creator>Scott Levy</dc:creator>
  <dc:description/>
  <dc:language>en-US</dc:language>
  <cp:lastModifiedBy>Health Services Department</cp:lastModifiedBy>
  <dcterms:modified xsi:type="dcterms:W3CDTF">2010-06-12T06:14:30Z</dcterms:modified>
  <cp:revision>23</cp:revision>
  <dc:subject/>
  <dc:title>Nutrition</dc:title>
</cp:coreProperties>
</file>