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2B1E-BD6B-4CE4-8DD6-4C0DCBEF3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hese vitamins in cystic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infants at an increased for vitamin deficiency because (1) likely to have low vitamin stores (2) increased requirement because of rapid growth (3) immaturity leading to ineffective metabolism.  Premature infants also at increased risk of vitamin toxicity secondary to altered urinary excre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for fat and carbohydrate metabolis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induced hemolysis is caused by the oxidant effect of ir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nal medications- anticonvulsants, warfarin, anti-TB m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ory IgA- highest concentration in early breast milk, binds to viruses and bacteria, prevents invasion of mucos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S- greater amount of long chain unsaturated fatty acids. Provides increased lipases to help fat digestion, TG variable depending on maternal diet, GA, time; greater amount of cholesterol (independent of maternal di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n- maternal HIV, mom with herpes on the breast, symptomatic mother with positive PPD and CXR, active breast abs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s- cocaine, cyclosporine, lithium, methotrexate, phencyclidine, radioactive agen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amigen- hydrolyzed (milk protein all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gen- MCT (fat malabsorption, ascites, chyl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gestimil-elemental (milk protein in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cate- most ele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y-based: lactose free, sucrose and/or cornstarch.  Do not use in premature infants &lt; 1800g because the phyates bind Ca and PO4.  Do not use for cow’s milk induced entercoliti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lactose because intestinal lactase may be de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polymers, which maintain low osmol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MCTs to compensate for lower intestinal lipase and bile sal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al growth rate increases with advanced gestational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transferred across the placenta by facilitated diffusion.  Acquired glucose has 3 major roles: glycolysis, carbon source for fetal growth, and glycogen storag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A.  Given less than 1500g to prevent CLD.  Preterm infants are deficient.  Need to treat 14 babies to prevent 1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tine improves fatty acid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tamine might be helpful for short bowel syndrom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lestasis- both intracellular and intracannicular hepatic involvement which leads to portal inflammation and bile duct proliferation.  If prolonged, risk of cirrhosis.  High for LBW infants and TPN &gt; 90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increased nonprotein metabolizab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possible impairment of host defense.  Accumulation in macrophages.  Competes with bilirubin for albumin binding sites so may increase hyperbili (not seen with 3g/kg/day), hyperlipidemia in sick infants secondary to decreased lipoprotein lipase activ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indicates excretion, storage, and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ing metabolic rate is increased with prematurity, disease states, and low birth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ources recommend caloric requirement of 120-150kcal/kg/day to balance energy expendi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 is that postnatal growth should mirror in utero growth of a fetus at the same postconceptual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accounts for only 10% since infants sleep 80-90% of the time but this can increase with ag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the preterm infant should grow the same as the fetus in utero 15g/kg/d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y and Casein are major protein sources in neon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digestion of fatty acids by lipases and bile acid emulsification is often underdeveloped in newborns; therefore, neonates rely on intragastric lip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oleic and Linolenic FAs are important for neural and retinal maturation as are LCPUFA-absorbed in the mucosal cells by diffusion, believed to be important in brain and retin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T- easily hydolyzed by pancreatic lipase to free fatty acids, which can be easily transported across the mucosal cell (easier to absorb than LCPUFA).  MCTs are increased in preterm BM, but there is still only a small fraction of fatty acids in breast milk.  Disadvantage-not as good for tissue build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ose is the predominant carb in breast milk and most standard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formulas often replace some of the lactose content with corn syrup and short chain glucose polym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acin is formed from tryptoph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835F8-972B-45E4-AF9E-E84A5C738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899F7-5588-486B-BC53-6906FE157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9AB4D-2AE1-4F27-8977-5C02DEE7E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1F5F3-3532-4505-9F64-CAE7A8242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E6B8F9-A89C-4D01-982D-35827FA75D2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748548-876B-4D61-96C0-D56AD0425D8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FDD36A-EB43-4FFB-AD3A-E9E8909F058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4CD7B5-7212-439F-AB10-CBFA09ED32C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4E2935-1BA4-4269-82BB-802ACC601F4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07F91E-2D8C-4D27-B2A9-6EDB913117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6F4D58-984E-47FA-9CC7-2EF12E1B02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5C127-61DC-40E2-970F-63FF3F86D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4B25FD-B574-498D-B03F-C4809AC55F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3D5B09-BEE3-4733-BDC8-AC880F8D18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1C973D-9AC4-4B0F-BBE8-A34E4FEBC2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2DD507-5D3D-4EA8-BC51-D3CF7787C85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BC6359-B5D3-422A-A26A-4C44E2B8389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4AF19-B02B-4C47-9A50-A19BB1DE5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416B4-56A6-412A-867D-9469BE0CC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102BD-D3DD-49B5-9BE9-7178421E7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E9CF5-A3D7-4A16-A93C-36E0890FF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8FA23-A358-4FAA-AC09-4F3258DDF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B56AB-5759-497F-B95B-4DD223F9B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CF701-F2CE-4827-8C98-53D1F8EC4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18BA-2A7C-43F4-95B4-34A31766D9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218D-57FB-4F90-8E31-7E08927663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fant Nutrition</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nnifer Levy, MD</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s Hospital of Oakla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s</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at-soluble vitamin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s A, D, E, K</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nthesized from precurs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intake not usually requir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easily excreted and can accumulate</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l transfer by simple or facilitated diffu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B</a:t>
            </a:r>
            <a:r>
              <a:rPr b="0" lang="en-US" sz="3200" spc="-1" strike="noStrike" baseline="-25000">
                <a:solidFill>
                  <a:srgbClr val="ffff00"/>
                </a:solidFill>
                <a:latin typeface="Tahoma"/>
              </a:rPr>
              <a:t>12</a:t>
            </a:r>
            <a:r>
              <a:rPr b="0" lang="en-US" sz="3200" spc="-1" strike="noStrike">
                <a:solidFill>
                  <a:srgbClr val="ffff00"/>
                </a:solidFill>
                <a:latin typeface="Tahoma"/>
              </a:rPr>
              <a:t> and Folate</a:t>
            </a:r>
            <a:endParaRPr b="0" lang="en-US" sz="32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tamin B</a:t>
            </a:r>
            <a:r>
              <a:rPr b="0" lang="en-US" sz="2400" spc="-1" strike="noStrike" baseline="-25000">
                <a:solidFill>
                  <a:srgbClr val="ffffff"/>
                </a:solidFill>
                <a:latin typeface="Tahoma"/>
              </a:rPr>
              <a:t>12</a:t>
            </a:r>
            <a:r>
              <a:rPr b="0" lang="en-US" sz="2400" spc="-1" strike="noStrike">
                <a:solidFill>
                  <a:srgbClr val="ffffff"/>
                </a:solidFill>
                <a:latin typeface="Tahoma"/>
              </a:rPr>
              <a:t> is synthesized by GI microorganisms and is required for folate metabolism</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B</a:t>
            </a:r>
            <a:r>
              <a:rPr b="0" lang="en-US" sz="2400" spc="-1" strike="noStrike" baseline="-25000">
                <a:solidFill>
                  <a:srgbClr val="ffffff"/>
                </a:solidFill>
                <a:latin typeface="Tahoma"/>
              </a:rPr>
              <a:t>12</a:t>
            </a:r>
            <a:r>
              <a:rPr b="0" lang="en-US" sz="2400" spc="-1" strike="noStrike">
                <a:solidFill>
                  <a:srgbClr val="ffffff"/>
                </a:solidFill>
                <a:latin typeface="Tahoma"/>
              </a:rPr>
              <a:t> deficiency in breast-fed infants of vegetarian mothers who do not ingest dairy or eggs</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folic acid deficiency in infants fed evaporated or goat’s milk</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loblastic anemia and hypersegmented neutrophi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D Deficiency</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 D regulates the concentration of calcium and phosphorus in the bloodstream and bone</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for bone mineralization and growth</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ciency results in osteopenia -&gt; ricket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pocalcemia -&gt; tetany, seizur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E Deficiency</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 E has antioxidant properties and is recommended to be taken concurrently with iron administration to protect from iron-induced hemolysi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ifests with anemia and reticulocytos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Vitamin K</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d for carboxylation of prothrombin into the active form</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borns are predisposed:</a:t>
            </a:r>
            <a:endParaRPr b="0" lang="en-US" sz="28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Initial lack of microorganisms that synthesize Vitamin K</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Immature newborn liver</a:t>
            </a:r>
            <a:endParaRPr b="0" lang="en-US" sz="20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rnal medications</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east fed infants</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ociated with hemorrhagic disease of the newbor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ron Deficiency</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crocytic anemia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ociated with short term and long term neurodevelopmental defici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term infants more susceptible due to small iron stores at birth, high growth velocity, and phlebotomy lo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hysiolog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lactin is secreted by maternal anterior pituitary throughout pregnanc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delivery, the decrease in estrogen and progesterone leads to increased milk production and deliver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lk ejection is mediated by oxytocin from the posterior pituit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mmunologic and Antibacterial Fact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retory IgA</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tective and bactericidal enzym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tobacilli growth is increas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ostrum has increased lymphocytes, macrophages, and immunoglobuli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lectrolyt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Na, K, Ca, Ph, Cl, and Mg</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rotein</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breast milk matures, protein decreas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ino acids are lowe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Fat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calori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glycerides are varia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remature Milk</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protein</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electrolyt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adequate protein, calcium, phosphorus, and vitamin D for premi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to supplement with human milk fortifier (2 packets/ 50ml = 24kcal/30m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verview</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tal Energy Expenditure &amp; Sourc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onatal Energy Expenditure &amp; Requirem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i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bohydrat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Milk</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eral Nutri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enefit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IDDM, IBD, NEC, obesity</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infection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neurodevelopmental outcome</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ontraindications (in U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ection</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lactosemia</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tritional Supplements</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Preterm</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Full term</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u="sng">
                <a:solidFill>
                  <a:srgbClr val="ffffff"/>
                </a:solidFill>
                <a:uFillTx/>
                <a:latin typeface="Tahoma"/>
              </a:rPr>
              <a:t>BM</a:t>
            </a:r>
            <a:r>
              <a:rPr b="0" lang="en-US" sz="2400" spc="-1" strike="noStrike" u="sng">
                <a:solidFill>
                  <a:srgbClr val="ffffff"/>
                </a:solidFill>
                <a:uFillTx/>
                <a:latin typeface="Tahoma"/>
              </a:rPr>
              <a:t>	</a:t>
            </a:r>
            <a:r>
              <a:rPr b="0" lang="en-US" sz="2400" spc="-1" strike="noStrike" u="sng">
                <a:solidFill>
                  <a:srgbClr val="ffffff"/>
                </a:solidFill>
                <a:uFillTx/>
                <a:latin typeface="Tahoma"/>
              </a:rPr>
              <a:t>	</a:t>
            </a:r>
            <a:r>
              <a:rPr b="0" lang="en-US" sz="2400" spc="-1" strike="noStrike" u="sng">
                <a:solidFill>
                  <a:srgbClr val="ffffff"/>
                </a:solidFill>
                <a:uFillTx/>
                <a:latin typeface="Tahoma"/>
              </a:rPr>
              <a:t>P. Form</a:t>
            </a:r>
            <a:r>
              <a:rPr b="0" lang="en-US" sz="2400" spc="-1" strike="noStrike" u="sng">
                <a:solidFill>
                  <a:srgbClr val="ffffff"/>
                </a:solidFill>
                <a:uFillTx/>
                <a:latin typeface="Tahoma"/>
              </a:rPr>
              <a:t>	</a:t>
            </a:r>
            <a:r>
              <a:rPr b="0" lang="en-US" sz="2400" spc="-1" strike="noStrike" u="sng">
                <a:solidFill>
                  <a:srgbClr val="ffffff"/>
                </a:solidFill>
                <a:uFillTx/>
                <a:latin typeface="Tahoma"/>
              </a:rPr>
              <a:t>BM</a:t>
            </a:r>
            <a:r>
              <a:rPr b="0" lang="en-US" sz="2400" spc="-1" strike="noStrike" u="sng">
                <a:solidFill>
                  <a:srgbClr val="ffffff"/>
                </a:solidFill>
                <a:uFillTx/>
                <a:latin typeface="Tahoma"/>
              </a:rPr>
              <a:t>	</a:t>
            </a:r>
            <a:r>
              <a:rPr b="0" lang="en-US" sz="2400" spc="-1" strike="noStrike" u="sng">
                <a:solidFill>
                  <a:srgbClr val="ffffff"/>
                </a:solidFill>
                <a:uFillTx/>
                <a:latin typeface="Tahoma"/>
              </a:rPr>
              <a:t>    Formula</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RON</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2w-2mos</a:t>
            </a:r>
            <a:r>
              <a:rPr b="0" lang="en-US" sz="2000" spc="-1" strike="noStrike">
                <a:solidFill>
                  <a:srgbClr val="ffffff"/>
                </a:solidFill>
                <a:latin typeface="Tahoma"/>
              </a:rPr>
              <a:t>	</a:t>
            </a:r>
            <a:r>
              <a:rPr b="0" lang="en-US" sz="2000" spc="-1" strike="noStrike">
                <a:solidFill>
                  <a:srgbClr val="ffffff"/>
                </a:solidFill>
                <a:latin typeface="Tahoma"/>
              </a:rPr>
              <a:t>Fe Fortified</a:t>
            </a:r>
            <a:r>
              <a:rPr b="0" lang="en-US" sz="2000" spc="-1" strike="noStrike">
                <a:solidFill>
                  <a:srgbClr val="ffffff"/>
                </a:solidFill>
                <a:latin typeface="Tahoma"/>
              </a:rPr>
              <a:t>	</a:t>
            </a:r>
            <a:r>
              <a:rPr b="0" lang="en-US" sz="2000" spc="-1" strike="noStrike">
                <a:solidFill>
                  <a:srgbClr val="ffffff"/>
                </a:solidFill>
                <a:latin typeface="Tahoma"/>
              </a:rPr>
              <a:t>6mos</a:t>
            </a:r>
            <a:r>
              <a:rPr b="0" lang="en-US" sz="2000" spc="-1" strike="noStrike">
                <a:solidFill>
                  <a:srgbClr val="ffffff"/>
                </a:solidFill>
                <a:latin typeface="Tahoma"/>
              </a:rPr>
              <a:t>	</a:t>
            </a:r>
            <a:r>
              <a:rPr b="0" lang="en-US" sz="2000" spc="-1" strike="noStrike">
                <a:solidFill>
                  <a:srgbClr val="ffffff"/>
                </a:solidFill>
                <a:latin typeface="Tahoma"/>
              </a:rPr>
              <a:t>    Fe Fortified</a:t>
            </a:r>
            <a:endParaRPr b="0" lang="en-US" sz="20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4 mg/kg/day)</a:t>
            </a:r>
            <a:endParaRPr b="0" lang="en-US" sz="1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s</a:t>
            </a:r>
            <a:r>
              <a:rPr b="0" lang="en-US" sz="2800" spc="-1" strike="noStrike">
                <a:solidFill>
                  <a:srgbClr val="ffffff"/>
                </a:solidFill>
                <a:latin typeface="Tahoma"/>
              </a:rPr>
              <a:t>	</a:t>
            </a:r>
            <a:r>
              <a:rPr b="0" lang="en-US" sz="2400" spc="-1" strike="noStrike">
                <a:solidFill>
                  <a:srgbClr val="ffffff"/>
                </a:solidFill>
                <a:latin typeface="Tahoma"/>
              </a:rPr>
              <a:t>HMF (ICN)</a:t>
            </a:r>
            <a:r>
              <a:rPr b="0" lang="en-US" sz="2400" spc="-1" strike="noStrike">
                <a:solidFill>
                  <a:srgbClr val="ffffff"/>
                </a:solidFill>
                <a:latin typeface="Tahoma"/>
              </a:rPr>
              <a:t>	</a:t>
            </a:r>
            <a:r>
              <a:rPr b="0" lang="en-US" sz="2400" spc="-1" strike="noStrike">
                <a:solidFill>
                  <a:srgbClr val="ffffff"/>
                </a:solidFill>
                <a:latin typeface="Tahoma"/>
              </a:rPr>
              <a:t>Non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Vit D</a:t>
            </a:r>
            <a:r>
              <a:rPr b="0" lang="en-US" sz="2400" spc="-1" strike="noStrike">
                <a:solidFill>
                  <a:srgbClr val="ffffff"/>
                </a:solidFill>
                <a:latin typeface="Tahoma"/>
              </a:rPr>
              <a:t>	</a:t>
            </a:r>
            <a:r>
              <a:rPr b="0" lang="en-US" sz="2400" spc="-1" strike="noStrike">
                <a:solidFill>
                  <a:srgbClr val="ffffff"/>
                </a:solidFill>
                <a:latin typeface="Tahoma"/>
              </a:rPr>
              <a:t>    None</a:t>
            </a:r>
            <a:endParaRPr b="0" lang="en-US" sz="24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1000" spc="-1" strike="noStrike">
                <a:solidFill>
                  <a:srgbClr val="ffffff"/>
                </a:solidFill>
                <a:latin typeface="Tahoma"/>
              </a:rPr>
              <a:t>(200IU/day)</a:t>
            </a:r>
            <a:endParaRPr b="0" lang="en-US" sz="1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uoride    </a:t>
            </a:r>
            <a:r>
              <a:rPr b="0" lang="en-US" sz="2800" spc="-1" strike="noStrike">
                <a:solidFill>
                  <a:srgbClr val="ffffff"/>
                </a:solidFill>
                <a:latin typeface="Wingdings"/>
                <a:ea typeface="Wingdings"/>
              </a:rPr>
              <a:t></a:t>
            </a:r>
            <a:r>
              <a:rPr b="0" lang="en-US" sz="2800" spc="-1" strike="noStrike">
                <a:solidFill>
                  <a:srgbClr val="ffffff"/>
                </a:solidFill>
                <a:latin typeface="Tahoma"/>
              </a:rPr>
              <a:t>----------after 6 months---------------</a:t>
            </a:r>
            <a:r>
              <a:rPr b="0" lang="en-US" sz="2800" spc="-1" strike="noStrike">
                <a:solidFill>
                  <a:srgbClr val="ffffff"/>
                </a:solidFill>
                <a:latin typeface="Wingdings"/>
                <a:ea typeface="Wingdings"/>
              </a:rPr>
              <a:t></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0.25-0.5 mg/day)</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rmulas</a:t>
            </a:r>
            <a:endParaRPr b="0" lang="en-US" sz="4400" spc="-1" strike="noStrike">
              <a:solidFill>
                <a:srgbClr val="ffffff"/>
              </a:solidFill>
              <a:latin typeface="Tahoma"/>
            </a:endParaRPr>
          </a:p>
        </p:txBody>
      </p:sp>
      <p:sp>
        <p:nvSpPr>
          <p:cNvPr id="133" name="PlaceHolder 2"/>
          <p:cNvSpPr>
            <a:spLocks noGrp="1"/>
          </p:cNvSpPr>
          <p:nvPr>
            <p:ph/>
          </p:nvPr>
        </p:nvSpPr>
        <p:spPr>
          <a:xfrm>
            <a:off x="304920" y="1600200"/>
            <a:ext cx="40384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ification by Carbohydrate Sour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34" name=""/>
          <p:cNvGraphicFramePr/>
          <p:nvPr/>
        </p:nvGraphicFramePr>
        <p:xfrm>
          <a:off x="4191120" y="1447920"/>
          <a:ext cx="4038480" cy="5118120"/>
        </p:xfrm>
        <a:graphic>
          <a:graphicData uri="http://schemas.openxmlformats.org/drawingml/2006/table">
            <a:tbl>
              <a:tblPr/>
              <a:tblGrid>
                <a:gridCol w="2019240"/>
                <a:gridCol w="2019240"/>
              </a:tblGrid>
              <a:tr h="1117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ype of Carbohydr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cto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famil, Neosure, Similac</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rose and glucose polym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mentum, Isomil, Portage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ucose polym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famil Lactofree, Neocate, Nutramigen, Pregestimi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mature Formula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imilac Special Care and Enfamil Premature Lipil</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kcal/30 mL or 20kcal/30mL</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lactose (50%) and glucose polymer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MCT, ARA and DHA added</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protein content</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calcium and phosphorus content</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aloric density</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in infants less than 1800g or 32 weeks G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mature Discharge Formulas</a:t>
            </a: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Neosure or Enfacare Lipi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kcal/30m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protein </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calcium and phosphorus conten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caloric conten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until 9 months P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mend 80-90 kcal/kg/da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calories are provided by lipids and gluc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ucose infusion rate: 6-8mg/kg/m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GIR: </a:t>
            </a:r>
            <a:r>
              <a:rPr b="0" lang="en-US" sz="3200" spc="-1" strike="noStrike" u="sng">
                <a:solidFill>
                  <a:srgbClr val="ffffff"/>
                </a:solidFill>
                <a:uFillTx/>
                <a:latin typeface="Tahoma"/>
              </a:rPr>
              <a:t>0.167 x concentration x ra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weigh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2"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arbohydrate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ly glucose</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g CHO provides 3.4 kcal</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creasing glucose concentration, increasing osmolarity</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provide 55-65% of total kilocalorie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imum concentration is 12.5% peripheral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at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g fat provides 9 kcal (20% solution provides 2 kcal/1 m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uld provide 30-50% of total calori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mit to 3g/kg/day</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 serum TG leve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otein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is to prevent negative energy and nitrogen balance</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d early in life to achieve goal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g of protein provides 4 kcal</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ld provide 7-10% of total calori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alcium and Phosphoru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io should be 1.3:1 to 1.7:1</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bone demineralization</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ysteine prevents precipit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457200" y="291600"/>
            <a:ext cx="8229600" cy="5727960"/>
          </a:xfrm>
          <a:prstGeom prst="rect">
            <a:avLst/>
          </a:prstGeom>
          <a:ln w="0">
            <a:noFill/>
          </a:ln>
        </p:spPr>
      </p:pic>
      <p:pic>
        <p:nvPicPr>
          <p:cNvPr id="148" name="" descr=""/>
          <p:cNvPicPr/>
          <p:nvPr/>
        </p:nvPicPr>
        <p:blipFill>
          <a:blip r:embed="rId3"/>
          <a:stretch/>
        </p:blipFill>
        <p:spPr>
          <a:xfrm>
            <a:off x="1905120" y="304920"/>
            <a:ext cx="5046480" cy="584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etal Energy</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imated Fetal Energy Expediture = 35 to 55 kcal/kg/day</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ergy Sourc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Maternal glucose (2/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 Placental lactate (1/4)</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 Maternal amino acid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TPN for  Just Born </a:t>
            </a:r>
            <a:br>
              <a:rPr sz="4400"/>
            </a:b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LBW Infants</a:t>
            </a:r>
            <a:br>
              <a:rPr sz="4400"/>
            </a:br>
            <a:r>
              <a:rPr b="0" lang="en-US" sz="1400" spc="-1" strike="noStrike">
                <a:solidFill>
                  <a:srgbClr val="ffffff"/>
                </a:solidFill>
                <a:latin typeface="Tahoma"/>
              </a:rPr>
              <a:t>Adapted from Nutrition and Gastroenterology Clinical Review Committee, 2002</a:t>
            </a:r>
            <a:endParaRPr b="0" lang="en-US" sz="1400" spc="-1" strike="noStrike">
              <a:solidFill>
                <a:srgbClr val="ffffff"/>
              </a:solidFill>
              <a:latin typeface="Tahoma"/>
            </a:endParaRPr>
          </a:p>
        </p:txBody>
      </p:sp>
      <p:graphicFrame>
        <p:nvGraphicFramePr>
          <p:cNvPr id="150" name=""/>
          <p:cNvGraphicFramePr/>
          <p:nvPr/>
        </p:nvGraphicFramePr>
        <p:xfrm>
          <a:off x="457200" y="1905120"/>
          <a:ext cx="8229600" cy="4114800"/>
        </p:xfrm>
        <a:graphic>
          <a:graphicData uri="http://schemas.openxmlformats.org/drawingml/2006/table">
            <a:tbl>
              <a:tblPr/>
              <a:tblGrid>
                <a:gridCol w="4114800"/>
                <a:gridCol w="4114800"/>
              </a:tblGrid>
              <a:tr h="588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Quanti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ino Acid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ucos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10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ium glucon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650m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VI-Pediatri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mL/kg/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par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U/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pi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mL/kg/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onitoring Parenteral Nutrition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Daily</a:t>
            </a:r>
            <a:endParaRPr b="0" lang="en-US" sz="40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igh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for glycosuri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ake and Outpu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electrolytes (initial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glucose (advanced dextr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triglycerides (advancing lipi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onitoring Parenteral Nutrition </a:t>
            </a:r>
            <a:br>
              <a:rPr sz="4000"/>
            </a:b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Weekly</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glucose, electrolytes, Ca, Phos, and M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albumin and total protei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ver function tests, bilirubin (T &amp; 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triglycerid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blood cou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TPN Supplements for </a:t>
            </a:r>
            <a:br>
              <a:rPr sz="4000"/>
            </a:br>
            <a:r>
              <a:rPr b="0" lang="en-US" sz="4000" spc="-1" strike="noStrike">
                <a:solidFill>
                  <a:srgbClr val="ffffff"/>
                </a:solidFill>
                <a:latin typeface="Tahoma"/>
              </a:rPr>
              <a:t>	</a:t>
            </a:r>
            <a:r>
              <a:rPr b="0" lang="en-US" sz="4000" spc="-1" strike="noStrike">
                <a:solidFill>
                  <a:srgbClr val="ffffff"/>
                </a:solidFill>
                <a:latin typeface="Tahoma"/>
              </a:rPr>
              <a:t>   Premature Infants</a:t>
            </a:r>
            <a:endParaRPr b="0" lang="en-US" sz="40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ulin infusio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 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ysteine hydrochlorid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nitin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utam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plication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olestasi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bolic Acidosi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perglycemia</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bolic Bone Disease</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socomial Infection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ications of f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ly Feeding for Preterm and Sick Infants</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gin at day 2-3 if stable</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milk 12-24 mL/kg/day</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hospital stay</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sepsis and sepsis evaluations</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days to full feedings</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alcium and phosphorus absorption</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increased incidence of NEC</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wer infants with central venous cathet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onatal Energy</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Form of Energy</a:t>
            </a:r>
            <a:r>
              <a:rPr b="1" lang="en-US" sz="2400" spc="-1" strike="noStrike" u="sng">
                <a:solidFill>
                  <a:srgbClr val="ffffff"/>
                </a:solidFill>
                <a:uFillTx/>
                <a:latin typeface="Tahoma"/>
              </a:rPr>
              <a:t>	</a:t>
            </a:r>
            <a:r>
              <a:rPr b="1" lang="en-US" sz="2400" spc="-1" strike="noStrike" u="sng">
                <a:solidFill>
                  <a:srgbClr val="ffffff"/>
                </a:solidFill>
                <a:uFillTx/>
                <a:latin typeface="Tahoma"/>
              </a:rPr>
              <a:t>	</a:t>
            </a:r>
            <a:r>
              <a:rPr b="1" lang="en-US" sz="2400" spc="-1" strike="noStrike" u="sng">
                <a:solidFill>
                  <a:srgbClr val="ffffff"/>
                </a:solidFill>
                <a:uFillTx/>
                <a:latin typeface="Tahoma"/>
              </a:rPr>
              <a:t>	</a:t>
            </a:r>
            <a:r>
              <a:rPr b="1" lang="en-US" sz="2400" spc="-1" strike="noStrike" u="sng">
                <a:solidFill>
                  <a:srgbClr val="ffffff"/>
                </a:solidFill>
                <a:uFillTx/>
                <a:latin typeface="Tahoma"/>
              </a:rPr>
              <a:t>Caloric Expenditur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sting Metabolic Rate*</a:t>
            </a:r>
            <a:r>
              <a:rPr b="1" lang="en-US" sz="2400" spc="-1" strike="noStrike">
                <a:solidFill>
                  <a:srgbClr val="ffffff"/>
                </a:solidFill>
                <a:latin typeface="Tahoma"/>
              </a:rPr>
              <a:t>	</a:t>
            </a:r>
            <a:r>
              <a:rPr b="1" lang="en-US" sz="2400" spc="-1" strike="noStrike">
                <a:solidFill>
                  <a:srgbClr val="ffffff"/>
                </a:solidFill>
                <a:latin typeface="Tahoma"/>
              </a:rPr>
              <a:t>5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ctivity</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5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ld Stress</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utrition Processing</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5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tal</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2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teins</a:t>
            </a:r>
            <a:endParaRPr b="0" lang="en-US" sz="4400" spc="-1" strike="noStrike">
              <a:solidFill>
                <a:srgbClr val="ffffff"/>
              </a:solidFill>
              <a:latin typeface="Tahoma"/>
            </a:endParaRPr>
          </a:p>
        </p:txBody>
      </p:sp>
      <p:graphicFrame>
        <p:nvGraphicFramePr>
          <p:cNvPr id="99" name=""/>
          <p:cNvGraphicFramePr/>
          <p:nvPr/>
        </p:nvGraphicFramePr>
        <p:xfrm>
          <a:off x="457200" y="1905120"/>
          <a:ext cx="8229240" cy="4114440"/>
        </p:xfrm>
        <a:graphic>
          <a:graphicData uri="http://schemas.openxmlformats.org/drawingml/2006/table">
            <a:tbl>
              <a:tblPr/>
              <a:tblGrid>
                <a:gridCol w="4114440"/>
                <a:gridCol w="4114800"/>
              </a:tblGrid>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Milk Sour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Whey-to-Casein Rati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ostru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0: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ure Milk</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4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8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term 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0: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t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l transfer of essential and non-essential fatty acid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t stores are formed by lipogenesis from gluc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poorly digested macronutri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t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ahoma"/>
              </a:rPr>
              <a:t>Types of Fatty Acids</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aric, Oleic, and Palmitic are common</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oleic and Linolenic are the most common</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chain polyunsaturated (LCPUFA)</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and Medium Chain Triglycerides (MC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rbohydrate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actose</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es absorption of calcium and magnesium</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es intestinal growth of lactobacill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s</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Water Soluble Vitamin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 B Complex and Vitamin C</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ly not formed from precurs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intake requir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accumulation (except Vitamin B</a:t>
            </a:r>
            <a:r>
              <a:rPr b="0" lang="en-US" sz="3200" spc="-1" strike="noStrike" baseline="-25000">
                <a:solidFill>
                  <a:srgbClr val="ffffff"/>
                </a:solidFill>
                <a:latin typeface="Tahoma"/>
              </a:rPr>
              <a:t>1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oss placenta by active tran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8:58:59Z</dcterms:created>
  <dc:creator>Scott Levy</dc:creator>
  <dc:description/>
  <dc:language>en-US</dc:language>
  <cp:lastModifiedBy>Health Services Department</cp:lastModifiedBy>
  <dcterms:modified xsi:type="dcterms:W3CDTF">2010-06-12T06:14:30Z</dcterms:modified>
  <cp:revision>23</cp:revision>
  <dc:subject/>
  <dc:title>Nutrition</dc:title>
</cp:coreProperties>
</file>