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5E706-FEEC-4B96-A7C3-B8D06F4F78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hese vitamins in cystic fibr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mature infants at an increased for vitamin deficiency because (1) likely to have low vitamin stores (2) increased requirement because of rapid growth (3) immaturity leading to ineffective metabolism.  Premature infants also at increased risk of vitamin toxicity secondary to altered urinary excre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for fat and carbohydrate metabolis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 induced hemolysis is caused by the oxidant effect of ir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nal medications- anticonvulsants, warfarin, anti-TB m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retory IgA- highest concentration in early breast milk, binds to viruses and bacteria, prevents invasion of mucos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S- greater amount of long chain unsaturated fatty acids. Provides increased lipases to help fat digestion, TG variable depending on maternal diet, GA, time; greater amount of cholesterol (independent of maternal die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ection- maternal HIV, mom with herpes on the breast, symptomatic mother with positive PPD and CXR, active breast abs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ugs- cocaine, cyclosporine, lithium, methotrexate, phencyclidine, radioactive agen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tramigen- hydrolyzed (milk protein all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gen- MCT (fat malabsorption, ascites, chylothor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gestimil-elemental (milk protein intole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cate- most elemen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y-based: lactose free, sucrose and/or cornstarch.  Do not use in premature infants &lt; 1800g because the phyates bind Ca and PO4.  Do not use for cow’s milk induced entercoliti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lactose because intestinal lactase may be defic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polymers, which maintain low osmol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MCTs to compensate for lower intestinal lipase and bile sal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tal growth rate increases with advanced gestational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transferred across the placenta by facilitated diffusion.  Acquired glucose has 3 major roles: glycolysis, carbon source for fetal growth, and glycogen storag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A.  Given less than 1500g to prevent CLD.  Preterm infants are deficient.  Need to treat 14 babies to prevent 1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tine improves fatty acid oxi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tamine might be helpful for short bowel syndrom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lestasis- both intracellular and intracannicular hepatic involvement which leads to portal inflammation and bile duct proliferation.  If prolonged, risk of cirrhosis.  High for LBW infants and TPN &gt; 90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osis- increased nonprotein metabolizable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possible impairment of host defense.  Accumulation in macrophages.  Competes with bilirubin for albumin binding sites so may increase hyperbili (not seen with 3g/kg/day), hyperlipidemia in sick infants secondary to decreased lipoprotein lipase activ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ing indicates excretion, storage, and sy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ing metabolic rate is increased with prematurity, disease states, and low birth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sources recommend caloric requirement of 120-150kcal/kg/day to balance energy expendi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ption is that postnatal growth should mirror in utero growth of a fetus at the same postconceptual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accounts for only 10% since infants sleep 80-90% of the time but this can increase with ag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ly the preterm infant should grow the same as the fetus in utero 15g/kg/da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y and Casein are major protein sources in neonat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ON: digestion of fatty acids by lipases and bile acid emulsification is often underdeveloped in newborns; therefore, neonates rely on intragastric lipas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oleic and Linolenic FAs are important for neural and retinal maturation as are LCPUFA-absorbed in the mucosal cells by diffusion, believed to be important in brain and retinal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T- easily hydolyzed by pancreatic lipase to free fatty acids, which can be easily transported across the mucosal cell (easier to absorb than LCPUFA).  MCTs are increased in preterm BM, but there is still only a small fraction of fatty acids in breast milk.  Disadvantage-not as good for tissue build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tose is the predominant carb in breast milk and most standard formu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mature formulas often replace some of the lactose content with corn syrup and short chain glucose polyme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acin is formed from tryptopha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BC5082-F5FA-4203-8542-03508F70EE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CBFC6-13B3-469A-9747-DFC06389D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E92B85-AFB9-40D0-8BC3-872EF18D8C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497A8F-F82C-44CE-B2AF-0A8E28A884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9D51FC-E19F-4653-AC36-EF487D7716A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F66521-6688-43C4-9DD1-C9710DF90D0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4FBFC9-8131-40DD-8CFC-26ADA530D8E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465D47-874D-436F-8350-315DCCFABA1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9570AA-7579-4CAC-9E34-CD2ABAE96BF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41BE08-3C69-4F87-9AB2-8F863B2D825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CAC608-E447-46C8-A0A5-88856D3F02D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A7F42-70B9-4B07-9F0B-AAB219FCE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ED1D6E-EB4F-49B3-8A1B-3B77F79EE1F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1C2E54-A46E-4863-95E6-80544B99ABB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D4A1F8-78C1-40C8-AD0D-F61638DD49C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FE3DC1-2404-4C57-8BCD-CB3BC370B86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395D15-0FBC-4019-AB5F-7A862EEDBE4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120CD-ACB5-4699-B4EB-3516847E6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31C30-EE0D-4775-9FFE-C784C4BA3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C3E30-42EF-43AE-B5E9-86E1A166A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493D3-1B32-498D-9209-5783065D4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ABDDE-CD78-415C-A317-F39187FBC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2CDA8-7742-4231-8E49-3EEDAD3F4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81E15-64DC-4194-929D-B231152737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E0B0B-185C-4652-9AC4-26A80C5821C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03730-E69B-4C15-8FC0-7B4FF585C3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fant Nutrition</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ennifer Levy, MD</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ildren’s Hospital of Oaklan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tamins</a:t>
            </a: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Fat-soluble vitamin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tamins A, D, E, K</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nthesized from precursor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ily intake not usually required</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easily excreted and can accumulate</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cental transfer by simple or facilitated diffus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tamin Deficiencies</a:t>
            </a:r>
            <a:endParaRPr b="0" lang="en-US" sz="4400" spc="-1" strike="noStrike">
              <a:solidFill>
                <a:srgbClr val="ffffff"/>
              </a:solidFill>
              <a:latin typeface="Tahoma"/>
            </a:endParaRPr>
          </a:p>
        </p:txBody>
      </p:sp>
      <p:sp>
        <p:nvSpPr>
          <p:cNvPr id="1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Vitamin B</a:t>
            </a:r>
            <a:r>
              <a:rPr b="0" lang="en-US" sz="3200" spc="-1" strike="noStrike" baseline="-25000">
                <a:solidFill>
                  <a:srgbClr val="ffff00"/>
                </a:solidFill>
                <a:latin typeface="Tahoma"/>
              </a:rPr>
              <a:t>12</a:t>
            </a:r>
            <a:r>
              <a:rPr b="0" lang="en-US" sz="3200" spc="-1" strike="noStrike">
                <a:solidFill>
                  <a:srgbClr val="ffff00"/>
                </a:solidFill>
                <a:latin typeface="Tahoma"/>
              </a:rPr>
              <a:t> and Folate</a:t>
            </a:r>
            <a:endParaRPr b="0" lang="en-US" sz="3200" spc="-1" strike="noStrike">
              <a:solidFill>
                <a:srgbClr val="ffffff"/>
              </a:solidFill>
              <a:latin typeface="Tahoma"/>
            </a:endParaRPr>
          </a:p>
          <a:p>
            <a:pPr marL="343080" indent="-343080">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itamin B</a:t>
            </a:r>
            <a:r>
              <a:rPr b="0" lang="en-US" sz="2400" spc="-1" strike="noStrike" baseline="-25000">
                <a:solidFill>
                  <a:srgbClr val="ffffff"/>
                </a:solidFill>
                <a:latin typeface="Tahoma"/>
              </a:rPr>
              <a:t>12</a:t>
            </a:r>
            <a:r>
              <a:rPr b="0" lang="en-US" sz="2400" spc="-1" strike="noStrike">
                <a:solidFill>
                  <a:srgbClr val="ffffff"/>
                </a:solidFill>
                <a:latin typeface="Tahoma"/>
              </a:rPr>
              <a:t> is synthesized by GI microorganisms and is required for folate metabolism</a:t>
            </a:r>
            <a:endParaRPr b="0" lang="en-US" sz="2400" spc="-1" strike="noStrike">
              <a:solidFill>
                <a:srgbClr val="ffffff"/>
              </a:solidFill>
              <a:latin typeface="Tahoma"/>
            </a:endParaRPr>
          </a:p>
          <a:p>
            <a:pPr marL="343080" indent="-343080">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sk of B</a:t>
            </a:r>
            <a:r>
              <a:rPr b="0" lang="en-US" sz="2400" spc="-1" strike="noStrike" baseline="-25000">
                <a:solidFill>
                  <a:srgbClr val="ffffff"/>
                </a:solidFill>
                <a:latin typeface="Tahoma"/>
              </a:rPr>
              <a:t>12</a:t>
            </a:r>
            <a:r>
              <a:rPr b="0" lang="en-US" sz="2400" spc="-1" strike="noStrike">
                <a:solidFill>
                  <a:srgbClr val="ffffff"/>
                </a:solidFill>
                <a:latin typeface="Tahoma"/>
              </a:rPr>
              <a:t> deficiency in breast-fed infants of vegetarian mothers who do not ingest dairy or eggs</a:t>
            </a:r>
            <a:endParaRPr b="0" lang="en-US" sz="2400" spc="-1" strike="noStrike">
              <a:solidFill>
                <a:srgbClr val="ffffff"/>
              </a:solidFill>
              <a:latin typeface="Tahoma"/>
            </a:endParaRPr>
          </a:p>
          <a:p>
            <a:pPr marL="343080" indent="-343080">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sk of folic acid deficiency in infants fed evaporated or goat’s milk</a:t>
            </a:r>
            <a:endParaRPr b="0" lang="en-US" sz="2400" spc="-1" strike="noStrike">
              <a:solidFill>
                <a:srgbClr val="ffffff"/>
              </a:solidFill>
              <a:latin typeface="Tahoma"/>
            </a:endParaRPr>
          </a:p>
          <a:p>
            <a:pPr marL="343080" indent="-343080">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galoblastic anemia and hypersegmented neutrophi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tamin Deficiencies</a:t>
            </a: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Vitamin D Deficiency</a:t>
            </a:r>
            <a:endParaRPr b="0" lang="en-US" sz="32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tamin D regulates the concentration of calcium and phosphorus in the bloodstream and bone</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ortant for bone mineralization and growth</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iciency results in osteopenia -&gt; rickets</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ypocalcemia -&gt; tetany, seizur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tamin Deficiencies</a:t>
            </a:r>
            <a:endParaRPr b="0" lang="en-US" sz="4400" spc="-1" strike="noStrike">
              <a:solidFill>
                <a:srgbClr val="ffffff"/>
              </a:solidFill>
              <a:latin typeface="Tahoma"/>
            </a:endParaRPr>
          </a:p>
        </p:txBody>
      </p:sp>
      <p:sp>
        <p:nvSpPr>
          <p:cNvPr id="11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Vitamin E Deficiency</a:t>
            </a:r>
            <a:endParaRPr b="0" lang="en-US" sz="32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tamin E has antioxidant properties and is recommended to be taken concurrently with iron administration to protect from iron-induced hemolysis</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ifests with anemia and reticulocytosi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tamin Deficiencies</a:t>
            </a:r>
            <a:endParaRPr b="0" lang="en-US" sz="44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Vitamin K</a:t>
            </a:r>
            <a:endParaRPr b="0" lang="en-US" sz="2800" spc="-1" strike="noStrike">
              <a:solidFill>
                <a:srgbClr val="ffffff"/>
              </a:solidFill>
              <a:latin typeface="Tahoma"/>
            </a:endParaRPr>
          </a:p>
          <a:p>
            <a:pPr marL="335880" indent="-3358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quired for carboxylation of prothrombin into the active form</a:t>
            </a:r>
            <a:endParaRPr b="0" lang="en-US" sz="2800" spc="-1" strike="noStrike">
              <a:solidFill>
                <a:srgbClr val="ffffff"/>
              </a:solidFill>
              <a:latin typeface="Tahoma"/>
            </a:endParaRPr>
          </a:p>
          <a:p>
            <a:pPr marL="335880" indent="-3358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wborns are predisposed:</a:t>
            </a:r>
            <a:endParaRPr b="0" lang="en-US" sz="28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000" spc="-1" strike="noStrike">
                <a:solidFill>
                  <a:srgbClr val="ffffff"/>
                </a:solidFill>
                <a:latin typeface="Tahoma"/>
              </a:rPr>
              <a:t>Initial lack of microorganisms that synthesize Vitamin K</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Immature newborn liver</a:t>
            </a:r>
            <a:endParaRPr b="0" lang="en-US" sz="2000" spc="-1" strike="noStrike">
              <a:solidFill>
                <a:srgbClr val="ffffff"/>
              </a:solidFill>
              <a:latin typeface="Tahoma"/>
            </a:endParaRPr>
          </a:p>
          <a:p>
            <a:pPr marL="335880" indent="-3358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ernal medications</a:t>
            </a:r>
            <a:endParaRPr b="0" lang="en-US" sz="2800" spc="-1" strike="noStrike">
              <a:solidFill>
                <a:srgbClr val="ffffff"/>
              </a:solidFill>
              <a:latin typeface="Tahoma"/>
            </a:endParaRPr>
          </a:p>
          <a:p>
            <a:pPr marL="335880" indent="-3358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reast fed infants</a:t>
            </a:r>
            <a:endParaRPr b="0" lang="en-US" sz="2800" spc="-1" strike="noStrike">
              <a:solidFill>
                <a:srgbClr val="ffffff"/>
              </a:solidFill>
              <a:latin typeface="Tahoma"/>
            </a:endParaRPr>
          </a:p>
          <a:p>
            <a:pPr marL="335880" indent="-3358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ociated with hemorrhagic disease of the newbor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ron Deficiency</a:t>
            </a:r>
            <a:endParaRPr b="0" lang="en-US" sz="44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crocytic anemia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sociated with short term and long term neurodevelopmental deficit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term infants more susceptible due to small iron stores at birth, high growth velocity, and phlebotomy los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uman Milk</a:t>
            </a:r>
            <a:endParaRPr b="0" lang="en-US" sz="44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Physiology</a:t>
            </a:r>
            <a:endParaRPr b="0" lang="en-US" sz="3200" spc="-1" strike="noStrike">
              <a:solidFill>
                <a:srgbClr val="ffffff"/>
              </a:solidFill>
              <a:latin typeface="Tahoma"/>
            </a:endParaRPr>
          </a:p>
          <a:p>
            <a:pPr marL="322200" indent="-32220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lactin is secreted by maternal anterior pituitary throughout pregnancy</a:t>
            </a:r>
            <a:endParaRPr b="0" lang="en-US" sz="3200" spc="-1" strike="noStrike">
              <a:solidFill>
                <a:srgbClr val="ffffff"/>
              </a:solidFill>
              <a:latin typeface="Tahoma"/>
            </a:endParaRPr>
          </a:p>
          <a:p>
            <a:pPr marL="322200" indent="-32220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delivery, the decrease in estrogen and progesterone leads to increased milk production and delivery</a:t>
            </a:r>
            <a:endParaRPr b="0" lang="en-US" sz="3200" spc="-1" strike="noStrike">
              <a:solidFill>
                <a:srgbClr val="ffffff"/>
              </a:solidFill>
              <a:latin typeface="Tahoma"/>
            </a:endParaRPr>
          </a:p>
          <a:p>
            <a:pPr marL="322200" indent="-32220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lk ejection is mediated by oxytocin from the posterior pituit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uman Milk</a:t>
            </a:r>
            <a:endParaRPr b="0" lang="en-US" sz="44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Immunologic and Antibacterial Factor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retory IgA</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tective and bactericidal enzyme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ctobacilli growth is increased</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lostrum has increased lymphocytes, macrophages, and immunoglobulin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uman Milk</a:t>
            </a:r>
            <a:endParaRPr b="0" lang="en-US" sz="4400" spc="-1" strike="noStrike">
              <a:solidFill>
                <a:srgbClr val="ffffff"/>
              </a:solidFill>
              <a:latin typeface="Tahoma"/>
            </a:endParaRPr>
          </a:p>
        </p:txBody>
      </p:sp>
      <p:sp>
        <p:nvSpPr>
          <p:cNvPr id="1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Electrolyte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reased Na, K, Ca, Ph, Cl, and Mg</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Protein</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breast milk matures, protein decrease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mino acids are lower</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Fat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 calorie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iglycerides are variab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uman Milk</a:t>
            </a:r>
            <a:endParaRPr b="0" lang="en-US" sz="44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Premature Milk</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d protein</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d electrolyte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adequate protein, calcium, phosphorus, and vitamin D for premie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ed to supplement with human milk fortifier (2 packets/ 50ml = 24kcal/30m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verview</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tal Energy Expenditure &amp; Source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onatal Energy Expenditure &amp; Requirement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tein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t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rbohydrate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tamin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man Milk</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mula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enteral Nutri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uman Milk</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Benefit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reased IDDM, IBD, NEC, obesity</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reased infection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roved neurodevelopmental outcome</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Contraindications (in U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ection</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alactosemia</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g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tritional Supplements</a:t>
            </a:r>
            <a:endParaRPr b="0" lang="en-US" sz="4400" spc="-1" strike="noStrike">
              <a:solidFill>
                <a:srgbClr val="ffffff"/>
              </a:solidFill>
              <a:latin typeface="Tahoma"/>
            </a:endParaRPr>
          </a:p>
        </p:txBody>
      </p:sp>
      <p:sp>
        <p:nvSpPr>
          <p:cNvPr id="13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u="sng">
                <a:solidFill>
                  <a:srgbClr val="ffffff"/>
                </a:solidFill>
                <a:uFillTx/>
                <a:latin typeface="Tahoma"/>
              </a:rPr>
              <a:t>Preterm</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u="sng">
                <a:solidFill>
                  <a:srgbClr val="ffffff"/>
                </a:solidFill>
                <a:uFillTx/>
                <a:latin typeface="Tahoma"/>
              </a:rPr>
              <a:t>Full term</a:t>
            </a: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2400" spc="-1" strike="noStrike" u="sng">
                <a:solidFill>
                  <a:srgbClr val="ffffff"/>
                </a:solidFill>
                <a:uFillTx/>
                <a:latin typeface="Tahoma"/>
              </a:rPr>
              <a:t>BM</a:t>
            </a:r>
            <a:r>
              <a:rPr b="0" lang="en-US" sz="2400" spc="-1" strike="noStrike" u="sng">
                <a:solidFill>
                  <a:srgbClr val="ffffff"/>
                </a:solidFill>
                <a:uFillTx/>
                <a:latin typeface="Tahoma"/>
              </a:rPr>
              <a:t>	</a:t>
            </a:r>
            <a:r>
              <a:rPr b="0" lang="en-US" sz="2400" spc="-1" strike="noStrike" u="sng">
                <a:solidFill>
                  <a:srgbClr val="ffffff"/>
                </a:solidFill>
                <a:uFillTx/>
                <a:latin typeface="Tahoma"/>
              </a:rPr>
              <a:t>	</a:t>
            </a:r>
            <a:r>
              <a:rPr b="0" lang="en-US" sz="2400" spc="-1" strike="noStrike" u="sng">
                <a:solidFill>
                  <a:srgbClr val="ffffff"/>
                </a:solidFill>
                <a:uFillTx/>
                <a:latin typeface="Tahoma"/>
              </a:rPr>
              <a:t>P. Form</a:t>
            </a:r>
            <a:r>
              <a:rPr b="0" lang="en-US" sz="2400" spc="-1" strike="noStrike" u="sng">
                <a:solidFill>
                  <a:srgbClr val="ffffff"/>
                </a:solidFill>
                <a:uFillTx/>
                <a:latin typeface="Tahoma"/>
              </a:rPr>
              <a:t>	</a:t>
            </a:r>
            <a:r>
              <a:rPr b="0" lang="en-US" sz="2400" spc="-1" strike="noStrike" u="sng">
                <a:solidFill>
                  <a:srgbClr val="ffffff"/>
                </a:solidFill>
                <a:uFillTx/>
                <a:latin typeface="Tahoma"/>
              </a:rPr>
              <a:t>BM</a:t>
            </a:r>
            <a:r>
              <a:rPr b="0" lang="en-US" sz="2400" spc="-1" strike="noStrike" u="sng">
                <a:solidFill>
                  <a:srgbClr val="ffffff"/>
                </a:solidFill>
                <a:uFillTx/>
                <a:latin typeface="Tahoma"/>
              </a:rPr>
              <a:t>	</a:t>
            </a:r>
            <a:r>
              <a:rPr b="0" lang="en-US" sz="2400" spc="-1" strike="noStrike" u="sng">
                <a:solidFill>
                  <a:srgbClr val="ffffff"/>
                </a:solidFill>
                <a:uFillTx/>
                <a:latin typeface="Tahoma"/>
              </a:rPr>
              <a:t>    Formula</a:t>
            </a:r>
            <a:endParaRPr b="0" lang="en-US" sz="24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RON</a:t>
            </a:r>
            <a:r>
              <a:rPr b="0" lang="en-US" sz="2800" spc="-1" strike="noStrike">
                <a:solidFill>
                  <a:srgbClr val="ffffff"/>
                </a:solidFill>
                <a:latin typeface="Tahoma"/>
              </a:rPr>
              <a:t>	</a:t>
            </a:r>
            <a:r>
              <a:rPr b="0" lang="en-US" sz="2800" spc="-1" strike="noStrike">
                <a:solidFill>
                  <a:srgbClr val="ffffff"/>
                </a:solidFill>
                <a:latin typeface="Tahoma"/>
              </a:rPr>
              <a:t>	</a:t>
            </a:r>
            <a:r>
              <a:rPr b="0" lang="en-US" sz="2000" spc="-1" strike="noStrike">
                <a:solidFill>
                  <a:srgbClr val="ffffff"/>
                </a:solidFill>
                <a:latin typeface="Tahoma"/>
              </a:rPr>
              <a:t>2w-2mos</a:t>
            </a:r>
            <a:r>
              <a:rPr b="0" lang="en-US" sz="2000" spc="-1" strike="noStrike">
                <a:solidFill>
                  <a:srgbClr val="ffffff"/>
                </a:solidFill>
                <a:latin typeface="Tahoma"/>
              </a:rPr>
              <a:t>	</a:t>
            </a:r>
            <a:r>
              <a:rPr b="0" lang="en-US" sz="2000" spc="-1" strike="noStrike">
                <a:solidFill>
                  <a:srgbClr val="ffffff"/>
                </a:solidFill>
                <a:latin typeface="Tahoma"/>
              </a:rPr>
              <a:t>Fe Fortified</a:t>
            </a:r>
            <a:r>
              <a:rPr b="0" lang="en-US" sz="2000" spc="-1" strike="noStrike">
                <a:solidFill>
                  <a:srgbClr val="ffffff"/>
                </a:solidFill>
                <a:latin typeface="Tahoma"/>
              </a:rPr>
              <a:t>	</a:t>
            </a:r>
            <a:r>
              <a:rPr b="0" lang="en-US" sz="2000" spc="-1" strike="noStrike">
                <a:solidFill>
                  <a:srgbClr val="ffffff"/>
                </a:solidFill>
                <a:latin typeface="Tahoma"/>
              </a:rPr>
              <a:t>6mos</a:t>
            </a:r>
            <a:r>
              <a:rPr b="0" lang="en-US" sz="2000" spc="-1" strike="noStrike">
                <a:solidFill>
                  <a:srgbClr val="ffffff"/>
                </a:solidFill>
                <a:latin typeface="Tahoma"/>
              </a:rPr>
              <a:t>	</a:t>
            </a:r>
            <a:r>
              <a:rPr b="0" lang="en-US" sz="2000" spc="-1" strike="noStrike">
                <a:solidFill>
                  <a:srgbClr val="ffffff"/>
                </a:solidFill>
                <a:latin typeface="Tahoma"/>
              </a:rPr>
              <a:t>    Fe Fortified</a:t>
            </a:r>
            <a:endParaRPr b="0" lang="en-US" sz="20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4 mg/kg/day)</a:t>
            </a:r>
            <a:endParaRPr b="0" lang="en-US" sz="10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tamins</a:t>
            </a:r>
            <a:r>
              <a:rPr b="0" lang="en-US" sz="2800" spc="-1" strike="noStrike">
                <a:solidFill>
                  <a:srgbClr val="ffffff"/>
                </a:solidFill>
                <a:latin typeface="Tahoma"/>
              </a:rPr>
              <a:t>	</a:t>
            </a:r>
            <a:r>
              <a:rPr b="0" lang="en-US" sz="2400" spc="-1" strike="noStrike">
                <a:solidFill>
                  <a:srgbClr val="ffffff"/>
                </a:solidFill>
                <a:latin typeface="Tahoma"/>
              </a:rPr>
              <a:t>HMF (ICN)</a:t>
            </a:r>
            <a:r>
              <a:rPr b="0" lang="en-US" sz="2400" spc="-1" strike="noStrike">
                <a:solidFill>
                  <a:srgbClr val="ffffff"/>
                </a:solidFill>
                <a:latin typeface="Tahoma"/>
              </a:rPr>
              <a:t>	</a:t>
            </a:r>
            <a:r>
              <a:rPr b="0" lang="en-US" sz="2400" spc="-1" strike="noStrike">
                <a:solidFill>
                  <a:srgbClr val="ffffff"/>
                </a:solidFill>
                <a:latin typeface="Tahoma"/>
              </a:rPr>
              <a:t>None</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Vit D</a:t>
            </a:r>
            <a:r>
              <a:rPr b="0" lang="en-US" sz="2400" spc="-1" strike="noStrike">
                <a:solidFill>
                  <a:srgbClr val="ffffff"/>
                </a:solidFill>
                <a:latin typeface="Tahoma"/>
              </a:rPr>
              <a:t>	</a:t>
            </a:r>
            <a:r>
              <a:rPr b="0" lang="en-US" sz="2400" spc="-1" strike="noStrike">
                <a:solidFill>
                  <a:srgbClr val="ffffff"/>
                </a:solidFill>
                <a:latin typeface="Tahoma"/>
              </a:rPr>
              <a:t>    None</a:t>
            </a:r>
            <a:endParaRPr b="0" lang="en-US" sz="24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1000" spc="-1" strike="noStrike">
                <a:solidFill>
                  <a:srgbClr val="ffffff"/>
                </a:solidFill>
                <a:latin typeface="Tahoma"/>
              </a:rPr>
              <a:t>(200IU/day)</a:t>
            </a:r>
            <a:endParaRPr b="0" lang="en-US" sz="1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luoride    </a:t>
            </a:r>
            <a:r>
              <a:rPr b="0" lang="en-US" sz="2800" spc="-1" strike="noStrike">
                <a:solidFill>
                  <a:srgbClr val="ffffff"/>
                </a:solidFill>
                <a:latin typeface="Wingdings"/>
                <a:ea typeface="Wingdings"/>
              </a:rPr>
              <a:t></a:t>
            </a:r>
            <a:r>
              <a:rPr b="0" lang="en-US" sz="2800" spc="-1" strike="noStrike">
                <a:solidFill>
                  <a:srgbClr val="ffffff"/>
                </a:solidFill>
                <a:latin typeface="Tahoma"/>
              </a:rPr>
              <a:t>----------after 6 months---------------</a:t>
            </a:r>
            <a:r>
              <a:rPr b="0" lang="en-US" sz="2800" spc="-1" strike="noStrike">
                <a:solidFill>
                  <a:srgbClr val="ffffff"/>
                </a:solidFill>
                <a:latin typeface="Wingdings"/>
                <a:ea typeface="Wingdings"/>
              </a:rPr>
              <a:t></a:t>
            </a:r>
            <a:endParaRPr b="0" lang="en-US" sz="28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0.25-0.5 mg/day)</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ormulas</a:t>
            </a:r>
            <a:endParaRPr b="0" lang="en-US" sz="4400" spc="-1" strike="noStrike">
              <a:solidFill>
                <a:srgbClr val="ffffff"/>
              </a:solidFill>
              <a:latin typeface="Tahoma"/>
            </a:endParaRPr>
          </a:p>
        </p:txBody>
      </p:sp>
      <p:sp>
        <p:nvSpPr>
          <p:cNvPr id="133" name="PlaceHolder 2"/>
          <p:cNvSpPr>
            <a:spLocks noGrp="1"/>
          </p:cNvSpPr>
          <p:nvPr>
            <p:ph/>
          </p:nvPr>
        </p:nvSpPr>
        <p:spPr>
          <a:xfrm>
            <a:off x="304920" y="1600200"/>
            <a:ext cx="40384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assification by Carbohydrate Sourc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134" name=""/>
          <p:cNvGraphicFramePr/>
          <p:nvPr/>
        </p:nvGraphicFramePr>
        <p:xfrm>
          <a:off x="4191120" y="1447920"/>
          <a:ext cx="4038480" cy="5118120"/>
        </p:xfrm>
        <a:graphic>
          <a:graphicData uri="http://schemas.openxmlformats.org/drawingml/2006/table">
            <a:tbl>
              <a:tblPr/>
              <a:tblGrid>
                <a:gridCol w="2019240"/>
                <a:gridCol w="2019240"/>
              </a:tblGrid>
              <a:tr h="1117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ype of Carbohydrat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mula</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ctos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famil, Neosure, Similac</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crose and glucose polymer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imentum, Isomil, Portagen</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8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lucose polymer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famil Lactofree, Neocate, Nutramigen, Pregestimi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emature Formulas</a:t>
            </a: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Similac Special Care and Enfamil Premature Lipil</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4kcal/30 mL or 20kcal/30mL</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duced lactose (50%) and glucose polymer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 MCT, ARA and DHA added</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er protein content</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er calcium and phosphorus content</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caloric density</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in infants less than 1800g or 32 weeks G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emature Discharge Formulas</a:t>
            </a:r>
            <a:endParaRPr b="0" lang="en-US" sz="4400" spc="-1" strike="noStrike">
              <a:solidFill>
                <a:srgbClr val="ffffff"/>
              </a:solidFill>
              <a:latin typeface="Tahoma"/>
            </a:endParaRPr>
          </a:p>
        </p:txBody>
      </p:sp>
      <p:sp>
        <p:nvSpPr>
          <p:cNvPr id="13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Neosure or Enfacare Lipil</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2 kcal/30mL</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d protein </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d calcium and phosphorus content</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d caloric content</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ve until 9 months PC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PN</a:t>
            </a:r>
            <a:endParaRPr b="0" lang="en-US" sz="4400" spc="-1" strike="noStrike">
              <a:solidFill>
                <a:srgbClr val="ffffff"/>
              </a:solidFill>
              <a:latin typeface="Tahoma"/>
            </a:endParaRPr>
          </a:p>
        </p:txBody>
      </p:sp>
      <p:sp>
        <p:nvSpPr>
          <p:cNvPr id="14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ommend 80-90 kcal/kg/da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calories are provided by lipids and glucos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lucose infusion rate: 6-8mg/kg/mi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GIR: </a:t>
            </a:r>
            <a:r>
              <a:rPr b="0" lang="en-US" sz="3200" spc="-1" strike="noStrike" u="sng">
                <a:solidFill>
                  <a:srgbClr val="ffffff"/>
                </a:solidFill>
                <a:uFillTx/>
                <a:latin typeface="Tahoma"/>
              </a:rPr>
              <a:t>0.167 x concentration x rat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weigh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PN</a:t>
            </a:r>
            <a:endParaRPr b="0" lang="en-US" sz="4400" spc="-1" strike="noStrike">
              <a:solidFill>
                <a:srgbClr val="ffffff"/>
              </a:solidFill>
              <a:latin typeface="Tahoma"/>
            </a:endParaRPr>
          </a:p>
        </p:txBody>
      </p:sp>
      <p:sp>
        <p:nvSpPr>
          <p:cNvPr id="142" name="PlaceHolder 2"/>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Carbohydrates</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ly glucose</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g CHO provides 3.4 kcal</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 increasing glucose concentration, increasing osmolarity</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uld provide 55-65% of total kilocalories</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ximum concentration is 12.5% peripherall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PN</a:t>
            </a:r>
            <a:endParaRPr b="0" lang="en-US" sz="4400" spc="-1" strike="noStrike">
              <a:solidFill>
                <a:srgbClr val="ffffff"/>
              </a:solidFill>
              <a:latin typeface="Tahoma"/>
            </a:endParaRPr>
          </a:p>
        </p:txBody>
      </p:sp>
      <p:sp>
        <p:nvSpPr>
          <p:cNvPr id="14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Fat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g fat provides 9 kcal (20% solution provides 2 kcal/1 ml)</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ould provide 30-50% of total calorie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mit to 3g/kg/day</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 serum TG level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PN</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roteins</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oal is to prevent negative energy and nitrogen balance</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quired early in life to achieve goals</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g of protein provides 4 kcal</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ould provide 7-10% of total calorie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Calcium and Phosphorus</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tio should be 1.3:1 to 1.7:1</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sk of bone demineralization</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ysteine prevents precipita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 descr=""/>
          <p:cNvPicPr/>
          <p:nvPr/>
        </p:nvPicPr>
        <p:blipFill>
          <a:blip r:embed="rId2"/>
          <a:stretch/>
        </p:blipFill>
        <p:spPr>
          <a:xfrm>
            <a:off x="457200" y="291600"/>
            <a:ext cx="8229600" cy="5727960"/>
          </a:xfrm>
          <a:prstGeom prst="rect">
            <a:avLst/>
          </a:prstGeom>
          <a:ln w="0">
            <a:noFill/>
          </a:ln>
        </p:spPr>
      </p:pic>
      <p:pic>
        <p:nvPicPr>
          <p:cNvPr id="148" name="" descr=""/>
          <p:cNvPicPr/>
          <p:nvPr/>
        </p:nvPicPr>
        <p:blipFill>
          <a:blip r:embed="rId3"/>
          <a:stretch/>
        </p:blipFill>
        <p:spPr>
          <a:xfrm>
            <a:off x="1905120" y="304920"/>
            <a:ext cx="5046480" cy="5840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etal Energy</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imated Fetal Energy Expediture = 35 to 55 kcal/kg/day</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ergy Sourc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1. Maternal glucose (2/3)</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2. Placental lactate (1/4)</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3. Maternal amino acid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ample TPN for  Just Born </a:t>
            </a:r>
            <a:br>
              <a:rPr sz="4400"/>
            </a:br>
            <a:r>
              <a:rPr b="0" lang="en-US" sz="4400" spc="-1" strike="noStrike">
                <a:solidFill>
                  <a:srgbClr val="ffffff"/>
                </a:solidFill>
                <a:latin typeface="Tahoma"/>
              </a:rPr>
              <a:t>	</a:t>
            </a:r>
            <a:r>
              <a:rPr b="0" lang="en-US" sz="4400" spc="-1" strike="noStrike">
                <a:solidFill>
                  <a:srgbClr val="ffffff"/>
                </a:solidFill>
                <a:latin typeface="Tahoma"/>
              </a:rPr>
              <a:t>	</a:t>
            </a:r>
            <a:r>
              <a:rPr b="0" lang="en-US" sz="4400" spc="-1" strike="noStrike">
                <a:solidFill>
                  <a:srgbClr val="ffffff"/>
                </a:solidFill>
                <a:latin typeface="Tahoma"/>
              </a:rPr>
              <a:t>LBW Infants</a:t>
            </a:r>
            <a:br>
              <a:rPr sz="4400"/>
            </a:br>
            <a:r>
              <a:rPr b="0" lang="en-US" sz="1400" spc="-1" strike="noStrike">
                <a:solidFill>
                  <a:srgbClr val="ffffff"/>
                </a:solidFill>
                <a:latin typeface="Tahoma"/>
              </a:rPr>
              <a:t>Adapted from Nutrition and Gastroenterology Clinical Review Committee, 2002</a:t>
            </a:r>
            <a:endParaRPr b="0" lang="en-US" sz="1400" spc="-1" strike="noStrike">
              <a:solidFill>
                <a:srgbClr val="ffffff"/>
              </a:solidFill>
              <a:latin typeface="Tahoma"/>
            </a:endParaRPr>
          </a:p>
        </p:txBody>
      </p:sp>
      <p:graphicFrame>
        <p:nvGraphicFramePr>
          <p:cNvPr id="150" name=""/>
          <p:cNvGraphicFramePr/>
          <p:nvPr/>
        </p:nvGraphicFramePr>
        <p:xfrm>
          <a:off x="457200" y="1905120"/>
          <a:ext cx="8229600" cy="4114800"/>
        </p:xfrm>
        <a:graphic>
          <a:graphicData uri="http://schemas.openxmlformats.org/drawingml/2006/table">
            <a:tbl>
              <a:tblPr/>
              <a:tblGrid>
                <a:gridCol w="4114800"/>
                <a:gridCol w="4114800"/>
              </a:tblGrid>
              <a:tr h="588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mponen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Quantity</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mino Acid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4g/100mL</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lucos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10g/100mL</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cium gluconat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0-650mg/100mL</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9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VI-Pediatric</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mL/kg/day</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5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pari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U/mL</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pid</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mL/kg/day</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04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Monitoring Parenteral Nutrition </a:t>
            </a: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Daily</a:t>
            </a:r>
            <a:endParaRPr b="0" lang="en-US" sz="40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igh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rine for glycosuri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ake and Outpu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um electrolytes (initiall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um glucose (advanced dextros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um triglycerides (advancing lipid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04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Monitoring Parenteral Nutrition </a:t>
            </a:r>
            <a:br>
              <a:rPr sz="4000"/>
            </a:b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   Weekly</a:t>
            </a:r>
            <a:endParaRPr b="0" lang="en-US" sz="40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um glucose, electrolytes, Ca, Phos, and Mg</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um albumin and total protein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ver function tests, bilirubin (T &amp; 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um triglycerid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lete blood cou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TPN Supplements for </a:t>
            </a:r>
            <a:br>
              <a:rPr sz="4000"/>
            </a:br>
            <a:r>
              <a:rPr b="0" lang="en-US" sz="4000" spc="-1" strike="noStrike">
                <a:solidFill>
                  <a:srgbClr val="ffffff"/>
                </a:solidFill>
                <a:latin typeface="Tahoma"/>
              </a:rPr>
              <a:t>	</a:t>
            </a:r>
            <a:r>
              <a:rPr b="0" lang="en-US" sz="4000" spc="-1" strike="noStrike">
                <a:solidFill>
                  <a:srgbClr val="ffffff"/>
                </a:solidFill>
                <a:latin typeface="Tahoma"/>
              </a:rPr>
              <a:t>   Premature Infants</a:t>
            </a:r>
            <a:endParaRPr b="0" lang="en-US" sz="40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sulin infusion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tamin 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ysteine hydrochlorid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rnitin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lutamin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PN</a:t>
            </a: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omplications</a:t>
            </a:r>
            <a:endParaRPr b="0" lang="en-US" sz="3200" spc="-1" strike="noStrike">
              <a:solidFill>
                <a:srgbClr val="ffffff"/>
              </a:solidFill>
              <a:latin typeface="Tahoma"/>
            </a:endParaRPr>
          </a:p>
          <a:p>
            <a:pPr marL="339480" indent="-3394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olestasis</a:t>
            </a:r>
            <a:endParaRPr b="0" lang="en-US" sz="3200" spc="-1" strike="noStrike">
              <a:solidFill>
                <a:srgbClr val="ffffff"/>
              </a:solidFill>
              <a:latin typeface="Tahoma"/>
            </a:endParaRPr>
          </a:p>
          <a:p>
            <a:pPr marL="339480" indent="-3394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tabolic Acidosis</a:t>
            </a:r>
            <a:endParaRPr b="0" lang="en-US" sz="3200" spc="-1" strike="noStrike">
              <a:solidFill>
                <a:srgbClr val="ffffff"/>
              </a:solidFill>
              <a:latin typeface="Tahoma"/>
            </a:endParaRPr>
          </a:p>
          <a:p>
            <a:pPr marL="339480" indent="-3394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yperglycemia</a:t>
            </a:r>
            <a:endParaRPr b="0" lang="en-US" sz="3200" spc="-1" strike="noStrike">
              <a:solidFill>
                <a:srgbClr val="ffffff"/>
              </a:solidFill>
              <a:latin typeface="Tahoma"/>
            </a:endParaRPr>
          </a:p>
          <a:p>
            <a:pPr marL="339480" indent="-3394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tabolic Bone Disease</a:t>
            </a:r>
            <a:endParaRPr b="0" lang="en-US" sz="3200" spc="-1" strike="noStrike">
              <a:solidFill>
                <a:srgbClr val="ffffff"/>
              </a:solidFill>
              <a:latin typeface="Tahoma"/>
            </a:endParaRPr>
          </a:p>
          <a:p>
            <a:pPr marL="339480" indent="-3394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socomial Infections</a:t>
            </a:r>
            <a:endParaRPr b="0" lang="en-US" sz="3200" spc="-1" strike="noStrike">
              <a:solidFill>
                <a:srgbClr val="ffffff"/>
              </a:solidFill>
              <a:latin typeface="Tahoma"/>
            </a:endParaRPr>
          </a:p>
          <a:p>
            <a:pPr marL="339480" indent="-3394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lications of f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arly Feeding for Preterm and Sick Infants</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gin at day 2-3 if stable</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man milk 12-24 mL/kg/day</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duced hospital stay</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duced sepsis and sepsis evaluations</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duced days to full feedings</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calcium and phosphorus absorption</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 increased incidence of NEC</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wer infants with central venous catheter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eonatal Energy</a:t>
            </a: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Form of Energy</a:t>
            </a:r>
            <a:r>
              <a:rPr b="1" lang="en-US" sz="2400" spc="-1" strike="noStrike" u="sng">
                <a:solidFill>
                  <a:srgbClr val="ffffff"/>
                </a:solidFill>
                <a:uFillTx/>
                <a:latin typeface="Tahoma"/>
              </a:rPr>
              <a:t>	</a:t>
            </a:r>
            <a:r>
              <a:rPr b="1" lang="en-US" sz="2400" spc="-1" strike="noStrike" u="sng">
                <a:solidFill>
                  <a:srgbClr val="ffffff"/>
                </a:solidFill>
                <a:uFillTx/>
                <a:latin typeface="Tahoma"/>
              </a:rPr>
              <a:t>	</a:t>
            </a:r>
            <a:r>
              <a:rPr b="1" lang="en-US" sz="2400" spc="-1" strike="noStrike" u="sng">
                <a:solidFill>
                  <a:srgbClr val="ffffff"/>
                </a:solidFill>
                <a:uFillTx/>
                <a:latin typeface="Tahoma"/>
              </a:rPr>
              <a:t>	</a:t>
            </a:r>
            <a:r>
              <a:rPr b="1" lang="en-US" sz="2400" spc="-1" strike="noStrike" u="sng">
                <a:solidFill>
                  <a:srgbClr val="ffffff"/>
                </a:solidFill>
                <a:uFillTx/>
                <a:latin typeface="Tahoma"/>
              </a:rPr>
              <a:t>Caloric Expenditur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sting Metabolic Rate*</a:t>
            </a:r>
            <a:r>
              <a:rPr b="1" lang="en-US" sz="2400" spc="-1" strike="noStrike">
                <a:solidFill>
                  <a:srgbClr val="ffffff"/>
                </a:solidFill>
                <a:latin typeface="Tahoma"/>
              </a:rPr>
              <a:t>	</a:t>
            </a:r>
            <a:r>
              <a:rPr b="1" lang="en-US" sz="2400" spc="-1" strike="noStrike">
                <a:solidFill>
                  <a:srgbClr val="ffffff"/>
                </a:solidFill>
                <a:latin typeface="Tahoma"/>
              </a:rPr>
              <a:t>50 kcal/kg/da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ctivity</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15 kcal/kg/da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ld Stress</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10 kcal/kg/da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Nutrition Processing</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50 kcal/kg/da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otal</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120 kcal/kg/da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oteins</a:t>
            </a:r>
            <a:endParaRPr b="0" lang="en-US" sz="4400" spc="-1" strike="noStrike">
              <a:solidFill>
                <a:srgbClr val="ffffff"/>
              </a:solidFill>
              <a:latin typeface="Tahoma"/>
            </a:endParaRPr>
          </a:p>
        </p:txBody>
      </p:sp>
      <p:graphicFrame>
        <p:nvGraphicFramePr>
          <p:cNvPr id="99" name=""/>
          <p:cNvGraphicFramePr/>
          <p:nvPr/>
        </p:nvGraphicFramePr>
        <p:xfrm>
          <a:off x="457200" y="1905120"/>
          <a:ext cx="8229240" cy="4114440"/>
        </p:xfrm>
        <a:graphic>
          <a:graphicData uri="http://schemas.openxmlformats.org/drawingml/2006/table">
            <a:tbl>
              <a:tblPr/>
              <a:tblGrid>
                <a:gridCol w="4114440"/>
                <a:gridCol w="4114800"/>
              </a:tblGrid>
              <a:tr h="822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Milk Sourc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Whey-to-Casein Ratio</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2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lostrum</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80:2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3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ure Milk</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5:4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mula</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0:8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term Formula</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0:4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ats</a:t>
            </a: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cental transfer of essential and non-essential fatty acid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t stores are formed by lipogenesis from glucos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poorly digested macronutrie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ats</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Tahoma"/>
              </a:rPr>
              <a:t>Types of Fatty Acids</a:t>
            </a:r>
            <a:endParaRPr b="0" lang="en-US" sz="32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earic, Oleic, and Palmitic are common</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noleic and Linolenic are the most common</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ng-chain polyunsaturated (LCPUFA)</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rt and Medium Chain Triglycerides (MC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arbohydrates</a:t>
            </a: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Lactose</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hances absorption of calcium and magnesium</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motes intestinal growth of lactobacill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tamins</a:t>
            </a:r>
            <a:endParaRPr b="0" lang="en-US" sz="44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Water Soluble Vitamin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tamin B Complex and Vitamin C</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nerally not formed from precursor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ily intake required</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accumulation (except Vitamin B</a:t>
            </a:r>
            <a:r>
              <a:rPr b="0" lang="en-US" sz="3200" spc="-1" strike="noStrike" baseline="-25000">
                <a:solidFill>
                  <a:srgbClr val="ffffff"/>
                </a:solidFill>
                <a:latin typeface="Tahoma"/>
              </a:rPr>
              <a:t>12</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oss placenta by active transpor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0T18:58:59Z</dcterms:created>
  <dc:creator>Scott Levy</dc:creator>
  <dc:description/>
  <dc:language>en-US</dc:language>
  <cp:lastModifiedBy>Health Services Department</cp:lastModifiedBy>
  <dcterms:modified xsi:type="dcterms:W3CDTF">2010-06-12T06:14:30Z</dcterms:modified>
  <cp:revision>23</cp:revision>
  <dc:subject/>
  <dc:title>Nutrition</dc:title>
</cp:coreProperties>
</file>