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46F-891F-4FF8-9307-EBE1C9B2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4DA-ABFC-4587-BEAB-E4A53AD3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D0E-5EC9-44BD-B4D1-8CE9D2CA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AB4-25BF-41DE-889E-9DE1758C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CA3C-81C4-43DD-B837-A5929025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CDE5-C4B7-443F-92F4-39BE9E22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04F0-0635-40F0-9E9E-D7644AFD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4666-298C-45F0-A8BC-47778A04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CBF-4A66-4010-AC1D-F95A98CC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5CC4-4159-405F-B627-D53C760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E6AC-AA7B-4344-AF5F-4A624234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541-A4C3-4E0B-B116-7A9C0BD3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D6CA-1E42-4D04-9DA0-BA9CBA3F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1D2F-42B2-4990-80E8-A743F6C7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5BEC-BD5B-4A53-BE62-CAA0958E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355-5CE5-43F3-9A67-2EFE5910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1BA-0627-480A-9BED-2DD847D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A38-8C79-4729-B43F-8166961D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767-18ED-40D0-B140-3F1AB6D9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2FD-E386-456D-9667-DB8157F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786-69F9-4C48-BF20-79546726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F35-5029-4667-BAF0-A7AD868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72C-8C66-4D9E-B086-46EB734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110-19B2-4DB4-86A3-390DC32C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DE85-48A0-417A-BC41-D2E1DA927048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D991-71CC-4BE7-ADD0-7E177904B3E3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-288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Children Servic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rehensiv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arbara Sheehy, Administrat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19728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Medical Therapy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the age of 2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ho are permanent residents of California or who are enrolled in public scho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cerebral palsy or certain other neuromuscular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84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rocess for entering the CCS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condition is fou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application is completed by fami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eligibility is determi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services are prov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132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CS relat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-Cal and other health pl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 is California’s Medicaid program and provides health insurance for low- income families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several types of Medi-Cal including fee-for-service, Medi-Cal managed care, share of cost, and waiver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arv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the 1990’s California began to require many children in Medi-Cal to join managed care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enrolled in Medi-Cal may have primary care provided through a managed care plan, while services for their CCS eligible conditions are provided through  CCS, “carve out”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8982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ifornia’s State Children’s Health Insurance Progra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s health benefits to children of low-income families who do not qualify for Medi-Cal (higher income allow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70% of California’s  children in CCS are covered by Medi-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-Cal pays for their CCS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3% of California’s CCS children are covered by Healthy Famil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7% are “CCS only” (paid by State and Co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Medi-Cal or  Healthy Families coverage receive primary care through their insurance plan with CCS covering only the care related to their CCS medical cond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other private insurance may also have CCS as a secondary insurance for care not covered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220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oordination with other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ular Education/Special Edu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rly Star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RE Parent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ly–centered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rdinated, collaborative, community-based and culturally compet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ful and dignified treat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censored information about your child’s medical condition and other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fidentiality of information provided to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ly processing of eligibility determinations and treatment authoriz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plete and sign CCS program for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ly for and cooperate with Medi-Cal if asked to do so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y any required program f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appoint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health insurance when poss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CCS inform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ly CCS approved MD for CCS condi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1520" y="609120"/>
            <a:ext cx="6095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participants’ understanding of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lifornia Children Services (CCS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agnostic and Treatment Program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Therapy Progra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services provided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is eligible for CC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is the proces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CCS relates to Medi-Cal and other health pl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CS responsibility to clients, families and the commun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family disagrees with treatment dec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ust be in wri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one – informal review with County CCS off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two – formal meeting, Fair Hearing, with hearing office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Home” is a concept developed by the American Academy of Pediatrics to improve coordination of care for children with special health care needs.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ildren and families receive care from a primary care provider whom they trust, acting in partnership with the family to identify and access medical and non-medical services needed to help children achieve their maximum potential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lifornia Children Servi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is a statewide program that arranges and pays for medical care for children with  disabling medical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tablished in 1927 by the California Legisl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rrently provides services to 175,000 children in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and Treat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CS medical condition is suspected CCS can pay for evaluation to determine diagn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hild has CCS eligible medical condition, CCS may provid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octor visits, hospitalization, surgery, occupational and physical therapy, lab tests, x-rays, equipment, medicine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gan transplants, transport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cal Case Management is provided for every child in CC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termine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aluate needs for specific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ntify appropriate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rdinate care with families and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medically necessary c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1320"/>
            <a:ext cx="7315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Treatment Plan, Providers and Fac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treatment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experts/speci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CCS approved hospitals and facil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pecial Care Centers – offers team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45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Treatment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21 years of 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manent residents of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less than $40,000 per ye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over $40,000 but cost of medical care will exceed 20% of family incom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ysically disabling medical conditi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Therapy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Physical and Occupational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Medical Therapy Conferen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r children with cerebral palsy and other neurological or musculoskeletal disord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cated in Medical Therapy Units in public schools in El Cerrito, Alamo, Antioch and Conco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3:27:44Z</dcterms:created>
  <dc:creator>barbara sheehy</dc:creator>
  <dc:description/>
  <dc:language>en-US</dc:language>
  <cp:lastModifiedBy>barbara sheehy</cp:lastModifiedBy>
  <dcterms:modified xsi:type="dcterms:W3CDTF">2008-12-02T22:16:19Z</dcterms:modified>
  <cp:revision>55</cp:revision>
  <dc:subject/>
  <dc:title>PowerPoint Presentation</dc:title>
</cp:coreProperties>
</file>