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5DE-C055-4A31-B6F0-18941D42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769-B07D-468D-A11D-6D9A1048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439-660C-484C-A968-9E077620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06B-0BCF-4A61-AE1E-9BB78C32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6F42-9DFF-4314-A051-84E02AB9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ACFE-EE2A-4F4A-9A4A-DC099DCE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F4A5-3291-45E3-A195-C6C9AD4C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8EE6-2FF0-46C8-95F8-1DE37D86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8B52-B4F9-4DD5-BF2C-1EAA18ED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67D0-93AE-4F9D-9FF2-8906FE3A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09A5-4825-468C-B476-82C03882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150-0934-4C6B-A2CF-21992A66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3109-DE2B-4B34-BFC2-82F432C7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5075-A0DF-46B5-929B-7484D85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5D8D-C618-4FD6-8DD4-C6963783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A098-30CD-4DF4-9F76-E1F1CDC5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7162-A084-4A98-8E89-C35E6CEB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F7B-CBF1-4B88-A703-DD57BF0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FB7-E917-4A0E-97E1-856C249C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6B8-9B23-4D67-95D1-02CE932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107-CDBD-400A-B955-09D33E69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9CF-5F9E-4ECD-8167-B009B314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BCF-E42E-4AC5-B8CE-E4190C5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57B-F8DD-4C77-BB87-F4A4689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6F95-539B-445E-90DE-7D9A04A235F4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8734-8755-4E63-8E3E-4094FDB78B5B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-288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fornia Children Services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rehensiv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arbara Sheehy, Administrat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-19728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Medical Therapy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the age of 2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ho are permanent residents of California or who are enrolled in public scho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cerebral palsy or certain other neuromuscular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84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rocess for entering the CCS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condition is foun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erral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application is completed by fami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’s eligibility is determin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services are provid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132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CS relat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-Cal and other health pl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-Cal is California’s Medicaid program and provides health insurance for low- income families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re are several types of Medi-Cal including fee-for-service, Medi-Cal managed care, share of cost, and waiver progra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arve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 the 1990’s California began to require many children in Medi-Cal to join managed care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enrolled in Medi-Cal may have primary care provided through a managed care plan, while services for their CCS eligible conditions are provided through  CCS, “carve out”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8982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ifornia’s State Children’s Health Insurance Progra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des health benefits to children of low-income families who do not qualify for Medi-Cal (higher income allowed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70% of California’s  children in CCS are covered by Medi-C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-Cal pays for their CCS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roximately 3% of California’s CCS children are covered by Healthy Famil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27% are “CCS only” (paid by State and Co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Medi-Cal or  Healthy Families coverage receive primary care through their insurance plan with CCS covering only the care related to their CCS medical condi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with other private insurance may also have CCS as a secondary insurance for care not covered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6220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S Coordination with other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ular Education/Special Edu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rly Start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RE Parent Network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amily–centered ca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ordinated, collaborative, community-based and culturally compet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pectful and dignified treat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censored information about your child’s medical condition and other resourc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nfidentiality of information provided to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imely processing of eligibility determinations and treatment authoriza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’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mplete and sign CCS program form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pply for and cooperate with Medi-Cal if asked to do so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y any required program fe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appoint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health insurance when possibl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eep CCS inform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only CCS approved MD for CCS condi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71520" y="609120"/>
            <a:ext cx="609588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participants’ understanding of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lifornia Children Services (CCS)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agnostic and Treatment Program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Therapy Progra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cific services provided by C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o is eligible for CC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hat is the proces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ow CCS relates to Medi-Cal and other health pla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CS responsibility to clients, families and the communit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family disagrees with treatment dec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ust be in wri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one – informal review with County CCS offi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ep two – formal meeting, Fair Hearing, with hearing office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825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l Home” is a concept developed by the American Academy of Pediatrics to improve coordination of care for children with special health care needs.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ildren and families receive care from a primary care provider whom they trust, acting in partnership with the family to identify and access medical and non-medical services needed to help children achieve their maximum potential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lifornia Children Servi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CS is a statewide program that arranges and pays for medical care for children with  disabling medical condi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stablished in 1927 by the California Legisl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urrently provides services to 175,000 children in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9840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 and Treatmen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AGNOST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CS medical condition is suspected CCS can pay for evaluation to determine diagnosi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financial eligibility requi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en child has CCS eligible medical condition, CCS may provide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octor visits, hospitalization, surgery, occupational and physical therapy, lab tests, x-rays, equipment, medicine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gan transplants, transport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7538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cal Case Management is provided for every child in CC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termine elig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aluate needs for specific servic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dentify appropriate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ordinate care with families and provid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medically necessary ca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1320"/>
            <a:ext cx="7315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 Treatment Plan, Providers and Fac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view treatment pla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experts/specialis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ervices to CCS approved hospitals and faciliti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uthorize Special Care Centers – offers team approach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457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eligible for CCS Treatment Progr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ildren under 21 years of ag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manent residents of Californi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less than $40,000 per yea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mily income over $40,000 but cost of medical care will exceed 20% of family incom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hysically disabling medical conditio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Therapy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Physical and Occupational Therap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vides Medical Therapy Conferenc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r children with cerebral palsy and other neurological or musculoskeletal disorde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cated in Medical Therapy Units in public schools in El Cerrito, Alamo, Antioch and Concor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3:27:44Z</dcterms:created>
  <dc:creator>barbara sheehy</dc:creator>
  <dc:description/>
  <dc:language>en-US</dc:language>
  <cp:lastModifiedBy>barbara sheehy</cp:lastModifiedBy>
  <dcterms:modified xsi:type="dcterms:W3CDTF">2008-12-02T22:16:19Z</dcterms:modified>
  <cp:revision>55</cp:revision>
  <dc:subject/>
  <dc:title>PowerPoint Presentation</dc:title>
</cp:coreProperties>
</file>