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3311-C914-4A0A-8E35-B19772165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E6C5-DC7B-494B-8A3D-1BB228944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952D-165E-4283-9D1B-2E19BF11A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3643-8AFE-448D-BD95-EAF192A12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7E652-EBAE-4567-A4F1-B790A3000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7AE9D-2363-4598-9772-4767189D4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3760D-0CBD-4BAB-BA13-6383B4279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3263C-97E4-44E0-9C7B-EF97164B1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65503-F67F-42F0-A8C3-EBABC05F4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73931-479F-4DD4-8FFF-F887399FA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CCFA6-3F7F-4F1F-A050-5825E44C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40FB-76CD-4462-BFDA-01BB0EABA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E7478-CE1D-4084-97D5-97B30DE4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B6E8E-5C7B-41C8-BF34-94CC72F7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16867-EEE9-449C-BD14-C783F9F5A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8A86B-47FB-462B-B67E-DA9D220C8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8E92C-B30B-4374-8570-18FF22340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5A28-FD56-48F1-8582-5285CBBF4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C6A4-1EBB-4A7C-9D72-27B4FC6F0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2C63-F256-48A7-B739-554F25511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5FDE-003A-4BED-9D59-8121C4477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83C1-BB98-4111-8B9F-6477E48AC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4162-B565-404D-9E85-DB0B1CCE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2666-F6BB-4EFB-8F90-CD49BBE8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03026"/>
                </a:gs>
                <a:gs pos="50000">
                  <a:srgbClr val="6a6954"/>
                </a:gs>
                <a:gs pos="100000">
                  <a:srgbClr val="303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2" name="Astonbnr" descr="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03301-0939-45CF-9737-D9F209165D90}" type="slidenum">
              <a:rPr b="0" lang="en-US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03026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55" name="Astonbnr" descr="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3C9C3-C66A-4E68-8345-7C56EB849FAE}" type="slidenum">
              <a:rPr b="0" lang="en-US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6520" y="-28800"/>
            <a:ext cx="7772400" cy="27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ifornia Children Services 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Comprehensive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Barbara Sheehy, Administrator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-19728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Eligible for CCS Medical Therapy Progra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hildren under the age of 21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hildren who are permanent residents of California or who are enrolled in public schoo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hildren with cerebral palsy or certain other neuromuscular condition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No financial eligibility requiremen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184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process for entering the CCS Progra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2743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hild’s condition is foun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eferral is mad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CS application is completed by family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hild’s eligibility is determine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CS services are provide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3132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es CCS relate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-Cal and other health pla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22093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edi-Ca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edi-Cal is California’s Medicaid program and provides health insurance for low- income families 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re are several types of Medi-Cal including fee-for-service, Medi-Cal managed care, share of cost, and waiver program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7480" y="75384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CS Carve 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In the 1990’s California began to require many children in Medi-Cal to join managed care plan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hildren enrolled in Medi-Cal may have primary care provided through a managed care plan, while services for their CCS eligible conditions are provided through  CCS, “carve out”  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57480" y="89820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althy Famil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alifornia’s State Children’s Health Insurance Program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rovides health benefits to children of low-income families who do not qualify for Medi-Cal (higher income allowed)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pproximately 70% of California’s  children in CCS are covered by Medi-Ca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Medi-Cal pays for their CCS car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pproximately 3% of California’s CCS children are covered by Healthy Famili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27% are “CCS only” (paid by State and Co)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hildren with Medi-Cal or  Healthy Families coverage receive primary care through their insurance plan with CCS covering only the care related to their CCS medical conditio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hildren with other private insurance may also have CCS as a secondary insurance for care not covered 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62208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CS Coordination with other pr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24379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egular Education/Special Educatio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arly Start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egional Center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ARE Parent Network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57480" y="82512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ies’ R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Family–centered car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oordinated, collaborative, community-based and culturally competen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Respectful and dignified treatmen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Uncensored information about your child’s medical condition and other resourc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onfidentiality of information provided to CC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Timely processing of eligibility determinations and treatment authorization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ies’ Responsi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omplete and sign CCS program form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pply for and cooperate with Medi-Cal if asked to do so by CC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ay any required program fe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Keep appointment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Use health insurance when possibl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Keep CCS informed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Use only CCS approved MD for CCS condition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71520" y="609120"/>
            <a:ext cx="6095880" cy="7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ncrease participants’ understanding of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alifornia Children Services (CCS)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Diagnostic and Treatment Program and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Medical Therapy Program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pecific services provided by CC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Who is eligible for CCS?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What is the process?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How CCS relates to Medi-Cal and other health plan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CS responsibility to clients, families and the community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7480" y="82512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e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If family disagrees with treatment decisio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ust be in writing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tep one – informal review with County CCS offic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tep two – formal meeting, Fair Hearing, with hearing officer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7480" y="82512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cal H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Medical Home” is a concept developed by the American Academy of Pediatrics to improve coordination of care for children with special health care needs. 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hildren and families receive care from a primary care provider whom they trust, acting in partnership with the family to identify and access medical and non-medical services needed to help children achieve their maximum potential.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57480" y="11440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69840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alifornia Children Services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22860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CS is a statewide program that arranges and pays for medical care for children with  disabling medical condition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stablished in 1927 by the California Legislatur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urrently provides services to 175,000 children in Californi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69840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nostic and Treatment Pr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2666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IAGNOSTIC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When CCS medical condition is suspected CCS can pay for evaluation to determine diagnosi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No financial eligibility require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914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REATMEN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When child has CCS eligible medical condition, CCS may provide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octor visits, hospitalization, surgery, occupational and physical therapy, lab tests, x-rays, equipment, medicine,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organ transplants, transportatio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57480" y="75384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edical Case Management is provided for every child in CC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etermine eligibility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valuate needs for specific service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Identify appropriate provider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oordinate care with families and provider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uthorize medically necessary car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31320"/>
            <a:ext cx="73152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ropriate Treatment Plan, Providers and Fac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2362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eview treatment plan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uthorize services to experts/specialist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uthorize services to CCS approved hospitals and facilitie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uthorize Special Care Centers – offers team approach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5457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eligible for CCS Treatment Progra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22860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hildren under 21 years of ag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ermanent residents of Californi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amily income less than $40,000 per year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amily income over $40,000 but cost of medical care will exceed 20% of family incom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hysically disabling medical condition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cal Therapy Pr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rovides Physical and Occupational Therapy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rovides Medical Therapy Conference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For children with cerebral palsy and other neurological or musculoskeletal disorder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ocated in Medical Therapy Units in public schools in El Cerrito, Alamo, Antioch and Concord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23:27:44Z</dcterms:created>
  <dc:creator>barbara sheehy</dc:creator>
  <dc:description/>
  <dc:language>en-US</dc:language>
  <cp:lastModifiedBy>barbara sheehy</cp:lastModifiedBy>
  <dcterms:modified xsi:type="dcterms:W3CDTF">2008-12-02T22:16:19Z</dcterms:modified>
  <cp:revision>55</cp:revision>
  <dc:subject/>
  <dc:title>PowerPoint Presentation</dc:title>
</cp:coreProperties>
</file>