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1C06-54A7-49C8-A493-1A399137C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B7D5-2F98-40BA-AE19-34520F24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391F-1D25-4204-B93E-C5A6F9C02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4421-F894-4DE7-8995-754600621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DAD2-EC34-4254-A0A4-78AF86FD6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7A86-0EEF-4812-BBB1-3155435F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E883-D3D4-49C4-B71A-FE00471C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7000-F728-4066-8A81-98FFBF6E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7C25-77D1-495A-8EDF-766B3313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5CAB-3464-421A-A8F6-5D48A25A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9109-416D-4ADE-9484-B4FE170E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5241-D5F5-4122-A311-D0977F36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977A-1A18-4EA3-BAAD-BEA1C4F6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29E0-BD6E-4DCF-ABE8-10E3DE98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9F65-0ACF-4B48-B69B-2F4225DB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AA09-ACC3-4F7A-8F8F-56BF245A1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C821-720F-47E4-BEF8-CED169A71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6FB5-FBCB-4456-9A28-E2A28092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59AD-7DC2-45F5-8784-123AD2F1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1C4F-F038-4886-939B-362EEE23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D767-B9AD-474F-B030-8CB66603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E825-30C1-43DB-96D1-1A3E5054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9F1D-1113-44BB-A75F-015C9468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3574-9103-45FE-9516-9761E703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Astonbnr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A892-8F45-4AC5-9988-6655D6CF3B41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Astonbnr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EE08-1BF4-4D3B-9DC8-EEFB4CDEF02B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520" y="-28800"/>
            <a:ext cx="777240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ifornia Children Services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omprehensive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arbara Sheehy, Administrato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-19728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Eligible for CCS Medical Therapy Progra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ren under the age of 21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ren who are permanent residents of California or who are enrolled in public schoo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ren with cerebral palsy or certain other neuromuscular condition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o financial eligibility requiremen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184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process for entering the CCS Progra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’s condition is foun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ferral is mad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CS application is completed by famil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’s eligibility is determin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CS services are provid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3132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CCS relate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-Cal and other health pla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i-Ca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i-Cal is California’s Medicaid program and provides health insurance for low- income families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re are several types of Medi-Cal including fee-for-service, Medi-Cal managed care, share of cost, and waiver program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7480" y="7538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CS Carve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n the 1990’s California began to require many children in Medi-Cal to join managed care plan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ren enrolled in Medi-Cal may have primary care provided through a managed care plan, while services for their CCS eligible conditions are provided through  CCS, “carve out” 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7480" y="8982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lthy Famil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alifornia’s State Children’s Health Insurance Progra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vides health benefits to children of low-income families who do not qualify for Medi-Cal (higher income allowed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pproximately 70% of California’s  children in CCS are covered by Medi-Ca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edi-Cal pays for their CCS car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pproximately 3% of California’s CCS children are covered by Healthy Famili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27% are “CCS only” (paid by State and Co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ren with Medi-Cal or  Healthy Families coverage receive primary care through their insurance plan with CCS covering only the care related to their CCS medical condi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ren with other private insurance may also have CCS as a secondary insurance for care not covered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62208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CS Coordination with other pr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2437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gular Education/Special Educa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arly Start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gional Cente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ARE Parent Network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57480" y="8251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ies’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amily–centered car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ordinated, collaborative, community-based and culturally competen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spectful and dignified treatmen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Uncensored information about your child’s medical condition and other resourc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nfidentiality of information provided to CC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imely processing of eligibility determinations and treatment authorization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ies’ Responsi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mplete and sign CCS program form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pply for and cooperate with Medi-Cal if asked to do so by CC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ay any required program fe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Keep appointmen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Use health insurance when possibl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Keep CCS informe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Use only CCS approved MD for CCS condit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71520" y="609120"/>
            <a:ext cx="6095880" cy="7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ncrease participants’ understanding of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alifornia Children Services (CCS)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iagnostic and Treatment Program and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edical Therapy Program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pecific services provided by CC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Who is eligible for CCS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What is the process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ow CCS relates to Medi-Cal and other health plan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CS responsibility to clients, families and the communit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7480" y="8251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f family disagrees with treatment decis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ust be in writi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tep one – informal review with County CCS offic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tep two – formal meeting, Fair Hearing, with hearing officer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7480" y="8251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cal 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edical Home” is a concept developed by the American Academy of Pediatrics to improve coordination of care for children with special health care needs. 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hildren and families receive care from a primary care provider whom they trust, acting in partnership with the family to identify and access medical and non-medical services needed to help children achieve their maximum potential.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748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69840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alifornia Children Service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2286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CS is a statewide program that arranges and pays for medical care for children with  disabling medical condition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stablished in 1927 by the California Legislatur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urrently provides services to 175,000 children in Californi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69840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nostic and Treatment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AGNOSTIC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hen CCS medical condition is suspected CCS can pay for evaluation to determine diagnos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o financial eligibility requir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hen child has CCS eligible medical condition, CCS may provide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octor visits, hospitalization, surgery, occupational and physical therapy, lab tests, x-rays, equipment, medicine,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organ transplants, transporta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7480" y="7538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ical Case Management is provided for every child in CC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etermine eligibilit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valuate needs for specific servic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dentify appropriate provider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ordinate care with families and provider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uthorize medically necessary car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31320"/>
            <a:ext cx="73152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priate Treatment Plan, Providers and Fac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view treatment plan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uthorize services to experts/specialis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uthorize services to CCS approved hospitals and faciliti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uthorize Special Care Centers – offers team approach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5457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eligible for CCS Treatment Progra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2286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ren under 21 years of ag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ermanent residents of Californi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amily income less than $40,000 per yea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amily income over $40,000 but cost of medical care will exceed 20% of family incom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hysically disabling medical condition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cal Therapy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rovides Physical and Occupational Therap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rovides Medical Therapy Conference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or children with cerebral palsy and other neurological or musculoskeletal disorder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cated in Medical Therapy Units in public schools in El Cerrito, Alamo, Antioch and Concor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23:27:44Z</dcterms:created>
  <dc:creator>barbara sheehy</dc:creator>
  <dc:description/>
  <dc:language>en-US</dc:language>
  <cp:lastModifiedBy>barbara sheehy</cp:lastModifiedBy>
  <dcterms:modified xsi:type="dcterms:W3CDTF">2008-12-02T22:16:19Z</dcterms:modified>
  <cp:revision>55</cp:revision>
  <dc:subject/>
  <dc:title>PowerPoint Presentation</dc:title>
</cp:coreProperties>
</file>