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7B19-65EF-401F-8EAE-95BDEDE2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7178-AEDD-4397-9BB8-3E3FCADD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EEC-75E3-4C47-BABC-304A37F0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B5A-CD6D-4D1C-8C13-CD4277AB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1285-46D4-4B70-AC9D-150F2028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1BF2-E5E0-474B-8A08-F03C5DD6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FDE4-521D-4243-828E-1D62EDA2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9F45-90F7-4480-A8E1-3CE8E59E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8141-CBFF-4E1E-8DE6-8D69B4F1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0829-012A-4811-A911-FBB519C6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F49F-817C-47F4-8690-8D50501A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E92C-033B-464A-B279-C87D207C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50FA-EA55-46CB-81C6-D7AAFEAA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2349-2190-4A5C-B443-2D3A75A0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AB77-5DCE-42CD-9399-579054E6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F34F-EFC5-419A-8FF7-85D9841A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7DCF-9A5D-4C99-9E93-BE26DD59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99039-9219-4BDA-85FF-072FCC6B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9DD4C-16AD-491E-A471-4653077E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CD41F-FCE5-4EAA-B03E-1BE5E420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B9666-4C81-4815-85A4-D2EBD3DD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9B995-29D1-484D-A547-0475F407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D45-E296-4499-9EB1-2BB1175C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5E59A-0B36-448A-B882-D98BF529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D2080-35D5-47B9-9A22-9C3C3F53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1A116-D349-450B-8606-D1590B6F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0211C-9EEF-4A8A-B7B0-0E820325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49BEB-99DA-4274-8D80-9B1C1ABC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E9D2A-AC9B-47D9-9082-81E601DA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64D38-20CF-4E35-8CB2-C6925A47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ACFFC-360A-4771-96A0-F94AF2B5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2FDC4-4DF6-4AB9-9B36-CEBFC0A3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A7CAE-EE08-414D-9A2D-0A535E61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57B7-9B63-44EE-82C9-03B4C6F9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89FB2-2964-4064-A121-EC181FCD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994AD-BFB0-45A0-965F-B57E1206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D615A-BA4B-4F80-BEA9-4F0C5E69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33D99-FACE-4DEF-8F33-B266D6DC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9395E-B99E-4BA9-BD1D-323C3DD3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84EF3-93D3-45C9-9157-A1ED870D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8F730-01B8-4F77-9AE6-0C23D4E1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64499-373C-4E98-B701-187F1EC6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21594-D890-402A-8951-4D35A986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B4911-CD04-463D-A230-F49DE12A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9FF5-93A5-4725-9C46-70D02708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AFDDB-202D-4B83-829E-EBF9EB9E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2C1E1-E486-4DC7-B243-FCF7A2B4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D8030-CFC3-404D-81A7-56BD19AB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1F9F1-65F5-4E38-9A21-A979560B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07366-8C0C-44DD-8C6B-3240F413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5068F-C0CA-4CD8-BB56-B48F80DF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939B6-7E3C-47D9-9066-5DECC62F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A63E8-6C0D-41D6-B3DA-35C9A80B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C0AB5-74A4-4573-8564-41E791B8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2A282-2E19-4DE2-96F5-19C118DE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CB5-2DAB-40A6-B3DE-8DD1AD78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684E9-A21C-43FA-A91D-4D47BAF7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17A-3E49-4400-BC82-321DE84F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087-4023-43C1-A22D-A5D457BC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83A-58BA-4DA9-B57B-9A66A5A1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3300-2C30-4464-B34B-1151EA7D945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2642-9428-4EA1-9B33-AF5289C03C3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FB44-708B-42BB-AAE7-7FA0D5B8F0E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D1DA-7CC4-4754-9A5B-BAEA6DEC226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C1C2-36E3-4BF0-9632-B6BF853408B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7" name="Content Placeholder 3" descr="iloveyou_000.jpg"/>
          <p:cNvPicPr/>
          <p:nvPr/>
        </p:nvPicPr>
        <p:blipFill>
          <a:blip r:embed="rId1"/>
          <a:stretch/>
        </p:blipFill>
        <p:spPr>
          <a:xfrm>
            <a:off x="2584440" y="1447920"/>
            <a:ext cx="443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mangiom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10-40% of all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in first few month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rked vascular overgrowth resulting in bright red discoloration and definite ele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apid growth the first y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0% involute by age, 90% by age 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1" name="Content Placeholder 3" descr="storkbite1.jpg"/>
          <p:cNvPicPr/>
          <p:nvPr/>
        </p:nvPicPr>
        <p:blipFill>
          <a:blip r:embed="rId1"/>
          <a:stretch/>
        </p:blipFill>
        <p:spPr>
          <a:xfrm>
            <a:off x="2205000" y="1557360"/>
            <a:ext cx="51912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almon Patch (Stork bite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4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des in first year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located nape of neck, forehead and upper eyeli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5" name="Content Placeholder 3" descr="portwine.jpg"/>
          <p:cNvPicPr/>
          <p:nvPr/>
        </p:nvPicPr>
        <p:blipFill>
          <a:blip r:embed="rId1"/>
          <a:stretch/>
        </p:blipFill>
        <p:spPr>
          <a:xfrm>
            <a:off x="2133720" y="129528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ort wine stai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rplish-red color vascular malformation present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do not enlarge but remain fl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port wine stain involves ophthalmic branch of the fifth cranial (trigeminal) nerve, it can be associated be a constellation termed Sturge-Weber syndrom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urge-Weber syndrome involving seizures, mental retardation, hemiplegia and glauco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9" name="Content Placeholder 3" descr="herpes infant.jpg"/>
          <p:cNvPicPr/>
          <p:nvPr/>
        </p:nvPicPr>
        <p:blipFill>
          <a:blip r:embed="rId1"/>
          <a:stretch/>
        </p:blipFill>
        <p:spPr>
          <a:xfrm>
            <a:off x="457200" y="393840"/>
            <a:ext cx="819324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rpes Simplex Viru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HSV 2 in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1" name="Content Placeholder 3" descr="Erythema_Neonatarum_1_031011.jpg"/>
          <p:cNvPicPr/>
          <p:nvPr/>
        </p:nvPicPr>
        <p:blipFill>
          <a:blip r:embed="rId1"/>
          <a:stretch/>
        </p:blipFill>
        <p:spPr>
          <a:xfrm>
            <a:off x="1066680" y="1447920"/>
            <a:ext cx="7239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rythema Toxicum Neonatoru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, self-limiting, asymptomatic disorder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in up to 5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at 24-48 hour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eosin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5" name="Content Placeholder 3" descr="Pustular melanosis.bmp"/>
          <p:cNvPicPr/>
          <p:nvPr/>
        </p:nvPicPr>
        <p:blipFill>
          <a:blip r:embed="rId1"/>
          <a:stretch/>
        </p:blipFill>
        <p:spPr>
          <a:xfrm>
            <a:off x="1752480" y="1733400"/>
            <a:ext cx="60962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ustular mel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lf-limiting dermatosis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presents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appears in 24-48 hours leaving pigmented macules with a collarette of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yperpigmentation fades in 3 weeks to 3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9" name="Content Placeholder 3" descr="mongolian_spot_1_080714.jpg"/>
          <p:cNvPicPr/>
          <p:nvPr/>
        </p:nvPicPr>
        <p:blipFill>
          <a:blip r:embed="rId1"/>
          <a:stretch/>
        </p:blipFill>
        <p:spPr>
          <a:xfrm>
            <a:off x="1919160" y="1447920"/>
            <a:ext cx="5762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ongolian Spo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lat, slate-gray to bluish-black poorly circumscribed macu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located over the lumbosacral area and buttoc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mon in black infants and hispanic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de by 7 year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3" name="Content Placeholder 3" descr="cutis_marmorata_3_060523.jpg"/>
          <p:cNvPicPr/>
          <p:nvPr/>
        </p:nvPicPr>
        <p:blipFill>
          <a:blip r:embed="rId1"/>
          <a:stretch/>
        </p:blipFill>
        <p:spPr>
          <a:xfrm>
            <a:off x="914400" y="1836720"/>
            <a:ext cx="77724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utis Marmora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ient, netlike mott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used by variable vascular constriction and dil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ponse to chilling, resolves with war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 in neonates but if persists past 6 months, could be sign of congenital hypothyroidis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1:44:54Z</dcterms:created>
  <dc:creator>HCMARTINEZ</dc:creator>
  <dc:description/>
  <dc:language>en-US</dc:language>
  <cp:lastModifiedBy>HCPITTSBURG</cp:lastModifiedBy>
  <dcterms:modified xsi:type="dcterms:W3CDTF">2010-02-22T23:47:13Z</dcterms:modified>
  <cp:revision>14</cp:revision>
  <dc:subject/>
  <dc:title>Normal Dermatologic Findings</dc:title>
</cp:coreProperties>
</file>