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004-5E83-47CB-9BED-4A2015E1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E58-00F9-490A-AC80-584B72B4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F5B-45C5-4FC3-968C-C71E7665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801-908C-498A-B1A8-B44AA540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EF5F-3167-4651-AB20-C1BC9FB2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B9C7-341F-4391-86D6-2DA18FDC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DC33-D69D-4A8B-B961-3520D121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29D4-037C-4B38-BA75-B52C24B5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8FCF-67AF-4B59-A702-CEF00A83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B61B-D252-4D6F-86A0-B60F7297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876E-0D6D-4BC9-9169-C0E4B57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1BE-6E9A-4E5C-943A-19A17803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988A-9B26-4383-9890-6F3A48FA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8764-A95F-460D-A676-5738D1B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2D3B-EEB0-48AA-A9CA-533DB10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9FB1-1CA3-44A0-835B-83D509EB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601-B4E6-4A06-9EB2-7F4151B1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7D4C-98FC-4DE6-BDB6-1B0519CF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D90C-B2D9-496F-87C6-7BDB4EFD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6138-5DF7-416E-B2F8-887C0810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2F37-1824-4098-8A2A-A2D9D30F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B1BB-46C3-4713-AF9D-FA5BF68F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439-15EA-4B98-A132-0F02CF56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489B-6004-44E0-BE52-4469FFC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90906-3C52-4758-A72C-BE66188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BD13-99E5-4586-8DE8-0772A7F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43CF-2AA5-47BE-BF5C-37ECCC7A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16B6-8DBA-4D18-A8D3-3853F079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742C-07F3-4F39-9C48-595698F4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C6D6-BC1A-46DE-BECC-FBACC835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DD03-5BD3-4785-819F-27E27549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2C16B-F56E-4782-8A14-C3B9007A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77D1-E02B-4907-81AE-5FDACD0A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99A-CABC-45B7-B40A-50E5D6F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78F7-765A-465D-AEFE-096D1E4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FEB0-41C6-4CC6-BE2E-C1D74F5F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1385-474D-4AC0-954E-239DAE4B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816B-4210-40F6-8FF1-C110E2B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BA45-E28B-40E9-AF6A-6BF4D9F9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BB85-528B-4E8B-B1D4-58DB224D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A41F-0F5F-4445-91C3-5270C8F8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28B6-6A80-448A-82A3-FC5AF704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B5E8-0235-439D-B0BF-020BBC43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014BD-FFEF-4671-B23A-74370822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452-212C-41AF-885F-CC312150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F847-8BDF-493F-9902-3FCB334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15E9C-2B83-4565-88EE-3B8994FC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6805D-4588-4A5A-A305-A589400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98FF6-3E2D-4B9A-AE90-6BD62BF8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FA2C2-6056-476F-A397-53B54A4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D6C9-3053-4BBF-9A6C-943A9CE9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59E9C-EDEA-4FF0-97C7-44360B0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8EB0-AEAE-4ACA-91FD-F2379A3C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DD2E-E0A5-4CB8-99AE-82BB51C6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C0A3-4524-40E7-93CF-B5A1E923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681-01BC-415D-BDD4-CFA95D3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8A638-5283-4192-9767-E0B05349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CBA-6908-4A45-9B41-750B7F5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992-3F11-4457-BE58-C54EB4B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728-4D73-488B-B886-10E6F46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44F0-F314-4652-9B8A-C70CDC5D4E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58DB-A50C-413A-912B-0CA5D4FF81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E4E8-4DE8-4E01-93B4-D836E498F25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96B7-ACE2-4249-833F-3AE72790D0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3D7A-3EA1-464E-93CE-526B1BFE296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7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58444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-4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the first y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1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2205000" y="155736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4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5" name="Content Placeholder 3" descr="portwine.jpg"/>
          <p:cNvPicPr/>
          <p:nvPr/>
        </p:nvPicPr>
        <p:blipFill>
          <a:blip r:embed="rId1"/>
          <a:stretch/>
        </p:blipFill>
        <p:spPr>
          <a:xfrm>
            <a:off x="21337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color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ing seizures, mental retardation, hemiplegia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9" name="Content Placeholder 3" descr="herpes infant.jpg"/>
          <p:cNvPicPr/>
          <p:nvPr/>
        </p:nvPicPr>
        <p:blipFill>
          <a:blip r:embed="rId1"/>
          <a:stretch/>
        </p:blipFill>
        <p:spPr>
          <a:xfrm>
            <a:off x="457200" y="393840"/>
            <a:ext cx="81932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Vir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HSV 2 in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5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752480" y="1733400"/>
            <a:ext cx="6096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appears in 24-48 hours leaving pigmented macules with a collarette of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9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919160" y="1447920"/>
            <a:ext cx="576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 poorly circumscribed mac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 infants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914400" y="1836720"/>
            <a:ext cx="77724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but if persists past 6 months, could be sign of congenital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PITTSBURG</cp:lastModifiedBy>
  <dcterms:modified xsi:type="dcterms:W3CDTF">2010-02-22T23:47:13Z</dcterms:modified>
  <cp:revision>14</cp:revision>
  <dc:subject/>
  <dc:title>Normal Dermatologic Findings</dc:title>
</cp:coreProperties>
</file>