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EE88-2D29-45CD-86E6-2E55502A8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90E7-51FC-4814-B827-8D478ADB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F839-655B-4F5A-B83B-2391EFC56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1570-2465-4BD7-9F9E-79F84CF0B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A851-4C39-4F30-BEEB-94006D09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89C6-A36E-4EF3-B383-540CC97F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BD6F-8144-4331-8613-E5F2BD1D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97B5-3205-42F2-94AD-0FE74158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853F-A6AB-4D92-B096-844B9471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3B08-D9B1-455F-BD9D-BD0AAA56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0275-6AD1-40E7-A943-ACD41C7F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4466-982E-4673-8CDF-8894C975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B195-CC7D-4EDE-8143-DFCE545C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21BB-D9A5-48E0-9D4F-543847F2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3BED-82E7-4994-A7D5-246C4582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F4A5-A9C6-4394-BBEE-199A2F89A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AB67-87C9-43A7-9B8B-2C3EE6A1A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B437A-824B-4183-AC9B-AE356EFF9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14158-C6B7-4DEE-BC07-33B85B54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6A109-3FC5-4612-9633-562F999F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5E273-1CA3-49C9-9FA1-016FBA75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DDD6A-5C58-4465-AA3A-426C669D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402C-A2B0-4CE5-ACB8-809EAC59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A48E8-9E59-4F2A-BB90-8C157D4F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1E9A9-826F-4C1D-9961-7F2E73CD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0D088-EDFE-4E2E-B5A5-0CE2A3E4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D119E-26FD-4C48-A413-C357BB82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C5910-4F45-48ED-8274-E0559A61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0363D-3F99-4E77-B011-D6AA93495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85C5B-1C6C-4899-89EF-F8F12280D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70553-FFD6-4892-8CAB-141D1865D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EAD30-AFBF-4FEC-9283-0DF6CA9B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A5143-0F32-4A29-9EBB-D222465D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6FCD-7E66-4CE2-BD04-26F50283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BD9B0-3757-4603-85EB-EEF111EB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B3E80-BA65-44BE-BFE3-B2C12978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9A931-1B7C-4988-8A9A-4E6206A1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A68C5-4B73-4BC4-AC73-F347CCDA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94E95-24CF-4B87-9457-B16022F8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76B20-9800-483B-90FE-CE5CB4C0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23196-4C45-480B-9C83-3DDC0F1B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FD195-1AAB-48B7-A41D-F8F720DBA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0B808-5552-4A2F-B6C1-5F4C2BDA3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ECB58-917C-4908-9160-DDEEF72C5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1DC0-2B8C-4EB8-B366-7D6890BB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C499A-E1BE-42A9-92F3-D4F22BDB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0A344-01E1-43E7-BBEC-DE977998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D0E21-1AAC-4005-B0D6-B19DF78E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2D6D8-D644-4E5E-97BA-741C0A59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AA15F-1E4D-4178-A47F-06423B87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15577-8427-49AA-ACA7-75F1DCCF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0F8A2-184D-4D0C-AE1C-62339ED8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5A5FF-1279-4F78-B9F9-905625CC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4D778-32BB-4626-9E33-7E3E7EC0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DE7D0-2E0B-4080-BB8D-DA7D608C8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45CB-6760-40DA-A5D4-6419F8FC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EBA3E-554A-4728-B377-8856C9049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4DCD-5A30-429C-ACD2-4CCF3415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FC14-01C6-4681-84F2-F07665E0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D4D6-5DFF-401D-A3EA-1AD8237B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4D23-F299-4B8B-8D00-321053C124F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C085-BC77-4E30-9B53-B326BC87C94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A1FF-7A4C-4164-89C5-A7C73E89B84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8A32-A593-47CD-B36D-7B76CBB90E5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EBCA-0718-4DEA-A584-33AD77EBCCD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Normal Dermatologic Find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47" name="Content Placeholder 3" descr="iloveyou_000.jpg"/>
          <p:cNvPicPr/>
          <p:nvPr/>
        </p:nvPicPr>
        <p:blipFill>
          <a:blip r:embed="rId1"/>
          <a:stretch/>
        </p:blipFill>
        <p:spPr>
          <a:xfrm>
            <a:off x="2584440" y="1447920"/>
            <a:ext cx="4432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emangioma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genital vascular malform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 in 10-40% of all newbo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sents in first few month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rked vascular overgrowth resulting in bright red discoloration and definite ele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apid growth the first ye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50% involute by age, 90% by age 9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51" name="Content Placeholder 3" descr="storkbite1.jpg"/>
          <p:cNvPicPr/>
          <p:nvPr/>
        </p:nvPicPr>
        <p:blipFill>
          <a:blip r:embed="rId1"/>
          <a:stretch/>
        </p:blipFill>
        <p:spPr>
          <a:xfrm>
            <a:off x="2205000" y="1557360"/>
            <a:ext cx="51912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almon Patch (Stork bite)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ascular malform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en in 40% of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ades in first year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located nape of neck, forehead and upper eyelid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55" name="Content Placeholder 3" descr="portwine.jpg"/>
          <p:cNvPicPr/>
          <p:nvPr/>
        </p:nvPicPr>
        <p:blipFill>
          <a:blip r:embed="rId1"/>
          <a:stretch/>
        </p:blipFill>
        <p:spPr>
          <a:xfrm>
            <a:off x="2133720" y="1295280"/>
            <a:ext cx="5257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ort wine stai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urplish-red color vascular malformation present at bir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sions do not enlarge but remain fl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en port wine stain involves ophthalmic branch of the fifth cranial (trigeminal) nerve, it can be associated be a constellation termed Sturge-Weber syndrom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urge-Weber syndrome involving seizures, mental retardation, hemiplegia and glaucom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59" name="Content Placeholder 3" descr="herpes infant.jpg"/>
          <p:cNvPicPr/>
          <p:nvPr/>
        </p:nvPicPr>
        <p:blipFill>
          <a:blip r:embed="rId1"/>
          <a:stretch/>
        </p:blipFill>
        <p:spPr>
          <a:xfrm>
            <a:off x="457200" y="393840"/>
            <a:ext cx="819324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erpes Simplex Viru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HSV 2 in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1" name="Content Placeholder 3" descr="Erythema_Neonatarum_1_031011.jpg"/>
          <p:cNvPicPr/>
          <p:nvPr/>
        </p:nvPicPr>
        <p:blipFill>
          <a:blip r:embed="rId1"/>
          <a:stretch/>
        </p:blipFill>
        <p:spPr>
          <a:xfrm>
            <a:off x="1066680" y="1447920"/>
            <a:ext cx="7239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rythema Toxicum Neonatorum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nign, self-limiting, asymptomatic disorder of unknown etiolog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s in up to 50% of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sents at 24-48 hour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mear of pustule reveals eosinophi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5" name="Content Placeholder 3" descr="Pustular melanosis.bmp"/>
          <p:cNvPicPr/>
          <p:nvPr/>
        </p:nvPicPr>
        <p:blipFill>
          <a:blip r:embed="rId1"/>
          <a:stretch/>
        </p:blipFill>
        <p:spPr>
          <a:xfrm>
            <a:off x="1752480" y="1733400"/>
            <a:ext cx="60962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ustular melanos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lf-limiting dermatosis of unknown etiolog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presents at bir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sappears in 24-48 hours leaving pigmented macules with a collarette of sca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yperpigmentation fades in 3 weeks to 3 month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9" name="Content Placeholder 3" descr="mongolian_spot_1_080714.jpg"/>
          <p:cNvPicPr/>
          <p:nvPr/>
        </p:nvPicPr>
        <p:blipFill>
          <a:blip r:embed="rId1"/>
          <a:stretch/>
        </p:blipFill>
        <p:spPr>
          <a:xfrm>
            <a:off x="1919160" y="1447920"/>
            <a:ext cx="5762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ongolian Spo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lat, slate-gray to bluish-black poorly circumscribed macu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commonly located over the lumbosacral area and buttock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mon in black infants and hispanic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fade by 7 years of 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43" name="Content Placeholder 3" descr="cutis_marmorata_3_060523.jpg"/>
          <p:cNvPicPr/>
          <p:nvPr/>
        </p:nvPicPr>
        <p:blipFill>
          <a:blip r:embed="rId1"/>
          <a:stretch/>
        </p:blipFill>
        <p:spPr>
          <a:xfrm>
            <a:off x="914400" y="1836720"/>
            <a:ext cx="777240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utis Marmorat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ansient, netlike mottl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used by variable vascular constriction and dil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ponse to chilling, resolves with warm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nign in neonates but if persists past 6 months, could be sign of congenital hypothyroidis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21:44:54Z</dcterms:created>
  <dc:creator>HCMARTINEZ</dc:creator>
  <dc:description/>
  <dc:language>en-US</dc:language>
  <cp:lastModifiedBy>HCPITTSBURG</cp:lastModifiedBy>
  <dcterms:modified xsi:type="dcterms:W3CDTF">2010-02-22T23:47:13Z</dcterms:modified>
  <cp:revision>14</cp:revision>
  <dc:subject/>
  <dc:title>Normal Dermatologic Findings</dc:title>
</cp:coreProperties>
</file>