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E6C-C6A4-4683-8446-D748AB38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5D2-4C3F-4CEB-82C8-291B4BE3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4F9-FBE2-43EE-A9D4-E881A911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6A4-1F13-472C-9A13-E257C5C6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A7FE-2245-47BF-B1A3-F0570DAD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9982-20E6-4970-86B0-5BAC830E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6E9E-8AC2-497A-89F3-0ADC8A52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8E37-CF2D-4318-BD13-5453EB22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E988-3D5F-451C-9801-03F14CB8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DD32-3E9C-4365-A75D-618F9546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B23D-47B6-4935-B0FE-6D6D3FC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C7C-B44C-47A0-9E0F-122AFAE2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C4E6-C853-499F-A5B3-736727F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8CF4-CBD2-4BC7-96AD-7CFEE7F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383A-0E4A-47C5-8EEB-18645B3F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D57C-07C0-472B-8471-5D5CFA5D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A49F-D202-4F15-B61D-C498061F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7EE2C-4E4B-4DC8-AED3-E0212FEF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D439-233D-45A8-BE3B-C8BD23C5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CD08-B755-4159-B542-113D22FD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0A26-3B67-4793-8F42-422446E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C87F-2055-4242-8186-88F433FC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054-05D7-4B3F-85EA-AEE0F06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71E9-18D8-4915-B607-64F2783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B4F6-8D78-4A26-A07D-97EA22A4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882A-4FAA-41EA-866B-903C2DD3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4285-B4C1-49CB-90EF-4F0804D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A0DD-746C-4D74-B80A-0F4C739F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165E-5793-47B8-8610-1806DD31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9386-48C5-449E-8093-7A952890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26E40-5BA3-44CD-ACDD-81365876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2734-86B7-4E5A-B512-E9BDAA09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8996-CC3F-405F-AB5C-5FAF8E48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4E1-B770-45AB-AEE3-B1F12361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7935-8DD5-4E63-8C71-99666D3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BB33-270A-4B6A-8289-C87BE38C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1DBE1-BE97-4374-8C9A-345D98FF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FFBD-80AA-4EF9-BE65-F3C68D9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5F758-96E2-4774-B30B-A6C61EFB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BFD2-30C0-42E7-9590-75E41B7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4059-FCB5-41BD-BA2D-B326B59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BB64-23C3-4D6F-A3CE-8D2B578E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D415-1C84-4874-9466-C0776BB3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20E8-AC5F-43CA-B6F9-6EDF98BE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EFE-93BC-4449-B438-86EB2B0E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F19BE-2972-48DF-BEE8-650757DD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479A0-465A-46E6-8C23-4B770F0F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210A1-7ADE-4C68-A40D-79C46080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AE630-EABD-418B-8B42-71EBFCEF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82AC-D575-4593-BAD8-73C6E7DF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E2F7D-1413-44D9-8592-D4192FC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9983A-D7D9-42B5-BC23-EF733C3E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80F40-6F6E-4B9E-BB0B-54F8A03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62D63-ECB6-4B93-AFC8-68434D89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25C0-0C2A-4006-9047-A0259F15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757-F619-4C7B-8BF3-A621498D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09538-2301-4861-B1BA-6633C293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A04-8497-4372-81DD-E51834C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E8A-8435-4670-801D-E5E96DEC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237-2FC7-4A87-B190-61338529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9246-383A-46D0-9327-0A1D3C2158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FD56-290C-444C-8F31-B1CE0D083B7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F171-0B26-4A40-827B-ACCD1C6F392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01CC-A975-439C-8C51-2A8A2F18C5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AF11-F08A-486B-98B9-A511E630B9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58444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-4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the first y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1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2205000" y="155736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4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5" name="Content Placeholder 3" descr="portwine.jpg"/>
          <p:cNvPicPr/>
          <p:nvPr/>
        </p:nvPicPr>
        <p:blipFill>
          <a:blip r:embed="rId1"/>
          <a:stretch/>
        </p:blipFill>
        <p:spPr>
          <a:xfrm>
            <a:off x="2133720" y="129528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color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ing seizures, mental retardation, hemiplegia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9" name="Content Placeholder 3" descr="herpes infant.jpg"/>
          <p:cNvPicPr/>
          <p:nvPr/>
        </p:nvPicPr>
        <p:blipFill>
          <a:blip r:embed="rId1"/>
          <a:stretch/>
        </p:blipFill>
        <p:spPr>
          <a:xfrm>
            <a:off x="457200" y="393840"/>
            <a:ext cx="81932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Vir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HSV 2 in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5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752480" y="1733400"/>
            <a:ext cx="6096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appears in 24-48 hours leaving pigmented macules with a collarette of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919160" y="1447920"/>
            <a:ext cx="576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 poorly circumscribed mac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 infants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3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914400" y="1836720"/>
            <a:ext cx="77724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but if persists past 6 months, could be sign of congenital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PITTSBURG</cp:lastModifiedBy>
  <dcterms:modified xsi:type="dcterms:W3CDTF">2010-02-22T23:47:13Z</dcterms:modified>
  <cp:revision>14</cp:revision>
  <dc:subject/>
  <dc:title>Normal Dermatologic Findings</dc:title>
</cp:coreProperties>
</file>