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FBBC-B720-48A9-B0B9-31E1D92DB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C6CC-8DA6-4F7A-81E4-50AFB6807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1239-445D-4AE8-A7AF-80504C225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F3A4-1F11-4A61-9FCE-9EE3F7A0A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92A67-55CE-489A-8CF6-89B903A21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6287E-18BB-49AD-B2C2-1E27763B4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C5A40-B491-4442-B41A-A74909D05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8DA94-B04D-46E7-9F02-B07899A48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48017-B263-4C2F-AE6E-3320707A1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DE11F-20DF-4DEF-943B-534FDFA45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A8A05-9248-4D5F-B84F-B06E5938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A654-D17F-4430-B015-4B36FB545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490A3-945D-4109-ADCD-7AC73B8D6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ECB93-6558-4ED4-8ACD-4F7A95E49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05ED9-20B8-45E2-A9A8-387750781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0C1ED-2761-4CCB-B5F1-0106B2124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B4DF5-7B22-412A-AD53-57FF84B34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5001C-2E83-45DE-ABBD-3670A8E15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F22AC-BE55-4755-BABD-328DD9A32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56172-D61B-4C9D-BF15-345284AAB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8DD4A-E78D-4CE2-B6BD-9CC0F1563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D9748-26E9-4723-94B2-1312ED7C7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F2D5-4613-4D93-89D6-8C0B02FBB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4FE12-DDA7-45C9-A273-172E3BD7D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42907-4E5A-4BE5-A1D0-71F49E30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12C64-2AA0-493F-91BE-73F5EC0D0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8D25F-3C08-4672-A44A-69AC0D14F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4F652-99AB-4E33-A132-FECF57A7E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12992-E608-4A81-9735-24CB66632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C92F6-E047-449D-B781-5DA3ED5C1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F06E8-4617-4228-9432-9EFF762B8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45E0B-85D3-4E27-BA00-521CEAF8F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B70BD-9818-4CCC-B6AD-835D7A3D9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EAE9-3E99-46F4-A3CB-943C5A436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2905E-641E-4E37-909B-2C870BA98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4CBFB-FFA6-4727-9A81-66DFF7EAA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7E4A5-69FA-4A78-B707-6C00F49C3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958B4-03E6-4978-B9ED-6BD07AA3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7C3A2-F64F-46AD-97A3-F42590A9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EE0F1-6E81-42D6-8964-71C39EC58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FFEE4-E005-44B8-8DFE-DF79E7ECB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9F5ED-9B20-4F4C-AB2E-50FC955A4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433C8-E9C5-4DC9-822C-E0687E743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B20D4-370E-49D4-9736-4556B3471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3329-ECB9-402A-BA18-9BC5038A4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C90C70-317A-414B-AE53-7996FA718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1AD27-D840-4EA8-B0A2-FF308304E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5FA47F-6D71-433F-85D5-D63A5B2B9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88ECFA-74E1-496B-987A-62DC14C24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5CB60D-ABB4-495E-9743-5FD23F560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6AE50D-9795-4D65-8C19-D6AA83B6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730AE8-57D3-44FF-A18C-C2813121F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95F38-5E39-4BDA-AC35-25F10AA0F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ECDCA-4F20-46BE-90E7-F55C17934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6F9B4F-9C8B-4DDC-982C-2E1E095FA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3415-A619-4C4F-88C2-D643DA8B2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2A8ADE-7F98-4A4A-85AA-C3FFF9DF2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3A8373-F376-4B81-A079-6D4010A0F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5CDFC0-E7E3-4697-9EDC-E6122A7AB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EF728C-EDB5-4ACE-A028-182BD5299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77937D-2526-4344-B5C5-FFE9F3765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60EBB6-5A1B-473F-9BD0-1479BEDF6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D5789C-57AA-4A07-98E1-1D73CF81F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A0A746-8C91-44FC-9C31-EA3AB497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84591-5CE2-4BAA-B0AA-0704CB385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C996C6-E74B-4406-ADCD-67F93B18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EE3B-939B-4CCB-8F64-ED26AF8C9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7DE31A-B53B-4B28-816C-264E9BDA6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BF0E01-D4B9-4663-A7C6-5799B04A7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C8EF9-8E95-4BEE-9271-CFCDB49B0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3180-D9FE-4431-B1FD-AC4ABBB3B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7C6C-D586-426C-91F1-F989FF22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E4D70-AC5E-47D3-A36B-B5FB6E0EB99B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48BB2-0CAE-4267-961A-5D087A00FBD5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1209D-D3D3-4BA7-B160-BE493FFE635D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D9235-2052-44F8-8408-63D35961AEE6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08595-E7E1-4B27-B635-FBA4A82FE9C8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A314F-4570-4E45-BCFF-B8C2AB539659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Rectangle 2" descr=""/>
          <p:cNvPicPr/>
          <p:nvPr/>
        </p:nvPicPr>
        <p:blipFill>
          <a:blip r:embed="rId1"/>
          <a:stretch/>
        </p:blipFill>
        <p:spPr>
          <a:xfrm>
            <a:off x="682560" y="2163600"/>
            <a:ext cx="8186760" cy="148140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837720" y="3809520"/>
            <a:ext cx="6480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Diagnosi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6840" y="18288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hysical Exam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gns and symptoms vary with the drug(s) used by the m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rity of withdrawal may not correlate with dose or duration of drug expos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Signs and Symptom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75248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perirri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d deep tendon and primitive reflex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d muscle t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mors and myoclonic je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-pitched c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keful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iz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Signs and Symptom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609120" y="1676520"/>
            <a:ext cx="8153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7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etabolic/Motor/Respirator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7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7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tt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7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e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7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cri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7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neezing/conges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7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a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7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aw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7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cc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7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d rooting reflex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7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coordinated suck and swal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7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ilure to gain we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7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chypnea/nasal fla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7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Signs and Symptom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6840" y="167652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I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urgi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ose stools/diarrh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Diagnosi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04560" y="137160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atients are usually observed for at least 3-5 days for S/S of withdrawal before they are discharged h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bstinence scoring is a way to assess withdrawal sig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re are several abstinence scoring systems, but none have been adopted as the standar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Finnegan scoring system is the most comprehensive and widely us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core of 7 or less is considered mild withdrawal and infants do well with non-pharmacologic comfort meas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eated scores of 8 or more generally indicate the need for pharmacologic thera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2" name="Object 2"/>
          <p:cNvGraphicFramePr/>
          <p:nvPr/>
        </p:nvGraphicFramePr>
        <p:xfrm>
          <a:off x="2133720" y="-20520"/>
          <a:ext cx="4860720" cy="687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-20520"/>
                    <a:ext cx="4860720" cy="687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Title 3" descr=""/>
          <p:cNvPicPr/>
          <p:nvPr/>
        </p:nvPicPr>
        <p:blipFill>
          <a:blip r:embed="rId1"/>
          <a:stretch/>
        </p:blipFill>
        <p:spPr>
          <a:xfrm>
            <a:off x="420840" y="3200400"/>
            <a:ext cx="6960960" cy="244476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33440" y="1544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Studies On NA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imitation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rine tox screens do not reflect drug exposure throughout pregna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y women who use drugs are multiple drug users, and also drink alcohol and smoke cigaret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fore, it is difficult to isolate the effect of one dru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Opiate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85200" indent="-35172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ost frequent cause of NA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85200" indent="-35172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nset of symptoms: Minutes after delivery to 2-3 days of lif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85200" indent="-35172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nical course: Variable, can show any of the s/s mentioned before, s/s can persist up to 3-6 month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85200" indent="-35172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ognosis: Good, minimal teratogenicity, good catch up growth by 1-2 years, most have normal cognitive and motor development at 5-6 years with long term follow-up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Barbiturate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/S similar to opiates except onset usually later (4-7 days after birth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uration of s/s usually 2-6 weeks, but can last as long as 4 month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Definition of Neonatal Abstinence Syndrome (NAS)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233208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 condition that an infant experiences when withdrawing from certain drugs that his/her mother took during pregnanc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Benzodiazepine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ot much is known about benzodiazepin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/S similar to opiate withdraw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nset: usually not until 1st few days after birt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ever, there has been a reported case where s/s started 21 days after birth with chlordiazepoxide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Alcohol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44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remost drug used toda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nset: 3-12 hours after deliver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/S: More CNS effects, less severe and of shorter duration than withdrawal from opiat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ore concerning is the risk for Fetal Alcohol Syndrome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5-40% risk in infants born to alcoholic wo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ated to alcohol d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jor cause of mental retardation to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Fetal Alcohol Syndrome (FAS)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6002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22160" indent="-2728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riteria for FA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80000"/>
              </a:lnSpc>
              <a:spcBef>
                <a:spcPts val="70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natal or postnatal growth retard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80000"/>
              </a:lnSpc>
              <a:spcBef>
                <a:spcPts val="70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NS involvement: developmental delays, behavioral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80000"/>
              </a:lnSpc>
              <a:spcBef>
                <a:spcPts val="70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ysmorphic Facial Features: microcephaly, microphthalmia, short palpebral fissures, poorly developed philtrum, thin upper lip, hypoplastic maxil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umerous congenital anomalies are associated with FA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ny don’t meet the criteria, but present with fetal alcohol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effec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Fetal Alcohol Syndrom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99" name="Content Placeholder 3" descr="FAS.jpg"/>
          <p:cNvPicPr/>
          <p:nvPr/>
        </p:nvPicPr>
        <p:blipFill>
          <a:blip r:embed="rId1"/>
          <a:stretch/>
        </p:blipFill>
        <p:spPr>
          <a:xfrm>
            <a:off x="4648320" y="1905120"/>
            <a:ext cx="4216320" cy="34812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4" descr="FAS2.jpg"/>
          <p:cNvPicPr/>
          <p:nvPr/>
        </p:nvPicPr>
        <p:blipFill>
          <a:blip r:embed="rId2"/>
          <a:stretch/>
        </p:blipFill>
        <p:spPr>
          <a:xfrm>
            <a:off x="152280" y="1905120"/>
            <a:ext cx="4286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Stimulant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s common cause of N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ually see s/s that represent the direct effects of the stimulants themsel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set/Duration: Within first 72 hou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/S: Tremors, high pitched cry, irritability, excessive suck, hypertonia, tachycard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caine and Methamphetamine exposed fetuses have a high rate of spontaneous abortions, stillbirths, IUGR, prematurity, and asphyxia related to placental abru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Stimulant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0456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14720" indent="-37872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cain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ses vasoconstriction and decrease in placental blood flow with consequent fetal hypox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s as a teratogen because of the vascular effects: CNS &amp; CV anomalies, limb defects, intestinal atre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nosi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94680" indent="-252720">
              <a:lnSpc>
                <a:spcPct val="80000"/>
              </a:lnSpc>
              <a:spcBef>
                <a:spcPts val="649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ually there is good catch up growth by 1 yea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94680" indent="-252720">
              <a:lnSpc>
                <a:spcPct val="80000"/>
              </a:lnSpc>
              <a:spcBef>
                <a:spcPts val="649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re may be speech and behavioral problems as children get old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94680" indent="-252720">
              <a:lnSpc>
                <a:spcPct val="80000"/>
              </a:lnSpc>
              <a:spcBef>
                <a:spcPts val="649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udies have shown no difference with respect to intellectual ability in children who were drug-exposed vs. placeb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Stimulant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ethamphetamin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drawal symptoms are less sev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nosis: Unclear, may be associated with neurocognitive defic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Marijuana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tudies have suggested an increased risk of prematurity and lower birth weigh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ognosis: Higher incidence of ADHD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SSRI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10400" indent="-37476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ause NAS in up to 1/3 of neonates exposed in uter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nset/Duration: Severely effected present in 1st 48 hours of life and resolve within 48 hou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/S: Tremors, hypertonia, irritability, GI disturbance, respiratory distres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07400" indent="-26712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/S usually self-limited &amp; does not require pharmacologic interve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7400" indent="-2671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aroxetine with greatest propensity to cause NA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reatmen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e Nursery Protoco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nifestations of drug withdrawal in some infants will resolve within a few days and drug therapy is not requir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infant’s withdrawal score should be assessed to monitor the progression of symptoms and adequacy of treatm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Incidence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6840" y="198108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5-10% of deliveries nationwide are to women who have abused drugs during pregnancy (excluding alcohol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reatmen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reatment should always begin with non-pharmacological measur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ive care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49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nimize stimulation - keep baby in a darkened and quiet environment if possib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49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waddling and positioning - use gentle swaddling and positioning that encourages flexion rather than extens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49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event excessive crying with a pacifier, cuddling, etc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49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eeding should be on demand if possib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reatmen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cision for pharmacologic treatment is based on the infant’s abstinence scores and mechanism of action of the drug that the infant was exposed t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goal of therapy is to allow the infant to withdraw without excessive excitation that leads to withdrawal symptoms causing discomfor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reatmen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edication Choices and Doses -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phine Sulfate: high dose = 80-100 mcg/kg q4 hrs; low dose = 30-40 mcg/kg q4 h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adone: 0.05 – 0.2 mg/kg q12-24 h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prenorphine: 13.2 mcg/kg/day in 3 divided do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enobarbital: Loading = 16mg/kg per 24 hrs; Maintenance = 2 – 8 mg/kg/day in 2 divided do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azepam: 1 – 2 mg q8 – 12 h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reatmen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nce a pharmacologic dose has been advanced to its peak to keep patient comfortable, the dose is gradually weaned so the infant can tolerate mild symptoms of withdraw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length of time it takes to wean an infant off medication varies from infant to infa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reatmen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6840" y="160020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pioid withdrawal using oral morphine sulfate has been shown to be most effectiv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ose can be increased by 20% q8 hrs until s/s of withdrawal are controll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x dose: 0.2mg/kg/d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eaning process varies between provid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ually the peak dose is maintained x 72hrs, then wean by 20% every other 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reatmen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dditional use of Phenobarbital and/or Diazepam is much debated because of added depressant effects on an infant who is already on a narcotic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henobarbital mostly used for CNS withdrawal symptom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preferred for non-opiate related NA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Breastfeeding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6840" y="159984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lcohol – Not recommended if use is excessiv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cause drowsiness, diaphoresis, deep sleep, weakness, decreased linear growth, abnormal weight gain, and decreased maternal milk p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icotine – Controversi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osses into breast mil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decrease milk production and cause the baby to have poor weight 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Breastfeeding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mphetamine - Not recommend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cause irritability and poor sleeping hab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caine - Not recommend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cause irritability, vomiting, diarrhea, tremors, seiz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rijuana - No clear recommendat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mited stud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Breastfeeding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56840" y="16002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ethadone – Compatible with breastfeed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opiates are compatible with breastfeeding except for hero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imal amounts cross into breast milk and there is poor oral bioavail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eroin - Not recommend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cause tremors, restlessness, poor feeding, vomi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Breastfeeding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6840" y="15998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SRIs - Generally safe for breastfeeding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rtraline and Paroxetine have minimal transfer into human mil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uoxetine produces significant plasma concentrations in some breastfeeding infants, which can caus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90000"/>
              </a:lnSpc>
              <a:spcBef>
                <a:spcPts val="649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lic, irritability, feeding and sleep disorders, slow weight gai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ants should be monitored for irritability and poor feeding, or breast milk can be pumped and dump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Pathophysiology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228240" y="144756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rugs of abuse are often of low molecular weight, water-soluble, and lipophilic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y are easily transferred across the placenta to the fetus, and across the blood-brain barrier of the fetu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1/2 life of drugs usually prolonged in the fetu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rugs either bind to CNS receptors, or affect the release and reuptake of various neurotransmitt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y have long lasting effects on developing dendritic structures and are toxic to fetal cel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Long Term Managemen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uring the first few years, children exposed to drugs in utero can have neurologic problem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s places a difficult child in a difficult environm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ose follow-up and social services involvement may be requir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Risk Factors Associated with an Increased Incidence of Drug Abus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oor socioeconomic circumstanc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oor educ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eenage moth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oor prenatal ca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Other Conditions Associated with Drug Abus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6840" y="20574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ultiple drug abus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oor nutritional statu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nemi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fectious Disease (Hep B, syphilis, HIV, and other STDs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Obstetric Complications Associated with Drug Abus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6840" y="20574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UG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tal Dist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mature Deliv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orioamnion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fic to cocaine: HTN, cardiac arrhythmias, CVA, abruption, respiratory arrest, fetal dem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Diagnosis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80520" y="1371600"/>
            <a:ext cx="8077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istory: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y drug users withhold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ails of the quantity and duration of abuse are unrel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abs: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rine tox only reflects intake from the last few days prior to deliver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lse positive immunoassays can occur (i.e. morphine positive if took in poppy seeds or codeine from cold/cough medicine)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specific chromatography or mass spectrometry may determine the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Diagnosi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5998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ab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conium analysis reflects drug usage over a longer period and is more sensitive than urin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90000"/>
              </a:lnSpc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advantage = specimen requires processing prior to tes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air analysis is the most sensitive test availab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90000"/>
              </a:lnSpc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alitative relationship exists between amount of drug use and amount incorporated in the ha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90000"/>
              </a:lnSpc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born hair can be obtained to reflect exposure during last trimester, and can be obtained later should symptoms occur where in-utero drug exposure was previously unsuspec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1T18:00:31Z</dcterms:created>
  <dc:creator>Ada Ho</dc:creator>
  <dc:description/>
  <dc:language>en-US</dc:language>
  <cp:lastModifiedBy>Health Services Department</cp:lastModifiedBy>
  <dcterms:modified xsi:type="dcterms:W3CDTF">2010-05-24T23:59:25Z</dcterms:modified>
  <cp:revision>24</cp:revision>
  <dc:subject/>
  <dc:title>Neonatal Withdrawl Syndrome</dc:title>
</cp:coreProperties>
</file>