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CC4-5DF4-42DD-9218-EB0CF11B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02E-09EF-45ED-B9ED-C2AD011D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6B3-31C4-4055-AFFF-F23AD370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DF0-AE3D-41FF-8A32-4B801D67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8FE5-F86A-4337-A4A8-FEA31C76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68A3-84B4-4806-A47A-7502366B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F6FC-D21A-45C8-BBF4-D7A024F8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EDE5-B1C9-4F98-BAD6-9477EBD8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08C8-DC51-4637-87A5-EF854BA8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AC6A-A3A2-4F0E-8319-0B87F48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D5E5-42A5-44A3-88DA-647ABB5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1A1-16C4-46D4-A67C-7B4C06FE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2805-61AB-4249-8C12-77EF2188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8B6A-2A2B-4039-B649-0F5ED990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C8F1-0B42-4DEE-8C06-01422C6E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3E15-4BC6-4B22-B5F0-B6D9CEC4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1F83-C320-4570-8B23-9E24151C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0C519-2662-430D-9F05-5FDE39EA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4CBE-06EC-4951-879C-60D4677F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EDED-B667-46A7-A7CB-E26C1DE8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6F81-573D-4589-9518-17910B13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CD44-DFCE-4090-8C6E-F3558C94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5F3-BA11-4C81-88C1-0E17ED6C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DADA-E686-40FE-9999-D68068FE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785A-6785-41F1-9DA3-FA55340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1A1D-8912-4F75-B60D-A5A54E5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ABF62-E8C9-4CB1-955C-C922E1FB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5389-7BA4-43BE-960A-BA394AD1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4075-073A-49B0-9153-2836AE96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76DD-BD43-43FE-BA14-609DCCD0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E5F1-68E0-46A1-9095-7E649B24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2D9B1-8155-4B46-BCF7-6E119E72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9DFB-A49E-4594-AED5-6F4F479B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09B-79D6-4671-BAE3-18F1A0CD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6C28-94CC-4DCB-9C44-7DDE6A9D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A3B3-B67D-430A-900D-48013B00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8E10-E3F0-40F2-BDE8-19CDEF98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7508D-6850-4BDA-AD1B-2D40787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B6DB-B64B-4F81-AB91-00E901D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A27EF-ACCB-4AFB-B339-D2B1E9D1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DB4AE-F5BC-4B4C-B322-7CEF1D6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D94E-73AB-4A23-987C-1E71C07D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CB53-4532-47F9-869D-CF6DE8EF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3F92-7E57-45D7-A794-B5A6F7E6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ACD-A27F-405C-A786-435F4FA8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B188-846A-460F-BFA3-CFD594C4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B78E-C89D-465A-BFD7-90E4F6BB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6A63-7CC2-4CD9-B414-8C0869A4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E3B3-480D-4D12-B30D-039EE577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5AEA0-1B12-43A1-AEAF-C5888B63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8718-7852-408D-B8D1-429AF0D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C560A-4838-43F5-8A34-EFEB130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96A2-3667-4E74-B8DF-0CDA916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5937C-6FD5-455F-B69E-64A97C53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67180-ABE4-4FAF-98BF-2E4EE661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FD0-A0D0-4241-9EE1-AD569111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E135-A7D3-4B9A-B5AB-AEA93F6E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64E44-8F3D-462B-8871-5F94E8CC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F0DE-7C86-4B46-AA2D-22E229B6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02A61-9798-4C0E-AD12-D5F4A0B4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B442D-C1EE-420C-9250-1C79AC2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E1C7A-EDEA-49AF-8D72-B31943E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2CAF-6706-4ECF-B0BF-7433D1BD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5EEA0-8CB9-42AD-B800-17B2A05B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F06DE-C09A-4CA5-8644-51618F23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D3F3C-C3FA-444F-9748-E01F22D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829-BD52-43C8-9CBD-F476C821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39D0D-0613-4804-9EDA-B7C4086B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EDF8-53FC-4C2D-9680-572BA697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4D9C7-2076-474D-AA91-D5B02427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ABE-248A-47C9-A0A5-1F569514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437-2661-45C4-AA6E-E5A7AED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8164-EFD5-4A81-9A9D-DAC4B4362F4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EE6C-4EB7-41C8-B6F7-C05A52BFBC9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38CA-5122-49A4-B620-3049303AAB4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7A93-B86C-4A02-A847-37BF65D39DC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D1A0-7736-4FA2-AFB5-13D87E18A5B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584D-9EEB-48CD-855F-EF82819AA0D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2560" y="2163600"/>
            <a:ext cx="8186760" cy="1481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80952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828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ysical Exa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vary with the drug(s) used by the 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withdrawal may not correlate with dose or duration of drug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ep tendon and primitive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uscle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ors and myoclonic je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itched c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1676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abolic/Motor/Respira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r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eezing/con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cc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ooting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ordinated suck and swa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gain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hypnea/nasal 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r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stools/dia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 are usually observed for at least 3-5 days for S/S of withdrawal before they are discharged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stinence scoring is a way to assess withdrawal 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several abstinence scoring systems, but none have been adopted as the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nnegan scoring system is the most comprehensive and widely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ore of 7 or less is considered mild withdrawal and infants do well with non-pharmacologic comfor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scores of 8 or more generally indicate the need for pharmacolog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2133720" y="-20520"/>
          <a:ext cx="486072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20520"/>
                    <a:ext cx="486072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ies On N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a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screens do not reflect drug exposure throughout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omen who use drugs are multiple drug users, and also drink alcohol and smoke cigare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it is difficult to isolate the effect of on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pi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frequent cause of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 of symptoms: Minutes after delivery to 2-3 days of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nical course: Variable, can show any of the s/s mentioned before, s/s can persist up to 3-6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Good, minimal teratogenicity, good catch up growth by 1-2 years, most have normal cognitive and motor development at 5-6 years with long term follow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arbitur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s except onset usually later (4-7 days after bir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ation of s/s usually 2-6 weeks, but can last as long as 4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finition of Neonatal Abstinence Syndrome (NAS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ondition that an infant experiences when withdrawing from certain drugs that his/her mother took during pregn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nzodiazepi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much is known about benzodiazep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usually not until 1st few days after bi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has been a reported case where s/s started 21 days after birth with chlordiazepoxid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coh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most drug used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3-12 hours after deliv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More CNS effects, less severe and of shorter duration than withdrawal from opi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cerning is the risk for Fetal Alcohol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40% risk in infants born to alcoholic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alcohol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ause of mental retardation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 (FAS)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eria for FA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atal or postnatal growth 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 involvement: developmental delays,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morphic Facial Features: microcephaly, microphthalmia, short palpebral fissures, poorly developed philtrum, thin upper lip, hypoplastic max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merous congenital anomalies are associated with F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on’t meet the criteria, but present with fetal alcohol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Content Placeholder 3" descr="FAS.jpg"/>
          <p:cNvPicPr/>
          <p:nvPr/>
        </p:nvPicPr>
        <p:blipFill>
          <a:blip r:embed="rId1"/>
          <a:stretch/>
        </p:blipFill>
        <p:spPr>
          <a:xfrm>
            <a:off x="4648320" y="1905120"/>
            <a:ext cx="4216320" cy="3481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FAS2.jpg"/>
          <p:cNvPicPr/>
          <p:nvPr/>
        </p:nvPicPr>
        <p:blipFill>
          <a:blip r:embed="rId2"/>
          <a:stretch/>
        </p:blipFill>
        <p:spPr>
          <a:xfrm>
            <a:off x="152280" y="190512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cause of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ee s/s that represent the direct effects of the stimulant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/Duration: Within first 7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: Tremors, high pitched cry, irritability, excessive suck, hypertonia,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and Methamphetamine exposed fetuses have a high rate of spontaneous abortions, stillbirths, IUGR, prematurity, and asphyxia related to placental ab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vasoconstriction and decrease in placental blood flow with consequent fetal 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teratogen because of the vascular effects: CNS &amp; CV anomalies, limb defects, intestinal atr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there is good catch up growth by 1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may be speech and behavioral problems as children get o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have shown no difference with respect to intellectual ability in children who were drug-exposed vs.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mphetam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drawal symptoms are less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Unclear, may be associated with neurocognitive defic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rijuan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ies have suggested an increased risk of prematurity and lower birth we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Higher incidence of ADHD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SR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NAS in up to 1/3 of neonates exposed in ut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/Duration: Severely effected present in 1st 48 hours of life and resolve within 4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Tremors, hypertonia, irritability, GI disturbance, respiratory dist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 usually self-limited &amp; does not require pharmacologic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xetine with greatest propensity to cause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e Nursery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ifestations of drug withdrawal in some infants will resolve within a few days and drug therapy is not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fant’s withdrawal score should be assessed to monitor the progression of symptoms and adequacy of trea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idenc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% of deliveries nationwide are to women who have abused drugs during pregnancy (excluding alcoh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should always begin with non-pharmacological meas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stimulation - keep baby in a darkened and quiet environment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addling and positioning - use gentle swaddling and positioning that encourages flexion rather than ext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ent excessive crying with a pacifier, cuddl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eding should be on demand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for pharmacologic treatment is based on the infant’s abstinence scores and mechanism of action of the drug that the infant was exposed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oal of therapy is to allow the infant to withdraw without excessive excitation that leads to withdrawal symptoms causing discom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cation Choices and Doses 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: high dose = 80-100 mcg/kg q4 hrs; low dose = 30-40 mcg/kg q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: 0.05 – 0.2 mg/kg q12-2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prenorphine: 13.2 mcg/kg/day in 3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enobarbital: Loading = 16mg/kg per 24 hrs; Maintenance = 2 – 8 mg/kg/day in 2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: 1 – 2 mg q8 – 12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ce a pharmacologic dose has been advanced to its peak to keep patient comfortable, the dose is gradually weaned so the infant can tolerate mild symptoms of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ngth of time it takes to wean an infant off medication varies from infant to inf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oid withdrawal using oral morphine sulfate has been shown to be most eff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se can be increased by 20% q8 hrs until s/s of withdrawal are control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dose: 0.2mg/kg/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aning process varies between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peak dose is maintained x 72hrs, then wean by 20% every oth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tional use of Phenobarbital and/or Diazepam is much debated because of added depressant effects on an infant who is already on a narcoti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enobarbital mostly used for CNS withdrawal sympto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referred for non-opiate related 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cohol – Not recommended if use is ex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drowsiness, diaphoresis, deep sleep, weakness, decreased linear growth, abnormal weight gain, and decreased maternal milk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cotine – Controvers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s into breas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crease milk production and cause the baby to have poor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phetam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 and poor sleeping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, vomiting, diarrhea, tremors, 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juana - No clear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done – Compatible with breastfee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piates are compatible with breastfeeding except for he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amounts cross into breast milk and there is poor oral bio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oin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tremors, restlessness, poor feeding,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SRIs - Generally safe for breastfeeding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traline and Paroxetine have minimal transfer into human mi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xetine produces significant plasma concentrations in some breastfeeding infants, which can 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c, irritability, feeding and sleep disorders, slow weight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should be monitored for irritability and poor feeding, or breast milk can be pumped and du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hophysi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of abuse are often of low molecular weight, water-soluble, and lipophi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easily transferred across the placenta to the fetus, and across the blood-brain barrier of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/2 life of drugs usually prolonged in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either bind to CNS receptors, or affect the release and reuptake of various neurotransmit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have long lasting effects on developing dendritic structures and are toxic to fetal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ng Term Manage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e first few years, children exposed to drugs in utero can have neurologic 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places a difficult child in a difficult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e follow-up and social services involvement may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isk Factors Associated with an Increased Incidence of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socioeconomic circumst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enage m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prenat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Condi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drug ab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nutritional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ectious Disease (Hep B, syphilis, HIV, and other STD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bstetric Complica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G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amnio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to cocaine: HTN, cardiac arrhythmias, CVA, abruption, respiratory arrest, fetal de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y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rug users withhol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the quantity and duration of abuse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only reflects intake from the last few days prior to deli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positive immunoassays can occur (i.e. morphine positive if took in poppy seeds or codeine from cold/cough medicin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chromatography or mass spectrometry may determine th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conium analysis reflects drug usage over a longer period and is more sensitive than u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 = specimen requires processing prior to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ir analysis is the most sensitive test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lationship exists between amount of drug use and amount incorporated in the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born hair can be obtained to reflect exposure during last trimester, and can be obtained later should symptoms occur where in-utero drug exposure was previously unsus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8:00:31Z</dcterms:created>
  <dc:creator>Ada Ho</dc:creator>
  <dc:description/>
  <dc:language>en-US</dc:language>
  <cp:lastModifiedBy>Health Services Department</cp:lastModifiedBy>
  <dcterms:modified xsi:type="dcterms:W3CDTF">2010-05-24T23:59:25Z</dcterms:modified>
  <cp:revision>24</cp:revision>
  <dc:subject/>
  <dc:title>Neonatal Withdrawl Syndrome</dc:title>
</cp:coreProperties>
</file>