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159-4BDD-4ED8-B5EF-A82A3A8D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0C98-3A4D-4D14-A54E-E6C8F671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5C4-F8C6-4ED9-A199-406D4620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DDA-282D-4159-A005-55062429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BC9F-0F0B-45DB-9A08-070783B8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7555-30B8-4D1B-A2E4-A3575F86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5369-432D-497D-B548-87034423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F2F8-5184-4383-BFD1-B71250BB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D0CC-EC55-4566-9051-1641E7FA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8710-F8D6-4BA3-8EC1-78F1164F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A985-E801-4B1F-878B-60C2100E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EE0-DB43-4113-A97F-997E4C90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671C-C076-46DC-945C-50FEB217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7F79-C1E9-41D8-B528-AFACE312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7B5C-1AE8-4611-824E-537A2647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6AE0-0E71-49CD-9CE5-E2017E8E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DF82-616A-491D-AD42-F4F9C439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0C00-0FEA-4B79-B0F9-3CB8CF15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8744-3F61-4026-B655-F5B1557E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A27C-8DBD-48B1-865B-6F6DBD2D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BFDD-DE8C-4F51-88F6-07E4FA57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69E3-CBE8-4EE8-8FD7-BA02709F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EED-8A90-4453-8020-AAE55DCC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F627-9D8D-4BFD-A401-04EECF75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CD30B-C1E7-4688-BA24-4F2D101C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B8C4-068D-4CE2-B1D1-B4BD7FA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8493-3828-4093-BD40-7DF1598A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ED9A3-24E0-413A-B28C-D2A4916C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54C6-0C20-4BC2-AFC0-0B5E6579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C9C27-AB3F-4FF8-BA91-218073E4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C1CD-0566-4C79-BD2B-A506480A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F6F0C-6616-4791-A215-ED4995DD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4203-1051-4F85-9B90-228F9364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B85-2DD8-47D0-8449-2B9F835C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6EC51-68F9-4139-AFFD-6B91DF55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C1D4-5E6B-4909-BF4E-49904BAD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3CE1-32C1-4546-8D02-AEED9A6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C1B7-1F4E-4F1E-88C4-4E8A7E8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1E39F-EF84-4737-A7C4-0326CBEF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7641-E3D3-484B-907A-9168DFDE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6A4D2-A29A-42EA-B0A1-F64D836C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4423-7E38-4886-8364-A7EB2DC2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DA26C-B192-44D4-884F-ED1CABFC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22068-1D0F-4D33-9BF6-DE875F2E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6FB-40A6-44D7-9C51-52A2FDF6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845F-E95C-42E8-8DBE-0B747E4F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E6247-8B9C-4744-BBD4-7D57ED4C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082E-294A-497B-B28D-D8EA1459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6C94B-0A17-43CE-BF86-474E0182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044E-D898-4E26-9F78-B60B403A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C700-0FDC-478F-B4AC-DBBD521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698B6-1FD5-416E-86A0-EB3825F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C16F-4D3B-411C-9330-6223F4F0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AF11B-1BAD-41E7-90BA-616F510C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D3945-F296-4F89-A114-6BEF12EF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4D8-BD0A-4583-A634-EEF981DC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28B37-F9B3-44C2-A283-D2FDE812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0BD6A-B0BE-48F5-8B54-4F4C6DF7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8465-1392-437F-B5BB-2EF47620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35AA7-3967-4729-987A-5B9A756A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5773-793D-4B2F-AE4E-E1324415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E88EE-BD51-4E8A-B121-97B461E9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B0A47-245E-44A0-B81F-0F175C81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3D8C4-B46C-419B-8404-88D384DD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D5C6-FF31-40B1-9807-2AA74445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3505E-1B86-41BA-98B2-5605F1B7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62E-0E55-4EF2-BF07-D0FB5EC7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5AC60-99BB-47D7-A0CB-47A8526B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637AE-746F-42F2-9A89-D49B6375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52623-A951-4890-8668-AB473806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A6E-B913-4E8D-8411-FD38E7C2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E02-1CD9-42F4-8A3A-7A4F4FB2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A61C-AFB9-4F7A-A98A-443C0A7CC8D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7CFD-2F0F-4E7B-9E50-5D756FACA9F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4D6D-4F72-49EA-ACBB-DA051343D51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6A7F-B7BC-4054-81CA-ACA52595513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500A-0AD8-4FD9-AFAF-66521E3868A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8453-FD88-4AFB-A79A-F5A8A856B32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2560" y="2163600"/>
            <a:ext cx="8186760" cy="1481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80952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828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ysical Exa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vary with the drug(s) used by the 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withdrawal may not correlate with dose or duration of drug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ep tendon and primitive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muscle 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mors and myoclonic je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pitched c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e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16765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abolic/Motor/Respira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r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eezing/con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w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cc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ooting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ordinated suck and swa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gain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hypnea/nasal 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76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rg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stools/dia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s are usually observed for at least 3-5 days for S/S of withdrawal before they are discharged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stinence scoring is a way to assess withdrawal 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several abstinence scoring systems, but none have been adopted as the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innegan scoring system is the most comprehensive and widely u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ore of 7 or less is considered mild withdrawal and infants do well with non-pharmacologic comfor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scores of 8 or more generally indicate the need for pharmacolog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2133720" y="-20520"/>
          <a:ext cx="4860720" cy="68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20520"/>
                    <a:ext cx="486072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3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ies On N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a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screens do not reflect drug exposure throughout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omen who use drugs are multiple drug users, and also drink alcohol and smoke cigare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it is difficult to isolate the effect of on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pi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frequent cause of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 of symptoms: Minutes after delivery to 2-3 days of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nical course: Variable, can show any of the s/s mentioned before, s/s can persist up to 3-6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Good, minimal teratogenicity, good catch up growth by 1-2 years, most have normal cognitive and motor development at 5-6 years with long term follow-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arbitur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s except onset usually later (4-7 days after bir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ation of s/s usually 2-6 weeks, but can last as long as 4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finition of Neonatal Abstinence Syndrome (NAS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ondition that an infant experiences when withdrawing from certain drugs that his/her mother took during pregn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enzodiazepi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much is known about benzodiazep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usually not until 1st few days after bir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has been a reported case where s/s started 21 days after birth with chlordiazepoxid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lcoh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most drug used to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3-12 hours after deliv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More CNS effects, less severe and of shorter duration than withdrawal from opi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concerning is the risk for Fetal Alcohol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40% risk in infants born to alcoholic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alcohol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ause of mental retardation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 (FAS)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eria for FA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atal or postnatal growth 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 involvement: developmental delays, 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morphic Facial Features: microcephaly, microphthalmia, short palpebral fissures, poorly developed philtrum, thin upper lip, hypoplastic max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umerous congenital anomalies are associated with F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don’t meet the criteria, but present with fetal alcohol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Content Placeholder 3" descr="FAS.jpg"/>
          <p:cNvPicPr/>
          <p:nvPr/>
        </p:nvPicPr>
        <p:blipFill>
          <a:blip r:embed="rId1"/>
          <a:stretch/>
        </p:blipFill>
        <p:spPr>
          <a:xfrm>
            <a:off x="4648320" y="1905120"/>
            <a:ext cx="4216320" cy="3481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FAS2.jpg"/>
          <p:cNvPicPr/>
          <p:nvPr/>
        </p:nvPicPr>
        <p:blipFill>
          <a:blip r:embed="rId2"/>
          <a:stretch/>
        </p:blipFill>
        <p:spPr>
          <a:xfrm>
            <a:off x="152280" y="190512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mmon cause of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see s/s that represent the direct effects of the stimulants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/Duration: Within first 7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: Tremors, high pitched cry, irritability, excessive suck, hypertonia, 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and Methamphetamine exposed fetuses have a high rate of spontaneous abortions, stillbirths, IUGR, prematurity, and asphyxia related to placental ab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vasoconstriction and decrease in placental blood flow with consequent fetal 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teratogen because of the vascular effects: CNS &amp; CV anomalies, limb defects, intestinal atr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ually there is good catch up growth by 1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may be speech and behavioral problems as children get o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have shown no difference with respect to intellectual ability in children who were drug-exposed vs.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mphetam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drawal symptoms are less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Unclear, may be associated with neurocognitive defic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rijuan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ies have suggested an increased risk of prematurity and lower birth we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Higher incidence of ADHD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SR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 NAS in up to 1/3 of neonates exposed in ut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/Duration: Severely effected present in 1st 48 hours of life and resolve within 48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Tremors, hypertonia, irritability, GI disturbance, respiratory dist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 usually self-limited &amp; does not require pharmacologic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oxetine with greatest propensity to cause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e Nursery Protoc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ifestations of drug withdrawal in some infants will resolve within a few days and drug therapy is not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fant’s withdrawal score should be assessed to monitor the progression of symptoms and adequacy of trea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cidenc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981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10% of deliveries nationwide are to women who have abused drugs during pregnancy (excluding alcoh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should always begin with non-pharmacological meas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 stimulation - keep baby in a darkened and quiet environment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addling and positioning - use gentle swaddling and positioning that encourages flexion rather than exte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ent excessive crying with a pacifier, cuddl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eding should be on demand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for pharmacologic treatment is based on the infant’s abstinence scores and mechanism of action of the drug that the infant was exposed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oal of therapy is to allow the infant to withdraw without excessive excitation that leads to withdrawal symptoms causing discom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cation Choices and Doses 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 Sulfate: high dose = 80-100 mcg/kg q4 hrs; low dose = 30-40 mcg/kg q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adone: 0.05 – 0.2 mg/kg q12-2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prenorphine: 13.2 mcg/kg/day in 3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enobarbital: Loading = 16mg/kg per 24 hrs; Maintenance = 2 – 8 mg/kg/day in 2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epam: 1 – 2 mg q8 – 12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ce a pharmacologic dose has been advanced to its peak to keep patient comfortable, the dose is gradually weaned so the infant can tolerate mild symptoms of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length of time it takes to wean an infant off medication varies from infant to inf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oid withdrawal using oral morphine sulfate has been shown to be most effec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se can be increased by 20% q8 hrs until s/s of withdrawal are control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dose: 0.2mg/kg/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aning process varies between 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he peak dose is maintained x 72hrs, then wean by 20% every oth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tional use of Phenobarbital and/or Diazepam is much debated because of added depressant effects on an infant who is already on a narcoti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enobarbital mostly used for CNS withdrawal sympto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referred for non-opiate related 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cohol – Not recommended if use is ex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ause drowsiness, diaphoresis, deep sleep, weakness, decreased linear growth, abnormal weight gain, and decreased maternal milk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cotine – Controvers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es into breas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crease milk production and cause the baby to have poor 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phetam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 and poor sleeping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, vomiting, diarrhea, tremors, 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juana - No clear recommend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done – Compatible with breastfee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piates are compatible with breastfeeding except for he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amounts cross into breast milk and there is poor oral bio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oin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tremors, restlessness, poor feeding,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SRIs - Generally safe for breastfeeding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traline and Paroxetine have minimal transfer into human mil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xetine produces significant plasma concentrations in some breastfeeding infants, which can 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ic, irritability, feeding and sleep disorders, slow weight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 should be monitored for irritability and poor feeding, or breast milk can be pumped and du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thophysi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of abuse are often of low molecular weight, water-soluble, and lipophi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easily transferred across the placenta to the fetus, and across the blood-brain barrier of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/2 life of drugs usually prolonged in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either bind to CNS receptors, or affect the release and reuptake of various neurotransmit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have long lasting effects on developing dendritic structures and are toxic to fetal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ng Term Manage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ing the first few years, children exposed to drugs in utero can have neurologic probl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places a difficult child in a difficult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ose follow-up and social services involvement may be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isk Factors Associated with an Increased Incidence of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socioeconomic circumst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enage m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prenatal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ther Condi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e drug abu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nutritional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ectious Disease (Hep B, syphilis, HIV, and other STD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bstetric Complica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G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tal Di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amnio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to cocaine: HTN, cardiac arrhythmias, CVA, abruption, respiratory arrest, fetal de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y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rug users withhol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the quantity and duration of abuse are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only reflects intake from the last few days prior to deli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positive immunoassays can occur (i.e. morphine positive if took in poppy seeds or codeine from cold/cough medicine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chromatography or mass spectrometry may determine th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conium analysis reflects drug usage over a longer period and is more sensitive than ur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 = specimen requires processing prior to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ir analysis is the most sensitive test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relationship exists between amount of drug use and amount incorporated in the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born hair can be obtained to reflect exposure during last trimester, and can be obtained later should symptoms occur where in-utero drug exposure was previously unsus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8:00:31Z</dcterms:created>
  <dc:creator>Ada Ho</dc:creator>
  <dc:description/>
  <dc:language>en-US</dc:language>
  <cp:lastModifiedBy>Health Services Department</cp:lastModifiedBy>
  <dcterms:modified xsi:type="dcterms:W3CDTF">2010-05-24T23:59:25Z</dcterms:modified>
  <cp:revision>24</cp:revision>
  <dc:subject/>
  <dc:title>Neonatal Withdrawl Syndrome</dc:title>
</cp:coreProperties>
</file>