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92C-B326-4241-89AB-80E83CF1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503-26B4-4066-B9E1-0CB74DD1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F2A-3D3E-41AD-AA26-1A8F87A4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E45-E6D1-481B-8BD7-64B6CF70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8EF6-0B63-4B00-BD4A-511CED25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EDF9-C916-4103-97D9-F0B93432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4152-B752-4569-A2A6-34620A2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740C-1F84-4303-AB48-F2D83718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76AE-F130-477C-B0B2-FAA1362C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6D90-48EF-4C13-ACDC-27B9EFD3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F405-262E-42A8-BE6A-5130DB3F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C0B-6806-4441-ACD1-3082D615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9F46-ED33-44F8-9883-0A45ADD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E0ED-F753-42C8-87EF-5032A817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431F-1C11-4CCB-B80C-A527D959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B4D7-8033-4721-84DF-1AAC26B8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AAA0-617C-434B-BF6E-C6B54C64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832C6-33D6-450B-9B7D-3EC91E5D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CFF2-449E-4898-96E1-420748C4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09CE-7B31-4FF6-A11C-E76002C6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DEA3-D458-4B63-AC9C-FBDA2F30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9A8D-B39C-4A80-B6F8-28067364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F98-566C-4B7A-BFC3-F4DD2157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7E01-1E20-4D6B-AE2E-9EA98EE5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8573-8F50-4DE1-AB75-AE58F74E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653C-DC37-4068-8B37-99F5915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104B-C4C4-44A1-8441-BD360A57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48A0F-C515-4139-A7A2-3CBFBFDD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08EF-7A3C-4775-BBBF-2695B74A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B1510-CC43-4033-8126-177DF6EA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8E1A9-E463-489B-A526-C668EF40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37AA-3FE1-4EEF-A723-191BEEC5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08328-F1B6-4971-B89D-DC5FF480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6E4-44AF-48DB-8F64-DC2CADFB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449D-7A25-436A-A277-1A2D694C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85D3F-8E8A-461F-8832-40CFF3BE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91A7-7B12-4246-BFF1-E058061B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BFD1E-1B74-499B-8A65-B70AD55B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A421-7ACB-4D21-8428-D0C2A413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66C0-9FDA-4A3D-A981-09DC7908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8A71-7766-4C54-8B27-60C8DFC9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DED0-81B8-4C4D-8E56-E4BDC029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ADBAA-2D83-4C58-BBCC-12E70AD7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6F67C-40A4-4FC4-8FA4-2219BBCD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F3F-1558-4EE8-AA3A-D243B414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33B2-2862-4214-8554-B673D3E8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200C3-FE55-4E73-9161-86A71D22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8F36D-5443-467E-97A7-CA7BC563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17301-15AB-4395-A6E4-87A7981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A0953-78C2-4CFF-BBA6-D9EA389C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CF9A8-6203-43AC-857B-60452A40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2383E-6D7C-4AF7-B076-51B2C559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71064-D9F9-44C0-B277-628944FF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85B2-2355-49DB-A341-3E5FCF0B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9682-35CB-4C5A-867F-95901AA7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172-F129-4FB8-ADBC-B857D133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07811-1D3A-4706-8305-86AAD60F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560D-4375-42BC-A785-72309768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99C22-F506-4F3D-9D03-35E6CB6C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1FDED-5521-413F-B3B2-15A1FC62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977C6-3D71-42FB-854C-0B724057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08B6D-C34A-49CD-8D05-F29091F7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A6242-D500-4B68-AA26-073D8820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DB1CA-7FCB-45F9-85CD-0622D85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976E9-0071-4B00-ABE1-1395B35A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1984C-BA30-459D-90A3-C4857401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64A-05B4-4FD3-B3F9-A87E933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51CED-DF46-4162-96E1-5EFE5A56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6A938-369A-4781-B230-E541E698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B4C7E-191B-4904-8115-0AEE22BD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F2B-CF14-4363-B0A7-BF21E28E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558-502C-4934-8D8B-0FECE758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3E1C-24AC-4B16-BA35-548C0F37EB7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C6F7-FA34-4D5A-894B-829B74A75B9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D6DF-7FB6-4C3F-A070-974D070C522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AFFD-25FC-4D0D-A913-3BEF9BE1FCC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3222-866C-439C-8E88-BCBD2A19822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04DA-B312-408B-8309-A9DD35E78E1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2560" y="2163600"/>
            <a:ext cx="8186760" cy="14814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80952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828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ysical Exa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vary with the drug(s) used by the 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ity of withdrawal may not correlate with dose or duration of drug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irr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ep tendon and primitive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muscle 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mors and myoclonic je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pitched c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e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16765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abolic/Motor/Respira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r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eezing/con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w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cc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rooting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ordinated suck and swa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gain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hypnea/nasal 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76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rg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stools/dia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s are usually observed for at least 3-5 days for S/S of withdrawal before they are discharged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stinence scoring is a way to assess withdrawal s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several abstinence scoring systems, but none have been adopted as the stand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innegan scoring system is the most comprehensive and widely u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ore of 7 or less is considered mild withdrawal and infants do well with non-pharmacologic comfor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scores of 8 or more generally indicate the need for pharmacolog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2133720" y="-20520"/>
          <a:ext cx="4860720" cy="68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20520"/>
                    <a:ext cx="486072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3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ies On N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a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screens do not reflect drug exposure throughout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omen who use drugs are multiple drug users, and also drink alcohol and smoke cigare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it is difficult to isolate the effect of on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pi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frequent cause of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 of symptoms: Minutes after delivery to 2-3 days of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nical course: Variable, can show any of the s/s mentioned before, s/s can persist up to 3-6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Good, minimal teratogenicity, good catch up growth by 1-2 years, most have normal cognitive and motor development at 5-6 years with long term follow-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arbitur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s except onset usually later (4-7 days after bir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ation of s/s usually 2-6 weeks, but can last as long as 4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finition of Neonatal Abstinence Syndrome (NAS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ondition that an infant experiences when withdrawing from certain drugs that his/her mother took during pregn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enzodiazepi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much is known about benzodiazep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usually not until 1st few days after bir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has been a reported case where s/s started 21 days after birth with chlordiazepoxid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lcoh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most drug used to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3-12 hours after delive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More CNS effects, less severe and of shorter duration than withdrawal from opi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concerning is the risk for Fetal Alcohol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40% risk in infants born to alcoholic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to alcohol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ause of mental retardation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 (FAS)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teria for FA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atal or postnatal growth 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 involvement: developmental delays, 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morphic Facial Features: microcephaly, microphthalmia, short palpebral fissures, poorly developed philtrum, thin upper lip, hypoplastic max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umerous congenital anomalies are associated with F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don’t meet the criteria, but present with fetal alcohol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Content Placeholder 3" descr="FAS.jpg"/>
          <p:cNvPicPr/>
          <p:nvPr/>
        </p:nvPicPr>
        <p:blipFill>
          <a:blip r:embed="rId1"/>
          <a:stretch/>
        </p:blipFill>
        <p:spPr>
          <a:xfrm>
            <a:off x="4648320" y="1905120"/>
            <a:ext cx="4216320" cy="3481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FAS2.jpg"/>
          <p:cNvPicPr/>
          <p:nvPr/>
        </p:nvPicPr>
        <p:blipFill>
          <a:blip r:embed="rId2"/>
          <a:stretch/>
        </p:blipFill>
        <p:spPr>
          <a:xfrm>
            <a:off x="152280" y="190512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common cause of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see s/s that represent the direct effects of the stimulants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/Duration: Within first 7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: Tremors, high pitched cry, irritability, excessive suck, hypertonia, 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and Methamphetamine exposed fetuses have a high rate of spontaneous abortions, stillbirths, IUGR, prematurity, and asphyxia related to placental ab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vasoconstriction and decrease in placental blood flow with consequent fetal 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a teratogen because of the vascular effects: CNS &amp; CV anomalies, limb defects, intestinal atr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ually there is good catch up growth by 1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may be speech and behavioral problems as children get ol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ies have shown no difference with respect to intellectual ability in children who were drug-exposed vs.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mphetam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drawal symptoms are less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Unclear, may be associated with neurocognitive defic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rijuan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ies have suggested an increased risk of prematurity and lower birth we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Higher incidence of ADHD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SR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 NAS in up to 1/3 of neonates exposed in ut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/Duration: Severely effected present in 1st 48 hours of life and resolve within 48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Tremors, hypertonia, irritability, GI disturbance, respiratory dist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 usually self-limited &amp; does not require pharmacologic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oxetine with greatest propensity to cause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e Nursery Protoc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ifestations of drug withdrawal in some infants will resolve within a few days and drug therapy is not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infant’s withdrawal score should be assessed to monitor the progression of symptoms and adequacy of trea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cidenc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981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10% of deliveries nationwide are to women who have abused drugs during pregnancy (excluding alcoh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should always begin with non-pharmacological meas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e stimulation - keep baby in a darkened and quiet environment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waddling and positioning - use gentle swaddling and positioning that encourages flexion rather than exten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ent excessive crying with a pacifier, cuddl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eding should be on demand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for pharmacologic treatment is based on the infant’s abstinence scores and mechanism of action of the drug that the infant was exposed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oal of therapy is to allow the infant to withdraw without excessive excitation that leads to withdrawal symptoms causing discom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dication Choices and Doses 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 Sulfate: high dose = 80-100 mcg/kg q4 hrs; low dose = 30-40 mcg/kg q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adone: 0.05 – 0.2 mg/kg q12-2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prenorphine: 13.2 mcg/kg/day in 3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enobarbital: Loading = 16mg/kg per 24 hrs; Maintenance = 2 – 8 mg/kg/day in 2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epam: 1 – 2 mg q8 – 12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ce a pharmacologic dose has been advanced to its peak to keep patient comfortable, the dose is gradually weaned so the infant can tolerate mild symptoms of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length of time it takes to wean an infant off medication varies from infant to inf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oid withdrawal using oral morphine sulfate has been shown to be most effec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se can be increased by 20% q8 hrs until s/s of withdrawal are control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dose: 0.2mg/kg/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aning process varies between 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he peak dose is maintained x 72hrs, then wean by 20% every oth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itional use of Phenobarbital and/or Diazepam is much debated because of added depressant effects on an infant who is already on a narcoti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enobarbital mostly used for CNS withdrawal sympto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referred for non-opiate related 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cohol – Not recommended if use is ex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ause drowsiness, diaphoresis, deep sleep, weakness, decreased linear growth, abnormal weight gain, and decreased maternal milk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icotine – Controvers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es into breast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crease milk production and cause the baby to have poor 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phetam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 and poor sleeping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, vomiting, diarrhea, tremors, 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juana - No clear recommend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done – Compatible with breastfee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piates are compatible with breastfeeding except for he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amounts cross into breast milk and there is poor oral bio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oin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tremors, restlessness, poor feeding,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SRIs - Generally safe for breastfeeding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traline and Paroxetine have minimal transfer into human mil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xetine produces significant plasma concentrations in some breastfeeding infants, which can 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ic, irritability, feeding and sleep disorders, slow weight 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 should be monitored for irritability and poor feeding, or breast milk can be pumped and dum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thophysi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of abuse are often of low molecular weight, water-soluble, and lipophi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are easily transferred across the placenta to the fetus, and across the blood-brain barrier of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/2 life of drugs usually prolonged in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either bind to CNS receptors, or affect the release and reuptake of various neurotransmit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have long lasting effects on developing dendritic structures and are toxic to fetal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ng Term Manage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ing the first few years, children exposed to drugs in utero can have neurologic probl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places a difficult child in a difficult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ose follow-up and social services involvement may be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isk Factors Associated with an Increased Incidence of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socioeconomic circumst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enage m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prenatal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ther Condi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e drug abu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nutritional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ectious Disease (Hep B, syphilis, HIV, and other STD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bstetric Complica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G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tal Di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oamnio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to cocaine: HTN, cardiac arrhythmias, CVA, abruption, respiratory arrest, fetal de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tory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rug users withhol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the quantity and duration of abuse are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only reflects intake from the last few days prior to deli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positive immunoassays can occur (i.e. morphine positive if took in poppy seeds or codeine from cold/cough medicine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pecific chromatography or mass spectrometry may determine th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conium analysis reflects drug usage over a longer period and is more sensitive than ur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 = specimen requires processing prior to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ir analysis is the most sensitive test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relationship exists between amount of drug use and amount incorporated in the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born hair can be obtained to reflect exposure during last trimester, and can be obtained later should symptoms occur where in-utero drug exposure was previously unsus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8:00:31Z</dcterms:created>
  <dc:creator>Ada Ho</dc:creator>
  <dc:description/>
  <dc:language>en-US</dc:language>
  <cp:lastModifiedBy>Health Services Department</cp:lastModifiedBy>
  <dcterms:modified xsi:type="dcterms:W3CDTF">2010-05-24T23:59:25Z</dcterms:modified>
  <cp:revision>24</cp:revision>
  <dc:subject/>
  <dc:title>Neonatal Withdrawl Syndrome</dc:title>
</cp:coreProperties>
</file>