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317-0256-4A3F-87EB-D7A78C44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989-6BF9-4955-8999-30545086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750-A827-4312-AFA8-A89DF5EF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DBD-263E-4382-B09E-7B13089A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640-89A7-45F9-9A0A-AC77E9B5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E5C-FC78-49ED-8FCB-F92F519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F94-90DE-414F-A2E5-346325BC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B93-071D-418D-8913-21013FA3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D16-17A7-44D2-9792-1B9BFD25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31A-7FD6-44F3-B3D6-52F3C42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D20-83D5-46D1-9D42-DE962044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54C-05CA-4D9B-ACE1-A23E3B49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C5F-5011-48FD-9C60-7DB685A3B0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onatal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ually resolves with in 2 wee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platelet count needs to be followed until normalized and stab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persists longer may be a different diagnosi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itoring for future pregnancies and possibly treatment with maternal IVIG/steroi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te-Onset Thrombocytopen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Appearing:  Sepsis, NEC, IEM (Propionic Acidemia, isovaleric acidemia, methylmalonic acidemia, Gaucher Diseas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ll Appearing:  Drug induced, thrombosis, Fanconi’s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 or We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techia, bru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ntonel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siz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masses (renal vein thrombo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ysmorphic featur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earm or thumb abnormalities (TAR syndrome or Fanconi anemi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enetic Disorders Associated With Thrombocytopenia</a:t>
            </a:r>
            <a:br>
              <a:rPr sz="4000"/>
            </a:b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- From Neoreviews 2009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Chromosomal: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13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las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utis, CHD, cleft lip and palate, poly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8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UGR, CHD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r-bottom feet, overlapping digits,  hypertelorism, smal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th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inodactyly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isomy 21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single palmar crease, hypotonia, short neck, w/ redunda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sterior fold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urner syndrome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cubitus valgus, webbed posterior neck, broad chest , with wide-spaced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ipples,lower extremity ed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11 q terminal disorder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HD, GU anomalies,  facial anomalies, abnl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ain imaging, limb anomalie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Jacobsen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)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Familial :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y-Hegglin anomal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Sebastian syndrome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chtn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iant platelets, sensorineural hearing loss, cataract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phritis, neutrophilic inclusion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rnard-Soulier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enitourinary abnormalities (cryptorchidism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genital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thrombocytopenia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l head size and shape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CHD, cleft and high-arche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late, abnormal kidneys, optic atrophy, valgus and varus  deform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ertebral anomalies,coloboma, scoliosis, 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scott-Aldrich syndrom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mmunodeficiency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mall platelets, eczem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egakaryocytic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tricted forearm pronation, proxim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oulnar synostosis in forearm, and radioulnar synostosis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sent bone marrow megakaryocyte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anconi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ypopigmented and hyperpigmented skin lesions, urinary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ract abnormalities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icrocephaly, upper extremity radial-side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 involving the thumb,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ncytopenia (usually with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set in childhood)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rombocytopenia and absent radii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ortened/absent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i bilaterally, nml thumbs, ulnar and hand abnormalities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normalities of the humerus, CHD, eosinophil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ukemoid reaction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onatal primary hemophagocytic lymphohistiocytosis Fever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SM, hyperferritemia, hypertriglyceridemia, hypofibrinoge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Metabolic: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pion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, methylmalonic 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TT, developmenta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lay, ketoacidosis, hyperglycinemia, hyperammonemia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sovaleric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idemia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dor of sweaty feet, poor feeding, hypotonia, hyperammonemia,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bolic acidosis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aucher disease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epatosplenomegaly, Gaucher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ells in bone marrow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doubt repeat sample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rrors from improper collection or unrecognized platelet clumping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lood culture +/- antibiotics depending on history, clinical picture and severit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view peripheral smear and MPV (Jacobsen and Fechtner syndromes present with large platelets and Wiskott-Aldrich syndrome and X-linked thrombocytopenia present with small platelet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(volume reduction not necessary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30,000- if clinically stable term or preterm &gt; 1 week of age and no I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50,000 for ill term infants or preterm infants (&lt;33weeks) in the first week of ag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&lt;100,000 if ICH or signs of active bleed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ndrew et al 1993 showed preterm infants tx at &lt; 150000 vs &lt;50,000 no differences in freq or severity of I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urray et al 2002 retrospective review no major hemorrhage in infants if platelets &gt;30,000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0-15ml/kg random-donor platele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ither CMV neg or leukoreduce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rradiation to reduce GVH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transfusions associated with TALI and increased mortalit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f neonate responds to transfus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ut needs transfusions on a weekly basis more likely due to decreased platelet production (congenital amegakaryocytic thrombocytopenia)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f needed every 1-2 days more likely increased platelet consump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axonhouse et al.  Thrombocytopenia in the neonatal intensive care unit. Neoreviews 2009;10;e435-445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Thromboctyopenia in the newborn.  Current opinion in pediatrics 2003; 15:17-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la, M. Evaluation and treatment of severe and prolonged thrombocytopenia in neonates.  Clinics in Perinatology 2004; 31; 1-1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oberts et al. Neonatal Thrombocytopenia: causes and management.  Arch Dis Child Fetal Neonatal Ed 2003; 88:F359-36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ndrew et al.  A randomized, controlled trial of platelet transfusions in thrombocytopenic premature infants.  J. Peds 1993;123:285-9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urray et al.  Evaluation and treatment of thrombocytopenia in the neonatal intensive care unit.  Acta Paediatrica Suppl 2002; 91:74-81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rombocytopeni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telet count &lt;150,000 ( 1-2% of healthy term infan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ild 100-1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rate 50-99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&lt;50,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 Less then 5% of  infants &lt;32 weeks have platelets &lt;104,000 and in late preterm &lt;123,00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~18-32% of infants admitted to NICU develop thrombocytopenia during there st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frequency in more preterm infa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risk for ICH, mortality, and long term neurodevelopmental disabil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latelet produc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duction of Thrombopoietin (Tpo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oliferation of megakaryocytes progenito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gakaryocyte matu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velopment and release of new platele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latelet productions starts at the end of the first trimester of pregnanc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measures of platelet production such as serum Tpo or reticulate platelet percentages (RP%) but they are not reliable in infan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erential Dia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2"/>
          <p:cNvGraphicFramePr/>
          <p:nvPr/>
        </p:nvGraphicFramePr>
        <p:xfrm>
          <a:off x="0" y="609480"/>
          <a:ext cx="9144000" cy="62485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arly Onset &lt;72 h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ell Appearing: Most common is autoimmune thrombocytopenia or placenta insufficiency (PIH or chronic HT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ild to moderate thrombocytopeni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adir on postnatal day 4-5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Usually resolves by 7-10 day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ore severe NAI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 Appearing:  Sepsis (Bacterial or viral), TORCH, D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utoimmune Thrombocytopeni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rly onset,moderate-severe thrombocytopeni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ually a maternal history of ITP or autoimmune disease (2 in 1000 pregnancie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y infant born to a mom with autoimmune disease should have a platelet count (incidence is about 10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treat with IVIG for thrombocytopenia, may need platelet transfus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valuate for ICH (incidence is ~1%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last from days to month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re thrombocytopenia (&lt;50,000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reased risk for ICH (Incidence is 8-22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y present antenatally with ICH, severe hydrocephalus, hydrops fetali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cidence 1 in 1500 pregnanc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ue to maternal Ab to paternal A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occur in first pregnanc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esting of Mother and Father for Human Platelet antigen (HPA) 1, 3, and 5. (90% of cases 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onatal Alloimmune Thrombocytopenia (NAI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If platelets &lt;50,000- Suggest cerebral imaging (US,CT,MRI)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ransfuse platelets: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al of random donor platelets fir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ineffective:  Antigen negative platelets should be used (maternal platelets or known PL A1 or PL A5 negative platelet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IVIG 1g/kg q 24hrs x 2 doses (can be given to help patient increase own platelets or in combination with random donor transfusion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onsider methylprednisolone (1mg/kg q 8hrs) with IVI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25:14Z</dcterms:created>
  <dc:creator>icn</dc:creator>
  <dc:description/>
  <dc:language>en-US</dc:language>
  <cp:lastModifiedBy>stacie</cp:lastModifiedBy>
  <dcterms:modified xsi:type="dcterms:W3CDTF">2010-03-10T04:11:24Z</dcterms:modified>
  <cp:revision>30</cp:revision>
  <dc:subject/>
  <dc:title>Neonatal Thrombocytopenia</dc:title>
</cp:coreProperties>
</file>