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F5B-F1BC-4A88-A6A4-EB45B854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B5A-9081-437D-A4F4-20766C56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D51-789F-4B44-BDF3-156A036F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D23-3900-41B5-AF86-12F8DB92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AB0-BC96-4427-A1D5-0698FEB1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DA0-6C76-4AA4-88F2-3BA5EB9C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712-D3B6-4C7A-B356-0FDAC3C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296-E743-4488-93C2-2144B4B8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8A3-1B51-4EF6-864E-E385E69A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56C-6E17-4B39-93F2-4555DAEC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264-6112-4EED-A6CD-E43AE463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1A1-3CFE-40F1-84CB-600A7FB8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96EA-FB48-4DF3-98E8-5722706DE1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onatal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ually resolves with in 2 wee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 platelet count needs to be followed until normalized and stabl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persists longer may be a different diagno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itoring for future pregnancies and possibly treatment with maternal IVIG/steroi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te-Onset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Appearing:  Sepsis, NEC, IEM (Propionic Acidemia, isovaleric acidemia, methylmalonic acidemia, Gaucher Diseas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 Appearing:  Drug induced, thrombosis, Fanconi’s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or We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techia, bru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ntonel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dominal masses (renal vein thrombo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ysmorphic featur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earm or thumb abnormalities (TAR syndrome or Fanconi anemi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enetic Disorders Associated With Thrombocytopenia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- From Neoreviews 2009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Chromosomal: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13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las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utis, CHD, cleft lip and palate, poly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8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UGR, CHD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r-bottom feet, overlapping digits,  hypertelorism, smal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th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ino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21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single palmar crease, hypotonia, short neck, w/ redunda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sterior fold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rner syndrome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cubitus valgus, webbed posterior neck, broad chest , with wide-spaced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ipples,lower extremity ed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 q terminal disorder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GU anomalies,  facial anomalies, abnl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ain imaging, limb anomali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Jacobsen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)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Familial :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y-Hegglin anomal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Sebastian syndrome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chtn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sensorineural hearing loss, cataract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phriti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rnard-Soulier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enitourinary abnormalities (cryptorchidism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ngenital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thrombocytopenia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l head size and shape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CHD, cleft and high-arched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late, abnormal kidneys, optic atrophy, valgus and varus  deform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ertebral anomalies,coloboma, scoliosis, 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scott-Aldrich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mmunodeficiency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mall platelets, ecz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tricted forearm pronation, proxim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oulnar synostosis in forearm, and radioulnar synostosis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anconi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ypopigmented and hyperpigmented skin lesions, urinar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act abnormalities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icrocephaly, upper extremity radial-side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 involving the thumb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ncytopenia (usually with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nset in childhood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ombocytopenia and absent radii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ortened/abse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i bilaterally, nml thumbs, ulnar and hand abnormal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of the humerus, CHD, eosinophil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ukemoid reaction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onatal primary hemophagocytic lymphohistiocytosis Fever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SM, hyperferritemia, hypertriglyceridemia, hypofibrinoge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Metabolic: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pion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, methylmalonic 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TT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ketoacidosis, hyperglycinemia, hyperammo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ovaler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dor of sweaty feet, poor feeding, hypotonia, hyperammo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bolic acidosi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aucher diseas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epatosplenomegaly, Gauch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ells in bone marr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doubt repeat sample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rrors from improper collection or unrecognized platelet clumping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lood culture +/- antibiotics depending on history, clinical picture and severit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view peripheral smear and MPV (Jacobsen and Fechtner syndromes present with large platelets and Wiskott-Aldrich syndrome and X-linked thrombocytopenia present with small platelet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(volume reduction not necessary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30,000- if clinically stable term or preterm &gt; 1 week of age and no I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50,000 for ill term infants or preterm infants (&lt;33weeks) in the first week of ag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100,000 if ICH or signs of active bleed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ndrew et al 1993 showed preterm infants tx at &lt; 150000 vs &lt;50,000 no differences in freq or severity of ICH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urray et al 2002 retrospective review no major hemorrhage in infants if platelets &gt;30,000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-15ml/kg random-donor platele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ither CMV neg or leukoreduce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rradiation to reduce GVH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transfusions associated with TALI and increased mortality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neonate responds to transfus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t needs transfusions on a weekly basis more likely due to decreased platelet production (congenital amegakaryocytic thrombocytopenia)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f needed every 1-2 days more likely increased platelet consump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axonhouse et al.  Thrombocytopenia in the neonatal intensive care unit. Neoreviews 2009;10;e435-44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Thromboctyopenia in the newborn.  Current opinion in pediatrics 2003; 15:17-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ola, M. Evaluation and treatment of severe and prolonged thrombocytopenia in neonates.  Clinics in Perinatology 2004; 31; 1-1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Neonatal Thrombocytopenia: causes and management.  Arch Dis Child Fetal Neonatal Ed 2003; 88:F359-364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ndrew et al.  A randomized, controlled trial of platelet transfusions in thrombocytopenic premature infants.  J. Peds 1993;123:285-9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rray et al.  Evaluation and treatment of thrombocytopenia in the neonatal intensive care unit.  Acta Paediatrica Suppl 2002; 91:74-8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telet count &lt;150,000 ( 1-2% of healthy term infan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ld 100-1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derate 50-99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&lt;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 Less then 5% of  infants &lt;32 weeks have platelets &lt;104,000 and in late preterm &lt;123,00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~18-32% of infants admitted to NICU develop thrombocytopenia during there sta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frequency in more preterm infa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risk for ICH, mortality, and long term neurodevelopmental disabil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latelet produc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 step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duction of Thrombopoietin (Tpo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liferation of megakaryocytes progenito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gakaryocyte matu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velopment and release of new platele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productions starts at the end of the first trimester of pregnanc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measures of platelet production such as serum Tpo or reticulate platelet percentages (RP%) but they are not reliable in infan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fferential Diagn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2"/>
          <p:cNvGraphicFramePr/>
          <p:nvPr/>
        </p:nvGraphicFramePr>
        <p:xfrm>
          <a:off x="0" y="609480"/>
          <a:ext cx="9144000" cy="62485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948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arly Onset &lt;72 h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ell Appearing: Most common is autoimmune thrombocytopenia or placenta insufficiency (PIH or chronic HT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ld to moderate thrombocytopeni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adir on postnatal day 4-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ually resolves by 7-10 day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severe NAI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 Appearing:  Sepsis (Bacterial or viral), TORCH, D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utoimmune Thrombocytopeni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arly onset,moderate-severe thrombocytopeni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ually a maternal history of ITP or autoimmune disease (2 in 1000 pregnancie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infant born to a mom with autoimmune disease should have a platelet count (incidence is about 10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treat with IVIG for thrombocytopenia, may need platelet transfusio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valuate for ICH (incidence is ~1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last from days to month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re thrombocytopenia (&lt;50,000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reased risk for ICH (Incidence is 8-22%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y present antenatally with ICH, severe hydrocephalus, hydrops fetali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idence 1 in 1500 pregnanc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ue to maternal Ab to paternal A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occur in first pregnanc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sting of Mother and Father for Human Platelet antigen (HPA) 1, 3, and 5. (90% of cases 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f platelets &lt;50,000- Suggest cerebral imaging (US,CT,MRI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ial of random donor platelets fir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ineffective:  Antigen negative platelets should be used (maternal platelets or known PL A1 or PL A5 negative platelet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IVIG 1g/kg q 24hrs x 2 doses (can be given to help patient increase own platelets or in combination with random donor transfusion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methylprednisolone (1mg/kg q 8hrs) with IVIG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9:25:14Z</dcterms:created>
  <dc:creator>icn</dc:creator>
  <dc:description/>
  <dc:language>en-US</dc:language>
  <cp:lastModifiedBy>stacie</cp:lastModifiedBy>
  <dcterms:modified xsi:type="dcterms:W3CDTF">2010-03-10T04:11:24Z</dcterms:modified>
  <cp:revision>30</cp:revision>
  <dc:subject/>
  <dc:title>Neonatal Thrombocytopenia</dc:title>
</cp:coreProperties>
</file>