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6606-C1A1-416F-A916-1DEFE950B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5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able 2. Differential Diagnosis of Neonatal Seizures by Day of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BD6C-23C7-4873-8021-DA84638C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215-85B9-4A9C-9F00-B96BB097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D2C-A3DB-4DD2-9951-E3D26F7C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510-AB08-4B8D-BC34-F12DCA71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BFF-5788-463E-B35B-B5327CEA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A6A-80EE-4D28-95D3-C5044368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143-C574-4E61-8BC1-350ACD8E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899-A42B-47B9-A714-06FEB6D8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D38-B4BD-4FFC-A610-C6F7641F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8AE-BED9-4601-9215-D0AA0E4C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17B-40B8-45AE-921A-584D1476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2C1-C404-4192-939D-5F166752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DCBA-E90D-4FA9-845D-DBAB76AAC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scilla Joe, M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ldren’s Hospital &amp; Research Center at Oak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btle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premature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observed type of seiz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manifestations:  Bicycling movements, lip smacking, apnea, and eye movements or staring, un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have no electrographic correlate, are likely primarily subcor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or multifocal, rhythmic movements with slow return m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associated with generalized or focal brain abnorm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ly associated with electrographic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ed flexion or extension of one extremity or the whol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ve neocortical damage with uninhibited subcortically generated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or may not have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yoclonic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pid, isolated jerks which lacks the slow return phase of clonic mov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not associated with electrographic corre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 movements may be normal in preterm or term i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epileptic mo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sleep myoclo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ulousness or jitter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evoked myoclonus from metabolic encephalopathies, CNS mal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nign Sleep Myoclo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set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chronous jerks of upper and lower extremities during sle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EEG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oked by benzodiaze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ases upon aro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lves by 2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itteriness vs.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cular phenom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us sen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ments cease with passive flex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ypoxic Ischemic Encephalopath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izures begin within 24-72 hours after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s for 50-60% of all neonatal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asphyxia occurs before or during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erial cord pH &lt; 7.0, base deficit &lt; 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0% develop seizures within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2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stress:  hypotonia and unrespon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standing dysfunction:  hypertonia with cortical thumbing, joint contractures or conversely hypotonia with encephal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ningitis/ Encephalit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5-10% of al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RCH, enterovirus, parvovi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present by day 3 of life, except for HSV which may present in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of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BS, listeria, E coli, strep pneumoni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s at end of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eek to 3 months of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acranial Hemorrh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s for 10% of al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e IV IVH/PV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/subdural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infarction (ischemia, dehydration, infection, polycyth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hophys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synchronous depolarization from large group of neur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excitatory amino acid release (glutama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ck of inhibitory system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larization results from Na influx into cells; repolarization from outflux of K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 of Na/K ATP pu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erebral Infar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involves middle cerebral ar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, clonic seizures com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risk for spastic hemipa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ous sinus thrombosis may cause hemorrhage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CNS mal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sencephaly, pachygyria, linear sebaceous nevus syndrome, polymicrogy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with seizures at a later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12819_web" descr=""/>
          <p:cNvPicPr/>
          <p:nvPr/>
        </p:nvPicPr>
        <p:blipFill>
          <a:blip r:embed="rId1"/>
          <a:stretch/>
        </p:blipFill>
        <p:spPr>
          <a:xfrm>
            <a:off x="1905120" y="3657600"/>
            <a:ext cx="4114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iologies: Metabol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, hypocalcemia, hypomagnesemia, hyper/hypo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of metabolism (&gt;72hrs of ag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inoacidopathies, urea cycle disorders, biotinidase deficiency, mitochondrial disorders, beta oxidation disorders, glucose transporter deficiency, peroxisomal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ben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familial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somal domi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-ictal exam is n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outcome is g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tonic-clonic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idiopathic neonatal seiz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rm, normal bi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inter-ictal state,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nic, occur day 5, may be Zn 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pileptic syndromes-malign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Myoclonic encephal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gmentary partial seizures, massive myoclo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, abnormal E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pro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tahara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d -3 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ous brief Tonic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sgenesis is cause, prognosis very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abolic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  glucose, lytes, BUN, creatinine, lactate, pyruvate, ammonia, biotinidase, quantitative amino acids, very long chain fatty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:  quantitative amino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SF:  cell count, glucose, protein, pyruvate, lactate, quantitative amino acids, HSV P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p recordings measure discharges that 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frontal or temporal regions may not spread to the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common in the new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nical Seizures Without EEG Correl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represent uninhibited brainstem reflex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harges from deep cerebral structures and brainstem may not reach the cortical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difficult to suppress than in older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is worthwhile because seizu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cause hemodynamic or respiratory comprom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rupt cerebral autore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sult in cerebral energy failure and further inj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bilize vital signs and  treat underlying 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 transient metabolic disturb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obarbital is first line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razep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enyto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Mechanism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normal energy production (hypoxemia, hypoglyc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tion in neuronal membrane (hypocalcemia, hypomagnes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excess of excitatory versus inhibitory neurotransmitters (GAB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xia-isch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ing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arachnoid hemorrh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Hypocalc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5909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 normal 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5105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most all are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et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ebral dysgenesis has grave prognosis, almost none are 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ity and seizures associated with high risk of death or very poor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ased on ty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s on cause,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other seizure typ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 progn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ized T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lon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gnosis by EE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inter-ictal EEG background associated with adverse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EEG background at presentation associated with good 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tal features less rel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outcome when clinical and EEG seizures corre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number and frequency may relate to worse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atal seizures are often sub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examination and characterization important for prognosis and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 usually successful in stopping seizures, but risk of neuro-developmental abnormalities remains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of causes remains a p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iochemical Changes with Seizu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crea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ruvate converted to lac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in gluc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production of pyruvate from A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in neonates than any other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 in the first 10 days of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 Prolonged Seizures Harm the Developing Bra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l stud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neonatal seizures in rats induce neuronal death and changes in hippocam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seizures in adults associated with memory impairment and poor psychosocial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manent reduction in seizure threshold associated with significant deficits in learning and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uses of Neonatal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E (32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cranial hemorrhage (1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NS infection (14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rction (7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orders (6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born errors (3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n (1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 withdrawal (1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erse Effects of Seiz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 division and mi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tion and expression of recep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aptogenesis and apot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erm effects:  seizure threshold, learning, and 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299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24160" y="5975280"/>
            <a:ext cx="661176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Ferriero D. N Engl J Med 2004;351:1985-199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23:20:24Z</dcterms:created>
  <dc:creator>PJoe</dc:creator>
  <dc:description/>
  <dc:language>en-US</dc:language>
  <cp:lastModifiedBy>hcmartinez</cp:lastModifiedBy>
  <dcterms:modified xsi:type="dcterms:W3CDTF">2010-04-17T06:11:07Z</dcterms:modified>
  <cp:revision>39</cp:revision>
  <dc:subject/>
  <dc:title>Neonatal Seizures</dc:title>
</cp:coreProperties>
</file>