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51FF-63E3-487B-B48B-D810BDA81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able 2. Differential Diagnosis of Neonatal Seizures by Day of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92D-4104-40D4-8E4E-EB0608CD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A58-B3F9-4DDD-A009-C950739D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13E-B55A-41D7-99B0-0AB8E388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92E-39FC-4EE9-AD64-7D1A3753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49F-F770-48C5-93A4-46E97F8B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2B7-1844-4894-8705-7423CECD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F6B-47F7-46D9-BF25-975F6EE7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E69-7AD2-4DA0-93AE-975EC09A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9AC-F792-4444-B270-58F91F49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B7A-B265-43CB-BE5E-DB6FA2A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3D4-818A-464B-A022-3B157D5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5E0-406A-417C-9744-FAA01FA1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318E-9344-4775-9560-3A92A1977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scilla Joe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ren’s Hospital &amp; Research Center at Oak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tle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premature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observed type of seiz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manifestations:  Bicycling movements, lip smacking, apnea, and eye movements or staring, un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have no electrographic correlate, are likely primarily subcor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or multifocal, rhythmic movements with slow return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ssociated with generalized or focal brain ab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ly associated with electrographic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flexion or extension of one extremity or the whol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ve neocortical damage with uninhibited subcortically generated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or may not have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yo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, isolated jerks which lacks the slow return phase of clonic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not associated with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 movements may be normal in preterm or term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epileptic mo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sleep myocl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ness or jitter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evoked myoclonus from metabolic encephalopathies, CNS mal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ign Sleep Myoclo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 jerks of upper and lower extremities during 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EG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oked by benzodiaze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ases upon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s by 2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itteriness vs.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cular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s cease with passive flex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poxic Ischemic Encephalopath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 begin within 24-72 hours after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s for 50-60% of all neonatal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asphyxia occurs before or during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erial cord pH &lt; 7.0, base deficit &lt;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% develop seizures with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stress:  hypotonia and unrespon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standing dysfunction:  hypertonia with cortical thumbing, joint contractures or conversely hypotonia with encephal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ingitis/ Encephalit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5-10% of al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CH, enterovirus, parvo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present by day 3 of life, except for HSV which may present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S, listeria, E coli, strep pneumoni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s at end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to 3 month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acranial Hemorrh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10% of al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 IV IVH/PV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/subdural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infarction (ischemia, dehydration, infection, polycyth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synchronous depolarization from large group of neur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excitatory amino acid release (glutama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hibitory system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larization results from Na influx into cells; repolarization from outflux of K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 of Na/K ATP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rebral Infar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involves middle cerebral ar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, clonic seizure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isk for spastic hemipa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sinus thrombosis may cause hemorrhage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CNS mal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sencephaly, pachygyria, linear sebaceous nevus syndrome, polymicrogy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with seizures at a later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12819_web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Metabol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, hypocalcemia, hypomagnesemia, hyper/hypo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of metabolism (&gt;72hrs of ag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noacidopathies, urea cycle disorders, biotinidase deficiency, mitochondrial disorders, beta oxidation disorders, glucose transporter deficiency, peroxisom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ben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familia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-ictal exam i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outcome i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tonic-clonic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idiopathic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, normal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inter-ictal state,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ic, occur day 5, may be Zn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malign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Myoclonic encephal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ry partial seizures, massive myoclo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, abnormal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tahara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d -3 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brief Tonic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genesis is cause, prognosis ver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bolic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  glucose, lytes, BUN, creatinine, lactate, pyruvate, ammonia, biotinidase, quantitative amino acids, very long chain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:  quantitative amino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F:  cell count, glucose, protein, pyruvate, lactate, quantitative amino acids, HSV P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p recordings measure discharges that 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frontal or temporal regions may not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the new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nical Seizures Without EEG Correl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present uninhibited brainstem refle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deep cerebral structures and brainstem may not reach the cortical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difficult to suppress than in older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is worthwhile because seiz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hemodynamic or respiratory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rupt cerebral auto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sult in cerebral energy failure and further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e vital signs and  treat underlying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transient metabolic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barbital is first line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Mechanism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energy production (hypoxemia, hypoglyc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tion in neuronal membrane (hypocalcemia, hypomagnes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excess of excitatory versus inhibitory neurotransmitter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xia-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590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normal 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105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ll ar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dysgenesis has grave prognosis, almost none are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ity and seizures associated with high risk of death or very poor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cause,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other seizure typ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prog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T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y 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inter-ictal EEG background associated with adverse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EEG background at presentation associated with good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tal features less rel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outcome when clinical and EEG seizures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umber and frequency may relate to worse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seizures are often 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examination and characterization important for prognosis and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usually successful in stopping seizures, but risk of neuro-developmental abnormalities remains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of causes remains a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ochemical Changes with Seiz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cre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uvate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production of pyruvate from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in neonates than any othe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 in the first 10 days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 Prolonged Seizures Harm the Developing Bra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l stud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neonatal seizures in rats induce neuronal death and changes in hippocam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seizures in adults associated with memory impairment and poor psychosocial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reduction in seizure threshold associated with significant deficits in learning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 (32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cranial hemorrhage (1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 infection (1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rction (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 (6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(3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withdrawal (1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se Effect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division and mi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ion and expression of rece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aptogenesis and apo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effects:  seizure threshold, learning, and 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299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24160" y="5975280"/>
            <a:ext cx="661176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Ferriero D. N Engl J Med 2004;351:1985-19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3:20:24Z</dcterms:created>
  <dc:creator>PJoe</dc:creator>
  <dc:description/>
  <dc:language>en-US</dc:language>
  <cp:lastModifiedBy>hcmartinez</cp:lastModifiedBy>
  <dcterms:modified xsi:type="dcterms:W3CDTF">2010-04-17T06:11:07Z</dcterms:modified>
  <cp:revision>39</cp:revision>
  <dc:subject/>
  <dc:title>Neonatal Seizures</dc:title>
</cp:coreProperties>
</file>