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95E0-10BC-4AB5-BDBC-9E0E68398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5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able 2. Differential Diagnosis of Neonatal Seizures by Day of Pres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925-1A54-4FCC-9C6B-C8DDA026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8B8-99EC-42F5-B36A-7FEE4585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D9E-E526-4F55-87B6-41669698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F0CF-0C96-4613-BA86-D56EAC3E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E70B-90CD-4004-9685-80280525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10DC-294B-47BA-8D62-E63C17B7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83EF-68C4-4C4F-8FC4-4AC2017C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3A63-D8E3-4C48-9D5C-5ECF7C25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E6B-D48C-44E8-A6AB-463198C0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CC4F-5365-415C-81CC-CEB96461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351-C7E3-4BC5-9EB7-7352BC3F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84FA-CC1F-4E40-AECA-9B079E20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8F2F-65C9-46C1-9313-7C607C878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onatal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scilla Joe, M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ldren’s Hospital &amp; Research Center at Oak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btle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ommon in premature i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ly observed type of seiz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nical manifestations:  Bicycling movements, lip smacking, apnea, and eye movements or staring, unrespons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have no electrographic correlate, are likely primarily subcor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 or multifocal, rhythmic movements with slow return m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be associated with generalized or focal brain abnorm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monly associated with electrographic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tained flexion or extension of one extremity or the whole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ve neocortical damage with uninhibited subcortically generated mov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or may not have electrographic corre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yocl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pid, isolated jerks which lacks the slow return phase of clonic mov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not associated with electrographic corre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oclonic movements may be normal in preterm or term i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nepileptic mo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sleep myoclo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mulousness or jitter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evoked myoclonus from metabolic encephalopathies, CNS mal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nign Sleep Myoclo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set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chronous jerks of upper and lower extremities during sle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EEG corre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oked by benzodiazep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ases upon arou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lves by 2 mon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ro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itteriness vs.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ocular phenom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sen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ments cease with passive flex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ypoxic Ischemic Encephalopath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izures begin within 24-72 hours after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s for 50-60% of all neonatal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asphyxia occurs before or during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terial cord pH &lt; 7.0, base deficit &lt; -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0% develop seizures within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12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 stress:  hypotonia and unrespons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er standing dysfunction:  hypertonia with cortical thumbing, joint contractures or conversely hypotonia with encephal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ningitis/ Encephalit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for 5-10% of all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RCH, enterovirus, parvovir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ly present by day 3 of life, except for HSV which may present in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S, listeria, E coli, strep pneumoni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s at end of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to 3 months of 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acranial Hemorrh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for 10% of al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de IV IVH/PV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arachnoid/subdural hemorrh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ebral infarction (ischemia, dehydration, infection, polycyth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hophys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normal synchronous depolarization from large group of neur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ssive excitatory amino acid release (glutama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inhibitory systems (GAB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olarization results from Na influx into cells; repolarization from outflux of K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ruption of Na/K ATP pu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rebral Infar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ly involves middle cerebral art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, clonic seizures com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risk for spastic hemipar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ous sinus thrombosis may cause hemorrhage stro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tiologies: CNS malform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sencephaly, pachygyria, linear sebaceous nevus syndrome, polymicrogy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with seizures at a later 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12819_web" descr=""/>
          <p:cNvPicPr/>
          <p:nvPr/>
        </p:nvPicPr>
        <p:blipFill>
          <a:blip r:embed="rId1"/>
          <a:stretch/>
        </p:blipFill>
        <p:spPr>
          <a:xfrm>
            <a:off x="1905120" y="3657600"/>
            <a:ext cx="41148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tiologies: Metabol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, hypocalcemia, hypomagnesemia, hyper/hyponatr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born errors of metabolism (&gt;72hrs of age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inoacidopathies, urea cycle disorders, biotinidase deficiency, mitochondrial disorders, beta oxidation disorders, glucose transporter deficiency, peroxisomal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pileptic syndromes-ben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familial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somal domin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-ictal exam is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term outcome is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usual tonic-clonic pat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idiopathic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, normal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inter-ictal state, E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nic, occur day 5, may be Zn de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pileptic syndromes-malign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natal Myoclonic encephalo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gmentary partial seizures, massive myoclo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bolic disorders, abnormal E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pro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tahara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d -3 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erous brief Tonic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sgenesis is cause, prognosis very p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abolic Eval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:  glucose, lytes, BUN, creatinine, lactate, pyruvate, ammonia, biotinidase, quantitative amino acids, very long chain fatty ac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e:  quantitative amino ac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F:  cell count, glucose, protein, pyruvate, lactate, quantitative amino acids, HSV PC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E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p recordings measure discharges that  spread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harges from frontal or temporal regions may not spread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ommon in the newbo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nical Seizures Without EEG Correlat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represent uninhibited brainstem refle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harges from deep cerebral structures and brainstem may not reach the cortical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difficult to suppress than in older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 is worthwhile because seizu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cause hemodynamic or respiratory comprom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rupt cerebral autoreg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result in cerebral energy failure and further inj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bilize vital signs and  treat underlying hypo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 transient metabolic disturb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barbital is first line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razep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yto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Mechanisms of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normal energy production (hypoxemia, hypoglyc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ation in neuronal membrane (hypocalcemia, hypomagnes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 excess of excitatory versus inhibitory neurotransmitters (GAB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et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xia-isch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ing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gly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Hypocal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arachnoid hemorrh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 Hypocal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2590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 normal 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51055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most all are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et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ebral dysgenesis has grave prognosis, almost none are norm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maturity and seizures associated with high risk of death or very poor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ty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t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s on cause,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other seizure typ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ter progn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ized T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ocl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y EE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inter-ictal EEG background associated with adverse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EEG background at presentation associated with good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ctal features less rel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ter outcome when clinical and EEG seizures corre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number and frequency may relate to worse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natal seizures are often sub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 examination and characterization important for prognosis and 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 usually successful in stopping seizures, but risk of neuro-developmental abnormalities remains 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 of causes remains a p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iochemical Changes with Seizur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crea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yruvate converted to lac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in gluc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production of pyruvate from A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id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in neonates than any other age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 in the first 10 days of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 Prolonged Seizures Harm the Developing Brai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l stud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istent neonatal seizures in rats induce neuronal death and changes in hippocamp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nic seizures in adults associated with memory impairment and poor psychosocial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manent reduction in seizure threshold associated with significant deficits in learning and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uses of Neonatal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E (32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acranial hemorrhage (17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NS infection (14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rction (7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bolic disorders (6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born errors (3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known (1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g withdrawal (1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erse Effects of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 division and mi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tion and expression of recep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aptogenesis and apot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term effects:  seizure threshold, learning, and 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62992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324160" y="5975280"/>
            <a:ext cx="661176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Ferriero D. N Engl J Med 2004;351:1985-19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23:20:24Z</dcterms:created>
  <dc:creator>PJoe</dc:creator>
  <dc:description/>
  <dc:language>en-US</dc:language>
  <cp:lastModifiedBy>hcmartinez</cp:lastModifiedBy>
  <dcterms:modified xsi:type="dcterms:W3CDTF">2010-04-17T06:11:07Z</dcterms:modified>
  <cp:revision>39</cp:revision>
  <dc:subject/>
  <dc:title>Neonatal Seizures</dc:title>
</cp:coreProperties>
</file>