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0F5-0029-4F7B-9C09-A7239D07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D8C-8ABE-43E4-87F4-93501E84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A91-5394-4D49-9DF6-6E4E28AE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8A4-668E-480F-B6ED-46F17E1D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BBDE-B9ED-4A77-BCA7-24BED365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5E79-2D2A-4D5C-AC1C-F7790CA0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CB40-0209-486F-94D1-5D56C8E7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1807-29B5-4C1F-A7CF-FD49400A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F965-D6E1-4AF6-9B6A-20E3660B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5B7F-54C1-4B7F-8DA0-4DADD22A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168F-014A-4CFE-B855-D4D91EF1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09B-9983-4285-982D-29D8AD17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7581-D464-434A-B05A-22D08C48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5EB6-3009-4F6F-9C67-CD7247F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E159-ABD7-462A-A6DF-00F33639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1864-B253-4D4F-A77E-695FD064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8AA6-0034-42B0-9F9F-6DDF06B6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2F2-B3B9-4888-AE91-01B7A4AF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4C0-9D2C-4849-8DD3-5B14406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020-FE67-4034-8AC1-B67B9E55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069-D7FD-49CD-BDDC-C061ABF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33A-48B9-4AC0-BD57-80894744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901-7F06-4DA9-B013-565F4177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A77-A11E-4DB8-B18C-0EF33FFC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0F96-DA1E-4499-B575-3020AC0F42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1CCA-EFED-4FED-B4CD-2F7DFD927D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onganat.org/seap/reuniones/almagro2000/casas/images/ni/ni0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onat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tis Marmor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ient, netlike, reddish-blue mottl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used by variable vascular constriction and dil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ponse to chilling, resolves with warm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 in neonates and usually abates by 6 months, but may persist longer in very fair skinned individua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persists past 6 months, may be a marker for  hypothyroid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lesion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9" name="Picture 3" descr="http://www.cssd.us/images/medicalinfo/moles2.jpg"/>
          <p:cNvPicPr/>
          <p:nvPr/>
        </p:nvPicPr>
        <p:blipFill>
          <a:blip r:embed="rId1"/>
          <a:stretch/>
        </p:blipFill>
        <p:spPr>
          <a:xfrm>
            <a:off x="2286000" y="1600200"/>
            <a:ext cx="4618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Nevomelanocytic Nev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igmented macules or plaques with dense hair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ant CNN are associated with a 2-10% lifetime risk of melanom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ighest risk of malignant change occurs in first 3-15 year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treatment with full-thickness excision followed by grafting if possible, otherwise close obser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all to medium sized CNNs are also associated with a higher risk of malignant change than acquired moles, but incidence is unkn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healthprofessions.missouri.edu/cpd/RT/CRCE/images/NRP/6.jpg"/>
          <p:cNvPicPr/>
          <p:nvPr/>
        </p:nvPicPr>
        <p:blipFill>
          <a:blip r:embed="rId1"/>
          <a:stretch/>
        </p:blipFill>
        <p:spPr>
          <a:xfrm>
            <a:off x="1143000" y="1981080"/>
            <a:ext cx="6691320" cy="3975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wrong with this newborn’s hands and fee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cro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ands and feet become variably and symmetrically blu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 warming of the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currence unusual after 1 month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and is this benig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18" name="Content Placeholder 3" descr="iloveyou_000.jpg"/>
          <p:cNvPicPr/>
          <p:nvPr/>
        </p:nvPicPr>
        <p:blipFill>
          <a:blip r:embed="rId1"/>
          <a:stretch/>
        </p:blipFill>
        <p:spPr>
          <a:xfrm>
            <a:off x="2286000" y="1447920"/>
            <a:ext cx="443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mangio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10% of all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in first few month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rked vascular overgrowth resulting in bright red discoloration and definite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apid growth for the first 6-12 months, then a plateau period, then slow invol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0% involute by age 5, 90% by age 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dermatology if lesion involves a vital structure or if there are multiple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you guess the name for thi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2" name="Content Placeholder 3" descr="storkbite1.jpg"/>
          <p:cNvPicPr/>
          <p:nvPr/>
        </p:nvPicPr>
        <p:blipFill>
          <a:blip r:embed="rId1"/>
          <a:stretch/>
        </p:blipFill>
        <p:spPr>
          <a:xfrm>
            <a:off x="1981080" y="1905120"/>
            <a:ext cx="5191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almon Patch (Stork bite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scular malfor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6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des in first year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located nape of neck, forehead and upper eyeli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syndrome can be related to this vascular malformatio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26" name="Content Placeholder 3" descr="portwine.jpg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mmon and  Usually Benign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rt Wine Stai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rplish-red vascular malformation present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do not enlarge but remain flat and pers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port wine stain involves ophthalmic branch of the fifth cranial (trigeminal) nerve, it can be associated be a constellation termed Sturge-Weber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rge-Weber syndrome involves seizures, mental retardation, hemiplegia, and glauco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aafp.org/afp/2008/0101/afp20080101p47-f4.jpg"/>
          <p:cNvPicPr/>
          <p:nvPr/>
        </p:nvPicPr>
        <p:blipFill>
          <a:blip r:embed="rId1"/>
          <a:stretch/>
        </p:blipFill>
        <p:spPr>
          <a:xfrm>
            <a:off x="2057400" y="2209680"/>
            <a:ext cx="4838760" cy="372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n babies get pimpl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Ac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velops in up to 2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nal and endogenous androgens play a role in the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ions involute within 1-3 months, treatment usually unnecess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’s on this baby’s no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286000" y="1714680"/>
            <a:ext cx="7286760" cy="360"/>
            <a:chOff x="2286000" y="1714680"/>
            <a:chExt cx="7286760" cy="360"/>
          </a:xfrm>
        </p:grpSpPr>
        <p:sp>
          <p:nvSpPr>
            <p:cNvPr id="136" name="Rectangle 9"/>
            <p:cNvSpPr/>
            <p:nvPr/>
          </p:nvSpPr>
          <p:spPr>
            <a:xfrm>
              <a:off x="2286000" y="1714680"/>
              <a:ext cx="7286760" cy="360"/>
            </a:xfrm>
            <a:prstGeom prst="rect">
              <a:avLst/>
            </a:prstGeom>
            <a:solidFill>
              <a:srgbClr val="00c3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286000" y="1714680"/>
              <a:ext cx="7286760" cy="360"/>
              <a:chOff x="2286000" y="1714680"/>
              <a:chExt cx="7286760" cy="3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286000" y="1714680"/>
                <a:ext cx="360" cy="360"/>
              </a:xfrm>
              <a:prstGeom prst="rect">
                <a:avLst/>
              </a:prstGeom>
              <a:solidFill>
                <a:srgbClr val="00c3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286000" y="1714680"/>
                <a:ext cx="7286760" cy="360"/>
                <a:chOff x="2286000" y="1714680"/>
                <a:chExt cx="7286760" cy="3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4"/>
                <p:cNvSpPr/>
                <p:nvPr/>
              </p:nvSpPr>
              <p:spPr>
                <a:xfrm>
                  <a:off x="2286000" y="1714680"/>
                  <a:ext cx="7286760" cy="360"/>
                </a:xfrm>
                <a:prstGeom prst="rect">
                  <a:avLst/>
                </a:prstGeom>
                <a:solidFill>
                  <a:srgbClr val="00c3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Picture 5" descr="This is an infant with milia."/>
          <p:cNvPicPr/>
          <p:nvPr/>
        </p:nvPicPr>
        <p:blipFill>
          <a:blip r:embed="rId1"/>
          <a:stretch/>
        </p:blipFill>
        <p:spPr>
          <a:xfrm>
            <a:off x="1828800" y="17524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baceous Gland Hyperplas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Yellow papules over the nose and cheek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from maternal or endogenous androgenic stimulation of sebaceous gland grow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olves within 4-6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the same as the previous ras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7" name="Picture 4" descr="http://s3.hubimg.com/u/1576434_f26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181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arly yellow papules usually on the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50% of newbo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resolve during the 1st month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re these rashes the sam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1" name="Picture 4" descr="http://www.adhb.govt.nz/newborn/TeachingResources/Dermatology/Miliaria/MiliariaCrystallina.jpg"/>
          <p:cNvPicPr/>
          <p:nvPr/>
        </p:nvPicPr>
        <p:blipFill>
          <a:blip r:embed="rId1"/>
          <a:stretch/>
        </p:blipFill>
        <p:spPr>
          <a:xfrm>
            <a:off x="228600" y="1828800"/>
            <a:ext cx="41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skinsight.com/images/dx/webInfant/miliariaRubra_31837_lg.jpg"/>
          <p:cNvPicPr/>
          <p:nvPr/>
        </p:nvPicPr>
        <p:blipFill>
          <a:blip r:embed="rId2"/>
          <a:stretch/>
        </p:blipFill>
        <p:spPr>
          <a:xfrm>
            <a:off x="4724280" y="182880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ilia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s from obstruction to the flow of sweat and rupture of the eccrine sweat g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crystallina - superficial 1-2mm vesicles on non-inflamed sk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liaria rubra (prickly heat) - small red papules and pustu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 in response to thermal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erupt in crops in the intertriginous areas, scalp, face,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polydactyly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56" name="Picture 4" descr="http://www.skinsight.com/images/dx/webInfant/supernumeraryDigit_35129_lg.jpg"/>
          <p:cNvPicPr/>
          <p:nvPr/>
        </p:nvPicPr>
        <p:blipFill>
          <a:blip r:embed="rId1"/>
          <a:stretch/>
        </p:blipFill>
        <p:spPr>
          <a:xfrm>
            <a:off x="2057400" y="1828800"/>
            <a:ext cx="555624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4 hour old female with this rash, what is it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3" name="Content Placeholder 3" descr="Erythema_Neonatarum_1_031011.jpg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upernumerary Digi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occur as rudimentary structures at the base of the ulnar side of the 5th fing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mil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ymptomati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usually be tied off as long as no bone is palpa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are and Abnormal Dermatologic Finding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1" name="Picture 4" descr="http://www.jle.com/en/revues/medecine/ejd/e-docs/00/04/12/B9/texte_alt_jleejd00140_gr1.jpg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llodian Bab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rn encased in thick cellophane-like membra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go on to develop ichthyosis (a group of scaling disorder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arrier function is compromised by cracking and fissuring -&gt; increased insensible water loss, heat loss, and risk of inf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ications are minimized by placing baby in high humidity, neutrally thermal environ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quamation usually complete by 2-3 week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5" name="Picture 4" descr="http://img.medscape.com/pi/emed/ckb/pediatrics_general/1331341-1331364-909549-909619.jpg"/>
          <p:cNvPicPr/>
          <p:nvPr/>
        </p:nvPicPr>
        <p:blipFill>
          <a:blip r:embed="rId1"/>
          <a:stretch/>
        </p:blipFill>
        <p:spPr>
          <a:xfrm>
            <a:off x="1371600" y="838080"/>
            <a:ext cx="6324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pidermolysis Bullos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 of inherited mechanobullous dis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isters form after mild friction or trau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ree types: epidermolytic EB, junctional EB, dermolytic EB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kin biopsy distinguishes types and determines progn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natal diagnosis is now possible for a number of variants for which gene markers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ymptomatic and supportiv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69" name="Picture 4" descr="http://download.imaging.consult.com/ic/images/S1933033208902378/gr25a-midi.jpg"/>
          <p:cNvPicPr/>
          <p:nvPr/>
        </p:nvPicPr>
        <p:blipFill>
          <a:blip r:embed="rId1"/>
          <a:stretch/>
        </p:blipFill>
        <p:spPr>
          <a:xfrm>
            <a:off x="838080" y="990720"/>
            <a:ext cx="28576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http://www.conganat.org/seap/reuniones/almagro2000/casas/images/ni/ni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05120"/>
            <a:ext cx="4686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continentia Pigment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urocutaneous syndr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-linked dominant, lethal in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s out with patches of erythema and blisters that follow the lines of Blaschko (embryonic cleavage planes) -&gt; warty plaques by several weeks to months -&gt; increasing pigmentation at 2-6 months that look like marble cake swirls -&gt; fade to hypopigmented patches in late childh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defects in the CNS, eye, dentition, heart, skeletal syst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74" name="Picture 4" descr="http://menshealth.about.com/library/graphics/PHIL_2246_lores.jpg"/>
          <p:cNvPicPr/>
          <p:nvPr/>
        </p:nvPicPr>
        <p:blipFill>
          <a:blip r:embed="rId1"/>
          <a:stretch/>
        </p:blipFill>
        <p:spPr>
          <a:xfrm>
            <a:off x="5562720" y="1905120"/>
            <a:ext cx="2714400" cy="4076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content01.jpg"/>
          <p:cNvPicPr/>
          <p:nvPr/>
        </p:nvPicPr>
        <p:blipFill>
          <a:blip r:embed="rId2"/>
          <a:stretch/>
        </p:blipFill>
        <p:spPr>
          <a:xfrm>
            <a:off x="380880" y="1905120"/>
            <a:ext cx="5034240" cy="4157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2206800" y="1474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Syphil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cocutaneous lesions usually appear between 2-6 week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 finding = papulosquamous eruption beginning in the palms and soles and spreading over extremities, face and trun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is confirmed with serological studies of the serum and CS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diagnosis and treatment with high dose PCN prevents late complic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wborns with disease can also be born premature, have poor growth, and develop hepatosplenomegaly and snuff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rythema Toxicum Neonatoru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entral papule or pustule surrounded by area of erythe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ign, self-limiting, asymptomatic disorder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in up to 50% of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ents at 24-48 hours of life, fades within 5-7 days, but recurrences may occur for several wee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eosin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0" name="Picture 4" descr="http://pathmicro.med.sc.edu/mhunt/rubel2.jpg"/>
          <p:cNvPicPr/>
          <p:nvPr/>
        </p:nvPicPr>
        <p:blipFill>
          <a:blip r:embed="rId1"/>
          <a:stretch/>
        </p:blipFill>
        <p:spPr>
          <a:xfrm>
            <a:off x="2085840" y="1246320"/>
            <a:ext cx="49723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genital Rub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en in severe disseminated disease with jaundice, pneumonitis, meningitis, bony abnormalities, thrombocytopen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genital rubella associated with cataracts, microphthalmia, glaucoma, congenital heart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lueberry muffin lesions can also be seen in congenital CMV and toxoplasm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onfirm diagnosis with serologic test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: isolation and supportive c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4" name="Picture 4" descr="http://www.pediatricsupersite.com/images/content/idc/200809/wyd1.jpg"/>
          <p:cNvPicPr/>
          <p:nvPr/>
        </p:nvPicPr>
        <p:blipFill>
          <a:blip r:embed="rId1"/>
          <a:stretch/>
        </p:blipFill>
        <p:spPr>
          <a:xfrm>
            <a:off x="1371600" y="1752480"/>
            <a:ext cx="65530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rpes Simplex Infe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infected babies, 70% develop the skin rash and 90% of these children go on to develop systematic dis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ustered red papules and vesicles, then become pustular, denuded, crusted, and hemorrhagic over the following 2-3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gnose by DFA or PCR of the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 with acyclovir as soon as infection is suspected to prevent disseminated disease and morbidity/morta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88" name="Picture 4" descr="http://www.pathguy.com/sol/14137.jpg"/>
          <p:cNvPicPr/>
          <p:nvPr/>
        </p:nvPicPr>
        <p:blipFill>
          <a:blip r:embed="rId1"/>
          <a:stretch/>
        </p:blipFill>
        <p:spPr>
          <a:xfrm>
            <a:off x="1905120" y="1600200"/>
            <a:ext cx="497520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Varicell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exposure in utero during 1st trimester can rarely lead to neonatal varicella syndrome: linear scars, limb anomalies, ocular defects, and CNS invol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ate exposure in 3rd trimester increases the risk of baby acquiring the disease during the neonatal period (the closer to delivery, the higher the risk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esicles usually develop over 1st 3-10 days of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semination can lead to pneumonitis, encephalitis, purpura with hemorrhage, hypotension, and dea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newborn at risk, should consider Varicella-zoster immune globulin or IVI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 acyclovir early if lesions are suspicious for varicel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firm diagnosis with DFA or PCR of le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2" name="Picture 4" descr="http://genfir2.org/ibis-birthdefectsorg/start/images/aplascut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plasia Cutis Congeni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inherited as AD tra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bsence/failure of formation of a localized area of scalp or skin, usually single lesion located over vertex of the scal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eatment is supportive until lesion is heal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ves an atrophic, hairless scar that can be excised later in lif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ss commonly, the trunk and extremities are involved and lesions may be associated with limb defects, epidermolysis bullosa, and chromosomal abnormalit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96" name="Picture 4" descr="http://www.sahha.gov.mt/showdoc.aspx?id=487&amp;filesource=4&amp;file=fig07.jpg"/>
          <p:cNvPicPr/>
          <p:nvPr/>
        </p:nvPicPr>
        <p:blipFill>
          <a:blip r:embed="rId1"/>
          <a:stretch/>
        </p:blipFill>
        <p:spPr>
          <a:xfrm>
            <a:off x="954000" y="857160"/>
            <a:ext cx="7236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eonatal Lupus Erythematosu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nular erythematous plaques with a central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placentally aquired ssA (Ro) and ssB (La) Ab is thought to play role in pathogene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be triggered or exacerbated by sun expos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sociated with heart block, hepatosplenomegaly, anemia, leukopenia, thrombocytopenia, and/or lymphadeno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cept for cardiac involvement, usually resolves in 6-12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need topical steroids, rarely requires systemic steroid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is this rash noted on this baby immediately after birth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97" name="Content Placeholder 3" descr="Pustular melanosis.bmp"/>
          <p:cNvPicPr/>
          <p:nvPr/>
        </p:nvPicPr>
        <p:blipFill>
          <a:blip r:embed="rId1"/>
          <a:stretch/>
        </p:blipFill>
        <p:spPr>
          <a:xfrm>
            <a:off x="1676520" y="1905120"/>
            <a:ext cx="60958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ransient Neonatal Pustular Mel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lf-limiting dermatosis of unknown etiolog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ccurs more frequently in black ma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presents at bi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stule on non-erythematous base, crusts over several days, which desquamates and leaves a hyperpigmented macule with collarette of fine sca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perpigmentation fades in 3 weeks to 3 month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mear of pustule reveals neutrophil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s this bruising from birth trauma or something else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1" name="Content Placeholder 3" descr="mongolian_spot_1_080714.jpg"/>
          <p:cNvPicPr/>
          <p:nvPr/>
        </p:nvPicPr>
        <p:blipFill>
          <a:blip r:embed="rId1"/>
          <a:stretch/>
        </p:blipFill>
        <p:spPr>
          <a:xfrm>
            <a:off x="1600200" y="1447920"/>
            <a:ext cx="57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ongolian Spo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lat, slate-gray to bluish-black, poorly circumscribed macules/pat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st commonly located over the lumbosacral area and buttock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mon in black, asian, and hispanic inf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ually fade by 7 years of ag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oes this mottling mean this newborn is il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05" name="Content Placeholder 3" descr="cutis_marmorata_3_060523.jpg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1:44:54Z</dcterms:created>
  <dc:creator>HCMARTINEZ</dc:creator>
  <dc:description/>
  <dc:language>en-US</dc:language>
  <cp:lastModifiedBy>Health Services Department</cp:lastModifiedBy>
  <dcterms:modified xsi:type="dcterms:W3CDTF">2010-05-25T00:00:28Z</dcterms:modified>
  <cp:revision>26</cp:revision>
  <dc:subject/>
  <dc:title>Normal Dermatologic Findings</dc:title>
</cp:coreProperties>
</file>