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92D-FF8D-43F5-B4E5-031EDCE2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6F7-E596-4AFC-A927-6961E5F6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536-382C-4A08-AAAE-1272CC64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C1E-BB0E-4B63-902F-024BCCB1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CFC1-E512-407C-8167-E1D11C0C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BD1E-6F75-4AB4-923B-06A6545F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AC0A-01A0-46CD-9DAC-909635BC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01C2-6AA5-4DC3-8915-E7A514FB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DF3F-A9E8-461E-9BEA-4794E74F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B4C2-A139-46C9-AE21-5FA4EC9E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8890-7528-423B-BF10-19ED2846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D32-C61A-4540-BF62-74AFFEDC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B157-2AF2-49E0-B2F6-9D952075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C183-C478-48D4-8E77-0AE9AE39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FA53-29BD-4093-9EEF-B5929B24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B260-390B-4D73-BCC4-82F28150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2437-693D-4D4F-AD31-99A4C2F0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2FC-150B-4484-A0D5-5B02AF05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03F-D297-4FB2-9C77-7AA546EE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0ED-4BF2-4647-B33B-3DCD2424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D65-598B-44A9-8261-855F7F90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527-16A6-441F-8A32-1323D72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893-74BB-4AAC-83CF-3EB8EC0E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D00-5C2B-43D8-B8A1-CA2E60ED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F4FA-C8EB-4CED-8C0B-614FE8538E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DF78-8E0D-4770-80DB-A2D9C89E189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Picture 3" descr="http://www.cssd.us/images/medicalinfo/moles2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healthprofessions.missouri.edu/cpd/RT/CRCE/images/NRP/6.jpg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mon and  Usually Benign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aafp.org/afp/2008/0101/afp20080101p47-f4.jpg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Rectangle 9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Rectangle 6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4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Picture 5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Picture 4" descr="http://s3.hubimg.com/u/1576434_f260.jpg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Picture 4" descr="http://www.adhb.govt.nz/newborn/TeachingResources/Dermatology/Miliaria/MiliariaCrystallina.jpg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skinsight.com/images/dx/webInfant/miliariaRubra_31837_lg.jpg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Picture 4" descr="http://www.skinsight.com/images/dx/webInfant/supernumeraryDigit_35129_lg.jpg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are and 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Picture 4" descr="http://www.jle.com/en/revues/medecine/ejd/e-docs/00/04/12/B9/texte_alt_jleejd00140_gr1.jpg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Picture 4" descr="http://img.medscape.com/pi/emed/ckb/pediatrics_general/1331341-1331364-909549-909619.jpg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Picture 4" descr="http://download.imaging.consult.com/ic/images/S1933033208902378/gr25a-midi.jpg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www.conganat.org/seap/reuniones/almagro2000/casas/images/ni/ni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icture 4" descr="http://menshealth.about.com/library/graphics/PHIL_2246_lores.jpg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Picture 4" descr="http://pathmicro.med.sc.edu/mhunt/rubel2.jpg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Picture 4" descr="http://www.pediatricsupersite.com/images/content/idc/200809/wyd1.jpg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Picture 4" descr="http://www.pathguy.com/sol/14137.jpg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Picture 4" descr="http://genfir2.org/ibis-birthdefectsorg/start/images/aplascut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Picture 4" descr="http://www.sahha.gov.mt/showdoc.aspx?id=487&amp;filesource=4&amp;file=fig07.jpg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ealth Services Department</cp:lastModifiedBy>
  <dcterms:modified xsi:type="dcterms:W3CDTF">2010-05-25T00:00:28Z</dcterms:modified>
  <cp:revision>26</cp:revision>
  <dc:subject/>
  <dc:title>Normal Dermatologic Findings</dc:title>
</cp:coreProperties>
</file>