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4.jpeg" ContentType="image/jpeg"/>
  <Override PartName="/ppt/media/image19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3.png" ContentType="image/png"/>
  <Override PartName="/ppt/media/image17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6D7AE-8162-429D-A725-66D0570CC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848AE-E63E-46ED-BB8E-695B28F77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20CDE-5D3C-44C8-98C3-FAEC4E591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EE61A-588B-4A58-B97F-D99048B62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FD022-C1FA-4893-95E0-D98B3E971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BB091-5645-44EE-BB5A-110442575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8D61C-4AEA-431F-8B9C-0E270B4E9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C6C27-04DF-4B1F-B98C-DA2251B4D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8005B-BEF6-4D9F-8D06-1E8CC2D50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344ED-1EC4-4AF9-8A0D-89AA107E0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7786F-0487-40EC-B962-EE89E66BB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5BD92-C684-463F-81D8-2C75D1030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365A5-55E7-426C-AB40-438EBF23E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79B3A-E88C-42AF-B156-376A409F3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8B7AD-E638-4F66-B12E-6256A8435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161A5-6036-4205-857D-B3CB315BE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A1F40-FDDB-4687-8F2F-A53281398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0AC04-42E2-41E9-B1D8-72057E86C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768C3-0360-483E-9B28-F8B94810A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E0AE3-D6AF-42FA-9C7B-F76B99E3C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42290-E7F7-494C-9853-52682D4F7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723D6-F389-4D6E-84D1-CBA0006E5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BD444-2639-4D4F-AE14-7A168A468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43919-FD59-4F27-B13D-67E37617D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3D798-67EF-44EF-A0C3-9C6A99B506A1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ounded Rectangle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9C55D-B5FA-4465-B24B-3DE4D430E4E6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hyperlink" Target="http://www.conganat.org/seap/reuniones/almagro2000/casas/images/ni/ni06.jpg" TargetMode="External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96464"/>
              </a:solidFill>
              <a:latin typeface="Perpetu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Franklin Gothic Book"/>
              </a:rPr>
              <a:t>Neonatal Dermatologic Finding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utis Marmorata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83808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ransient, netlike, reddish-blue mottling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aused by variable vascular constriction and dilat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Response to chilling, resolves with warming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Benign in neonates and usually abates by 6 months, but may persist longer in very fair skinned individual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If persists past 6 months, may be a marker for  hypothyroidism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Is this lesion benign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109" name="Picture 3" descr="http://www.cssd.us/images/medicalinfo/moles2.jpg"/>
          <p:cNvPicPr/>
          <p:nvPr/>
        </p:nvPicPr>
        <p:blipFill>
          <a:blip r:embed="rId1"/>
          <a:stretch/>
        </p:blipFill>
        <p:spPr>
          <a:xfrm>
            <a:off x="2286000" y="1600200"/>
            <a:ext cx="4618080" cy="384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ongenital Nevomelanocytic Nevi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Pigmented macules or plaques with dense hair growth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Giant CNN are associated with a 2-10% lifetime risk of melanoma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Highest risk of malignant change occurs in first 3-15 years of lif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Early treatment with full-thickness excision followed by grafting if possible, otherwise close observat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mall to medium sized CNNs are also associated with a higher risk of malignant change than acquired moles, but incidence is unknow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http://healthprofessions.missouri.edu/cpd/RT/CRCE/images/NRP/6.jpg"/>
          <p:cNvPicPr/>
          <p:nvPr/>
        </p:nvPicPr>
        <p:blipFill>
          <a:blip r:embed="rId1"/>
          <a:stretch/>
        </p:blipFill>
        <p:spPr>
          <a:xfrm>
            <a:off x="1143000" y="1981080"/>
            <a:ext cx="6691320" cy="397512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What’s wrong with this newborn’s hands and feet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Acrocyanosi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Hands and feet become variably and symmetrically blue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Resolves with warming of the ski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Recurrence unusual after 1 month of ag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What is this and is this benign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118" name="Content Placeholder 3" descr="iloveyou_000.jpg"/>
          <p:cNvPicPr/>
          <p:nvPr/>
        </p:nvPicPr>
        <p:blipFill>
          <a:blip r:embed="rId1"/>
          <a:stretch/>
        </p:blipFill>
        <p:spPr>
          <a:xfrm>
            <a:off x="2286000" y="1447920"/>
            <a:ext cx="44323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Hemangioma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ongenital vascular malformat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Occur in 10% of all newborn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Presents in first few months of lif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Marked vascular overgrowth resulting in bright red discoloration and definite elevat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Rapid growth for the first 6-12 months, then a plateau period, then slow involut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50% involute by age 5, 90% by age 9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Refer to dermatology if lesion involves a vital structure or if there are multiple lesion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an you guess the name for this rash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122" name="Content Placeholder 3" descr="storkbite1.jpg"/>
          <p:cNvPicPr/>
          <p:nvPr/>
        </p:nvPicPr>
        <p:blipFill>
          <a:blip r:embed="rId1"/>
          <a:stretch/>
        </p:blipFill>
        <p:spPr>
          <a:xfrm>
            <a:off x="1981080" y="1905120"/>
            <a:ext cx="5191200" cy="43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Salmon Patch (Stork bite)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838080" y="17524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Vascular malformat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en in 60% of infant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ades in first year of lif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Usually located nape of neck, forehead and upper eyelid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What syndrome can be related to this vascular malformation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126" name="Content Placeholder 3" descr="portwine.jpg"/>
          <p:cNvPicPr/>
          <p:nvPr/>
        </p:nvPicPr>
        <p:blipFill>
          <a:blip r:embed="rId1"/>
          <a:stretch/>
        </p:blipFill>
        <p:spPr>
          <a:xfrm>
            <a:off x="1905120" y="1600200"/>
            <a:ext cx="52578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21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ommon and  Usually Benign Dermatologic Finding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Port Wine Stain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685800" y="17524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Purplish-red vascular malformation present at birth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Lesions do not enlarge but remain flat and persis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When port wine stain involves ophthalmic branch of the fifth cranial (trigeminal) nerve, it can be associated be a constellation termed Sturge-Weber syndrom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turge-Weber syndrome involves seizures, mental retardation, hemiplegia, and glaucoma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2" descr="http://www.aafp.org/afp/2008/0101/afp20080101p47-f4.jpg"/>
          <p:cNvPicPr/>
          <p:nvPr/>
        </p:nvPicPr>
        <p:blipFill>
          <a:blip r:embed="rId1"/>
          <a:stretch/>
        </p:blipFill>
        <p:spPr>
          <a:xfrm>
            <a:off x="2057400" y="2209680"/>
            <a:ext cx="4838760" cy="372924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an babies get pimples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Neonatal Acne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Develops in up to 20% of newborn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Maternal and endogenous androgens play a role in the pathogenesi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Lesions involute within 1-3 months, treatment usually unnecessary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What’s on this baby’s nose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grpSp>
        <p:nvGrpSpPr>
          <p:cNvPr id="135" name="Group 10"/>
          <p:cNvGrpSpPr/>
          <p:nvPr/>
        </p:nvGrpSpPr>
        <p:grpSpPr>
          <a:xfrm>
            <a:off x="2286000" y="1714680"/>
            <a:ext cx="7286760" cy="360"/>
            <a:chOff x="2286000" y="1714680"/>
            <a:chExt cx="7286760" cy="360"/>
          </a:xfrm>
        </p:grpSpPr>
        <p:sp>
          <p:nvSpPr>
            <p:cNvPr id="136" name="Rectangle 9"/>
            <p:cNvSpPr/>
            <p:nvPr/>
          </p:nvSpPr>
          <p:spPr>
            <a:xfrm>
              <a:off x="2286000" y="1714680"/>
              <a:ext cx="7286760" cy="360"/>
            </a:xfrm>
            <a:prstGeom prst="rect">
              <a:avLst/>
            </a:prstGeom>
            <a:solidFill>
              <a:srgbClr val="00c3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7" name="Group 8"/>
            <p:cNvGrpSpPr/>
            <p:nvPr/>
          </p:nvGrpSpPr>
          <p:grpSpPr>
            <a:xfrm>
              <a:off x="2286000" y="1714680"/>
              <a:ext cx="7286760" cy="360"/>
              <a:chOff x="2286000" y="1714680"/>
              <a:chExt cx="7286760" cy="360"/>
            </a:xfrm>
          </p:grpSpPr>
          <p:sp>
            <p:nvSpPr>
              <p:cNvPr id="138" name="Rectangle 3"/>
              <p:cNvSpPr/>
              <p:nvPr/>
            </p:nvSpPr>
            <p:spPr>
              <a:xfrm>
                <a:off x="2286000" y="1714680"/>
                <a:ext cx="360" cy="360"/>
              </a:xfrm>
              <a:prstGeom prst="rect">
                <a:avLst/>
              </a:prstGeom>
              <a:solidFill>
                <a:srgbClr val="00c3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9" name="Group 7"/>
              <p:cNvGrpSpPr/>
              <p:nvPr/>
            </p:nvGrpSpPr>
            <p:grpSpPr>
              <a:xfrm>
                <a:off x="2286000" y="1714680"/>
                <a:ext cx="7286760" cy="360"/>
                <a:chOff x="2286000" y="1714680"/>
                <a:chExt cx="7286760" cy="360"/>
              </a:xfrm>
            </p:grpSpPr>
            <p:sp>
              <p:nvSpPr>
                <p:cNvPr id="140" name="Rectangle 6"/>
                <p:cNvSpPr/>
                <p:nvPr/>
              </p:nvSpPr>
              <p:spPr>
                <a:xfrm>
                  <a:off x="2286000" y="1714680"/>
                  <a:ext cx="7286760" cy="360"/>
                </a:xfrm>
                <a:prstGeom prst="rect">
                  <a:avLst/>
                </a:prstGeom>
                <a:solidFill>
                  <a:srgbClr val="00c3e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" name="Rectangle 4"/>
                <p:cNvSpPr/>
                <p:nvPr/>
              </p:nvSpPr>
              <p:spPr>
                <a:xfrm>
                  <a:off x="2286000" y="1714680"/>
                  <a:ext cx="7286760" cy="360"/>
                </a:xfrm>
                <a:prstGeom prst="rect">
                  <a:avLst/>
                </a:prstGeom>
                <a:solidFill>
                  <a:srgbClr val="00c3e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142" name="Picture 5" descr="This is an infant with milia."/>
          <p:cNvPicPr/>
          <p:nvPr/>
        </p:nvPicPr>
        <p:blipFill>
          <a:blip r:embed="rId1"/>
          <a:stretch/>
        </p:blipFill>
        <p:spPr>
          <a:xfrm>
            <a:off x="1828800" y="1752480"/>
            <a:ext cx="586728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Sebaceous Gland Hyperplasia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Yellow papules over the nose and cheeks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Result from maternal or endogenous androgenic stimulation of sebaceous gland growth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Resolves within 4-6 month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Is this the same as the previous rash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3716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147" name="Picture 4" descr="http://s3.hubimg.com/u/1576434_f260.jpg"/>
          <p:cNvPicPr/>
          <p:nvPr/>
        </p:nvPicPr>
        <p:blipFill>
          <a:blip r:embed="rId1"/>
          <a:stretch/>
        </p:blipFill>
        <p:spPr>
          <a:xfrm>
            <a:off x="2057400" y="1523880"/>
            <a:ext cx="518148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Milia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9051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Pearly yellow papules usually on the fac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Occur in 50% of newborn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Usually resolve during the 1st month of lif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Are these rashes the same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151" name="Picture 4" descr="http://www.adhb.govt.nz/newborn/TeachingResources/Dermatology/Miliaria/MiliariaCrystallina.jpg"/>
          <p:cNvPicPr/>
          <p:nvPr/>
        </p:nvPicPr>
        <p:blipFill>
          <a:blip r:embed="rId1"/>
          <a:stretch/>
        </p:blipFill>
        <p:spPr>
          <a:xfrm>
            <a:off x="228600" y="1828800"/>
            <a:ext cx="4195800" cy="43434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6" descr="http://www.skinsight.com/images/dx/webInfant/miliariaRubra_31837_lg.jpg"/>
          <p:cNvPicPr/>
          <p:nvPr/>
        </p:nvPicPr>
        <p:blipFill>
          <a:blip r:embed="rId2"/>
          <a:stretch/>
        </p:blipFill>
        <p:spPr>
          <a:xfrm>
            <a:off x="4724280" y="1828800"/>
            <a:ext cx="419112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Miliaria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Results from obstruction to the flow of sweat and rupture of the eccrine sweat gland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Miliaria crystallina - superficial 1-2mm vesicles on non-inflamed ski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Miliaria rubra (prickly heat) - small red papules and pustule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Occur in response to thermal stres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Usually erupt in crops in the intertriginous areas, scalp, face, and trunk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Is this polydactyly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156" name="Picture 4" descr="http://www.skinsight.com/images/dx/webInfant/supernumeraryDigit_35129_lg.jpg"/>
          <p:cNvPicPr/>
          <p:nvPr/>
        </p:nvPicPr>
        <p:blipFill>
          <a:blip r:embed="rId1"/>
          <a:stretch/>
        </p:blipFill>
        <p:spPr>
          <a:xfrm>
            <a:off x="2057400" y="1828800"/>
            <a:ext cx="5556240" cy="41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24 hour old female with this rash, what is it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93" name="Content Placeholder 3" descr="Erythema_Neonatarum_1_031011.jpg"/>
          <p:cNvPicPr/>
          <p:nvPr/>
        </p:nvPicPr>
        <p:blipFill>
          <a:blip r:embed="rId1"/>
          <a:stretch/>
        </p:blipFill>
        <p:spPr>
          <a:xfrm>
            <a:off x="1066680" y="1447920"/>
            <a:ext cx="723924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Supernumerary Digit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Most commonly occur as rudimentary structures at the base of the ulnar side of the 5th finger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Usually familia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Asymptomatic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an usually be tied off as long as no bone is palpated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Rare and Abnormal Dermatologic Finding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161" name="Picture 4" descr="http://www.jle.com/en/revues/medecine/ejd/e-docs/00/04/12/B9/texte_alt_jleejd00140_gr1.jpg"/>
          <p:cNvPicPr/>
          <p:nvPr/>
        </p:nvPicPr>
        <p:blipFill>
          <a:blip r:embed="rId1"/>
          <a:stretch/>
        </p:blipFill>
        <p:spPr>
          <a:xfrm>
            <a:off x="762120" y="1600200"/>
            <a:ext cx="7772400" cy="367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ollodian Baby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1440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Born encased in thick cellophane-like membran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7120" indent="-2671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Most go on to develop ichthyosis (a group of scaling disorders)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7120" indent="-2671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Barrier function is compromised by cracking and fissuring -&gt; increased insensible water loss, heat loss, and risk of infect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7120" indent="-2671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omplications are minimized by placing baby in high humidity, neutrally thermal environmen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7120" indent="-2671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Desquamation usually complete by 2-3 weeks of lif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712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165" name="Picture 4" descr="http://img.medscape.com/pi/emed/ckb/pediatrics_general/1331341-1331364-909549-909619.jpg"/>
          <p:cNvPicPr/>
          <p:nvPr/>
        </p:nvPicPr>
        <p:blipFill>
          <a:blip r:embed="rId1"/>
          <a:stretch/>
        </p:blipFill>
        <p:spPr>
          <a:xfrm>
            <a:off x="1371600" y="838080"/>
            <a:ext cx="6324480" cy="50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Epidermolysis Bullosa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Group of inherited mechanobullous disorder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Blisters form after mild friction or trauma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ree types: epidermolytic EB, junctional EB, dermolytic EB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kin biopsy distinguishes types and determines prognosi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Prenatal diagnosis is now possible for a number of variants for which gene markers are availabl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reatment is symptomatic and supportiv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169" name="Picture 4" descr="http://download.imaging.consult.com/ic/images/S1933033208902378/gr25a-midi.jpg"/>
          <p:cNvPicPr/>
          <p:nvPr/>
        </p:nvPicPr>
        <p:blipFill>
          <a:blip r:embed="rId1"/>
          <a:stretch/>
        </p:blipFill>
        <p:spPr>
          <a:xfrm>
            <a:off x="838080" y="990720"/>
            <a:ext cx="2857680" cy="45720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6" descr="http://www.conganat.org/seap/reuniones/almagro2000/casas/images/ni/ni06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038480" y="1905120"/>
            <a:ext cx="4686480" cy="31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Incontinentia Pigmenti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Neurocutaneous syndrom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X-linked dominant, lethal in male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tarts out with patches of erythema and blisters that follow the lines of Blaschko (embryonic cleavage planes) -&gt; warty plaques by several weeks to months -&gt; increasing pigmentation at 2-6 months that look like marble cake swirls -&gt; fade to hypopigmented patches in late childhood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Associated defects in the CNS, eye, dentition, heart, skeletal system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460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174" name="Picture 4" descr="http://menshealth.about.com/library/graphics/PHIL_2246_lores.jpg"/>
          <p:cNvPicPr/>
          <p:nvPr/>
        </p:nvPicPr>
        <p:blipFill>
          <a:blip r:embed="rId1"/>
          <a:stretch/>
        </p:blipFill>
        <p:spPr>
          <a:xfrm>
            <a:off x="5562720" y="1905120"/>
            <a:ext cx="2714400" cy="407664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5" descr="content01.jpg"/>
          <p:cNvPicPr/>
          <p:nvPr/>
        </p:nvPicPr>
        <p:blipFill>
          <a:blip r:embed="rId2"/>
          <a:stretch/>
        </p:blipFill>
        <p:spPr>
          <a:xfrm>
            <a:off x="380880" y="1905120"/>
            <a:ext cx="5034240" cy="4157640"/>
          </a:xfrm>
          <a:prstGeom prst="rect">
            <a:avLst/>
          </a:prstGeom>
          <a:ln w="0">
            <a:noFill/>
          </a:ln>
        </p:spPr>
      </p:pic>
      <p:sp>
        <p:nvSpPr>
          <p:cNvPr id="176" name="Rectangle 6"/>
          <p:cNvSpPr/>
          <p:nvPr/>
        </p:nvSpPr>
        <p:spPr>
          <a:xfrm>
            <a:off x="2206800" y="147492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ongenital Syphili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Mucocutaneous lesions usually appear between 2-6 weeks of ag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Most common finding = papulosquamous eruption beginning in the palms and soles and spreading over extremities, face and trunk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Diagnosis confirmed with serological studies of the serum and CSF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Early diagnosis and treatment with high dose PCN prevents late complication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Newborns with disease can also be born premature, have poor growth, and develop hepatosplenomegaly and snuffle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Erythema Toxicum Neonatorum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entral papule or pustule surrounded by area of erythema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Benign, self-limiting, asymptomatic disorder of unknown etiology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Occurs in up to 50% of infant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Presents at 24-48 hours of life, fades within 5-7 days, but recurrences may occur for several week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mear of pustule reveals eosinophil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180" name="Picture 4" descr="http://pathmicro.med.sc.edu/mhunt/rubel2.jpg"/>
          <p:cNvPicPr/>
          <p:nvPr/>
        </p:nvPicPr>
        <p:blipFill>
          <a:blip r:embed="rId1"/>
          <a:stretch/>
        </p:blipFill>
        <p:spPr>
          <a:xfrm>
            <a:off x="2085840" y="1246320"/>
            <a:ext cx="4972320" cy="43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ongenital Rubella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Blueberry muffin lesion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en in severe disseminated disease with jaundice, pneumonitis, meningitis, bony abnormalities, thrombocytopenia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ongenital rubella associated with cataracts, microphthalmia, glaucoma, congenital heart diseas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Blueberry muffin lesions can also be seen in congenital CMV and toxoplasmosi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an confirm diagnosis with serologic testing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reatment: isolation and supportive car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184" name="Picture 4" descr="http://www.pediatricsupersite.com/images/content/idc/200809/wyd1.jpg"/>
          <p:cNvPicPr/>
          <p:nvPr/>
        </p:nvPicPr>
        <p:blipFill>
          <a:blip r:embed="rId1"/>
          <a:stretch/>
        </p:blipFill>
        <p:spPr>
          <a:xfrm>
            <a:off x="1371600" y="1752480"/>
            <a:ext cx="6553080" cy="427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Herpes Simplex Infection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Of infected babies, 70% develop the skin rash and 90% of these children go on to develop systematic diseas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ustered red papules and vesicles, then become pustular, denuded, crusted, and hemorrhagic over the following 2-3 day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Diagnose by DFA or PCR of the les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reat with acyclovir as soon as infection is suspected to prevent disseminated disease and morbidity/mortality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188" name="Picture 4" descr="http://www.pathguy.com/sol/14137.jpg"/>
          <p:cNvPicPr/>
          <p:nvPr/>
        </p:nvPicPr>
        <p:blipFill>
          <a:blip r:embed="rId1"/>
          <a:stretch/>
        </p:blipFill>
        <p:spPr>
          <a:xfrm>
            <a:off x="1905120" y="1600200"/>
            <a:ext cx="4975200" cy="48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Neonatal Varicella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6104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Early exposure in utero during 1st trimester can rarely lead to neonatal varicella syndrome: linear scars, limb anomalies, ocular defects, and CNS involvemen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Late exposure in 3rd trimester increases the risk of baby acquiring the disease during the neonatal period (the closer to delivery, the higher the risk)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Vesicles usually develop over 1st 3-10 days of lif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Dissemination can lead to pneumonitis, encephalitis, purpura with hemorrhage, hypotension, and death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If newborn at risk, should consider Varicella-zoster immune globulin or IVIG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tart acyclovir early if lesions are suspicious for varicella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onfirm diagnosis with DFA or PCR of les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192" name="Picture 4" descr="http://genfir2.org/ibis-birthdefectsorg/start/images/aplascut.jpg"/>
          <p:cNvPicPr/>
          <p:nvPr/>
        </p:nvPicPr>
        <p:blipFill>
          <a:blip r:embed="rId1"/>
          <a:stretch/>
        </p:blipFill>
        <p:spPr>
          <a:xfrm>
            <a:off x="1295280" y="1752480"/>
            <a:ext cx="6381720" cy="408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Aplasia Cutis Congenita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Often inherited as AD trai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Absence/failure of formation of a localized area of scalp or skin, usually single lesion located over vertex of the scalp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reatment is supportive until lesion is healed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Leaves an atrophic, hairless scar that can be excised later in lif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Less commonly, the trunk and extremities are involved and lesions may be associated with limb defects, epidermolysis bullosa, and chromosomal abnormalitie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196" name="Picture 4" descr="http://www.sahha.gov.mt/showdoc.aspx?id=487&amp;filesource=4&amp;file=fig07.jpg"/>
          <p:cNvPicPr/>
          <p:nvPr/>
        </p:nvPicPr>
        <p:blipFill>
          <a:blip r:embed="rId1"/>
          <a:stretch/>
        </p:blipFill>
        <p:spPr>
          <a:xfrm>
            <a:off x="954000" y="857160"/>
            <a:ext cx="7236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Neonatal Lupus Erythematosu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Annular erythematous plaques with a central scal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ransplacentally aquired ssA (Ro) and ssB (La) Ab is thought to play role in pathogenesi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May be triggered or exacerbated by sun exposur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Associated with heart block, hepatosplenomegaly, anemia, leukopenia, thrombocytopenia, and/or lymphadenopathy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Except for cardiac involvement, usually resolves in 6-12 month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May need topical steroids, rarely requires systemic steroids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What is this rash noted on this baby immediately after birth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97" name="Content Placeholder 3" descr="Pustular melanosis.bmp"/>
          <p:cNvPicPr/>
          <p:nvPr/>
        </p:nvPicPr>
        <p:blipFill>
          <a:blip r:embed="rId1"/>
          <a:stretch/>
        </p:blipFill>
        <p:spPr>
          <a:xfrm>
            <a:off x="1676520" y="1905120"/>
            <a:ext cx="609588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Transient Neonatal Pustular Melanosi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lf-limiting dermatosis of unknown etiology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Occurs more frequently in black male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Usually presents at birth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Pustule on non-erythematous base, crusts over several days, which desquamates and leaves a hyperpigmented macule with collarette of fine scal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Hyperpigmentation fades in 3 weeks to 3 month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mear of pustule reveals neutrophil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Is this bruising from birth trauma or something else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101" name="Content Placeholder 3" descr="mongolian_spot_1_080714.jpg"/>
          <p:cNvPicPr/>
          <p:nvPr/>
        </p:nvPicPr>
        <p:blipFill>
          <a:blip r:embed="rId1"/>
          <a:stretch/>
        </p:blipFill>
        <p:spPr>
          <a:xfrm>
            <a:off x="1600200" y="1447920"/>
            <a:ext cx="57625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Mongolian Spo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lat, slate-gray to bluish-black, poorly circumscribed macules/patche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Most commonly located over the lumbosacral area and buttock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ommon in black, asian, and hispanic infant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Usually fade by 7 years of ag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Does this mottling mean this newborn is ill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105" name="Content Placeholder 3" descr="cutis_marmorata_3_060523.jpg"/>
          <p:cNvPicPr/>
          <p:nvPr/>
        </p:nvPicPr>
        <p:blipFill>
          <a:blip r:embed="rId1"/>
          <a:stretch/>
        </p:blipFill>
        <p:spPr>
          <a:xfrm>
            <a:off x="762120" y="2438280"/>
            <a:ext cx="7772400" cy="379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2T21:44:54Z</dcterms:created>
  <dc:creator>HCMARTINEZ</dc:creator>
  <dc:description/>
  <dc:language>en-US</dc:language>
  <cp:lastModifiedBy>Health Services Department</cp:lastModifiedBy>
  <dcterms:modified xsi:type="dcterms:W3CDTF">2010-05-25T00:00:28Z</dcterms:modified>
  <cp:revision>26</cp:revision>
  <dc:subject/>
  <dc:title>Normal Dermatologic Findings</dc:title>
</cp:coreProperties>
</file>