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389-6F03-4EF2-8F54-9B29BF68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0C8-379A-4FE5-AEBB-54048F99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7DA-E0C9-4CE2-8CEA-96B73C56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27C-4D30-4803-9F32-2A5168F1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9B12-2CFB-4E82-83DF-A09A9234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F074-B741-492F-8834-FE5C3BA6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A7D7-011E-4A50-8287-0DC41C23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0C0E-423E-4A89-9A37-3EAF7A7A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AC4A-3356-43AD-A157-C1AA7C2C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4B3B-DA91-4137-B7C0-99AA2325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6E41-1383-47FF-807D-F46E93A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DAF-C72F-4024-997A-206D752E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53EF-9F01-425E-A317-D95FA968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853B-E996-4970-BCC1-F932FBE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2673-A7B7-4232-8551-DD864620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0BE3-9EC4-4433-A2B5-F4E55B4F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1E3F-2678-4F56-8E8A-B1D2BF01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AF1-9C55-4CB2-B9F2-7EB44BBD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011-FE2B-4870-99F8-C089052C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506-89C3-4B7A-860D-87C745A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08C-3F55-4C14-A3FB-52925F7C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71A-47B6-4663-829B-6334FE6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BF1-5ABC-4B1F-805B-F0D645B3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42B-2186-46C5-BA8E-49597CE2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03D-05EB-44B8-910C-DD8FAFD0823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5FE0-7A32-4E81-921F-DC6D6C338A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moles2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afp20080101p47-f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Milia_3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1576434_f260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MiliariaCrystallina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miliariaRubra_31837_lg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supernumeraryDigit_35129_lg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texte_alt_jleejd00140_gr1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1331341-1331364-909549-909619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gr25a-midi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ni0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HIL_2246_lores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content01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rubel2" descr="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wyd1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14137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aplascut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showdoc" descr="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cmartinez</cp:lastModifiedBy>
  <dcterms:modified xsi:type="dcterms:W3CDTF">2010-04-17T06:01:12Z</dcterms:modified>
  <cp:revision>25</cp:revision>
  <dc:subject/>
  <dc:title>Normal Dermatologic Findings</dc:title>
</cp:coreProperties>
</file>