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A5D-C8D6-4DBF-9DE5-CC506390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E4A9-16EE-43AC-A6B3-B8BB9D96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C865-5096-4E38-A26B-E462E481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1329-4D3E-4AB6-814D-16BE42BE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24F5-80C9-45D3-9925-FFD26B68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EE66-6E39-441B-8E46-2ED6E38A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CE5F-4A98-4AF7-B9B2-AE0B25AE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D7D6-70FC-442F-9AF7-4DE77F8B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ACE3-6CDF-461E-BD61-96867150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40D8-2E83-40BB-BF64-F4C1FEC5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7350-4657-40DE-9E45-294E105C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1B8F-6CFE-46FF-88F2-A8E938B1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518B-3C69-48AC-85D6-33174896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457B-7DF8-4599-B4B6-4755544C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F444-33F1-423F-9CA4-256D3FBA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68C2-A8F5-4A36-AB12-41F501FD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6B8C-587D-4508-A987-E9B98625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80FB-9AA3-43DE-B202-8A564536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6563-01CB-4EC5-B21F-3DBE0B31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421B-8700-430B-AFB4-90E23265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E33C-80B4-495A-A6FF-447CA523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94B-7393-4F15-9943-86C7A2CC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43D5-D6C5-473E-B067-BCEF112A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661C-B8FE-4F53-BEB4-1CFE4D75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3902-2C52-4CC8-80B3-91A85B6ABBD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4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2F2A-3493-4FF4-B198-409E78FDF65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conganat.org/seap/reuniones/almagro2000/casas/images/ni/ni06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eonat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utis Marmora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ient, netlike, reddish-blue mott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used by variable vascular constriction and dil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ponse to chilling, resolves with war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 in neonates and usually abates by 6 months, but may persist longer in very fair skinned individua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persists past 6 months, may be a marker for  hypothyroidis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lesion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9" name="moles2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6180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Nevomelanocytic Nev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igmented macules or plaques with dense hair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iant CNN are associated with a 2-10% lifetime risk of melanoma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ighest risk of malignant change occurs in first 3-15 year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treatment with full-thickness excision followed by grafting if possible, otherwise close obser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all to medium sized CNNs are also associated with a higher risk of malignant change than acquired moles, but incidence is unknow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6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691320" cy="3975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wrong with this newborn’s hands and fee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crocy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ands and feet become variably and symmetrically blu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 warming of the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currence unusual after 1 month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and is this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18" name="Content Placeholder 3" descr="iloveyou_000.jpg"/>
          <p:cNvPicPr/>
          <p:nvPr/>
        </p:nvPicPr>
        <p:blipFill>
          <a:blip r:embed="rId1"/>
          <a:stretch/>
        </p:blipFill>
        <p:spPr>
          <a:xfrm>
            <a:off x="2286000" y="1447920"/>
            <a:ext cx="443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mangioma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10% of all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in first few month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rked vascular overgrowth resulting in bright red discoloration and definite ele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apid growth for the first 6-12 months, then a plateau period, then slow involu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50% involute by age 5, 90% by age 9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fer to dermatology if lesion involves a vital structure or if there are multiple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you guess the name for thi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2" name="Content Placeholder 3" descr="storkbite1.jpg"/>
          <p:cNvPicPr/>
          <p:nvPr/>
        </p:nvPicPr>
        <p:blipFill>
          <a:blip r:embed="rId1"/>
          <a:stretch/>
        </p:blipFill>
        <p:spPr>
          <a:xfrm>
            <a:off x="1981080" y="1905120"/>
            <a:ext cx="51912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almon Patch (Stork bite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6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des in first year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located nape of neck, forehead and upper eyeli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syndrome can be related to this vascular malformatio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6" name="Content Placeholder 3" descr="portwine.jpg"/>
          <p:cNvPicPr/>
          <p:nvPr/>
        </p:nvPicPr>
        <p:blipFill>
          <a:blip r:embed="rId1"/>
          <a:stretch/>
        </p:blipFill>
        <p:spPr>
          <a:xfrm>
            <a:off x="1905120" y="1600200"/>
            <a:ext cx="5257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orm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ort Wine Stai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rplish-red vascular malformation present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do not enlarge but remain flat and persi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port wine stain involves ophthalmic branch of the fifth cranial (trigeminal) nerve, it can be associated be a constellation termed Sturge-Weber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urge-Weber syndrome involves seizures, mental retardation, hemiplegia, and glauco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afp20080101p47-f4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838760" cy="3729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babies get pimples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Ac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velops in up to 2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ternal and endogenous androgens play a role in the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involute within 1-3 months, treatment usually unnecess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on this baby’s no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86000" y="1714680"/>
            <a:ext cx="7286760" cy="360"/>
            <a:chOff x="2286000" y="1714680"/>
            <a:chExt cx="7286760" cy="360"/>
          </a:xfrm>
        </p:grpSpPr>
        <p:sp>
          <p:nvSpPr>
            <p:cNvPr id="136" name=""/>
            <p:cNvSpPr/>
            <p:nvPr/>
          </p:nvSpPr>
          <p:spPr>
            <a:xfrm>
              <a:off x="2286000" y="1714680"/>
              <a:ext cx="7286760" cy="360"/>
            </a:xfrm>
            <a:prstGeom prst="rect">
              <a:avLst/>
            </a:prstGeom>
            <a:solidFill>
              <a:srgbClr val="00c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2286000" y="1714680"/>
              <a:ext cx="7286760" cy="360"/>
              <a:chOff x="2286000" y="1714680"/>
              <a:chExt cx="7286760" cy="360"/>
            </a:xfrm>
          </p:grpSpPr>
          <p:sp>
            <p:nvSpPr>
              <p:cNvPr id="138" name=""/>
              <p:cNvSpPr/>
              <p:nvPr/>
            </p:nvSpPr>
            <p:spPr>
              <a:xfrm>
                <a:off x="2286000" y="1714680"/>
                <a:ext cx="360" cy="360"/>
              </a:xfrm>
              <a:prstGeom prst="rect">
                <a:avLst/>
              </a:prstGeom>
              <a:solidFill>
                <a:srgbClr val="00c3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2286000" y="1714680"/>
                <a:ext cx="7286760" cy="360"/>
                <a:chOff x="2286000" y="1714680"/>
                <a:chExt cx="7286760" cy="3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42" name="Milia_3" descr="This is an infant with milia.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baceous Gland Hyperplas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Yellow papules over the nose and cheek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 from maternal or endogenous androgenic stimulation of sebaceous gland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in 4-6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the same as the previou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7" name="1576434_f260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1814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early yellow papules usually on the f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5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resolve during the 1st month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re these rashes the sam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1" name="MiliariaCrystallina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195800" cy="4343400"/>
          </a:xfrm>
          <a:prstGeom prst="rect">
            <a:avLst/>
          </a:prstGeom>
          <a:ln w="0">
            <a:noFill/>
          </a:ln>
        </p:spPr>
      </p:pic>
      <p:pic>
        <p:nvPicPr>
          <p:cNvPr id="152" name="miliariaRubra_31837_lg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4191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r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s from obstruction to the flow of sweat and rupture of the eccrine sweat gla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crystallina - superficial 1-2mm vesicles on non-inflamed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rubra (prickly heat) - small red papules and pustu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response to thermal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erupt in crops in the intertriginous areas, scalp, face,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polydactyly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6" name="supernumeraryDigit_35129_lg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55624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4 hour old female with this rash, what is i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3" name="Content Placeholder 3" descr="Erythema_Neonatarum_1_031011.jpg"/>
          <p:cNvPicPr/>
          <p:nvPr/>
        </p:nvPicPr>
        <p:blipFill>
          <a:blip r:embed="rId1"/>
          <a:stretch/>
        </p:blipFill>
        <p:spPr>
          <a:xfrm>
            <a:off x="1066680" y="1447920"/>
            <a:ext cx="7239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upernumerary Digi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occur as rudimentary structures at the base of the ulnar side of the 5th fing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mili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ymptomati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usually be tied off as long as no bone is palpat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bnorm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1" name="texte_alt_jleejd00140_gr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7724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llodian Bab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orn encased in thick cellophane-like membra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go on to develop ichthyosis (a group of scaling disorder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arrier function is compromised by cracking and fissuring -&gt; increased insensible water loss, heat loss, and risk of infe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plications are minimized by placing baby in high humidity, neutrally thermal environ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quamation usually complete by 2-3 week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5" name="1331341-1331364-909549-909619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3244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pidermolysis Bullos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roup of inherited mechanobullous disord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isters form after mild friction or trau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ree types: epidermolytic EB, junctional EB, dermolytic EB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kin biopsy distinguishes types and determines progn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natal diagnosis is now possible for a number of variants for which gene markers are availa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ymptomatic and supportiv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9" name="gr25a-midi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2857680" cy="4572000"/>
          </a:xfrm>
          <a:prstGeom prst="rect">
            <a:avLst/>
          </a:prstGeom>
          <a:ln w="0">
            <a:noFill/>
          </a:ln>
        </p:spPr>
      </p:pic>
      <p:pic>
        <p:nvPicPr>
          <p:cNvPr id="170" name="ni0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1905120"/>
            <a:ext cx="46864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continentia Pigment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urocutaneous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X-linked dominant, lethal in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s out with patches of erythema and blisters that follow the lines of Blaschko (embryonic cleavage planes) -&gt; warty plaques by several weeks to months -&gt; increasing pigmentation at 2-6 months that look like marble cake swirls -&gt; fade to hypopigmented patches in late childhoo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defects in the CNS, eye, dentition, heart, skeletal syst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74" name="PHIL_2246_lores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2714400" cy="4076640"/>
          </a:xfrm>
          <a:prstGeom prst="rect">
            <a:avLst/>
          </a:prstGeom>
          <a:ln w="0">
            <a:noFill/>
          </a:ln>
        </p:spPr>
      </p:pic>
      <p:pic>
        <p:nvPicPr>
          <p:cNvPr id="175" name="content01" descr="content01.jpg"/>
          <p:cNvPicPr/>
          <p:nvPr/>
        </p:nvPicPr>
        <p:blipFill>
          <a:blip r:embed="rId2"/>
          <a:stretch/>
        </p:blipFill>
        <p:spPr>
          <a:xfrm>
            <a:off x="380880" y="1905120"/>
            <a:ext cx="5034240" cy="4157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06800" y="1474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Syphil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ucocutaneous lesions usually appear between 2-6 week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 finding = papulosquamous eruption beginning in the palms and soles and spreading over extremities, face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is confirmed with serological studies of the serum and CS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diagnosis and treatment with high dose PCN prevents late complic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wborns with disease can also be born premature, have poor growth, and develop hepatosplenomegaly and snuff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rythema Toxicum Neonatoru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entral papule or pustule surrounded by area of erythe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, self-limiting, asymptomatic disorder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in up to 5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at 24-48 hours of life, fades within 5-7 days, but recurrences may occur for several wee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eosin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0" name="rubel2" descr=""/>
          <p:cNvPicPr/>
          <p:nvPr/>
        </p:nvPicPr>
        <p:blipFill>
          <a:blip r:embed="rId1"/>
          <a:stretch/>
        </p:blipFill>
        <p:spPr>
          <a:xfrm>
            <a:off x="2085840" y="1246320"/>
            <a:ext cx="497232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Rub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severe disseminated disease with jaundice, pneumonitis, meningitis, bony abnormalities, thrombocytopen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rubella associated with cataracts, microphthalmia, glaucoma, congenital heart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 can also be seen in congenital CMV and toxoplasm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confirm diagnosis with serologic test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: isolation and supportive c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4" name="wyd1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5530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rpes Simplex Infec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 infected babies, 70% develop the skin rash and 90% of these children go on to develop systematic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ustered red papules and vesicles, then become pustular, denuded, crusted, and hemorrhagic over the following 2-3 day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e by DFA or PCR of the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 with acyclovir as soon as infection is suspected to prevent disseminated disease and morbidity/mortal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8" name="14137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9752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Varic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exposure in utero during 1st trimester can rarely lead to neonatal varicella syndrome: linear scars, limb anomalies, ocular defects, and CNS involv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te exposure in 3rd trimester increases the risk of baby acquiring the disease during the neonatal period (the closer to delivery, the higher the risk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esicles usually develop over 1st 3-10 day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ssemination can lead to pneumonitis, encephalitis, purpura with hemorrhage, hypotension, and dea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newborn at risk, should consider Varicella-zoster immune globulin or IVI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 acyclovir early if lesions are suspicious for varicell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firm diagnosis with DFA or PCR of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2" name="aplascut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38172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plasia Cutis Congeni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ten inherited as AD tra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bsence/failure of formation of a localized area of scalp or skin, usually single lesion located over vertex of the scal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upportive until lesion is heal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ves an atrophic, hairless scar that can be excised later in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s commonly, the trunk and extremities are involved and lesions may be associated with limb defects, epidermolysis bullosa, and chromosomal abnormalit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6" name="showdoc" descr=""/>
          <p:cNvPicPr/>
          <p:nvPr/>
        </p:nvPicPr>
        <p:blipFill>
          <a:blip r:embed="rId1"/>
          <a:stretch/>
        </p:blipFill>
        <p:spPr>
          <a:xfrm>
            <a:off x="954000" y="857160"/>
            <a:ext cx="7236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Lupus Erythematosu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nular erythematous plaques with a central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placentally aquired ssA (Ro) and ssB (La) Ab is thought to play role in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be triggered or exacerbated by sun expos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with heart block, hepatosplenomegaly, anemia, leukopenia, thrombocytopenia, and/or lymphadenopath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cept for cardiac involvement, usually resolves in 6-12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need topical steroids, rarely requires systemic steroid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rash noted on this baby immediately after birt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7" name="Content Placeholder 3" descr="Pustular melanosis.bmp"/>
          <p:cNvPicPr/>
          <p:nvPr/>
        </p:nvPicPr>
        <p:blipFill>
          <a:blip r:embed="rId1"/>
          <a:stretch/>
        </p:blipFill>
        <p:spPr>
          <a:xfrm>
            <a:off x="1676520" y="1905120"/>
            <a:ext cx="60958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ransient Neonatal Pustular Mel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lf-limiting dermatosis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more frequently in black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presents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stule on non-erythematous base, crusts over several days, which desquamates and leaves a hyperpigmented macule with collarette of fine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yperpigmentation fades in 3 weeks to 3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neutr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bruising from birth trauma or something el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1" name="Content Placeholder 3" descr="mongolian_spot_1_080714.jpg"/>
          <p:cNvPicPr/>
          <p:nvPr/>
        </p:nvPicPr>
        <p:blipFill>
          <a:blip r:embed="rId1"/>
          <a:stretch/>
        </p:blipFill>
        <p:spPr>
          <a:xfrm>
            <a:off x="1600200" y="1447920"/>
            <a:ext cx="57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ongolian Spo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lat, slate-gray to bluish-black, poorly circumscribed macules/patch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located over the lumbosacral area and buttoc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mon in black, asian, and hispanic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de by 7 year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oes this mottling mean this newborn is ill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5" name="Content Placeholder 3" descr="cutis_marmorata_3_060523.jpg"/>
          <p:cNvPicPr/>
          <p:nvPr/>
        </p:nvPicPr>
        <p:blipFill>
          <a:blip r:embed="rId1"/>
          <a:stretch/>
        </p:blipFill>
        <p:spPr>
          <a:xfrm>
            <a:off x="762120" y="2438280"/>
            <a:ext cx="77724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21:44:54Z</dcterms:created>
  <dc:creator>HCMARTINEZ</dc:creator>
  <dc:description/>
  <dc:language>en-US</dc:language>
  <cp:lastModifiedBy>hcmartinez</cp:lastModifiedBy>
  <dcterms:modified xsi:type="dcterms:W3CDTF">2010-04-17T06:01:12Z</dcterms:modified>
  <cp:revision>25</cp:revision>
  <dc:subject/>
  <dc:title>Normal Dermatologic Findings</dc:title>
</cp:coreProperties>
</file>