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A8DC-C005-4001-A40B-3A586239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0759-B393-4A2F-853E-9C68C17E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E7A5-2DAD-42A3-B025-8B54855D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F69F-413E-4721-B922-416919B6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E6B5-1C7D-496A-810F-DB86B278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70B0-6D15-4705-9857-9714ABCB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8820-4FA5-4FDC-A8E5-3E856B8D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0413-9B67-4392-901E-895B28D4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E57A-436A-4F16-AD86-175B1378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A1D6-095F-4442-9602-B4622800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9D7B-D5EF-49E7-BD48-D2BBBBFF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E8C4-8BB6-451A-AFE4-734235CA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33FD-57B7-4D2A-BA52-E4E4EC3E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5271-730C-4A72-BA22-209171D1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AEA2-3DB9-49DD-A5C2-A341F834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5D42-6841-4353-B826-1B880896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978C-A501-4368-862E-4013F376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9AF6-6C78-4A54-BFC6-80683DA9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B092-CEB1-4CFD-92F9-B18B12C8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2377-A93D-4F60-AF10-8190C92F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26BB-CB32-4636-BC34-B7E387C6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6DEB-CABC-4202-8F83-8DD2075F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38F4-3BDE-4DCB-AA0D-88EA72F6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AF5A-9369-440C-9B91-539462DD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919A-67B8-4240-ACCD-57D6438C906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4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6F7F-B53D-4F93-8852-0CA569FE729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conganat.org/seap/reuniones/almagro2000/casas/images/ni/ni06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Neonat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utis Marmora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ient, netlike, reddish-blue mottl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used by variable vascular constriction and dil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ponse to chilling, resolves with warm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 in neonates and usually abates by 6 months, but may persist longer in very fair skinned individua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persists past 6 months, may be a marker for  hypothyroidis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lesion benig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9" name="moles2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61808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Nevomelanocytic Nev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igmented macules or plaques with dense hair grow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iant CNN are associated with a 2-10% lifetime risk of melanoma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ighest risk of malignant change occurs in first 3-15 year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treatment with full-thickness excision followed by grafting if possible, otherwise close obser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all to medium sized CNNs are also associated with a higher risk of malignant change than acquired moles, but incidence is unknow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6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691320" cy="3975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’s wrong with this newborn’s hands and fee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crocy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ands and feet become variably and symmetrically blu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olves with warming of the sk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currence unusual after 1 month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this and is this benig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18" name="Content Placeholder 3" descr="iloveyou_000.jpg"/>
          <p:cNvPicPr/>
          <p:nvPr/>
        </p:nvPicPr>
        <p:blipFill>
          <a:blip r:embed="rId1"/>
          <a:stretch/>
        </p:blipFill>
        <p:spPr>
          <a:xfrm>
            <a:off x="2286000" y="1447920"/>
            <a:ext cx="4432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mangioma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genital 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10% of all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in first few month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rked vascular overgrowth resulting in bright red discoloration and definite ele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apid growth for the first 6-12 months, then a plateau period, then slow involu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50% involute by age 5, 90% by age 9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fer to dermatology if lesion involves a vital structure or if there are multiple le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n you guess the name for this ras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22" name="Content Placeholder 3" descr="storkbite1.jpg"/>
          <p:cNvPicPr/>
          <p:nvPr/>
        </p:nvPicPr>
        <p:blipFill>
          <a:blip r:embed="rId1"/>
          <a:stretch/>
        </p:blipFill>
        <p:spPr>
          <a:xfrm>
            <a:off x="1981080" y="1905120"/>
            <a:ext cx="51912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almon Patch (Stork bite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en in 6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ades in first year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located nape of neck, forehead and upper eyeli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syndrome can be related to this vascular malformatio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26" name="Content Placeholder 3" descr="portwine.jpg"/>
          <p:cNvPicPr/>
          <p:nvPr/>
        </p:nvPicPr>
        <p:blipFill>
          <a:blip r:embed="rId1"/>
          <a:stretch/>
        </p:blipFill>
        <p:spPr>
          <a:xfrm>
            <a:off x="1905120" y="1600200"/>
            <a:ext cx="5257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orm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ort Wine Stai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rplish-red vascular malformation present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ions do not enlarge but remain flat and persi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port wine stain involves ophthalmic branch of the fifth cranial (trigeminal) nerve, it can be associated be a constellation termed Sturge-Weber syndr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urge-Weber syndrome involves seizures, mental retardation, hemiplegia, and glauco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afp20080101p47-f4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838760" cy="3729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n babies get pimples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Ac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velops in up to 20% of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ternal and endogenous androgens play a role in the pathogene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ions involute within 1-3 months, treatment usually unnecess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’s on this baby’s nos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86000" y="1714680"/>
            <a:ext cx="7286760" cy="360"/>
            <a:chOff x="2286000" y="1714680"/>
            <a:chExt cx="7286760" cy="360"/>
          </a:xfrm>
        </p:grpSpPr>
        <p:sp>
          <p:nvSpPr>
            <p:cNvPr id="136" name=""/>
            <p:cNvSpPr/>
            <p:nvPr/>
          </p:nvSpPr>
          <p:spPr>
            <a:xfrm>
              <a:off x="2286000" y="1714680"/>
              <a:ext cx="7286760" cy="360"/>
            </a:xfrm>
            <a:prstGeom prst="rect">
              <a:avLst/>
            </a:prstGeom>
            <a:solidFill>
              <a:srgbClr val="00c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2286000" y="1714680"/>
              <a:ext cx="7286760" cy="360"/>
              <a:chOff x="2286000" y="1714680"/>
              <a:chExt cx="7286760" cy="360"/>
            </a:xfrm>
          </p:grpSpPr>
          <p:sp>
            <p:nvSpPr>
              <p:cNvPr id="138" name=""/>
              <p:cNvSpPr/>
              <p:nvPr/>
            </p:nvSpPr>
            <p:spPr>
              <a:xfrm>
                <a:off x="2286000" y="1714680"/>
                <a:ext cx="360" cy="360"/>
              </a:xfrm>
              <a:prstGeom prst="rect">
                <a:avLst/>
              </a:prstGeom>
              <a:solidFill>
                <a:srgbClr val="00c3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2286000" y="1714680"/>
                <a:ext cx="7286760" cy="360"/>
                <a:chOff x="2286000" y="1714680"/>
                <a:chExt cx="7286760" cy="3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286000" y="1714680"/>
                  <a:ext cx="7286760" cy="360"/>
                </a:xfrm>
                <a:prstGeom prst="rect">
                  <a:avLst/>
                </a:prstGeom>
                <a:solidFill>
                  <a:srgbClr val="00c3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286000" y="1714680"/>
                  <a:ext cx="7286760" cy="360"/>
                </a:xfrm>
                <a:prstGeom prst="rect">
                  <a:avLst/>
                </a:prstGeom>
                <a:solidFill>
                  <a:srgbClr val="00c3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42" name="Milia_3" descr="This is an infant with milia."/>
          <p:cNvPicPr/>
          <p:nvPr/>
        </p:nvPicPr>
        <p:blipFill>
          <a:blip r:embed="rId1"/>
          <a:stretch/>
        </p:blipFill>
        <p:spPr>
          <a:xfrm>
            <a:off x="1828800" y="175248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ebaceous Gland Hyperplas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Yellow papules over the nose and cheek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 from maternal or endogenous androgenic stimulation of sebaceous gland grow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olves within 4-6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the same as the previous ras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47" name="1576434_f260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1814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il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early yellow papules usually on the f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50% of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resolve during the 1st month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re these rashes the sam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51" name="MiliariaCrystallina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195800" cy="4343400"/>
          </a:xfrm>
          <a:prstGeom prst="rect">
            <a:avLst/>
          </a:prstGeom>
          <a:ln w="0">
            <a:noFill/>
          </a:ln>
        </p:spPr>
      </p:pic>
      <p:pic>
        <p:nvPicPr>
          <p:cNvPr id="152" name="miliariaRubra_31837_lg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4191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iliar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s from obstruction to the flow of sweat and rupture of the eccrine sweat gla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iliaria crystallina - superficial 1-2mm vesicles on non-inflamed sk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iliaria rubra (prickly heat) - small red papules and pustu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response to thermal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erupt in crops in the intertriginous areas, scalp, face, and tru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polydactyly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56" name="supernumeraryDigit_35129_lg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55624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4 hour old female with this rash, what is i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93" name="Content Placeholder 3" descr="Erythema_Neonatarum_1_031011.jpg"/>
          <p:cNvPicPr/>
          <p:nvPr/>
        </p:nvPicPr>
        <p:blipFill>
          <a:blip r:embed="rId1"/>
          <a:stretch/>
        </p:blipFill>
        <p:spPr>
          <a:xfrm>
            <a:off x="1066680" y="1447920"/>
            <a:ext cx="7239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upernumerary Digi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ly occur as rudimentary structures at the base of the ulnar side of the 5th fing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famili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ymptomati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usually be tied off as long as no bone is palpat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bnorm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1" name="texte_alt_jleejd00140_gr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7724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llodian Bab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orn encased in thick cellophane-like membran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go on to develop ichthyosis (a group of scaling disorder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arrier function is compromised by cracking and fissuring -&gt; increased insensible water loss, heat loss, and risk of infe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plications are minimized by placing baby in high humidity, neutrally thermal environ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squamation usually complete by 2-3 week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5" name="1331341-1331364-909549-909619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3244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pidermolysis Bullos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roup of inherited mechanobullous disord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isters form after mild friction or trau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ree types: epidermolytic EB, junctional EB, dermolytic EB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kin biopsy distinguishes types and determines progno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natal diagnosis is now possible for a number of variants for which gene markers are availab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 is symptomatic and supportiv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9" name="gr25a-midi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2857680" cy="4572000"/>
          </a:xfrm>
          <a:prstGeom prst="rect">
            <a:avLst/>
          </a:prstGeom>
          <a:ln w="0">
            <a:noFill/>
          </a:ln>
        </p:spPr>
      </p:pic>
      <p:pic>
        <p:nvPicPr>
          <p:cNvPr id="170" name="ni0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38480" y="1905120"/>
            <a:ext cx="46864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continentia Pigment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urocutaneous syndr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X-linked dominant, lethal in m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rts out with patches of erythema and blisters that follow the lines of Blaschko (embryonic cleavage planes) -&gt; warty plaques by several weeks to months -&gt; increasing pigmentation at 2-6 months that look like marble cake swirls -&gt; fade to hypopigmented patches in late childhoo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sociated defects in the CNS, eye, dentition, heart, skeletal syst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74" name="PHIL_2246_lores" descr=""/>
          <p:cNvPicPr/>
          <p:nvPr/>
        </p:nvPicPr>
        <p:blipFill>
          <a:blip r:embed="rId1"/>
          <a:stretch/>
        </p:blipFill>
        <p:spPr>
          <a:xfrm>
            <a:off x="5562720" y="1905120"/>
            <a:ext cx="2714400" cy="4076640"/>
          </a:xfrm>
          <a:prstGeom prst="rect">
            <a:avLst/>
          </a:prstGeom>
          <a:ln w="0">
            <a:noFill/>
          </a:ln>
        </p:spPr>
      </p:pic>
      <p:pic>
        <p:nvPicPr>
          <p:cNvPr id="175" name="content01" descr="content01.jpg"/>
          <p:cNvPicPr/>
          <p:nvPr/>
        </p:nvPicPr>
        <p:blipFill>
          <a:blip r:embed="rId2"/>
          <a:stretch/>
        </p:blipFill>
        <p:spPr>
          <a:xfrm>
            <a:off x="380880" y="1905120"/>
            <a:ext cx="5034240" cy="4157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06800" y="1474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Syphil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ucocutaneous lesions usually appear between 2-6 weeks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 finding = papulosquamous eruption beginning in the palms and soles and spreading over extremities, face and tru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gnosis confirmed with serological studies of the serum and CS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diagnosis and treatment with high dose PCN prevents late complic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wborns with disease can also be born premature, have poor growth, and develop hepatosplenomegaly and snuff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rythema Toxicum Neonatoru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entral papule or pustule surrounded by area of erythe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, self-limiting, asymptomatic disorder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s in up to 5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at 24-48 hours of life, fades within 5-7 days, but recurrences may occur for several wee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ear of pustule reveals eosinophi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0" name="rubel2" descr=""/>
          <p:cNvPicPr/>
          <p:nvPr/>
        </p:nvPicPr>
        <p:blipFill>
          <a:blip r:embed="rId1"/>
          <a:stretch/>
        </p:blipFill>
        <p:spPr>
          <a:xfrm>
            <a:off x="2085840" y="1246320"/>
            <a:ext cx="497232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Rubell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ueberry muffin le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en in severe disseminated disease with jaundice, pneumonitis, meningitis, bony abnormalities, thrombocytopen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genital rubella associated with cataracts, microphthalmia, glaucoma, congenital heart disea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ueberry muffin lesions can also be seen in congenital CMV and toxoplasmo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confirm diagnosis with serologic test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: isolation and supportive ca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4" name="wyd1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5530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rpes Simplex Infec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 infected babies, 70% develop the skin rash and 90% of these children go on to develop systematic disea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ustered red papules and vesicles, then become pustular, denuded, crusted, and hemorrhagic over the following 2-3 day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gnose by DFA or PCR of the le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 with acyclovir as soon as infection is suspected to prevent disseminated disease and morbidity/mortal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8" name="14137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97520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Varicell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exposure in utero during 1st trimester can rarely lead to neonatal varicella syndrome: linear scars, limb anomalies, ocular defects, and CNS involv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te exposure in 3rd trimester increases the risk of baby acquiring the disease during the neonatal period (the closer to delivery, the higher the risk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esicles usually develop over 1st 3-10 day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ssemination can lead to pneumonitis, encephalitis, purpura with hemorrhage, hypotension, and dea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newborn at risk, should consider Varicella-zoster immune globulin or IVI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rt acyclovir early if lesions are suspicious for varicell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firm diagnosis with DFA or PCR of le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92" name="aplascut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38172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plasia Cutis Congeni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ten inherited as AD trai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bsence/failure of formation of a localized area of scalp or skin, usually single lesion located over vertex of the scal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 is supportive until lesion is heal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aves an atrophic, hairless scar that can be excised later in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s commonly, the trunk and extremities are involved and lesions may be associated with limb defects, epidermolysis bullosa, and chromosomal abnormaliti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96" name="showdoc" descr=""/>
          <p:cNvPicPr/>
          <p:nvPr/>
        </p:nvPicPr>
        <p:blipFill>
          <a:blip r:embed="rId1"/>
          <a:stretch/>
        </p:blipFill>
        <p:spPr>
          <a:xfrm>
            <a:off x="954000" y="857160"/>
            <a:ext cx="7236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Lupus Erythematosu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nular erythematous plaques with a central sca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placentally aquired ssA (Ro) and ssB (La) Ab is thought to play role in pathogene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y be triggered or exacerbated by sun expos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sociated with heart block, hepatosplenomegaly, anemia, leukopenia, thrombocytopenia, and/or lymphadenopath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cept for cardiac involvement, usually resolves in 6-12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y need topical steroids, rarely requires systemic steroid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this rash noted on this baby immediately after birt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97" name="Content Placeholder 3" descr="Pustular melanosis.bmp"/>
          <p:cNvPicPr/>
          <p:nvPr/>
        </p:nvPicPr>
        <p:blipFill>
          <a:blip r:embed="rId1"/>
          <a:stretch/>
        </p:blipFill>
        <p:spPr>
          <a:xfrm>
            <a:off x="1676520" y="1905120"/>
            <a:ext cx="60958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ransient Neonatal Pustular Mel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lf-limiting dermatosis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s more frequently in black m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presents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stule on non-erythematous base, crusts over several days, which desquamates and leaves a hyperpigmented macule with collarette of fine sca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yperpigmentation fades in 3 weeks to 3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ear of pustule reveals neutrophi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bruising from birth trauma or something els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1" name="Content Placeholder 3" descr="mongolian_spot_1_080714.jpg"/>
          <p:cNvPicPr/>
          <p:nvPr/>
        </p:nvPicPr>
        <p:blipFill>
          <a:blip r:embed="rId1"/>
          <a:stretch/>
        </p:blipFill>
        <p:spPr>
          <a:xfrm>
            <a:off x="1600200" y="1447920"/>
            <a:ext cx="576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ongolian Spo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lat, slate-gray to bluish-black, poorly circumscribed macules/patch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ly located over the lumbosacral area and buttoc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mon in black, asian, and hispanic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fade by 7 years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oes this mottling mean this newborn is ill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5" name="Content Placeholder 3" descr="cutis_marmorata_3_060523.jpg"/>
          <p:cNvPicPr/>
          <p:nvPr/>
        </p:nvPicPr>
        <p:blipFill>
          <a:blip r:embed="rId1"/>
          <a:stretch/>
        </p:blipFill>
        <p:spPr>
          <a:xfrm>
            <a:off x="762120" y="2438280"/>
            <a:ext cx="777240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21:44:54Z</dcterms:created>
  <dc:creator>HCMARTINEZ</dc:creator>
  <dc:description/>
  <dc:language>en-US</dc:language>
  <cp:lastModifiedBy>hcmartinez</cp:lastModifiedBy>
  <dcterms:modified xsi:type="dcterms:W3CDTF">2010-04-17T06:01:12Z</dcterms:modified>
  <cp:revision>25</cp:revision>
  <dc:subject/>
  <dc:title>Normal Dermatologic Findings</dc:title>
</cp:coreProperties>
</file>