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2EAB-5849-4EDB-813F-8963A8C20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s/slide41.xml"/><Relationship Id="rId5"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AD55B-86E7-410B-8110-9E4A85B38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4D20-8F8B-4193-83B8-1B7479DFA1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tric acid hypersecretion is common in patients with SBS. The degree of hypersecretion is proportional to the degree of bowel resected. Hypersecretion may contribute to malabsorption by inactivating pancreatic enzymes and, thus, interfering with fat absorption. The usual treatment is with either H2 blockers or proton pump inhibi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ence of normal physiologic mechanisms that increase intestinal transit, including the ileocecal valve and colon, also shortens intestinal transit time. However, if the existing small bowel or colon shows signs of dysmotility due to fibrosis or surgical narrowing, stagnant bowel contents may aggravate an existing bacterial overgrowth, thereby worsening malabsorption and diarrh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 jejunal resection leads to carbohydrate malabsorption. The undigested foods produce an osmotic diarrhea typical of most patients with SBS. The proximal small bowel also is important in the absorption of proteins, fat, and certain micronutrients, including copp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 resection of the ileum may lead to severe malabsorption of bile salt and vitamin B-12. Bile salt malabsorption produces a choleretic diarrhea. Furthermore, bile salt depletion affects fat absorption, thereby worsening steatorrhea and fat-soluble vitamin malabsorption. Ileal resection leads to the malabsorption of bile salts and an abnormal bile acid pool that leads to the formation of a lithogenic bile and cholelithiasi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eocecal valve is important in preventing bacterial overgrowth. Problems associated with proximal small-bowel overgrowth include deconjugation of bile salts and depletion of bile salt stores. Bacteria often compete for vitamin B-12, which may facilitate a pernicious anemia. Bacteria overgrowth also leads to carbohydrate malabsorption, worsening of osmotic diarrhea, and the risk of metabolic acidosis and dehydration. Treatment is generally aimed at lessening the degree of bacterial overgrowth with antibiotic therapy, including administration of metronidazole alternating with either kanamycin or oral gentamicin.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DD3DE-39D0-4E12-882E-292F77677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47A35-9718-45C2-B64A-63F7436E2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1"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2"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3"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EDE22-58B3-4D59-A444-B3103D70C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4ABEE-979C-4B1B-A568-48474B2FE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E9D7E-3D55-4363-AE6C-9B79C4CD4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9FB17-29F6-497A-A52F-67E3D1CA3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655B7-06EE-4A9C-B995-9A8CF38EF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8A988-AA76-4038-8F2F-037A72F5C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E6A97-14E6-4EA2-AEEA-8CF98DFB5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AFE5B-E7E7-4902-9743-339323624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E096D-F041-4B57-AA1F-26565ABEC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F6114-FA84-4E98-B95C-EE939E1B1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83FA4-7103-4B72-A642-A1FCB4A8A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E6DEC-66F0-4EE3-94D9-283320C54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B6EF-7ADC-4DEB-9D7C-DCF160040B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ildrenshospitaloakland.org/"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257800" y="1028880"/>
            <a:ext cx="3355920" cy="4800600"/>
          </a:xfrm>
          <a:prstGeom prst="rect">
            <a:avLst/>
          </a:prstGeom>
          <a:ln w="0">
            <a:noFill/>
          </a:ln>
        </p:spPr>
      </p:pic>
      <p:sp>
        <p:nvSpPr>
          <p:cNvPr id="49" name=""/>
          <p:cNvSpPr/>
          <p:nvPr/>
        </p:nvSpPr>
        <p:spPr>
          <a:xfrm>
            <a:off x="533520" y="2133720"/>
            <a:ext cx="4190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ecrotizing</a:t>
            </a:r>
            <a:endParaRPr b="0" lang="en-US" sz="5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Enterocolitis</a:t>
            </a:r>
            <a:endParaRPr b="0" lang="en-US" sz="5400" spc="-1" strike="noStrike">
              <a:solidFill>
                <a:srgbClr val="ffffff"/>
              </a:solidFill>
              <a:latin typeface="Times New Roman"/>
            </a:endParaRPr>
          </a:p>
        </p:txBody>
      </p:sp>
      <p:sp>
        <p:nvSpPr>
          <p:cNvPr id="50" name=""/>
          <p:cNvSpPr/>
          <p:nvPr/>
        </p:nvSpPr>
        <p:spPr>
          <a:xfrm>
            <a:off x="533520" y="5562720"/>
            <a:ext cx="761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scilla Joe, M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ldren’s Hospital and Research Center Oakland</a:t>
            </a:r>
            <a:endParaRPr b="0" lang="en-US" sz="2400" spc="-1" strike="noStrike">
              <a:solidFill>
                <a:srgbClr val="ffffff"/>
              </a:solidFill>
              <a:latin typeface="Times New Roman"/>
            </a:endParaRPr>
          </a:p>
        </p:txBody>
      </p:sp>
      <p:pic>
        <p:nvPicPr>
          <p:cNvPr id="51" name="" descr="Children's Hospital Oakland Logo">
            <a:hlinkClick r:id="rId2"/>
          </p:cNvPr>
          <p:cNvPicPr/>
          <p:nvPr/>
        </p:nvPicPr>
        <p:blipFill>
          <a:blip r:embed="rId3"/>
          <a:stretch/>
        </p:blipFill>
        <p:spPr>
          <a:xfrm>
            <a:off x="685800" y="4267080"/>
            <a:ext cx="1905120" cy="9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Feeding and NEC</a:t>
            </a:r>
            <a:endParaRPr b="0" lang="en-US" sz="4800" spc="-1" strike="noStrike">
              <a:solidFill>
                <a:srgbClr val="ffff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90% of babies receive enteral feedings</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isrupts mucosal integrity</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educes gut motility</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lters GI blood flow</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bnormal bacterial colonization</a:t>
            </a:r>
            <a:endParaRPr b="0" lang="en-US" sz="28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ormula: Enterobacter</a:t>
            </a:r>
            <a:endParaRPr b="0" lang="en-US" sz="24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reastmilk: Enterobacter and Bifidobacterium</a:t>
            </a:r>
            <a:endParaRPr b="0" lang="en-US" sz="24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ate of feeding advancement</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Hyperosmolar feeding</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22AA0B5-C7A0-4A5F-9774-533EC26A03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ntestinal Ischemia</a:t>
            </a:r>
            <a:endParaRPr b="0" lang="en-US" sz="4800" spc="-1" strike="noStrike">
              <a:solidFill>
                <a:srgbClr val="ffff00"/>
              </a:solidFill>
              <a:latin typeface="Arial"/>
            </a:endParaRPr>
          </a:p>
        </p:txBody>
      </p:sp>
      <p:sp>
        <p:nvSpPr>
          <p:cNvPr id="6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erm infants (polycythemia, asphyxia, exchange transfusion, congenital heart disease, IUG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D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doc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caine exposure in utero</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AC lin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astroschis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24164AB-B8CD-49EF-8CD0-FAFCFF9D8D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Bacterial Colonization</a:t>
            </a:r>
            <a:endParaRPr b="0" lang="en-US" sz="4800" spc="-1" strike="noStrike">
              <a:solidFill>
                <a:srgbClr val="ffff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High risk infants susceptible to bacterial overgrowth</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Breast milk (lactobacilli and facultative anaerob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Formula fed (potentially pathogenic gram-negative bacte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41E2ECF-D14A-4DFD-BC8D-B2EBD7305C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ork Up</a:t>
            </a:r>
            <a:endParaRPr b="0" lang="en-US" sz="4400" spc="-1" strike="noStrike">
              <a:solidFill>
                <a:srgbClr val="ffff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Radiographic Findings</a:t>
            </a:r>
            <a:endParaRPr b="0" lang="en-US" sz="4800" spc="-1" strike="noStrike">
              <a:solidFill>
                <a:srgbClr val="ffff00"/>
              </a:solidFill>
              <a:latin typeface="Arial"/>
            </a:endParaRPr>
          </a:p>
        </p:txBody>
      </p:sp>
      <p:sp>
        <p:nvSpPr>
          <p:cNvPr id="7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testinal ileu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ilated and thickened bowel loops, air-fluid level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tramural gas (pneumatosis intestinalis); cystic and/or linear patterns, terminal ileum and proximal colon</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ree air (football sign)</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ortal venous ga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ixed or persistent dilated loop of bowel (sentinel loop)</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asless abdomen with ascites</a:t>
            </a:r>
            <a:endParaRPr b="0" lang="en-US" sz="2800" spc="-1" strike="noStrike">
              <a:solidFill>
                <a:srgbClr val="ffffff"/>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9668E5E-A473-45D9-BFDB-FA3A931F02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697040" y="0"/>
            <a:ext cx="5770440" cy="6858000"/>
          </a:xfrm>
          <a:prstGeom prst="rect">
            <a:avLst/>
          </a:prstGeom>
          <a:ln w="0">
            <a:noFill/>
          </a:ln>
        </p:spPr>
      </p:pic>
      <p:sp>
        <p:nvSpPr>
          <p:cNvPr id="2" name="PlaceHolder 1"/>
          <p:cNvSpPr>
            <a:spLocks noGrp="1"/>
          </p:cNvSpPr>
          <p:nvPr>
            <p:ph type="sldNum" idx="3"/>
          </p:nvPr>
        </p:nvSpPr>
        <p:spPr/>
        <p:txBody>
          <a:bodyPr/>
          <a:p>
            <a:fld id="{544ADDAA-68DC-4722-990C-F75FB63411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333440" y="533520"/>
            <a:ext cx="6438960" cy="5878440"/>
          </a:xfrm>
          <a:prstGeom prst="rect">
            <a:avLst/>
          </a:prstGeom>
          <a:ln w="0">
            <a:noFill/>
          </a:ln>
        </p:spPr>
      </p:pic>
      <p:sp>
        <p:nvSpPr>
          <p:cNvPr id="2" name="PlaceHolder 1"/>
          <p:cNvSpPr>
            <a:spLocks noGrp="1"/>
          </p:cNvSpPr>
          <p:nvPr>
            <p:ph type="sldNum" idx="3"/>
          </p:nvPr>
        </p:nvSpPr>
        <p:spPr/>
        <p:txBody>
          <a:bodyPr/>
          <a:p>
            <a:fld id="{D72920CD-4F07-43C7-9915-3BA5D17131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676520" y="530280"/>
            <a:ext cx="5767200" cy="6099120"/>
          </a:xfrm>
          <a:prstGeom prst="rect">
            <a:avLst/>
          </a:prstGeom>
          <a:ln w="0">
            <a:noFill/>
          </a:ln>
        </p:spPr>
      </p:pic>
      <p:sp>
        <p:nvSpPr>
          <p:cNvPr id="2" name="PlaceHolder 1"/>
          <p:cNvSpPr>
            <a:spLocks noGrp="1"/>
          </p:cNvSpPr>
          <p:nvPr>
            <p:ph type="sldNum" idx="3"/>
          </p:nvPr>
        </p:nvSpPr>
        <p:spPr/>
        <p:txBody>
          <a:bodyPr/>
          <a:p>
            <a:fld id="{2194B9CC-2C9E-4892-A7ED-E71621F8E3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905120" y="228600"/>
            <a:ext cx="5273640" cy="6400800"/>
          </a:xfrm>
          <a:prstGeom prst="rect">
            <a:avLst/>
          </a:prstGeom>
          <a:ln w="0">
            <a:noFill/>
          </a:ln>
        </p:spPr>
      </p:pic>
      <p:sp>
        <p:nvSpPr>
          <p:cNvPr id="2" name="PlaceHolder 1"/>
          <p:cNvSpPr>
            <a:spLocks noGrp="1"/>
          </p:cNvSpPr>
          <p:nvPr>
            <p:ph type="sldNum" idx="3"/>
          </p:nvPr>
        </p:nvSpPr>
        <p:spPr/>
        <p:txBody>
          <a:bodyPr/>
          <a:p>
            <a:fld id="{B08AF077-A71E-4B2E-8082-86E195A761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nec"/>
          <p:cNvPicPr/>
          <p:nvPr/>
        </p:nvPicPr>
        <p:blipFill>
          <a:blip r:embed="rId1"/>
          <a:stretch/>
        </p:blipFill>
        <p:spPr>
          <a:xfrm>
            <a:off x="1752480" y="380880"/>
            <a:ext cx="5619960" cy="6248520"/>
          </a:xfrm>
          <a:prstGeom prst="rect">
            <a:avLst/>
          </a:prstGeom>
          <a:ln w="0">
            <a:noFill/>
          </a:ln>
        </p:spPr>
      </p:pic>
      <p:sp>
        <p:nvSpPr>
          <p:cNvPr id="2" name="PlaceHolder 1"/>
          <p:cNvSpPr>
            <a:spLocks noGrp="1"/>
          </p:cNvSpPr>
          <p:nvPr>
            <p:ph type="sldNum" idx="3"/>
          </p:nvPr>
        </p:nvSpPr>
        <p:spPr/>
        <p:txBody>
          <a:bodyPr/>
          <a:p>
            <a:fld id="{C1C9199C-EE55-492A-AC60-0C086BDCDB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ncidence</a:t>
            </a:r>
            <a:endParaRPr b="0" lang="en-US" sz="4800" spc="-1" strike="noStrike">
              <a:solidFill>
                <a:srgbClr val="ffff00"/>
              </a:solidFill>
              <a:latin typeface="Arial"/>
            </a:endParaRPr>
          </a:p>
        </p:txBody>
      </p:sp>
      <p:sp>
        <p:nvSpPr>
          <p:cNvPr id="53"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ost common GI emergency in premies</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10% of VLBW infants &lt; 1500 grams</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verse relationship with gestational age</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ales and females equally effected</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ean age @ diagnosis 20 days (premies) vs. 7 days (term)</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Jejunum, ileum, and colon most commonly affected</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0% term infants (usually in those with pre-existing illness)</a:t>
            </a:r>
            <a:endParaRPr b="0" lang="en-US" sz="2800" spc="-1" strike="noStrike">
              <a:solidFill>
                <a:srgbClr val="ffffff"/>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819DD27-B4A3-4C79-B8EA-19003108EF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Laboratory Findings</a:t>
            </a:r>
            <a:br>
              <a:rPr sz="4800"/>
            </a:br>
            <a:endParaRPr b="0" lang="en-US" sz="4800" spc="-1" strike="noStrike">
              <a:solidFill>
                <a:srgbClr val="ffff00"/>
              </a:solidFill>
              <a:latin typeface="Arial"/>
            </a:endParaRPr>
          </a:p>
        </p:txBody>
      </p:sp>
      <p:sp>
        <p:nvSpPr>
          <p:cNvPr id="82"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BC:</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evated or decreased WBC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rombocytopeni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ANC = poor prognosis</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evated CR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ultures (blood, +/- stool, +/- CSF)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Usually reveals enteric flora </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tool Analysis - heme +, check for C. diff toxi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3D1ECC7-CF61-4697-A41E-C80C6A4C11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aboratory Findings</a:t>
            </a:r>
            <a:endParaRPr b="0" lang="en-US" sz="4400" spc="-1" strike="noStrike">
              <a:solidFill>
                <a:srgbClr val="ffff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agulopathy</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rolonged PT/PTT</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fibrinogen</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evated D-dimers</a:t>
            </a:r>
            <a:endParaRPr b="0" lang="en-US" sz="2400" spc="-1" strike="noStrike">
              <a:solidFill>
                <a:srgbClr val="ffffff"/>
              </a:solidFill>
              <a:latin typeface="Arial"/>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ectrolytes</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ypo- or hyperglycemia</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yponatremia</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bicarb</a:t>
            </a:r>
            <a:endParaRPr b="0" lang="en-US" sz="2400" spc="-1" strike="noStrike">
              <a:solidFill>
                <a:srgbClr val="ffffff"/>
              </a:solidFill>
              <a:latin typeface="Arial"/>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BG/VBG</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etabolic acidosis</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3EFD156-4391-44A4-B550-3CC653A00F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Differential Diagnosis</a:t>
            </a:r>
            <a:endParaRPr b="0" lang="en-US" sz="4800" spc="-1" strike="noStrike">
              <a:solidFill>
                <a:srgbClr val="ffff00"/>
              </a:solidFill>
              <a:latin typeface="Arial"/>
            </a:endParaRPr>
          </a:p>
        </p:txBody>
      </p:sp>
      <p:sp>
        <p:nvSpPr>
          <p:cNvPr id="86" name="PlaceHolder 2"/>
          <p:cNvSpPr>
            <a:spLocks noGrp="1"/>
          </p:cNvSpPr>
          <p:nvPr>
            <p:ph/>
          </p:nvPr>
        </p:nvSpPr>
        <p:spPr>
          <a:xfrm>
            <a:off x="609480" y="1752120"/>
            <a:ext cx="77724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epsis with ileu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acterial enterocolitis: C. diff, other gram negativ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echanical bowel obstruction: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irschsprung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leal atresi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Volvulu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econium ileu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ntussusception</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solated gastric perforation (indocin, steroi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382A30F-869A-4D87-9A83-B16898A453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ean Age at Presentation</a:t>
            </a:r>
            <a:endParaRPr b="0" lang="en-US" sz="4400" spc="-1" strike="noStrike">
              <a:solidFill>
                <a:srgbClr val="ffff00"/>
              </a:solidFill>
              <a:latin typeface="Arial"/>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Gestational age (week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Times New Roman"/>
              </a:rPr>
              <a:t>&lt;</a:t>
            </a:r>
            <a:r>
              <a:rPr b="0" lang="en-US" sz="2400" spc="-1" strike="noStrike">
                <a:solidFill>
                  <a:srgbClr val="ffffff"/>
                </a:solidFill>
                <a:latin typeface="Arial"/>
                <a:ea typeface="Times New Roman"/>
              </a:rPr>
              <a:t> 30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31-33</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3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ull term</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ge at onset (day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5" name="PlaceHolder 4"/>
          <p:cNvSpPr>
            <a:spLocks noGrp="1"/>
          </p:cNvSpPr>
          <p:nvPr>
            <p:ph type="sldNum" idx="3"/>
          </p:nvPr>
        </p:nvSpPr>
        <p:spPr/>
        <p:txBody>
          <a:bodyPr/>
          <a:p>
            <a:fld id="{79125803-509C-49C8-90AD-F6A737B940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nical Management</a:t>
            </a:r>
            <a:endParaRPr b="0" lang="en-US" sz="4400" spc="-1" strike="noStrike">
              <a:solidFill>
                <a:srgbClr val="ffff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dical Vs. Surgica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Medical Management</a:t>
            </a:r>
            <a:endParaRPr b="0" lang="en-US" sz="4800" spc="-1" strike="noStrike">
              <a:solidFill>
                <a:srgbClr val="ffff00"/>
              </a:solidFill>
              <a:latin typeface="Arial"/>
            </a:endParaRPr>
          </a:p>
        </p:txBody>
      </p:sp>
      <p:sp>
        <p:nvSpPr>
          <p:cNvPr id="9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uccessfully treats ½ to 2/3 of patient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sult surgery from the start</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owel rest - NPO, gastric decompression, TPN</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road spectrum antibiotics for 7-14 day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ardiopulmonary support</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rrection of metabolic acidosis and electrolyte abnormalitie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reatment of coagulopathy and/or     thrombocytopenia</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erial exams, labs, and x-rays</a:t>
            </a:r>
            <a:endParaRPr b="0" lang="en-US" sz="2800" spc="-1" strike="noStrike">
              <a:solidFill>
                <a:srgbClr val="ffffff"/>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9FA7551-A978-45CD-81FE-5C4CBA0D4D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gns Of Ongoing Necrosis</a:t>
            </a:r>
            <a:endParaRPr b="0" lang="en-US" sz="4400" spc="-1" strike="noStrike">
              <a:solidFill>
                <a:srgbClr val="ffff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Increasing distens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Persistent:</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Metabolic acidosi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hrombocytopenia</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Hypotension from third spac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20E1C03-5FD3-433D-BDB1-F21F7A05CB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dications for Surgical Intervention</a:t>
            </a:r>
            <a:endParaRPr b="0" lang="en-US" sz="4000" spc="-1" strike="noStrike">
              <a:solidFill>
                <a:srgbClr val="ffff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e peritonit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neumoperitoneu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a-abdominal absc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paracentesis findings (bile &amp; sto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tal venous gas seen on X-ra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9111622-7CFA-42D2-BB5A-8A3771C6ED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Surgical Management</a:t>
            </a:r>
            <a:endParaRPr b="0" lang="en-US" sz="4800" spc="-1" strike="noStrike">
              <a:solidFill>
                <a:srgbClr val="ffff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4-50% of pati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parotomy with resection, formation of enterostomy and mucous fistul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ch, drain, and wa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peritoneal drain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 reanastomos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8342DD7-9641-489F-954F-327F488F49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otential Complications</a:t>
            </a:r>
            <a:endParaRPr b="0" lang="en-US" sz="4800" spc="-1" strike="noStrike">
              <a:solidFill>
                <a:srgbClr val="ffff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 bowel syndrom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PN-associated cholestasis with liver cirrhosis and liver failur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heter related sepsi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stinal strictures and partial small bowel obstruc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rocolic fistula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mental and growth delay (50%)</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976D1E1-8162-462C-98AB-967AC9D62A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nical Findings</a:t>
            </a:r>
            <a:endParaRPr b="0" lang="en-US" sz="4400" spc="-1" strike="noStrike">
              <a:solidFill>
                <a:srgbClr val="ffff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bdominal distension (70-98%)</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ncreased gastric residuals ( &gt;70%)</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mesis (&gt;70%)</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ross blood per rectum (25-63%)</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Occult GI bleeding (22-59%)</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arrhea (4-26%)</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ethargy, temperature instability, apnea/bradycardia, hypotension</a:t>
            </a:r>
            <a:endParaRPr b="0" lang="en-US" sz="3200" spc="-1" strike="noStrike">
              <a:solidFill>
                <a:srgbClr val="ffffff"/>
              </a:solidFill>
              <a:latin typeface="Arial"/>
            </a:endParaRPr>
          </a:p>
          <a:p>
            <a:pPr lvl="3" marL="1407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94CC9DD-ED6C-477B-B5EF-BDDC7F5AF3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ng-term Outcome:  </a:t>
            </a:r>
            <a:br>
              <a:rPr sz="4400"/>
            </a:br>
            <a:r>
              <a:rPr b="0" lang="en-US" sz="4400" spc="-1" strike="noStrike">
                <a:solidFill>
                  <a:srgbClr val="ffff00"/>
                </a:solidFill>
                <a:latin typeface="Arial"/>
              </a:rPr>
              <a:t>What’s Important?</a:t>
            </a:r>
            <a:endParaRPr b="0" lang="en-US" sz="4400" spc="-1" strike="noStrike">
              <a:solidFill>
                <a:srgbClr val="ffff00"/>
              </a:solidFill>
              <a:latin typeface="Arial"/>
            </a:endParaRPr>
          </a:p>
        </p:txBody>
      </p:sp>
      <p:sp>
        <p:nvSpPr>
          <p:cNvPr id="103" name="PlaceHolder 2"/>
          <p:cNvSpPr>
            <a:spLocks noGrp="1"/>
          </p:cNvSpPr>
          <p:nvPr>
            <p:ph/>
          </p:nvPr>
        </p:nvSpPr>
        <p:spPr>
          <a:xfrm>
            <a:off x="685440" y="1828800"/>
            <a:ext cx="800100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ngth of residual bowel</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leum vs. jejunum (better adaptation)</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ence of ileocecal valve</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ence of intact colon</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turity of infant and general condition</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816FD63C-3A32-4665-BFE2-69655B1FB3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00"/>
                </a:solidFill>
                <a:latin typeface="Arial"/>
              </a:rPr>
              <a:t>Survival </a:t>
            </a:r>
            <a:r>
              <a:rPr b="0" lang="en-US" sz="4300" spc="-1" strike="noStrike">
                <a:solidFill>
                  <a:srgbClr val="ffff00"/>
                </a:solidFill>
                <a:latin typeface="Arial"/>
              </a:rPr>
              <a:t>Without</a:t>
            </a:r>
            <a:r>
              <a:rPr b="0" lang="en-US" sz="4100" spc="-1" strike="noStrike">
                <a:solidFill>
                  <a:srgbClr val="ffff00"/>
                </a:solidFill>
                <a:latin typeface="Arial"/>
              </a:rPr>
              <a:t> Transplantation</a:t>
            </a:r>
            <a:endParaRPr b="0" lang="en-US" sz="4100" spc="-1" strike="noStrike">
              <a:solidFill>
                <a:srgbClr val="ffff00"/>
              </a:solidFill>
              <a:latin typeface="Arial"/>
            </a:endParaRPr>
          </a:p>
        </p:txBody>
      </p:sp>
      <p:sp>
        <p:nvSpPr>
          <p:cNvPr id="105" name="PlaceHolder 2"/>
          <p:cNvSpPr>
            <a:spLocks noGrp="1"/>
          </p:cNvSpPr>
          <p:nvPr>
            <p:ph/>
          </p:nvPr>
        </p:nvSpPr>
        <p:spPr>
          <a:xfrm>
            <a:off x="685440" y="1981080"/>
            <a:ext cx="3809880" cy="47246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ith &gt; 25cm of normal bowel who have an intact ileocecal valve</a:t>
            </a:r>
            <a:endParaRPr b="0" lang="en-US" sz="32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rmal bowel length:</a:t>
            </a:r>
            <a:endParaRPr b="0" lang="en-US" sz="25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erm infants 200-300 cm</a:t>
            </a:r>
            <a:endParaRPr b="0" lang="en-US" sz="25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eterm infants 100-200 cm</a:t>
            </a:r>
            <a:endParaRPr b="0" lang="en-US" sz="2500" spc="-1" strike="noStrike">
              <a:solidFill>
                <a:srgbClr val="ffffff"/>
              </a:solidFill>
              <a:latin typeface="Arial"/>
            </a:endParaRPr>
          </a:p>
          <a:p>
            <a:pPr marL="3358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ith &gt;40cm of normal bowel who have no ileocecal valve </a:t>
            </a: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DA274A48-0EA9-4D81-9F0C-A1A7163527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Short Bowel Syndrome</a:t>
            </a:r>
            <a:endParaRPr b="0" lang="en-US" sz="4800" spc="-1" strike="noStrike">
              <a:solidFill>
                <a:srgbClr val="ffff00"/>
              </a:solidFill>
              <a:latin typeface="Arial"/>
            </a:endParaRPr>
          </a:p>
        </p:txBody>
      </p:sp>
      <p:sp>
        <p:nvSpPr>
          <p:cNvPr id="108" name="PlaceHolder 2"/>
          <p:cNvSpPr>
            <a:spLocks noGrp="1"/>
          </p:cNvSpPr>
          <p:nvPr>
            <p:ph/>
          </p:nvPr>
        </p:nvSpPr>
        <p:spPr>
          <a:xfrm>
            <a:off x="685440" y="1752480"/>
            <a:ext cx="7924680" cy="472464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uid &amp; electrolyte losses</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e acid and Vit B</a:t>
            </a:r>
            <a:r>
              <a:rPr b="0" lang="en-US" sz="3200" spc="-1" strike="noStrike" baseline="-25000">
                <a:solidFill>
                  <a:srgbClr val="ffffff"/>
                </a:solidFill>
                <a:latin typeface="Arial"/>
              </a:rPr>
              <a:t>12</a:t>
            </a:r>
            <a:r>
              <a:rPr b="0" lang="en-US" sz="3200" spc="-1" strike="noStrike">
                <a:solidFill>
                  <a:srgbClr val="ffffff"/>
                </a:solidFill>
                <a:latin typeface="Arial"/>
              </a:rPr>
              <a:t> malabsorp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stric acid hypersecretion inactivates pancreatic enzymes and causes fat malabsorp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retory diarrhea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overgrowth</a:t>
            </a:r>
            <a:endParaRPr b="0" lang="en-US" sz="32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Increases malabsorption, lactic acidosis, colitis, Vit B12 deficiency</a:t>
            </a:r>
            <a:endParaRPr b="0" lang="en-US" sz="2400" spc="-1" strike="noStrike">
              <a:solidFill>
                <a:srgbClr val="ffffff"/>
              </a:solidFill>
              <a:latin typeface="Arial"/>
            </a:endParaRPr>
          </a:p>
        </p:txBody>
      </p:sp>
      <p:pic>
        <p:nvPicPr>
          <p:cNvPr id="109" name="" descr=""/>
          <p:cNvPicPr/>
          <p:nvPr/>
        </p:nvPicPr>
        <p:blipFill>
          <a:blip r:embed="rId1"/>
          <a:stretch/>
        </p:blipFill>
        <p:spPr>
          <a:xfrm>
            <a:off x="4495680" y="3352680"/>
            <a:ext cx="152640" cy="152640"/>
          </a:xfrm>
          <a:prstGeom prst="rect">
            <a:avLst/>
          </a:prstGeom>
          <a:ln w="0">
            <a:noFill/>
          </a:ln>
        </p:spPr>
      </p:pic>
      <p:pic>
        <p:nvPicPr>
          <p:cNvPr id="110" name="" descr=""/>
          <p:cNvPicPr/>
          <p:nvPr/>
        </p:nvPicPr>
        <p:blipFill>
          <a:blip r:embed="rId2"/>
          <a:stretch/>
        </p:blipFill>
        <p:spPr>
          <a:xfrm>
            <a:off x="4495680" y="3352680"/>
            <a:ext cx="152640" cy="152640"/>
          </a:xfrm>
          <a:prstGeom prst="rect">
            <a:avLst/>
          </a:prstGeom>
          <a:ln w="0">
            <a:noFill/>
          </a:ln>
        </p:spPr>
      </p:pic>
      <p:sp>
        <p:nvSpPr>
          <p:cNvPr id="4" name="PlaceHolder 3"/>
          <p:cNvSpPr>
            <a:spLocks noGrp="1"/>
          </p:cNvSpPr>
          <p:nvPr>
            <p:ph type="sldNum" idx="3"/>
          </p:nvPr>
        </p:nvSpPr>
        <p:spPr/>
        <p:txBody>
          <a:bodyPr/>
          <a:p>
            <a:fld id="{D4B08D1F-47B6-420E-B302-8C0286008B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labsorption</a:t>
            </a:r>
            <a:endParaRPr b="0" lang="en-US" sz="4400" spc="-1" strike="noStrike">
              <a:solidFill>
                <a:srgbClr val="ffff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  Bacterial deconjugation of bile salts and aci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in and carbohydrates:  enzyme and transport deficienc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t B</a:t>
            </a:r>
            <a:r>
              <a:rPr b="0" lang="en-US" sz="3200" spc="-1" strike="noStrike" baseline="-25000">
                <a:solidFill>
                  <a:srgbClr val="ffffff"/>
                </a:solidFill>
                <a:latin typeface="Arial"/>
              </a:rPr>
              <a:t>12</a:t>
            </a:r>
            <a:r>
              <a:rPr b="0" lang="en-US" sz="3200" spc="-1" strike="noStrike">
                <a:solidFill>
                  <a:srgbClr val="ffffff"/>
                </a:solidFill>
                <a:latin typeface="Arial"/>
              </a:rPr>
              <a:t>: bacterial uptak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6B1AC9F-B186-4D50-88D2-12F71E70BC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tes of Nutrient Absorption</a:t>
            </a:r>
            <a:endParaRPr b="0" lang="en-US" sz="4400" spc="-1" strike="noStrike">
              <a:solidFill>
                <a:srgbClr val="ffff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odenum: ir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junum: Carbohydrates, proteins, fats and vitamins, copp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eum: Bile acids, Vit B</a:t>
            </a:r>
            <a:r>
              <a:rPr b="0" lang="en-US" sz="3200" spc="-1" strike="noStrike" baseline="-25000">
                <a:solidFill>
                  <a:srgbClr val="ffffff"/>
                </a:solidFill>
                <a:latin typeface="Arial"/>
              </a:rPr>
              <a:t>1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6611D85-9F57-4206-87FD-99963CCF5D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rt Gut: Symptoms</a:t>
            </a:r>
            <a:endParaRPr b="0" lang="en-US" sz="4400" spc="-1" strike="noStrike">
              <a:solidFill>
                <a:srgbClr val="ffff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en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rrhe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amp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lo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emia (occult blood loss, Vit B</a:t>
            </a:r>
            <a:r>
              <a:rPr b="0" lang="en-US" sz="3200" spc="-1" strike="noStrike" baseline="-25000">
                <a:solidFill>
                  <a:srgbClr val="ffffff"/>
                </a:solidFill>
                <a:latin typeface="Arial"/>
              </a:rPr>
              <a:t>12</a:t>
            </a:r>
            <a:r>
              <a:rPr b="0" lang="en-US" sz="3200" spc="-1" strike="noStrike">
                <a:solidFill>
                  <a:srgbClr val="ffffff"/>
                </a:solidFill>
                <a:latin typeface="Arial"/>
              </a:rPr>
              <a:t> deficienc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AF76BB0-7906-441A-9737-AEEC42E38B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eatment of Short Gut Syndrome</a:t>
            </a:r>
            <a:endParaRPr b="0" lang="en-US" sz="4400" spc="-1" strike="noStrike">
              <a:solidFill>
                <a:srgbClr val="ffff00"/>
              </a:solidFill>
              <a:latin typeface="Arial"/>
            </a:endParaRPr>
          </a:p>
        </p:txBody>
      </p:sp>
      <p:sp>
        <p:nvSpPr>
          <p:cNvPr id="118" name="PlaceHolder 2"/>
          <p:cNvSpPr>
            <a:spLocks noGrp="1"/>
          </p:cNvSpPr>
          <p:nvPr>
            <p:ph/>
          </p:nvPr>
        </p:nvSpPr>
        <p:spPr>
          <a:xfrm>
            <a:off x="685800" y="1676160"/>
            <a:ext cx="8153280" cy="5181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otion of villous hyperplasi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p feedings using elemental formula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chain fats stimulate intestinal adapt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CT diet bypasses need for bile aci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lyzed proteins absorbed rapid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lestyramine (bile acid bind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methoprim-sulfa, metronidazole treats bacterial overgrowt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n pump inhibitors or H2 block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1ECD573-9BA9-4E1F-9051-F352A2CE86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ormulas</a:t>
            </a:r>
            <a:endParaRPr b="0" lang="en-US" sz="4400" spc="-1" strike="noStrike">
              <a:solidFill>
                <a:srgbClr val="ffff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al:</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quire minimal digestive function and cause less pancreatic secre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vidual amino acids or short peptid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ucose polymer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fat (long chain triglycerid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CT absorbed in absence of lipase or bile salt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DAC089B-2B2F-4EFC-B5DA-C76D19BA71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onitoring</a:t>
            </a:r>
            <a:endParaRPr b="0" lang="en-US" sz="4400" spc="-1" strike="noStrike">
              <a:solidFill>
                <a:srgbClr val="ffff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ol output for fluid loss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bohydrate malabsorption (low stool pH or stool reducing substa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cipate slow gut adaptation over yea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gain and growth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C17B613-5FEE-4897-8F29-17691BA497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652760" y="2181240"/>
            <a:ext cx="5838480" cy="4219560"/>
          </a:xfrm>
          <a:prstGeom prst="rect">
            <a:avLst/>
          </a:prstGeom>
          <a:ln w="0">
            <a:noFill/>
          </a:ln>
        </p:spPr>
      </p:pic>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engthening Procedures</a:t>
            </a:r>
            <a:endParaRPr b="0" lang="en-US" sz="4400" spc="-1" strike="noStrike">
              <a:solidFill>
                <a:srgbClr val="ffff00"/>
              </a:solidFill>
              <a:latin typeface="Arial"/>
            </a:endParaRPr>
          </a:p>
        </p:txBody>
      </p:sp>
      <p:sp>
        <p:nvSpPr>
          <p:cNvPr id="3" name="PlaceHolder 2"/>
          <p:cNvSpPr>
            <a:spLocks noGrp="1"/>
          </p:cNvSpPr>
          <p:nvPr>
            <p:ph type="sldNum" idx="3"/>
          </p:nvPr>
        </p:nvSpPr>
        <p:spPr/>
        <p:txBody>
          <a:bodyPr/>
          <a:p>
            <a:fld id="{ADF588B9-B3B0-4E2B-9B04-1D97F0CB38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Findings</a:t>
            </a:r>
            <a:endParaRPr b="0" lang="en-US" sz="4400" spc="-1" strike="noStrike">
              <a:solidFill>
                <a:srgbClr val="ffff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ent bowel sou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ominal tender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ominal wall erythem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xed abdominal mass (RLQ)</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7DF7138-B3C1-4BE9-BEAA-AE43CC59DD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028880" y="838080"/>
            <a:ext cx="7048440" cy="5141880"/>
          </a:xfrm>
          <a:prstGeom prst="rect">
            <a:avLst/>
          </a:prstGeom>
          <a:ln w="0">
            <a:noFill/>
          </a:ln>
        </p:spPr>
      </p:pic>
      <p:sp>
        <p:nvSpPr>
          <p:cNvPr id="2" name="PlaceHolder 1"/>
          <p:cNvSpPr>
            <a:spLocks noGrp="1"/>
          </p:cNvSpPr>
          <p:nvPr>
            <p:ph type="sldNum" idx="3"/>
          </p:nvPr>
        </p:nvSpPr>
        <p:spPr/>
        <p:txBody>
          <a:bodyPr/>
          <a:p>
            <a:fld id="{5985A8A1-77FD-4142-AACD-472E4FF343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revention of NEC</a:t>
            </a:r>
            <a:endParaRPr b="0" lang="en-US" sz="4800" spc="-1" strike="noStrike">
              <a:solidFill>
                <a:srgbClr val="ffff00"/>
              </a:solidFill>
              <a:latin typeface="Arial"/>
            </a:endParaRPr>
          </a:p>
        </p:txBody>
      </p:sp>
      <p:sp>
        <p:nvSpPr>
          <p:cNvPr id="127" name="PlaceHolder 2"/>
          <p:cNvSpPr>
            <a:spLocks noGrp="1"/>
          </p:cNvSpPr>
          <p:nvPr>
            <p:ph/>
          </p:nvPr>
        </p:nvSpPr>
        <p:spPr>
          <a:xfrm>
            <a:off x="685440" y="1980720"/>
            <a:ext cx="80773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natal steroid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ction of hypovolemia and hyperviscosity</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 gradual advancement of feed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feeding</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iotics - Oral immunoglobulins and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ifidobacterium?</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l antibiotic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idification of feedings (avoidance of PPIs and H2 blocker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tamine or arginine supplemenatio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30A268B-44F1-400B-95FA-2610326481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ophic Feedings</a:t>
            </a:r>
            <a:endParaRPr b="0" lang="en-US" sz="4400" spc="-1" strike="noStrike">
              <a:solidFill>
                <a:srgbClr val="ffff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increased risk of NE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s gut mot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s cholesta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s tolerance of subsequent feeding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prevent gut atrophy, inflammation, and bacterial transloca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DDD699E-A266-42DD-9A9D-5D758D3A94C8}"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371600" y="596880"/>
            <a:ext cx="6400800" cy="5807160"/>
          </a:xfrm>
          <a:prstGeom prst="rect">
            <a:avLst/>
          </a:prstGeom>
          <a:ln w="0">
            <a:noFill/>
          </a:ln>
        </p:spPr>
      </p:pic>
      <p:sp>
        <p:nvSpPr>
          <p:cNvPr id="2" name="PlaceHolder 1"/>
          <p:cNvSpPr>
            <a:spLocks noGrp="1"/>
          </p:cNvSpPr>
          <p:nvPr>
            <p:ph type="sldNum" idx="3"/>
          </p:nvPr>
        </p:nvSpPr>
        <p:spPr/>
        <p:txBody>
          <a:bodyPr/>
          <a:p>
            <a:fld id="{7A15150C-50F4-4413-B759-774C51594E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143000" y="798480"/>
            <a:ext cx="6781680" cy="5221440"/>
          </a:xfrm>
          <a:prstGeom prst="rect">
            <a:avLst/>
          </a:prstGeom>
          <a:ln w="0">
            <a:noFill/>
          </a:ln>
        </p:spPr>
      </p:pic>
      <p:sp>
        <p:nvSpPr>
          <p:cNvPr id="2" name="PlaceHolder 1"/>
          <p:cNvSpPr>
            <a:spLocks noGrp="1"/>
          </p:cNvSpPr>
          <p:nvPr>
            <p:ph type="sldNum" idx="3"/>
          </p:nvPr>
        </p:nvSpPr>
        <p:spPr/>
        <p:txBody>
          <a:bodyPr/>
          <a:p>
            <a:fld id="{1AABEFCB-1D2B-456A-AB9A-FC623A4820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athophysiology</a:t>
            </a:r>
            <a:endParaRPr b="0" lang="en-US" sz="4400" spc="-1" strike="noStrike">
              <a:solidFill>
                <a:srgbClr val="ffff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prolifer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chemic mucosal damag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mural necrosis allowing bacterial translocation, increasing risk for perfor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otoxin activation of inflammatory cascad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B1243F3-A157-428B-B4FA-6FDB23829B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isk Factors</a:t>
            </a:r>
            <a:endParaRPr b="0" lang="en-US" sz="4400" spc="-1" strike="noStrike">
              <a:solidFill>
                <a:srgbClr val="ffff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matur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latory Inst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tions (vasoactive agents, indoc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Overgrowth/Infec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A517E6A-90E8-4B39-A833-98AEEA2DC7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rematurity</a:t>
            </a:r>
            <a:endParaRPr b="0" lang="en-US" sz="4800" spc="-1" strike="noStrike">
              <a:solidFill>
                <a:srgbClr val="ffff00"/>
              </a:solidFill>
              <a:latin typeface="Arial"/>
            </a:endParaRPr>
          </a:p>
        </p:txBody>
      </p:sp>
      <p:sp>
        <p:nvSpPr>
          <p:cNvPr id="6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eficient mucosal barrier (suppressed GI hormones and mucosal enzym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ysfunctional intestinal host defense system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ecreased motilit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ysregulation of intestinal microcirculation (increased bacterial overgrowth)</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5B5C088-F314-4738-8BC0-14BD026010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8:29:29Z</dcterms:created>
  <dc:creator>NeoGuest</dc:creator>
  <dc:description/>
  <dc:language>en-US</dc:language>
  <cp:lastModifiedBy>Health Services Department</cp:lastModifiedBy>
  <dcterms:modified xsi:type="dcterms:W3CDTF">2010-05-03T23:07:23Z</dcterms:modified>
  <cp:revision>120</cp:revision>
  <dc:subject/>
  <dc:title>Necrotizing Enterocolitis</dc:title>
</cp:coreProperties>
</file>