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2B2B-2148-4B45-B48D-E77E87F5E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A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most common type of monozygotic twinning, with division of the inner cell mass of the blastocyst resulting in separate amnions but a single chorion and placenta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B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 rare form of monozygotic twinning, with complete division of the embryonic disc resulting in two embryos in a single amniotic sac with a single placenta and chorionic sac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C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nozygotic twinning with division occurring between the two-cell and morula stages to produce identical blastocysts, resulting in separate amniotic and chorionic sacs and either separat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show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fused placentas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D,E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zygotic twinning, with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withou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usion of the placenta and chori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acopagus:connected at the upper portion of the torso, share a heart, which makes it nearly impossible to separate them and save them both. Thoracopagus twins make up about 40 percent of all conjoined c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A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most common type of monozygotic twinning, with division of the inner cell mass of the blastocyst resulting in separate amnions but a single chorion and placenta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B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 rare form of monozygotic twinning, with complete division of the embryonic disc resulting in two embryos in a single amniotic sac with a single placenta and chorionic sac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C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nozygotic twinning with division occurring between the two-cell and morula stages to produce identical blastocysts, resulting in separate amniotic and chorionic sacs and either separat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show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fused placentas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D,E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zygotic twinning, with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withou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usion of the placenta and chori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early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AFE3-1E60-4F04-82D5-D09E0CB1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13A9-7A5A-43F5-8189-2981FE88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CAF8-53B6-4504-9CED-ECF0DE57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7B7C-3F5E-404D-897D-D08A5C34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7E9F-42B3-4854-B01E-15D0F27C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747B-7A70-4A2C-9503-101AD7DC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5B67-FE33-4C06-85CE-C753AFA8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A1C6-B176-4F91-9F90-54912B44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78E7-6874-4A6E-9AD2-93D1010A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A00E-5CDD-4F1B-AF21-CA7043A9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F4EB-7381-4DA0-BDDF-7293CEBC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F657-0C81-44A4-A444-6F9EDF70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4CBF-6215-4C48-9165-E9DFA022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D072-A3EE-49D1-A923-60574AFC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E314-6E61-4A39-B5E9-90C9732A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68D5-1F03-44DB-B099-27520FCC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6FE9-DF1D-431E-A091-6A235AFA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37A4-D0BC-4FA1-8044-CAA02B3F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F035-7DF4-436C-8E32-EAA8C5B6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F483-2918-4757-A416-F9C7E828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9AFE-09A6-4D77-96EA-1115B7F8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D7BC-554E-445A-A4B9-B9BAB058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F8D7-F416-43DD-B3AE-AD25EE8C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9B28-C3B7-4DFE-AAAE-6E263D17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4F8B-D474-4798-8783-B491F771BFE1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07B9-290C-4E52-BFBB-29B36718888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surry.k12.nc.us/nshs/mtrail/Famous%20People.htm" TargetMode="External"/><Relationship Id="rId4" Type="http://schemas.openxmlformats.org/officeDocument/2006/relationships/hyperlink" Target="http://www.surry.k12.nc.us/nshs/mtrail/index.htm" TargetMode="External"/><Relationship Id="rId5" Type="http://schemas.openxmlformats.org/officeDocument/2006/relationships/hyperlink" Target="http://en.wikipedia.org/wiki/Image:Abby_and_Britty.jpg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GES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-2065" t="20092" r="2661" b="64959"/>
          <a:stretch/>
        </p:blipFill>
        <p:spPr>
          <a:xfrm>
            <a:off x="114480" y="2895480"/>
            <a:ext cx="8915400" cy="1414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178280" y="1447920"/>
            <a:ext cx="67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NOZYGOTIC : Monochorionic, Monoamnioti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01640" y="457200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isks:  cord problems, high mortality ra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twins" descr=""/>
          <p:cNvPicPr/>
          <p:nvPr/>
        </p:nvPicPr>
        <p:blipFill>
          <a:blip r:embed="rId1"/>
          <a:stretch/>
        </p:blipFill>
        <p:spPr>
          <a:xfrm>
            <a:off x="-4667400" y="-57240"/>
            <a:ext cx="2714760" cy="3762360"/>
          </a:xfrm>
          <a:prstGeom prst="rect">
            <a:avLst/>
          </a:prstGeom>
          <a:ln w="0">
            <a:noFill/>
          </a:ln>
        </p:spPr>
      </p:pic>
      <p:pic>
        <p:nvPicPr>
          <p:cNvPr id="159" name="EngHome" descr=""/>
          <p:cNvPicPr/>
          <p:nvPr/>
        </p:nvPicPr>
        <p:blipFill>
          <a:blip r:embed="rId2"/>
          <a:stretch/>
        </p:blipFill>
        <p:spPr>
          <a:xfrm>
            <a:off x="-4667400" y="6091200"/>
            <a:ext cx="2543400" cy="1981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-4668120" y="-2274840"/>
            <a:ext cx="232560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2640" rIns="1142640" tIns="914040" bIns="914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4442040" y="8073360"/>
            <a:ext cx="26892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Eng Bunker’s home in Surry County, NC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cc9900"/>
                </a:solidFill>
                <a:uFillTx/>
                <a:latin typeface="Arial"/>
                <a:ea typeface="Times New Roman"/>
                <a:hlinkClick r:id="rId3"/>
              </a:rPr>
              <a:t>Return to Famous People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cc9900"/>
                </a:solidFill>
                <a:uFillTx/>
                <a:latin typeface="Arial"/>
                <a:ea typeface="Times New Roman"/>
                <a:hlinkClick r:id="rId4"/>
              </a:rPr>
              <a:t>Home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2" name="" descr="Modern, healthy, living 15-year-old conjoined twins Abigail and Brittany Hensel. (2005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1600200"/>
            <a:ext cx="2362320" cy="3110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joined Twi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/200,000 birth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lf born stillbor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re likely female ~75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oracopagus most comm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win-Twin Transf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cental vascular anastomo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ccurs in only 5-15% of monochorionic, diamniotic twins despite ~85% with vascular anastomo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es not occur in dichorionic t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estingly, does not occur in monochorionic, monoamniotic t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04800" y="2209680"/>
            <a:ext cx="6134400" cy="2738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ascular Anastomo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win-Twin Transf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x: discordant growth by ultrasou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mniotic sacs and umbilical cor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gle placen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nical Sxs: rapid uterine growth, changes in fetal movement, preterm labor, postnatal hemoglobin difference of &gt;5 g/dl between the t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win-Twin Transf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cipient twi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olycyth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ypervol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olyhydramni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HF, hydrop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yperbilirubin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igh birthweigh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or twin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An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ypovol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Oligohydramni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ypoglyc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stuck twin” fetus appears stuck due to amnion adhering to fet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Decreased urine outpu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Lower birthweigh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stetrical Manag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rial removal of amniotic fluid for polyhydramnios if &gt; 20 weeks gest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eate an opening in amnion between the two fetuses to allow fluid exchan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ser ablation of placental vascular anastomoses (high complication rat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lective reduction of donor twin if high risk of death for both t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gno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inatal death rate is 9-11 times the rate for singlet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oamniotic twins have the highest mortality rate mostly because of cord entangl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ozygotic twins have a mortality and morbidity rate that is 2-3 times that of dizygotic twin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cid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ontaneous twins ~1 in 80 pregnan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iplets ~1 in 8000 pregnan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nozygotic twins- 3 to 5 per 1000 pregnancies with uniform frequency worldwi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zygotic twins- variable incidence (4-50 per 1000 pregnancies) by locale, race, maternal 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ternal Ris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ypereme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em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I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stational diabe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tpartum hemorrh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centa prev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etal Ris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genital anomal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rowth restriction of discordant tw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in-twin transfu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tal demise (death of one fetus puts other at risk for DIC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mature deliv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win: malpresentation, in utero hypoxia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yaline membrane dise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erebral pals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ique Risk of CP in Multiple Ges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gle fetal demi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Zygosity and chorionicity (monochorionic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in-twin transfu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rowth restri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bryonic dea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de and circumstances of deliv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tal inflamm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s of Twi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zygotic (2/3): dichorionic (2 placenta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implant sites are near, placentas may fuse yet there are no vascular connec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ozygotic (1/3): dichorionic, monochorionic, diamniotic, monoamnioti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used or separate placent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 risk for twin-twin transfu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4829040" cy="5096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709680" y="609480"/>
            <a:ext cx="215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st comm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nochor, Di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ingle 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90960" y="1905120"/>
            <a:ext cx="24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ar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nochor,Mono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ingle 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08600" y="2971800"/>
            <a:ext cx="199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ichor, Di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parate or fus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27240" y="4114800"/>
            <a:ext cx="2512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nochor, Mono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sed 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ichor, Di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parate 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640" y="152388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NOZYGOTI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5280" y="48006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IZYGOTI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1088" t="35048" r="1088" b="41031"/>
          <a:stretch/>
        </p:blipFill>
        <p:spPr>
          <a:xfrm>
            <a:off x="838080" y="2465280"/>
            <a:ext cx="7467840" cy="1927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95600" y="1447920"/>
            <a:ext cx="57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NOZYGOTIC: Dichorionic, Diamnioti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0" t="0" r="1088" b="79915"/>
          <a:stretch/>
        </p:blipFill>
        <p:spPr>
          <a:xfrm>
            <a:off x="266760" y="2362320"/>
            <a:ext cx="8610480" cy="1846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455840" y="1295280"/>
            <a:ext cx="62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NOZYGOTIC: Monochorionic, Diamnioti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40240" y="4303800"/>
            <a:ext cx="4956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ghest risk of twin-twin transfu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7:27:41Z</dcterms:created>
  <dc:creator>Priscilla Joe</dc:creator>
  <dc:description/>
  <dc:language>en-US</dc:language>
  <cp:lastModifiedBy>Health Services Department</cp:lastModifiedBy>
  <dcterms:modified xsi:type="dcterms:W3CDTF">2010-06-12T08:33:44Z</dcterms:modified>
  <cp:revision>27</cp:revision>
  <dc:subject/>
  <dc:title>MULTIPLE GESTATION</dc:title>
</cp:coreProperties>
</file>