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191D-9422-4DFD-850B-9CB42FCF3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pagus:connected at the upper portion of the torso, share a heart, which makes it nearly impossible to separate them and save them both. Thoracopagus twins make up about 40 percent of all conjoined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arl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F0F-92B7-4900-B9D7-5A78E672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A9A-A03D-4C75-81F2-2A8CE96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537-D02C-41DB-BACC-485B8A9C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469-9DBE-44AF-A03E-516DE45E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06CB-619A-4283-A3D9-013A4A85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A830-35BB-443D-AB8D-809A9399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7C14-2CB1-46EF-B31D-DFAC2FA3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CC3E-DF7B-4E67-AC39-FBBC91B7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4A7D-5568-4277-BD06-FFAAC77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6418-238A-4097-9209-CE2FC1B9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488-4681-42BA-B1DF-583979EC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7BA-9117-4644-9C70-B6F6396E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66FE-D308-40F1-8DAB-BBA74EFB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5749-26ED-4FD1-BAA9-FE09E207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14F4-B389-43ED-80BE-35DA7391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13DE-C3A4-40FF-9A29-1F687E52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0D19-8EDB-479F-A8EA-F6E61B00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C15-403A-4981-8F2D-B3B0BE7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90E-8A22-4038-88ED-E7D09B7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5C2-0AC0-4D8F-92F7-E499384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DE7-C2FA-4849-A3E7-3AA75EAE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580-0B55-4DE3-B81F-F2D06EC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446-F74F-4AC0-8164-5DEE6EF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B57-A981-42BD-AB47-1774EB95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CD8B-5604-4374-9B1D-40291343C213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8B3-5ED4-4DEA-BE2F-D45FD933A5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urry.k12.nc.us/nshs/mtrail/Famous%20People.htm" TargetMode="External"/><Relationship Id="rId4" Type="http://schemas.openxmlformats.org/officeDocument/2006/relationships/hyperlink" Target="http://www.surry.k12.nc.us/nshs/mtrail/index.htm" TargetMode="External"/><Relationship Id="rId5" Type="http://schemas.openxmlformats.org/officeDocument/2006/relationships/hyperlink" Target="http://en.wikipedia.org/wiki/Image:Abby_and_Britty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GES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-2065" t="20092" r="2661" b="64959"/>
          <a:stretch/>
        </p:blipFill>
        <p:spPr>
          <a:xfrm>
            <a:off x="114480" y="2895480"/>
            <a:ext cx="8915400" cy="141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8280" y="14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 : Monochorionic, Mono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164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sks:  cord problems, high mortality r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wins" descr=""/>
          <p:cNvPicPr/>
          <p:nvPr/>
        </p:nvPicPr>
        <p:blipFill>
          <a:blip r:embed="rId1"/>
          <a:stretch/>
        </p:blipFill>
        <p:spPr>
          <a:xfrm>
            <a:off x="-4667400" y="-57240"/>
            <a:ext cx="271476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EngHome" descr=""/>
          <p:cNvPicPr/>
          <p:nvPr/>
        </p:nvPicPr>
        <p:blipFill>
          <a:blip r:embed="rId2"/>
          <a:stretch/>
        </p:blipFill>
        <p:spPr>
          <a:xfrm>
            <a:off x="-4667400" y="6091200"/>
            <a:ext cx="254340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4668120" y="-2274840"/>
            <a:ext cx="2325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442040" y="8073360"/>
            <a:ext cx="268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Eng Bunker’s home in Surry County, NC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3"/>
              </a:rPr>
              <a:t>Return to Famous Peopl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4"/>
              </a:rPr>
              <a:t>Hom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Modern, healthy, living 15-year-old conjoined twins Abigail and Brittany Hensel. (200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2362320" cy="3110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joined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/200,000 bir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lf born stillbo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likely female ~7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acopagus most comm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l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in only 5-15% of monochorionic, diamniotic twins despite ~85% with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occur in dichorion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estingly, does not occur in monochorionic, monoamniot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4800" y="2209680"/>
            <a:ext cx="6134400" cy="273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cular Anastomo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x: discordant growth by ultras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niotic sacs and umbilical c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plac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nical Sxs: rapid uterine growth, changes in fetal movement, preterm labor, postnatal hemoglobin difference of &gt;5 g/dl between the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twi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cyth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F, hydrop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bilirubi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igh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or twi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ligo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glyc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uck twin” fetus appears stuck due to amnion adhering to fet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creased urine outpu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ower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etrical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 removal of amniotic fluid for polyhydramnios if &gt; 20 weeks ges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n opening in amnion between the two fetuses to allow fluid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er ablation of placental vascular anastomoses (high complication ra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ective reduction of donor twin if high risk of death for both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natal death rate is 9-11 times the rate for singlet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amniotic twins have the highest mortality rate mostly because of cord entangl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twins have a mortality and morbidity rate that is 2-3 times that of dizygotic twi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ontaneous twins ~1 in 8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plets ~1 in 800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ozygotic twins- 3 to 5 per 1000 pregnancies with uniform frequency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zygotic twins- variable incidence (4-50 per 1000 pregnancies) by locale, race, maternal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n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pereme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I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stational diab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tpartum hemorr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 prev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t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genital anoma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 of discordant tw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demise (death of one fetus puts other at risk for D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mature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win: malpresentation, in utero hypoxi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aline membran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ebral pal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que Risk of CP in Multiple Ge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fetal de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ygosity and chorionicity (monochorion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ryonic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 and circumstances of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inflam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zygotic (2/3): dichorionic (2 placenta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mplant sites are near, placentas may fuse yet there are no vascular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(1/3): dichorionic, monochorionic, diamniotic, monoamnio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sed or separate place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risk for 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829040" cy="509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9680" y="60948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0960" y="1905120"/>
            <a:ext cx="24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8600" y="29718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or fus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240" y="4114800"/>
            <a:ext cx="251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sed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40" y="15238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4800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088" t="35048" r="1088" b="41031"/>
          <a:stretch/>
        </p:blipFill>
        <p:spPr>
          <a:xfrm>
            <a:off x="838080" y="2465280"/>
            <a:ext cx="7467840" cy="192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5600" y="1447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Di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1088" b="79915"/>
          <a:stretch/>
        </p:blipFill>
        <p:spPr>
          <a:xfrm>
            <a:off x="266760" y="2362320"/>
            <a:ext cx="861048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55840" y="129528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Mono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4303800"/>
            <a:ext cx="495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st risk of twin-twin transfu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7:27:41Z</dcterms:created>
  <dc:creator>Priscilla Joe</dc:creator>
  <dc:description/>
  <dc:language>en-US</dc:language>
  <cp:lastModifiedBy>Health Services Department</cp:lastModifiedBy>
  <dcterms:modified xsi:type="dcterms:W3CDTF">2010-06-12T08:33:44Z</dcterms:modified>
  <cp:revision>27</cp:revision>
  <dc:subject/>
  <dc:title>MULTIPLE GESTATION</dc:title>
</cp:coreProperties>
</file>