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EC3FB-C86B-4709-AF8D-A85411B4A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ins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A)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e most common type of monozygotic twinning, with division of the inner cell mass of the blastocyst resulting in separate amnions but a single chorion and placenta;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B)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 rare form of monozygotic twinning, with complete division of the embryonic disc resulting in two embryos in a single amniotic sac with a single placenta and chorionic sac;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C)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nozygotic twinning with division occurring between the two-cell and morula stages to produce identical blastocysts, resulting in separate amniotic and chorionic sacs and either separat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shown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 fused placentas;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D,E)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izygotic twinning, with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 without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E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usion of the placenta and chorion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racopagus:connected at the upper portion of the torso, share a heart, which makes it nearly impossible to separate them and save them both. Thoracopagus twins make up about 40 percent of all conjoined ca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ins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A)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e most common type of monozygotic twinning, with division of the inner cell mass of the blastocyst resulting in separate amnions but a single chorion and placenta;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B)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 rare form of monozygotic twinning, with complete division of the embryonic disc resulting in two embryos in a single amniotic sac with a single placenta and chorionic sac;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C)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nozygotic twinning with division occurring between the two-cell and morula stages to produce identical blastocysts, resulting in separate amniotic and chorionic sacs and either separat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shown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 fused placentas;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D,E)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izygotic twinning, with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 without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E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usion of the placenta and chorion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early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0097-8001-402B-9282-F9F2041D1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4E56-B838-4AA6-A645-F427C9D08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2312-F959-4DC6-AD55-1985F3C50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6CA8-B707-434D-A88F-1104DDD51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132B6-B799-4023-93B8-6A8A7F704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50171-A1F1-4633-97BD-6EF8A7C8B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0ECD6-3E60-460F-AB01-05C7B2056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10772-19A0-479E-8450-998458166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2FFDA-7571-4DB3-83AF-F6A85D121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051DC-58B0-422F-86C3-C99A99D2C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9DD8B-0FFA-4FFD-96E8-5201E9D1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6CCE-99D9-4BB4-B602-21963BA26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C8CD1-396F-4A74-BDB0-41F56145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87437-9A77-4968-844F-D23EDA8B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3F8FD-AA6E-4B85-B81D-59B3B19A4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4E755-1E02-4F69-B332-E5D1A1BBD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7B93A-080E-4372-92A7-17D8F33D2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0550-BC38-4A95-9A50-C085AEFA4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1A54-8957-4508-8EF9-591736742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3B0A-E19C-4497-9A3C-CE1CB62B9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B49C-0A36-483A-B4E4-BAE62B38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81D6-B8D3-47D8-BC65-A5522D4F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54A4-420B-4BFC-B31F-6C217E00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DD46-F1A3-4E7C-8786-1E89A31D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18320" y="420120"/>
                <a:ext cx="426816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37000" y="840600"/>
                <a:ext cx="3431160" cy="31946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255320" y="1261080"/>
                <a:ext cx="2594520" cy="2354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590120" y="1597680"/>
                <a:ext cx="1924560" cy="1681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518640" y="3515400"/>
                <a:ext cx="3249000" cy="3026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837240" y="3830760"/>
                <a:ext cx="2611800" cy="23961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410720" y="4398480"/>
                <a:ext cx="1464840" cy="12610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851360" y="506880"/>
                <a:ext cx="3630960" cy="34052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207760" y="861480"/>
                <a:ext cx="291888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563440" y="1216080"/>
                <a:ext cx="2207160" cy="19864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6193A-D2AF-4F1B-A306-539F2B72885E}" type="slidenum"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418320" y="420120"/>
                  <a:ext cx="426816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837000" y="840600"/>
                  <a:ext cx="3431160" cy="31946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255320" y="1261080"/>
                  <a:ext cx="2594520" cy="2354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590120" y="1597680"/>
                  <a:ext cx="1924560" cy="1681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518640" y="3515400"/>
                  <a:ext cx="3249000" cy="30268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837240" y="3830760"/>
                  <a:ext cx="2611800" cy="23961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410720" y="4398480"/>
                  <a:ext cx="1464840" cy="12610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851360" y="506880"/>
                  <a:ext cx="3630960" cy="3405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207760" y="861480"/>
                  <a:ext cx="291888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563440" y="1216080"/>
                  <a:ext cx="2207160" cy="19864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" name="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AC294-6E4C-4DDD-B83C-AAA871C38FD0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http://www.surry.k12.nc.us/nshs/mtrail/Famous%20People.htm" TargetMode="External"/><Relationship Id="rId4" Type="http://schemas.openxmlformats.org/officeDocument/2006/relationships/hyperlink" Target="http://www.surry.k12.nc.us/nshs/mtrail/index.htm" TargetMode="External"/><Relationship Id="rId5" Type="http://schemas.openxmlformats.org/officeDocument/2006/relationships/hyperlink" Target="http://en.wikipedia.org/wiki/Image:Abby_and_Britty.jpg" TargetMode="Externa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ULTIPLE GEST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rcRect l="-2065" t="20092" r="2661" b="64959"/>
          <a:stretch/>
        </p:blipFill>
        <p:spPr>
          <a:xfrm>
            <a:off x="114480" y="2895480"/>
            <a:ext cx="8915400" cy="14144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178280" y="1447920"/>
            <a:ext cx="67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ONOZYGOTIC : Monochorionic, Monoamniotic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01640" y="4572000"/>
            <a:ext cx="570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isks:  cord problems, high mortality rat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twins" descr=""/>
          <p:cNvPicPr/>
          <p:nvPr/>
        </p:nvPicPr>
        <p:blipFill>
          <a:blip r:embed="rId1"/>
          <a:stretch/>
        </p:blipFill>
        <p:spPr>
          <a:xfrm>
            <a:off x="-4667400" y="-57240"/>
            <a:ext cx="2714760" cy="3762360"/>
          </a:xfrm>
          <a:prstGeom prst="rect">
            <a:avLst/>
          </a:prstGeom>
          <a:ln w="0">
            <a:noFill/>
          </a:ln>
        </p:spPr>
      </p:pic>
      <p:pic>
        <p:nvPicPr>
          <p:cNvPr id="159" name="EngHome" descr=""/>
          <p:cNvPicPr/>
          <p:nvPr/>
        </p:nvPicPr>
        <p:blipFill>
          <a:blip r:embed="rId2"/>
          <a:stretch/>
        </p:blipFill>
        <p:spPr>
          <a:xfrm>
            <a:off x="-4667400" y="6091200"/>
            <a:ext cx="2543400" cy="1981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-4668120" y="-2274840"/>
            <a:ext cx="232560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2640" rIns="1142640" tIns="914040" bIns="9140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aeaea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-4442040" y="8073360"/>
            <a:ext cx="268920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aeaea"/>
                </a:solidFill>
                <a:latin typeface="Arial"/>
                <a:ea typeface="Times New Roman"/>
              </a:rPr>
              <a:t>Eng Bunker’s home in Surry County, NC</a:t>
            </a:r>
            <a:endParaRPr b="0" lang="en-US" sz="11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aeaea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cc9900"/>
                </a:solidFill>
                <a:uFillTx/>
                <a:latin typeface="Arial"/>
                <a:ea typeface="Times New Roman"/>
                <a:hlinkClick r:id="rId3"/>
              </a:rPr>
              <a:t>Return to Famous People</a:t>
            </a:r>
            <a:endParaRPr b="0" lang="en-US" sz="11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aeaea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cc9900"/>
                </a:solidFill>
                <a:uFillTx/>
                <a:latin typeface="Arial"/>
                <a:ea typeface="Times New Roman"/>
                <a:hlinkClick r:id="rId4"/>
              </a:rPr>
              <a:t>Home</a:t>
            </a:r>
            <a:endParaRPr b="0" lang="en-US" sz="11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2" name="" descr="Modern, healthy, living 15-year-old conjoined twins Abigail and Brittany Hensel. (2005)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00800" y="1600200"/>
            <a:ext cx="2362320" cy="3110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joined Twi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/200,000 birth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alf born stillbor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re likely female ~75%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oracopagus most comm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win-Twin Transfu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lacental vascular anastomos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ccurs in only 5-15% of monochorionic, diamniotic twins despite ~85% with vascular anastomos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es not occur in dichorionic twi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terestingly, does not occur in monochorionic, monoamniotic twi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504800" y="2209680"/>
            <a:ext cx="6134400" cy="27385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ascular Anastomos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win-Twin Transfu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x: discordant growth by ultrasoun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mniotic sacs and umbilical cord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ngle placent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nical Sxs: rapid uterine growth, changes in fetal movement, preterm labor, postnatal hemoglobin difference of &gt;5 g/dl between the twi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win-Twin Transfu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cipient twin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Polycythem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Hypervolem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Polyhydramnio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CHF, hydrop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Hyperbilirubinem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High birthweight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onor twin: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Anem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Hypovolem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Oligohydramnio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Hypoglycem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stuck twin” fetus appears stuck due to amnion adhering to fetu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Decreased urine output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Lower birthweight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bstetrical Manage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rial removal of amniotic fluid for polyhydramnios if &gt; 20 weeks gest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reate an opening in amnion between the two fetuses to allow fluid exchang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aser ablation of placental vascular anastomoses (high complication rat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lective reduction of donor twin if high risk of death for both twi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ognosi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erinatal death rate is 9-11 times the rate for singlet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noamniotic twins have the highest mortality rate mostly because of cord entanglem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nozygotic twins have a mortality and morbidity rate that is 2-3 times that of dizygotic twins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ciden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pontaneous twins ~1 in 80 pregnan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riplets ~1 in 8000 pregnan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nozygotic twins- 3 to 5 per 1000 pregnancies with uniform frequency worldwid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izygotic twins- variable incidence (4-50 per 1000 pregnancies) by locale, race, maternal ag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ternal Risk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yperemesi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emi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I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estational diabet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ostpartum hemorrhag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lacenta previ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etal Risk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genital anomal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rowth restriction of discordant twi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win-twin transfus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etal demise (death of one fetus puts other at risk for DIC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emature delive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eaeaea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twin: malpresentation, in utero hypoxia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yaline membrane disea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erebral pals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nique Risk of CP in Multiple Gest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ngle fetal demi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Zygosity and chorionicity (monochorionic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win-twin transfus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rowth restric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mbryonic deat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de and circumstances of delive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etal inflamm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s of Twi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izygotic (2/3): dichorionic (2 placentas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f implant sites are near, placentas may fuse yet there are no vascular connecti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nozygotic (1/3): dichorionic, monochorionic, diamniotic, monoamniotic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used or separate placenta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t risk for twin-twin transfus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828800" y="838080"/>
            <a:ext cx="4829040" cy="50961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709680" y="609480"/>
            <a:ext cx="215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Most commo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Monochor, Diamni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ingle placen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690960" y="1905120"/>
            <a:ext cx="24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Rar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Monochor,Monoamni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ingle placen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708600" y="2971800"/>
            <a:ext cx="199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ichor, Diamni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parate or fuse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lacen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627240" y="4114800"/>
            <a:ext cx="2512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Monochor, Monoamni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used placen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ichor, Diamni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parate placen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2640" y="1523880"/>
            <a:ext cx="191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MONOZYGOTI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5280" y="480060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IZYGOTI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rcRect l="1088" t="35048" r="1088" b="41031"/>
          <a:stretch/>
        </p:blipFill>
        <p:spPr>
          <a:xfrm>
            <a:off x="838080" y="2465280"/>
            <a:ext cx="7467840" cy="19274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695600" y="1447920"/>
            <a:ext cx="575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ONOZYGOTIC: Dichorionic, Diamniotic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rcRect l="0" t="0" r="1088" b="79915"/>
          <a:stretch/>
        </p:blipFill>
        <p:spPr>
          <a:xfrm>
            <a:off x="266760" y="2362320"/>
            <a:ext cx="8610480" cy="18460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455840" y="1295280"/>
            <a:ext cx="623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ONOZYGOTIC: Monochorionic, Diamniotic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40240" y="4303800"/>
            <a:ext cx="49568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ighest risk of twin-twin transfus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1T17:27:41Z</dcterms:created>
  <dc:creator>Priscilla Joe</dc:creator>
  <dc:description/>
  <dc:language>en-US</dc:language>
  <cp:lastModifiedBy>Health Services Department</cp:lastModifiedBy>
  <dcterms:modified xsi:type="dcterms:W3CDTF">2010-06-12T08:33:44Z</dcterms:modified>
  <cp:revision>27</cp:revision>
  <dc:subject/>
  <dc:title>MULTIPLE GESTATION</dc:title>
</cp:coreProperties>
</file>