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7482-414B-4A1C-8F23-D922D6FB0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D323-D626-4DF6-B3BD-6E2CDF37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278-DACB-4FCC-9D2A-E7EDD830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6C6-9639-4E98-96C1-E96E596F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EBE6-9B6E-4EFF-A16C-6982B571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5868-F85B-429D-A01C-9E6BDBA8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831C-617E-419C-9957-94A4AACA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C8D0-7EAB-4D4C-AC19-8ACA0FDD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17B3-9124-42D6-AD5E-FA4203CE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46C5-BB32-429A-9FCC-50A50219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A8E7-DBF6-403C-9814-A4ECDE66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468B-36BD-483D-B529-88C2D8FF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D51-D18E-47FF-86CF-DE434C05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E1F4-88D3-423B-A182-4F78371E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4135-8C68-46AA-AC41-81D2D8E4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3BA4-8FF1-4A25-8FEC-2665758B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6192-726C-4CA9-BF27-2F93548C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64FE-19E0-44D0-9EAD-31D3C9AA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A2A0-F507-4702-B0F5-F44AFA58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4B44-D1FF-4532-A5EE-4FC3C1E6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FA44-2E48-4FCD-83B9-C3155505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A91-7767-4077-99A2-4AFE82C5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6F21-D9E2-44A7-9087-5B70AAE5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2B4-E755-4264-9129-CC23A219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610-E469-46A1-8BF0-2CC451E3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774C-9185-47D3-B240-19F428AE1B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0637-A55D-4A2C-9A2A-B5357B7378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content.nejm.org/content/vol352/issue9/images/large/07f1.jpeg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ral Apparat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tral Valve leafl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e tendin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pillary mus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annul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V myocardium and LA wall adjacent to the Papillary musc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uses of secondary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D, old MI, ischemic cardiomyopath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iopathic dilated cardiomyopath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anced aortic valv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pertensive heart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cardiac disease that leads to LV dila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ues that MR is second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G = Severe LVH,M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hythm is NSR  ( not a fib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is not disproportionately lar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 is low  ( uncommon in primary MR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appears nor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al wall motion abnormalities on Echo, MI on EC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on causes of acute primary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carditis involving the valve leaflets, cordae tendineae or annul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taneous ( idiopathic ) rupture of cord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pture of diseased cordae ie. Collagen vascular disease , Marfanoid state, RHD or MV prolapse syndro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ute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39621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5778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on causes of Chronic primary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of the causes of acute primary MR may progress to chronic primary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tral prolapse syndr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ronic RH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460440"/>
            <a:ext cx="729612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ongated anterior MV Leafl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5627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V Prolap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2195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yxomatous MV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53341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Examples of ECHO in MR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HD. MV thick  and some 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carditis = vege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l rupture = </a:t>
            </a: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↑ leaflet mo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MVP often causes hammocking or posterior motion of leafle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Failure of  leaflets to close completely suggests papillary m. dysfunction or a markedly ↑ LV siz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14400" y="423720"/>
            <a:ext cx="762012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thophysiology of Chron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ovolumetric contraction phase abs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terload greatly </a:t>
            </a: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LV dilatation occurs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 in flow loa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EF initially ↑ and remains high or nor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EF falls very late in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LA slowly dilates and may be enorm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CO well preser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Symptoms may not occur for many ye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Severe LVH does not occ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698328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0388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22160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10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457200"/>
            <a:ext cx="6629400" cy="69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G IN CHRONIC PRIMARY 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rial fibrillation is very comm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 NSR P wave broadens to greater  than 0.12 se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wave be notched and have a large negative component in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ulmonary hypertension present, RVH, tall R in V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LVH ( one should never see severe LVH if only Chronic MR present )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mptoms of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mptoms are related to the decrease in forward effective cardiac output and LA press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akness,fatigue and poor exercise tole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V failure symp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 heart failure ( less comm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mboembol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961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6094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4572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28600"/>
            <a:ext cx="838224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Exam in chronic primary M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Arterial pulse 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in volume but is brisk (reflecting high EF).  Pulse pressure usually is normal-not wide as in chronic 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S1 ↓ reflecting failure of leaflets to close proper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S2 may be widely split due to ↓ in LV ejection time and delay of S2P if pulmonary hypertension is pre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Murmur is systolic but its duration, quality, location and radiation depend on the component of the Mitral apparatus eff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In most case pansystolic murmur starts with S1 and continues to S2.  It is heard best at apex and radiates to axilla or back, usually blowing and high pitched in qu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685800"/>
            <a:ext cx="815364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YPICAL MR MURM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When posterior leaflet involved due to prolapse or chordal rupture, murmur may radiate to sternum or base of he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Anterior leaflet involvement in prolapse may be very loud and radiate to ne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MV prolapse M may be harsh and be mid or late systolic,preceeded by a mid systolic cl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M of Pap.Muscle ischemia may be variable and become louder during an ischemic epis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Large diastolic volumes across valve may produce a diastolic murm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Secondary MR murmur may decrease with RX of CH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No murmur,particularly if CO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09480" y="457200"/>
            <a:ext cx="8001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DIAGNOSTIC MANEUVERS ON 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 may  be louder when LV volume increases as in CHF or leg raising when sup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increase when afterload increases ( squating or isometric handgrip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softer when venous return is decreased as in standing or Valsal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P murmur is longer when patient stands and click moves closer to S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nical manifestations of MR.                                                                                   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ature and severity of MR symptoms depends on th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ount of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te of progression of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ute or chro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pressure(or Pa wedge pressu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ociated cardiac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4572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ECHOCARDIOGRAM IN MR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th M mode and 2 D Echo (TTEorTEE) there is </a:t>
            </a: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↑ LA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↑ </a:t>
            </a: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LV and LV contraction pattern ( EF ↑ 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Mechanism of MR usually identifi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Prolapse,endocarditis,Flail leaflet,RHD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Colorflow Doppler gives degree of M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Degree of MR is just an estim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TE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TTE is of poor qu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endocarditis suspected and TTE is equiv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endocarditis is suspected and TTE is negative  ( will sometimes see a vegetation with TEE 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867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rdiac Cath. In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sure recordings may show giant V waves in major acute M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ntriculography done when Echo is poor and degree of MR uncert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onary angiography when ischemic heart disease suspec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sure data may be helpful to decide whether symptoms are due to M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55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Surgery in ACUTE MR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rn chord and acute primary MR may cause intractable pulmonary edema requiring MV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pillary M. rupture in acute MI may require MVR if med RX fai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carditis with 4+ MR, surgery if patient can’t be stabilized medical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cidence of Mitral Regurgi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amingham study found mild MR present in 19% of men and woman (asymptomati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re MR, dependent on the study, is present from 0.2-1.9% of the general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Surgery in Chronic Primary MR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R may progress insidiously without sympto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HF occurs, surgery indica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indicated in asymptomatic MR when ( 55 rule applies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systolic dimension approached 55mm or EF falls below 55% (older criteria 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not performed in secondary MR but may be considered if MR 4+ and EF above 3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surgery in asymptomatic chron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 LV size and E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indicated when end systolic dimension approaches 55 mm ( now 40 mm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indicated when EF is falling and approaches 55% (now 60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newer recommendations are based on the amount of MR. ( NEJM 3/3/2005, VOl. 352:875-883 ) .Pts with effective regurgitant orifice &gt; 40m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eed surge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theter techniques for secondary MR ? Ind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consideration,elevated BNP levels may help in deciding whether to ope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V SURGERY IN CHRONIC SEVERE MR ( 2006 guidelines) in JACC VOL.48,no.3,2006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surgery is beneficial for asymptomatic patients with chronic severe MR and mild to moderate LV dysfunction, E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0.30-60% and/or end-systolic dimension greater than or equal to 40mm. (level of evidence 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324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90600" y="371520"/>
            <a:ext cx="6561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19200" y="1189080"/>
            <a:ext cx="61038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ntitative Determination of outcomes in asymptomat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676520"/>
            <a:ext cx="65530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ral Valve surg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chanical valve  ie St. Ju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antage: longevity. Problem: Warfar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ssue valve. Advantage: no Warfarin.Problem: longe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repair. Advantage: better LV function , no Warfarin,problem: may not be technically feasi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Surgery for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op LV function is best predictor of long term morbidity and mort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l surgery for severe MR is ke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mendations for surgery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pt.with severe MR even if no symptoms,but good LV function,as long 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op risk and chance for valve repai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ymptomatic patients with NL EF but effective regurgitant orifice by Doppler is 40 mm squared or more.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al anatomy and outcome of MR surg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TE and particularly TEE may be very helpful in deciding which valves can be repair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ients with floppy valves are often good candidates for repa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calcified valves, ischemic MR and secondary ( functional ) MR patients are usually not candidates for repa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457200"/>
            <a:ext cx="72392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ral Regurg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te primary M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nic  primary M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   Secondary M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Surgery in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 waiting for signs of decre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V FX or progressive dilatation in pt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than severe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OP risk due to co-morbid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kelihood of repair 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rcotic addicts with endocardit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choose MV Repair over MV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er OP mort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long-term surviv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preserved LV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er incidence of thromboembolism,bleeding and endocardit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is MV repair gaining popularity in 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surgical techniques and intraop T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inent pathology is degenerative disease, more repai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tors whi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↓ likelihood of repair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nular calcification,RHD and anterior leaflet dys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uses of MV Repair Fail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ve related 6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brotic/calcified leaflet or annul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perforated leaflets or ruptured chord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dure related 3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ilure of chordae/leaflet repair or failure of ring annuloplas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V Repair 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ve repair techniques can be used on many patients with 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air must be tailored for the individual valve path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ve mortality is low, particularly with low risk pat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surgical intervention gives the best long term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ral catheter techniques are being developed for repair of M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-23760" y="-262080"/>
            <a:ext cx="9190080" cy="73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0252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chemic papillary m. dysfun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ly occurs with acute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occur wth anterior or inferior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y occur with angina and then resol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pillary m. complete rupture has a very high mort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chem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out 10% of MI have MR by ca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rate to severe in 3-4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ECHO studies after MI show varying degrees of MR in +- 50 % of c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ld patients and woman have a higher incidence.More common with large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ide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↓ with early reperfusion of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urgery ( MVR ) may be indicated and has a high morbidity and morta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715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8:52:05Z</dcterms:created>
  <dc:creator>wstullman</dc:creator>
  <dc:description/>
  <dc:language>en-US</dc:language>
  <cp:lastModifiedBy>wstullman</cp:lastModifiedBy>
  <dcterms:modified xsi:type="dcterms:W3CDTF">2010-01-11T19:34:20Z</dcterms:modified>
  <cp:revision>112</cp:revision>
  <dc:subject/>
  <dc:title>PowerPoint Presentation</dc:title>
</cp:coreProperties>
</file>