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BF68-29F3-4A51-9741-8656E3709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8DB-CBAC-42FE-98B8-C849CEF9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364-6489-4D46-ACE5-C3778B27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1EA-5E2E-43F1-BE2A-FD066A2F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9F0-A44D-4BB8-BB65-89035184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1668-F48C-416C-A5E5-FC5DBFE6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090-8B21-4448-A83F-FD31B775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9DAE-347B-4312-AB4D-974728FC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ED1E-94F0-4DB3-83D5-0D7012A1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43E4-D5A8-4314-A308-AAA13363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5A7-EB38-49A3-A315-F72CA936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5E3F-F4E6-465C-8D73-B4B1B6DD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2F3-CE51-4C69-836D-133985C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628D-E751-4890-902F-FA012B20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70D5-8804-47D7-BD34-9EC5B550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8FA4-ACCE-443E-8A30-1128D4C8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F903-3F0E-42C0-8556-7099264F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2727-E74D-4EEE-A6C4-99EB53A4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7C1-6179-49D1-B4DC-DB1B73F2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834-3F48-487B-9C56-28EC2AEA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470-6340-423A-8BF5-5FC81A14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486-3BD9-41F5-85F3-0DFB791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237-8910-4E55-9645-6A5E6E6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302-4259-43F7-9AD7-8905FA1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6CF-8B52-45D3-A432-15993593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5D19-C82D-4445-9351-3A8D536747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F94-EFCD-430B-A52A-F1EFC8654C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9/images/large/07f1.jpeg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Appar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Valve leafl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e tendin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us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myocardium and LA wall adjacent to the Papillary mus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second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D, old MI, ischemic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iopathic dilated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ced aortic valv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ensive heart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cardiac disease that leads to LV dila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ues that MR is second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G = Severe LVH,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ythm is NSR  ( not a fib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is not disproportionately l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is low  ( uncommon in primary MR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ppears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l wall motion abnormalities on Echo, MI on E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acute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involving the valve leaflets, cordae tendineae or annul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taneous ( idiopathic ) rupture of c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pture of diseased cordae ie. Collagen vascular disease , Marfanoid state, RHD or MV prolapse syndr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ute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396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778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Chronic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f the causes of acute primary MR may progress to chronic primary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prolapse syndr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nic RH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460440"/>
            <a:ext cx="7296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ongated anterior MV Leaf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562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Prolap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195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yxomatous M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334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Examples of ECHO in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D. MV thick  and some 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= vege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l rupture =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↑ leaflet mo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MVP often causes hammocking or posterior motion of leafl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Failure of  leaflets to close completely suggests papillary m. dysfunction or a markedly ↑ LV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423720"/>
            <a:ext cx="762012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hophysiology of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ovolumetric contraction phase ab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load greatly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V dilatation occurs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 in f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initially ↑ and remains high or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falls very late in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A slowly dilates and may be enorm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CO well pre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ymptoms may not occur for many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evere LVH does not occ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832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03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221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457200"/>
            <a:ext cx="662940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IN CHRONIC PRIMARY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al fibrillation is very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 NSR P wave broadens to greater  than 0.12 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wave be notched and have a large negative component in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ulmonary hypertension present, RVH, tall R in V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LVH ( one should never see severe LVH if only Chronic MR present )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mptoms of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are related to the decrease in forward effective cardiac output and LA pres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kness,fatigue and poor exercise tole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ailure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heart failure ( less comm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mboem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61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609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28600"/>
            <a:ext cx="83822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Exam in chronic primary 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Arterial pulse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in volume but is brisk (reflecting high EF).  Pulse pressure usually is normal-not wide as in chronic 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S1 ↓ reflecting failure of leaflets to close prope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S2 may be widely split due to ↓ in LV ejection time and delay of S2P if pulmonary hypertension is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Murmur is systolic but its duration, quality, location and radiation depend on the component of the Mitral apparatus e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In most case pansystolic murmur starts with S1 and continues to S2.  It is heard best at apex and radiates to axilla or back, usually blowing and high pitched in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685800"/>
            <a:ext cx="815364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YPICAL MR MURM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en posterior leaflet involved due to prolapse or chordal rupture, murmur may radiate to sternum or base of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Anterior leaflet involvement in prolapse may be very loud and radiate to n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MV prolapse M may be harsh and be mid or late systolic,preceeded by a mid systolic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M of Pap.Muscle ischemia may be variable and become louder during an ischemic epis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Large diastolic volumes across valve may produce a diastolic murm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Secondary MR murmur may decrease with RX of CH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No murmur,particularly if CO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9480" y="45720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DIAGNOSTIC MANEUVERS ON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may  be louder when LV volume increases as in CHF or leg raising when sup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when afterload increases ( squating or isometric handgrip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ofter when venous return is decreased as in standing or Valsal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P murmur is longer when patient stands and click moves closer to S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nical manifestations of MR.                                                                             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e and severity of MR symptoms depends on th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unt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e of progression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ute or chr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pressure(or Pa wedge press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ed cardiac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CHOCARDIOGRAM IN MR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M mode and 2 D Echo (TTEorTEE) there is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L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LV and LV contraction pattern ( EF ↑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Mechanism of MR usually identifi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Prolapse,endocarditis,Flail leaflet,RHD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Colorflow Doppler gives degree of M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Degree of MR is just an estim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TE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TE is of poor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suspected and TTE is equiv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is suspected and TTE is negative  ( will sometimes see a vegetation with TEE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iac Cath.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recordings may show giant V waves in major acute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riculography done when Echo is poor and degree of MR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onary angiography when ischemic heart disease suspe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data may be helpful to decide whether symptoms are due to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ACUTE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n chord and acute primary MR may cause intractable pulmonary edema requiring MV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rupture in acute MI may require MVR if med R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with 4+ MR, surgery if patient can’t be stabilized med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idence of Mitral Regurgi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mingham study found mild MR present in 19% of men and woman (asymptoma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e MR, dependent on the study, is present from 0.2-1.9% of the general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Chronic Primary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 may progress insidiously without symp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HF occurs, surgery indic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in asymptomatic MR when ( 55 rule applies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systolic dimension approached 55mm or EF falls below 55% (older criteria 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not performed in secondary MR but may be considered if MR 4+ and EF above 3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asymptomatic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LV size and 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nd systolic dimension approaches 55 mm ( now 40 mm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F is falling and approaches 55% (now 6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wer recommendations are based on the amount of MR. ( NEJM 3/3/2005, VOl. 352:875-883 ) .Pts with effective regurgitant orifice &gt; 40m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ed surge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heter techniques for secondary MR ? In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consideration,elevated BNP levels may help in deciding whether to ope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V SURGERY IN CHRONIC SEVERE MR ( 2006 guidelines) in JACC VOL.48,no.3,2006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surgery is beneficial for asymptomatic patients with chronic severe MR and mild to moderate LV dysfunction, 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0.30-60% and/or end-systolic dimension greater than or equal to 40mm. (level of evidenc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324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90600" y="371520"/>
            <a:ext cx="6561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19200" y="1189080"/>
            <a:ext cx="61038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 Determination of outcomes in asymptomat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Valve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chanical valve  ie St. Ju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: longevity. Problem: Warfa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 valve. Advantage: no Warfarin.Problem: longe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repair. Advantage: better LV function , no Warfarin,problem: may not be technically fea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for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op LV function is best predictor of long term morbidity and mort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l surgery for severe MR is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 for surgery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pt.with severe MR even if no symptoms,but good LV function,as long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op risk and chance for valve repai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ymptomatic patients with NL EF but effective regurgitant orifice by Doppler is 40 mm squared or more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anatomy and outcome of MR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E and particularly TEE may be very helpful in deciding which valves can be repa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with floppy valves are often good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calcified valves, ischemic MR and secondary ( functional ) MR patients are usually not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72392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ral Regurg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  Second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waiting for signs of de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X or progressive dilatation in pt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han severe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OP risk due to co-morbi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lihood of repair 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cotic addicts with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choose MV Repair over MV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OP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long-term survi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preserved LV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incidence of thromboembolism,bleeding and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MV repair gaining popularity in 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surgical techniques and intraop T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ent pathology is degenerative disease, more repai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wh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↓ likelihood of repair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ular calcification,RHD and anterior leaflet dys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MV Repair Fail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ve related 6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otic/calcified leaflet or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erforated leaflets or ruptured ch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ure related 3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lure of chordae/leaflet repair or failure of ring annuloplas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Repair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ve repair techniques can be used on many patients with 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air must be tailored for the individual valve pat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mortality is low, particularly with low risk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surgical intervention gives the best long term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catheter techniques are being developed for repair of 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3760" y="-262080"/>
            <a:ext cx="9190080" cy="73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025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papillary m. dysfun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occurs with acut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occur wth anterior or inferior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occur with angina and then resol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complete rupture has a very high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10% of MI have MR by c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rate to severe in 3-4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ECHO studies after MI show varying degrees of MR in +- 50 % of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ld patients and woman have a higher incidence.More common with larg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↓ with early reperfusion of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rgery ( MVR ) may be indicated and has a high morbidity and morta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8:52:05Z</dcterms:created>
  <dc:creator>wstullman</dc:creator>
  <dc:description/>
  <dc:language>en-US</dc:language>
  <cp:lastModifiedBy>wstullman</cp:lastModifiedBy>
  <dcterms:modified xsi:type="dcterms:W3CDTF">2010-01-11T19:34:20Z</dcterms:modified>
  <cp:revision>112</cp:revision>
  <dc:subject/>
  <dc:title>PowerPoint Presentation</dc:title>
</cp:coreProperties>
</file>