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whoosh.wav" ContentType="audio/x-wav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A25-855D-4517-B7A8-32CCFED0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8D5C-D07C-4325-9FFD-45C2B280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5B0-0D96-4E36-B647-AEAF9122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0FD-5EB1-4AED-9D3A-79E2D4C0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A096-331B-413E-B0BC-ED402309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D08B-7C07-4866-81A5-681F83F6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9E7E-B8F1-4717-A74B-D26042B6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60F4-6ACB-41AD-809E-F7AD48BF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BD08-43C7-44D2-A7C7-E66CFBFC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CF56-B9D8-45DB-9C17-FD81A26D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7D54-D853-43FC-B60B-8C2FAE3B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4C7-3387-4043-BB1B-FF575157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329D-8B32-4DE0-B6B1-E526AFA7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65F5-850D-41C2-8FB5-3B3CDC65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D02A-417E-451E-9F49-3E2D06E4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2260-5308-4BB7-A343-BCC2BE5E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3481-3176-48CB-9B6C-73F7ED39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D447-3489-4A41-846A-00FD576E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E91-C317-443A-9B6C-31259D8F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FCD-1554-4D5E-8431-FF2E633B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52C7-D349-496C-935B-96574481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C76-700B-4363-8B83-3AD384A5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948F-1F7C-4BBF-8B44-0594D743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F31F-B164-48A7-931D-CE8E869C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AD78-E66F-4A34-9937-098CB45EA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C77F-2DCB-4F7C-966D-131FF1871C2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Management of Critical Perioperative Patient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6950"/>
                </a:solidFill>
                <a:latin typeface="Times New Roman"/>
              </a:rPr>
              <a:t>Christiana Weng, M.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86950"/>
                </a:solidFill>
                <a:latin typeface="Times New Roman"/>
              </a:rPr>
              <a:t>Surgical Registr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ather pertinent histor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urgery did they h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has the post-op course be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ore history.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 #1 lap chole, enterotomy repair by small bowel resection with primary anastomosis, liver biopsy x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t nausea post-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PCA but abd pain 10/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98% on 2L at the beginning of shift; now 94% on 2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erform a Focused Ex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ed mental stat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hythmia? Weak pul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qual breath sounds? Crack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te abdom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extremity with unequal pul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nds and dr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us entericus? Blood? Acsitic flui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n ex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chycardic but regular rhy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breath sound left lower lo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d distended with absent bowel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moans with each per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cia intact, dressing c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ey with 50ml dark yellow u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ather dat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201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tals – UOP, temp, CVP, BP, HR, O2S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in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s- hgb drop, lact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compartment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B or CX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523880" y="54864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ould you order on this pati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abs came bac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 1.3 (was 0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Carb 19 (was 2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bili 1.6 (was 0.9); direct bili 0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C 2.9 (was 6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gb 12.6 (was 12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ctic acid 4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38/37/61/21/9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compartment pressure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KUB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18" name="Picture 3" descr="C:\Documents and Settings\HCMARTINEZ\My Documents\Christiana\Mini Lecture\SBO films\NDacoron_1_1.jpg"/>
          <p:cNvPicPr/>
          <p:nvPr/>
        </p:nvPicPr>
        <p:blipFill>
          <a:blip r:embed="rId1"/>
          <a:stretch/>
        </p:blipFill>
        <p:spPr>
          <a:xfrm>
            <a:off x="3048120" y="1371600"/>
            <a:ext cx="4062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X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0" name="Picture 3" descr="C:\Documents and Settings\HCMARTINEZ\My Documents\Christiana\Mini Lecture\SBO films\NDacoron cxr_1_1.jpg"/>
          <p:cNvPicPr/>
          <p:nvPr/>
        </p:nvPicPr>
        <p:blipFill>
          <a:blip r:embed="rId1"/>
          <a:stretch/>
        </p:blipFill>
        <p:spPr>
          <a:xfrm>
            <a:off x="2057400" y="1523880"/>
            <a:ext cx="617220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hink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about the surgery/procedure and everything that could go wr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on’t find the cause if you don’t think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plan of action depends on a good list of different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ifferential Diagnosi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ck- hypovolemic, septic, cardioge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hiscence/evisc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d or limb compartment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vascular inj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/DV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thor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/Stro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he ICU resident 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e fluid resus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post-op complications promp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e appropriate post-op complication mana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eptic Shoc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whelming infection = vasod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wel perforation? Anastomotic leak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pus under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a-abdominal abscesses, psoas abscesses, epidural abscesses, obstructing kidney 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piration pneumonia or urosep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en empiric abx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ascial dehiscence/Eviscera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-tale sign: dressing drenched with ascitic fl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lnurished, obese, immunosup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that’s 90% of our patien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and feel for the integrity of the midline in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viscerati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 eviscerated bowel with wet gau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he surgeon right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Abdominal compartment syndrom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tale signs: progressive oligurea, tense abdomen, increased respiratory di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-lap patients, cirrhotics, malnur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IAP by connecting a foley to the CVP mon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normal if &gt;20cm 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gerous if &gt;30cm 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bd Compartment Syndrom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: Deco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the wound vacuum s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in the ascites (repeat if necess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Limb Compartment Syndrome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tale signs: weak or absent pulses, blue or dusky limb, tense, extreme tender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 all external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he orthopod for emergent fasciot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Back to our patient…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sening septic shock suspected based on AMS, low WBC, and peritoneal 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Dx: PE, unrecognized enterotomy, anastomotic leak, early intra-abd abscess, occult intra-abd bleeding, bile peritonit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 chest CT negative for 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eon was called and patient taken back to OR emerg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terotomy was found and repa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Bottom Line…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ssive fluid resus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ix bad.  Fluids goo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quate resuscitation= when you see p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ly examine your pat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, then you’ll know what to 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Your responsibiliti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t surgical ICU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ER, OR, or the fl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sign-outs from the surge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t to ICU/IMCU according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e post-op check if floor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 resident surgical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 real case.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r, my post-op patient has had no urine output for the last 4 hours.  Should we give her some Lasix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s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905120" y="2133720"/>
            <a:ext cx="64767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Fluid Good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Lasix Bad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562720" y="53341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600200" y="3808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752480" y="7621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luid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057400" y="5334120"/>
            <a:ext cx="50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esuscitation Fluid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stalloid- NS and LR bol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oid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span-max 1500ml/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airs platele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ware of DIC, thrombocytopenia, bleeding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luid Resuscitation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oid is not better than crystallo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enough NS/LR before giving Hesp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give back all volume lost to NGT, drains, open wound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give at least 3+ liters of fluid before using press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ction pla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see the patie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pertinent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a focused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!  DDx, your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appropriate consul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o See the Patient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4yo female with DM2, HTN; charge nurse at the jail by prof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 102.4, BP 108/64, HR 138, RR28, O2Sat 94% on 2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moaning in pain, not answering questions, breathing 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21:40:35Z</dcterms:created>
  <dc:creator>Kim Haglund</dc:creator>
  <dc:description/>
  <dc:language>en-US</dc:language>
  <cp:lastModifiedBy>HCMARTINEZ</cp:lastModifiedBy>
  <dcterms:modified xsi:type="dcterms:W3CDTF">2009-06-04T23:28:00Z</dcterms:modified>
  <cp:revision>50</cp:revision>
  <dc:subject/>
  <dc:title>Management of Critical Perioperative Patients</dc:title>
</cp:coreProperties>
</file>