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whoosh.wav" ContentType="audio/x-wav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740-55DC-4531-9081-CF6176AE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3BE-1F45-407D-8B42-01AD21DB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47D-C809-4698-9D3C-B6A70672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002-90FD-40B8-83C8-4C07CAFC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DEEE-CF3F-4AA5-BC6B-0EBE934E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75FC-869B-4AB6-A108-9B8E60DD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27E7-5647-436B-8082-89724E0B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7432-3DD8-4474-B278-2CD8CE27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44AA-EDD9-43FA-9EB0-00497615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E61A-397F-44C9-AB76-81795C76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A3E3-AFE7-47C6-B591-E3AC495B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E78-71BD-4800-98C7-CF2F17FE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EB78-961C-4201-A0A4-FF5A749C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C5FB-106D-40A9-9AC5-B6D19389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74CA-247A-4F3C-927B-E9653D9B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7657-987F-4D56-A714-35191428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1D5A-89C7-4BE0-AA16-09E7550D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E38-7449-432D-A3D2-233D8CB1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F4F-31AD-4309-9D98-FA285236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B6B-008D-46B3-B728-788C5D96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AD7-8AF9-4124-852D-53A8EDD5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D1B-FD93-42B3-B9BC-75233953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767-26E1-4E7C-A014-C9088472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3755-1C5B-4722-8C32-80DE38D2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AABD-4D32-45BA-9AB0-5301610CD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F0C0-B457-4054-88D6-3D22C93027E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Management of Critical Perioperative Patient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6950"/>
                </a:solidFill>
                <a:latin typeface="Times New Roman"/>
              </a:rPr>
              <a:t>Christiana Weng, M.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6950"/>
                </a:solidFill>
                <a:latin typeface="Times New Roman"/>
              </a:rPr>
              <a:t>Surgical Registr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ather pertinent histor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urgery did they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has the post-op course be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ore history.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 #1 lap chole, enterotomy repair by small bowel resection with primary anastomosis, liver biopsy x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 nausea post-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PCA but abd pain 10/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98% on 2L at the beginning of shift; now 94% on 2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erform a Focused Ex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ed mental stat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hythmia? Weak pul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qual breath sounds? Crack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te abdom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extremity with unequal pul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nds and dr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us entericus? Blood? Acsitic flu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n ex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chycardic but regular rhy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breath sound left lower l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d distended with absent bowel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moans with each per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cia intact, dressing c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ey with 50ml dark yellow u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ather dat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ls – UOP, temp, CVP, BP, HR, O2S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in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s- hgb drop, lact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compartment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B or CX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3880" y="54864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uld you order on this pati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bs came bac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 1.3 (was 0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Carb 19 (was 2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bili 1.6 (was 0.9); direct bili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C 2.9 (was 6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gb 12.6 (was 12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tic acid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38/37/61/21/9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compartment pressure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UB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8" name="Picture 3" descr="C:\Documents and Settings\HCMARTINEZ\My Documents\Christiana\Mini Lecture\SBO films\NDacoron_1_1.jpg"/>
          <p:cNvPicPr/>
          <p:nvPr/>
        </p:nvPicPr>
        <p:blipFill>
          <a:blip r:embed="rId1"/>
          <a:stretch/>
        </p:blipFill>
        <p:spPr>
          <a:xfrm>
            <a:off x="3048120" y="1371600"/>
            <a:ext cx="406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X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0" name="Picture 3" descr="C:\Documents and Settings\HCMARTINEZ\My Documents\Christiana\Mini Lecture\SBO films\NDacoron cxr_1_1.jpg"/>
          <p:cNvPicPr/>
          <p:nvPr/>
        </p:nvPicPr>
        <p:blipFill>
          <a:blip r:embed="rId1"/>
          <a:stretch/>
        </p:blipFill>
        <p:spPr>
          <a:xfrm>
            <a:off x="2057400" y="1523880"/>
            <a:ext cx="61722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ink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about the surgery/procedure and everything that could go w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on’t find the cause if you don’t think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plan of action depends on a good list of different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fferential Diagnosi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ck- hypovolemic, septic, cardioge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hiscence/evisc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d or limb compartment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vascular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/DV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/Str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he ICU resident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 fluid resus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post-op complications promp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 appropriate post-op complication mana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eptic Shoc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helming infection = vasod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wel perforation? Anastomotic lea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pus under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a-abdominal abscesses, psoas abscesses, epidural abscesses, obstructing kidney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piration pneumonia or urosep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en empiric abx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ascial dehiscence/Eviscer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-tale sign: dressing drenched with ascitic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nurished, obese, immunosup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that’s 90% of our pati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and feel for the integrity of the midline in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viscerat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 eviscerated bowel with wet gau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he surgeon right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Abdominal compartment syndrom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tale signs: progressive oligurea, tense abdomen, increased respiratory di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-lap patients, cirrhotics, malnur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IAP by connecting a foley to the CVP mon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normal if &gt;20cm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gerous if &gt;30cm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bd Compartment Syndrom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: De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the wound vacuum s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in the ascites (repeat if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Limb Compartment Syndrom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tale signs: weak or absent pulses, blue or dusky limb, tense, extreme tender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 all external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orthopod for emergent fascio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ack to our patient…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sening septic shock suspected based on AMS, low WBC, and peritoneal 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Dx: PE, unrecognized enterotomy, anastomotic leak, early intra-abd abscess, occult intra-abd bleeding, bile peritoni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 chest CT negative for 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eon was called and patient taken back to OR emerg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terotomy was found and repa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ottom Line…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ssive fluid resus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ix bad.  Fluids goo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resuscitation= when you see p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ly examine your pat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, then you’ll know what to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Your responsibiliti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t surgical ICU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ER, OR, or the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sign-outs from the surge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t to ICU/IMCU accordin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 post-op check if floor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resident surgical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 real case.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r, my post-op patient has had no urine output for the last 4 hours.  Should we give her some Lasix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s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905120" y="2133720"/>
            <a:ext cx="64767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luid Good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asix Bad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562720" y="53341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600200" y="3808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752480" y="7621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luid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057400" y="5334120"/>
            <a:ext cx="50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esuscitation Fluid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loid- NS and LR bol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oid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span-max 1500ml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irs platele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ware of DIC, thrombocytopenia, bleeding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luid Resuscitation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oid is not better than crystall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nough NS/LR before giving Hesp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give back all volume lost to NGT, drains, open w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give at least 3+ liters of fluid before using press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ction pl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see the pati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pertinen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a focused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!  DDx, your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appropriate consul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o See the Patient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4yo female with DM2, HTN; charge nurse at the jail by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 102.4, BP 108/64, HR 138, RR28, O2Sat 94% on 2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moaning in pain, not answering questions, breathing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21:40:35Z</dcterms:created>
  <dc:creator>Kim Haglund</dc:creator>
  <dc:description/>
  <dc:language>en-US</dc:language>
  <cp:lastModifiedBy>HCMARTINEZ</cp:lastModifiedBy>
  <dcterms:modified xsi:type="dcterms:W3CDTF">2009-06-04T23:28:00Z</dcterms:modified>
  <cp:revision>50</cp:revision>
  <dc:subject/>
  <dc:title>Management of Critical Perioperative Patients</dc:title>
</cp:coreProperties>
</file>