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D15A-98F1-4BC3-9B2B-85E693C4F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 0-14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American children have significantly higher rate compared to the county over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, Latino, and Asian children have significantly lower rate compared to the county over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943D-FB75-4EF4-857A-B93D9B698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D02FDC2-B83F-48A7-AEC6-AA3DFC426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03200" y="706320"/>
            <a:ext cx="4464360" cy="3348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68040" y="4292640"/>
            <a:ext cx="5202360" cy="406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720B-54F9-4C6F-AC7D-C97BE2248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EF05C5A-89B7-42DD-B433-425E5D401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03200" y="706320"/>
            <a:ext cx="4464360" cy="3348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68040" y="4292640"/>
            <a:ext cx="520236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B94-71C0-4EB5-82BA-F064708C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F8D-1BCF-41B5-B407-80BA0380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218-ACBE-4303-B8CE-F1C12F15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145C-0EDB-4516-9846-2A1D3862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6E1-50E8-4EF3-8B44-048CB7E8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8BE9-02C6-4882-B60F-FB51ADE4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BD2-644D-4DB1-8169-CCBC5C46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0D6-029F-4F08-BD33-BD285257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93D-9557-476F-AF2B-F8F09536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62E-18CC-41EC-AAD8-25D5B759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CE2-080A-4F08-914D-4B269F5B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434-2756-4277-AC6E-3D736D4E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0D4B-F32C-402A-91A9-20D6582A3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43080" y="628560"/>
            <a:ext cx="84582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is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ntra Costa Health Services cares for and improves the health of all people in Contra Costa County, with special attention to those who are most vulnerable to health probl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teens_with_smoking_ad"/>
          <p:cNvPicPr/>
          <p:nvPr/>
        </p:nvPicPr>
        <p:blipFill>
          <a:blip r:embed="rId1"/>
          <a:stretch/>
        </p:blipFill>
        <p:spPr>
          <a:xfrm>
            <a:off x="419040" y="433440"/>
            <a:ext cx="8305920" cy="5991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914400" y="1573200"/>
            <a:ext cx="7315200" cy="63972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fluencing policy and legi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14400" y="2789280"/>
            <a:ext cx="7315200" cy="639720"/>
          </a:xfrm>
          <a:prstGeom prst="rect">
            <a:avLst/>
          </a:prstGeom>
          <a:solidFill>
            <a:srgbClr val="33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stering coalitions a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14400" y="3398760"/>
            <a:ext cx="7315200" cy="639720"/>
          </a:xfrm>
          <a:prstGeom prst="rect">
            <a:avLst/>
          </a:prstGeom>
          <a:solidFill>
            <a:srgbClr val="008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nging organizational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14400" y="4008600"/>
            <a:ext cx="7315200" cy="639720"/>
          </a:xfrm>
          <a:prstGeom prst="rect">
            <a:avLst/>
          </a:prstGeom>
          <a:solidFill>
            <a:srgbClr val="fabe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ucating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914400" y="4618080"/>
            <a:ext cx="7315200" cy="639720"/>
          </a:xfrm>
          <a:prstGeom prst="rect">
            <a:avLst/>
          </a:prstGeom>
          <a:solidFill>
            <a:srgbClr val="ff6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moting community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914400" y="5867280"/>
            <a:ext cx="7315200" cy="639720"/>
          </a:xfrm>
          <a:prstGeom prst="rect">
            <a:avLst/>
          </a:prstGeom>
          <a:solidFill>
            <a:srgbClr val="8e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engthening individual knowledge and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914400" y="2179800"/>
            <a:ext cx="7315200" cy="63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bilizing neighborhoods and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914400" y="5257800"/>
            <a:ext cx="7315200" cy="639720"/>
          </a:xfrm>
          <a:prstGeom prst="rect">
            <a:avLst/>
          </a:prstGeom>
          <a:solidFill>
            <a:srgbClr val="f3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uring access to quality health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4"/>
          <p:cNvGrpSpPr/>
          <p:nvPr/>
        </p:nvGrpSpPr>
        <p:grpSpPr>
          <a:xfrm>
            <a:off x="7162920" y="152280"/>
            <a:ext cx="1828800" cy="838440"/>
            <a:chOff x="7162920" y="152280"/>
            <a:chExt cx="1828800" cy="838440"/>
          </a:xfrm>
        </p:grpSpPr>
        <p:sp>
          <p:nvSpPr>
            <p:cNvPr id="91" name="Rectangle 13"/>
            <p:cNvSpPr/>
            <p:nvPr/>
          </p:nvSpPr>
          <p:spPr>
            <a:xfrm>
              <a:off x="7162920" y="152280"/>
              <a:ext cx="1828800" cy="838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11" descr="CCHS LOGO 2C"/>
            <p:cNvPicPr/>
            <p:nvPr/>
          </p:nvPicPr>
          <p:blipFill>
            <a:blip r:embed="rId1"/>
            <a:stretch/>
          </p:blipFill>
          <p:spPr>
            <a:xfrm>
              <a:off x="7334280" y="215640"/>
              <a:ext cx="1486080" cy="7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15"/>
          <p:cNvSpPr/>
          <p:nvPr/>
        </p:nvSpPr>
        <p:spPr>
          <a:xfrm>
            <a:off x="2258640" y="228600"/>
            <a:ext cx="46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grated Spectr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f 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-253440" y="896760"/>
            <a:ext cx="965232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In the long run, improving population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health requires universal healt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coverage delivered through organiz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health systems, coupled wit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effective and adequately fund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population environmental interven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focused on the broa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Environmental Determina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of Health (EDH)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Childhood Asthma Hospitaliz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 Costa 2002-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838080" y="1828800"/>
          <a:ext cx="777240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7724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914400" y="1447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e per 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9144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verweight Children in Richmo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hart 4" descr=""/>
          <p:cNvPicPr/>
          <p:nvPr/>
        </p:nvPicPr>
        <p:blipFill>
          <a:blip r:embed="rId1"/>
          <a:stretch/>
        </p:blipFill>
        <p:spPr>
          <a:xfrm>
            <a:off x="450720" y="1292400"/>
            <a:ext cx="8321760" cy="4413240"/>
          </a:xfrm>
          <a:prstGeom prst="rect">
            <a:avLst/>
          </a:prstGeom>
          <a:ln w="0">
            <a:noFill/>
          </a:ln>
        </p:spPr>
      </p:pic>
      <p:sp>
        <p:nvSpPr>
          <p:cNvPr id="55" name="Content Placeholder 4"/>
          <p:cNvSpPr/>
          <p:nvPr/>
        </p:nvSpPr>
        <p:spPr>
          <a:xfrm>
            <a:off x="838080" y="56386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4040"/>
                </a:solidFill>
                <a:latin typeface="Gill Sans"/>
              </a:rPr>
              <a:t>Source: California Physical Fitness Test 2006-07, Censu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9360"/>
          <a:ext cx="9144000" cy="670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91440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:\Tobacco\tobacco_van.tif"/>
          <p:cNvPicPr/>
          <p:nvPr/>
        </p:nvPicPr>
        <p:blipFill>
          <a:blip r:embed="rId1"/>
          <a:stretch/>
        </p:blipFill>
        <p:spPr>
          <a:xfrm>
            <a:off x="114480" y="595440"/>
            <a:ext cx="8915400" cy="5668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age 1"/>
          <p:cNvPicPr/>
          <p:nvPr/>
        </p:nvPicPr>
        <p:blipFill>
          <a:blip r:embed="rId1"/>
          <a:stretch/>
        </p:blipFill>
        <p:spPr>
          <a:xfrm>
            <a:off x="2278080" y="228600"/>
            <a:ext cx="4587840" cy="64008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533520"/>
            <a:ext cx="853452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eight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 Costa, 2002-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533520" y="2133720"/>
          <a:ext cx="838188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38188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5"/>
          <p:cNvSpPr/>
          <p:nvPr/>
        </p:nvSpPr>
        <p:spPr>
          <a:xfrm>
            <a:off x="1421280" y="57913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Picture2.png"/>
          <p:cNvPicPr/>
          <p:nvPr/>
        </p:nvPicPr>
        <p:blipFill>
          <a:blip r:embed="rId1"/>
          <a:stretch/>
        </p:blipFill>
        <p:spPr>
          <a:xfrm>
            <a:off x="378000" y="414360"/>
            <a:ext cx="8388000" cy="6029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838160" y="4876920"/>
            <a:ext cx="257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Fast Food Restaurants 6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576440" y="2676600"/>
            <a:ext cx="136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Conveni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Stores 2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895360" y="1905120"/>
            <a:ext cx="18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Supermarkets 1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5943600" y="2438280"/>
            <a:ext cx="2743200" cy="19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913000" y="2286000"/>
            <a:ext cx="182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Produce Stores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892120" y="266688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Farmers Markets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9"/>
          <p:cNvSpPr/>
          <p:nvPr/>
        </p:nvSpPr>
        <p:spPr>
          <a:xfrm>
            <a:off x="4038480" y="2055960"/>
            <a:ext cx="1905120" cy="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11"/>
          <p:cNvSpPr/>
          <p:nvPr/>
        </p:nvSpPr>
        <p:spPr>
          <a:xfrm>
            <a:off x="5105520" y="2438280"/>
            <a:ext cx="8380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2"/>
          <p:cNvSpPr/>
          <p:nvPr/>
        </p:nvSpPr>
        <p:spPr>
          <a:xfrm>
            <a:off x="5029200" y="2819520"/>
            <a:ext cx="9144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6"/>
          <p:cNvSpPr/>
          <p:nvPr/>
        </p:nvSpPr>
        <p:spPr>
          <a:xfrm flipH="1">
            <a:off x="4723920" y="2437560"/>
            <a:ext cx="381240" cy="30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traight Connector 18"/>
          <p:cNvSpPr/>
          <p:nvPr/>
        </p:nvSpPr>
        <p:spPr>
          <a:xfrm flipH="1">
            <a:off x="4800240" y="2818800"/>
            <a:ext cx="22860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hart 2" descr=""/>
          <p:cNvPicPr/>
          <p:nvPr/>
        </p:nvPicPr>
        <p:blipFill>
          <a:blip r:embed="rId1"/>
          <a:stretch/>
        </p:blipFill>
        <p:spPr>
          <a:xfrm>
            <a:off x="378000" y="298440"/>
            <a:ext cx="8388000" cy="595620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6276240" y="1752480"/>
            <a:ext cx="253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"/>
              </a:rPr>
              <a:t>Retail Food Environment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715000" y="1828800"/>
            <a:ext cx="5335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21280" y="6200640"/>
            <a:ext cx="527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"/>
              </a:rPr>
              <a:t>Source: California Center for Public Health Advocates, Januar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22:47:40Z</dcterms:created>
  <dc:creator>Dave Shoemaker</dc:creator>
  <dc:description/>
  <dc:language>en-US</dc:language>
  <cp:lastModifiedBy>HCMARTINEZ</cp:lastModifiedBy>
  <dcterms:modified xsi:type="dcterms:W3CDTF">2009-09-28T18:54:32Z</dcterms:modified>
  <cp:revision>15</cp:revision>
  <dc:subject/>
  <dc:title>PowerPoint Presentation</dc:title>
</cp:coreProperties>
</file>