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7F7-DDF9-4E57-A9AA-FF4F0358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ren 0-1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merican children have significantly high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, Latino, and Asian children have significantly lower rate compared to the county over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AB8-73A1-4E57-BC14-3E7857E5E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D6477F7-7490-4D74-8C7F-017D39DC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6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6CB7-7EFC-45F5-8098-5FEA060AA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DA13F1E-86FF-4A35-9CD9-3631FA00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03200" y="706320"/>
            <a:ext cx="4464360" cy="3348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68040" y="4292640"/>
            <a:ext cx="520236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803-7F1C-4850-BB13-9BD5C0F1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567-5B9E-484A-AC5B-73158DE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317-FA75-4AD6-9E8F-17203469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ABC-2CCD-46BD-A27F-6F14C3D7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887-9110-411D-A24D-1A7051DE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6F7-C92D-462E-9D3A-472F02B9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72F-FF70-42D6-B391-EA045F3C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706-79EB-4F4D-A858-9B516D4D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B45-0FCB-4FAD-8A9A-FEB8870D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2CE-1838-4967-A073-8CB8794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880-1DA5-477E-BA3D-2E658CCE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C88-9FCE-4091-9ABB-AC01BB9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36E-28F7-4639-888B-F224702C3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43080" y="628560"/>
            <a:ext cx="84582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a Costa Health Services cares for and improves the health of all people in Contra Costa County, with special attention to those who are most vulnerable to health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eens_with_smoking_ad"/>
          <p:cNvPicPr/>
          <p:nvPr/>
        </p:nvPicPr>
        <p:blipFill>
          <a:blip r:embed="rId1"/>
          <a:stretch/>
        </p:blipFill>
        <p:spPr>
          <a:xfrm>
            <a:off x="419040" y="433440"/>
            <a:ext cx="8305920" cy="599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14400" y="1573200"/>
            <a:ext cx="7315200" cy="639720"/>
          </a:xfrm>
          <a:prstGeom prst="rect">
            <a:avLst/>
          </a:prstGeom>
          <a:solidFill>
            <a:srgbClr val="8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fluencing policy and legi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400" y="2789280"/>
            <a:ext cx="7315200" cy="63972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stering coalition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14400" y="3398760"/>
            <a:ext cx="7315200" cy="639720"/>
          </a:xfrm>
          <a:prstGeom prst="rect">
            <a:avLst/>
          </a:prstGeom>
          <a:solidFill>
            <a:srgbClr val="008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ing organizational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008600"/>
            <a:ext cx="7315200" cy="639720"/>
          </a:xfrm>
          <a:prstGeom prst="rect">
            <a:avLst/>
          </a:prstGeom>
          <a:solidFill>
            <a:srgbClr val="fabe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ucating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914400" y="4618080"/>
            <a:ext cx="7315200" cy="639720"/>
          </a:xfrm>
          <a:prstGeom prst="rect">
            <a:avLst/>
          </a:prstGeom>
          <a:solidFill>
            <a:srgbClr val="ff6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moting community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14400" y="5867280"/>
            <a:ext cx="7315200" cy="639720"/>
          </a:xfrm>
          <a:prstGeom prst="rect">
            <a:avLst/>
          </a:prstGeom>
          <a:solidFill>
            <a:srgbClr val="8e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engthening individual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14400" y="2179800"/>
            <a:ext cx="7315200" cy="63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bilizing neighborhoods and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14400" y="5257800"/>
            <a:ext cx="7315200" cy="639720"/>
          </a:xfrm>
          <a:prstGeom prst="rect">
            <a:avLst/>
          </a:prstGeom>
          <a:solidFill>
            <a:srgbClr val="f3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uring access to quality 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7162920" y="152280"/>
            <a:ext cx="1828800" cy="838440"/>
            <a:chOff x="7162920" y="152280"/>
            <a:chExt cx="1828800" cy="838440"/>
          </a:xfrm>
        </p:grpSpPr>
        <p:sp>
          <p:nvSpPr>
            <p:cNvPr id="91" name="Rectangle 13"/>
            <p:cNvSpPr/>
            <p:nvPr/>
          </p:nvSpPr>
          <p:spPr>
            <a:xfrm>
              <a:off x="7162920" y="152280"/>
              <a:ext cx="18288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11" descr="CCHS LOGO 2C"/>
            <p:cNvPicPr/>
            <p:nvPr/>
          </p:nvPicPr>
          <p:blipFill>
            <a:blip r:embed="rId1"/>
            <a:stretch/>
          </p:blipFill>
          <p:spPr>
            <a:xfrm>
              <a:off x="7334280" y="215640"/>
              <a:ext cx="1486080" cy="7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15"/>
          <p:cNvSpPr/>
          <p:nvPr/>
        </p:nvSpPr>
        <p:spPr>
          <a:xfrm>
            <a:off x="2258640" y="22860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grated Spectr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253440" y="896760"/>
            <a:ext cx="96523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In the long run, improving population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requires universal heal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coverage delivered through organiz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health systems, coupled with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ffective and adequately fund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population environmental interven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focused on the broa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Environmental Determina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of Health (EDH)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of Childhood Asthma Hospit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 Costa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838080" y="182880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914400" y="1447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e per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9144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verweight Children in Richmo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hart 4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321760" cy="44132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4"/>
          <p:cNvSpPr/>
          <p:nvPr/>
        </p:nvSpPr>
        <p:spPr>
          <a:xfrm>
            <a:off x="838080" y="56386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040"/>
                </a:solidFill>
                <a:latin typeface="Gill Sans"/>
              </a:rPr>
              <a:t>Source: California Physical Fitness Test 2006-07, Census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9360"/>
          <a:ext cx="9144000" cy="670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:\Tobacco\tobacco_van.tif"/>
          <p:cNvPicPr/>
          <p:nvPr/>
        </p:nvPicPr>
        <p:blipFill>
          <a:blip r:embed="rId1"/>
          <a:stretch/>
        </p:blipFill>
        <p:spPr>
          <a:xfrm>
            <a:off x="114480" y="595440"/>
            <a:ext cx="8915400" cy="56689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 1"/>
          <p:cNvPicPr/>
          <p:nvPr/>
        </p:nvPicPr>
        <p:blipFill>
          <a:blip r:embed="rId1"/>
          <a:stretch/>
        </p:blipFill>
        <p:spPr>
          <a:xfrm>
            <a:off x="2278080" y="228600"/>
            <a:ext cx="4587840" cy="6400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533520"/>
            <a:ext cx="853452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eight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 Costa, 2002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2133720"/>
          <a:ext cx="838188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38188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1421280" y="579132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Picture2.png"/>
          <p:cNvPicPr/>
          <p:nvPr/>
        </p:nvPicPr>
        <p:blipFill>
          <a:blip r:embed="rId1"/>
          <a:stretch/>
        </p:blipFill>
        <p:spPr>
          <a:xfrm>
            <a:off x="378000" y="414360"/>
            <a:ext cx="8388000" cy="6029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838160" y="487692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st Food Restaurants 6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576440" y="26766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Conveni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tores 2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895360" y="190512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Supermarkets 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943600" y="2438280"/>
            <a:ext cx="27432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913000" y="228600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Produce Store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892120" y="266688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"/>
              </a:rPr>
              <a:t>Farmers Markets 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9"/>
          <p:cNvSpPr/>
          <p:nvPr/>
        </p:nvSpPr>
        <p:spPr>
          <a:xfrm>
            <a:off x="4038480" y="2055960"/>
            <a:ext cx="1905120" cy="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11"/>
          <p:cNvSpPr/>
          <p:nvPr/>
        </p:nvSpPr>
        <p:spPr>
          <a:xfrm>
            <a:off x="5105520" y="2438280"/>
            <a:ext cx="838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2"/>
          <p:cNvSpPr/>
          <p:nvPr/>
        </p:nvSpPr>
        <p:spPr>
          <a:xfrm>
            <a:off x="5029200" y="2819520"/>
            <a:ext cx="9144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6"/>
          <p:cNvSpPr/>
          <p:nvPr/>
        </p:nvSpPr>
        <p:spPr>
          <a:xfrm flipH="1">
            <a:off x="4723920" y="2437560"/>
            <a:ext cx="38124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traight Connector 18"/>
          <p:cNvSpPr/>
          <p:nvPr/>
        </p:nvSpPr>
        <p:spPr>
          <a:xfrm flipH="1">
            <a:off x="4800240" y="2818800"/>
            <a:ext cx="22860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388000" cy="5956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6276240" y="1752480"/>
            <a:ext cx="25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Retail Food Environment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715000" y="1828800"/>
            <a:ext cx="5335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21280" y="6200640"/>
            <a:ext cx="527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"/>
              </a:rPr>
              <a:t>Source: California Center for Public Health Advocates, Januar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22:47:40Z</dcterms:created>
  <dc:creator>Dave Shoemaker</dc:creator>
  <dc:description/>
  <dc:language>en-US</dc:language>
  <cp:lastModifiedBy>HCMARTINEZ</cp:lastModifiedBy>
  <dcterms:modified xsi:type="dcterms:W3CDTF">2009-09-28T18:54:32Z</dcterms:modified>
  <cp:revision>15</cp:revision>
  <dc:subject/>
  <dc:title>PowerPoint Presentation</dc:title>
</cp:coreProperties>
</file>