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672B-1725-44BC-9C82-171383C10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dren 0-14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rican American children have significantly higher rate compared to the county over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, Latino, and Asian children have significantly lower rate compared to the county over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401004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83A9-5454-44B5-BF90-15812D0F9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3637543-5401-4B37-B2C6-C9392C5F3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03200" y="706320"/>
            <a:ext cx="4464360" cy="3348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68040" y="4292640"/>
            <a:ext cx="5202360" cy="406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401004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1028-76CA-43DF-AE45-F3B67BB1A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3A6703D-C241-4971-B27A-2790D8F35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303200" y="706320"/>
            <a:ext cx="4464360" cy="3348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68040" y="4292640"/>
            <a:ext cx="520236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AC03-5D70-4982-8C5B-A8B52E4DC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3BE0-5EB0-427C-96E6-C928F48F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8170-73A6-47C9-A7A7-9B667B735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ADE3-AAE5-4300-ACF9-2328A7CBA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6BBA-45B6-44C0-BB30-02DDB048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D07E-BAE1-4B17-8A39-A01907AD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A68B-5CC7-4C43-989B-13D260B6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B641-0328-4931-B867-C34EAD57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E582-370D-4241-B7D0-76F6633F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EA82-38D1-40D3-9C89-1DEF845B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C274-075D-48D0-A936-F05B3006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8FF8-F285-4715-98D6-3A8C6E5E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9879-48FE-40EF-A604-807F3822A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343080" y="628560"/>
            <a:ext cx="845820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Mission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ontra Costa Health Services cares for and improves the health of all people in Contra Costa County, with special attention to those who are most vulnerable to health proble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teens_with_smoking_ad"/>
          <p:cNvPicPr/>
          <p:nvPr/>
        </p:nvPicPr>
        <p:blipFill>
          <a:blip r:embed="rId1"/>
          <a:stretch/>
        </p:blipFill>
        <p:spPr>
          <a:xfrm>
            <a:off x="419040" y="433440"/>
            <a:ext cx="8305920" cy="59911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914400" y="1573200"/>
            <a:ext cx="7315200" cy="639720"/>
          </a:xfrm>
          <a:prstGeom prst="rect">
            <a:avLst/>
          </a:prstGeom>
          <a:solidFill>
            <a:srgbClr val="800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fluencing policy and legi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914400" y="2789280"/>
            <a:ext cx="7315200" cy="639720"/>
          </a:xfrm>
          <a:prstGeom prst="rect">
            <a:avLst/>
          </a:prstGeom>
          <a:solidFill>
            <a:srgbClr val="3366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stering coalitions an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914400" y="3398760"/>
            <a:ext cx="7315200" cy="639720"/>
          </a:xfrm>
          <a:prstGeom prst="rect">
            <a:avLst/>
          </a:prstGeom>
          <a:solidFill>
            <a:srgbClr val="008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anging organizational prac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914400" y="4008600"/>
            <a:ext cx="7315200" cy="639720"/>
          </a:xfrm>
          <a:prstGeom prst="rect">
            <a:avLst/>
          </a:prstGeom>
          <a:solidFill>
            <a:srgbClr val="fabe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ducating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914400" y="4618080"/>
            <a:ext cx="7315200" cy="639720"/>
          </a:xfrm>
          <a:prstGeom prst="rect">
            <a:avLst/>
          </a:prstGeom>
          <a:solidFill>
            <a:srgbClr val="ff66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moting community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914400" y="5867280"/>
            <a:ext cx="7315200" cy="639720"/>
          </a:xfrm>
          <a:prstGeom prst="rect">
            <a:avLst/>
          </a:prstGeom>
          <a:solidFill>
            <a:srgbClr val="8e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engthening individual knowledge and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914400" y="2179800"/>
            <a:ext cx="7315200" cy="639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bilizing neighborhoods and comm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914400" y="5257800"/>
            <a:ext cx="7315200" cy="639720"/>
          </a:xfrm>
          <a:prstGeom prst="rect">
            <a:avLst/>
          </a:prstGeom>
          <a:solidFill>
            <a:srgbClr val="f3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ssuring access to quality health c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14"/>
          <p:cNvGrpSpPr/>
          <p:nvPr/>
        </p:nvGrpSpPr>
        <p:grpSpPr>
          <a:xfrm>
            <a:off x="7162920" y="152280"/>
            <a:ext cx="1828800" cy="838440"/>
            <a:chOff x="7162920" y="152280"/>
            <a:chExt cx="1828800" cy="838440"/>
          </a:xfrm>
        </p:grpSpPr>
        <p:sp>
          <p:nvSpPr>
            <p:cNvPr id="91" name="Rectangle 13"/>
            <p:cNvSpPr/>
            <p:nvPr/>
          </p:nvSpPr>
          <p:spPr>
            <a:xfrm>
              <a:off x="7162920" y="152280"/>
              <a:ext cx="1828800" cy="838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Picture 11" descr="CCHS LOGO 2C"/>
            <p:cNvPicPr/>
            <p:nvPr/>
          </p:nvPicPr>
          <p:blipFill>
            <a:blip r:embed="rId1"/>
            <a:stretch/>
          </p:blipFill>
          <p:spPr>
            <a:xfrm>
              <a:off x="7334280" y="215640"/>
              <a:ext cx="1486080" cy="71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TextBox 15"/>
          <p:cNvSpPr/>
          <p:nvPr/>
        </p:nvSpPr>
        <p:spPr>
          <a:xfrm>
            <a:off x="2258640" y="228600"/>
            <a:ext cx="462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grated Spectr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f Pre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-253440" y="896760"/>
            <a:ext cx="9652320" cy="51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In the long run, improving population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health requires universal health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coverage delivered through organize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health systems, coupled with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effective and adequately funde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population environmental interventio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focused on the broa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Environmental Determinant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of Health (EDH)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 of Childhood Asthma Hospitaliz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 Costa 2002-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3"/>
          <p:cNvGraphicFramePr/>
          <p:nvPr/>
        </p:nvGraphicFramePr>
        <p:xfrm>
          <a:off x="838080" y="1828800"/>
          <a:ext cx="7772400" cy="450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77240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4"/>
          <p:cNvSpPr/>
          <p:nvPr/>
        </p:nvSpPr>
        <p:spPr>
          <a:xfrm>
            <a:off x="914400" y="14479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te per 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itle 1"/>
          <p:cNvSpPr/>
          <p:nvPr/>
        </p:nvSpPr>
        <p:spPr>
          <a:xfrm>
            <a:off x="9144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verweight Children in Richmon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Chart 4" descr=""/>
          <p:cNvPicPr/>
          <p:nvPr/>
        </p:nvPicPr>
        <p:blipFill>
          <a:blip r:embed="rId1"/>
          <a:stretch/>
        </p:blipFill>
        <p:spPr>
          <a:xfrm>
            <a:off x="450720" y="1292400"/>
            <a:ext cx="8321760" cy="4413240"/>
          </a:xfrm>
          <a:prstGeom prst="rect">
            <a:avLst/>
          </a:prstGeom>
          <a:ln w="0">
            <a:noFill/>
          </a:ln>
        </p:spPr>
      </p:pic>
      <p:sp>
        <p:nvSpPr>
          <p:cNvPr id="55" name="Content Placeholder 4"/>
          <p:cNvSpPr/>
          <p:nvPr/>
        </p:nvSpPr>
        <p:spPr>
          <a:xfrm>
            <a:off x="838080" y="56386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04040"/>
                </a:solidFill>
                <a:latin typeface="Gill Sans"/>
              </a:rPr>
              <a:t>Source: California Physical Fitness Test 2006-07, Census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0" y="9360"/>
          <a:ext cx="9144000" cy="6705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360"/>
                    <a:ext cx="914400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L:\Tobacco\tobacco_van.tif"/>
          <p:cNvPicPr/>
          <p:nvPr/>
        </p:nvPicPr>
        <p:blipFill>
          <a:blip r:embed="rId1"/>
          <a:stretch/>
        </p:blipFill>
        <p:spPr>
          <a:xfrm>
            <a:off x="114480" y="595440"/>
            <a:ext cx="8915400" cy="5668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image 1"/>
          <p:cNvPicPr/>
          <p:nvPr/>
        </p:nvPicPr>
        <p:blipFill>
          <a:blip r:embed="rId1"/>
          <a:stretch/>
        </p:blipFill>
        <p:spPr>
          <a:xfrm>
            <a:off x="2278080" y="228600"/>
            <a:ext cx="4587840" cy="64008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457200" y="533520"/>
            <a:ext cx="853452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weight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rader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 Costa, 2002-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4"/>
          <p:cNvGraphicFramePr/>
          <p:nvPr/>
        </p:nvGraphicFramePr>
        <p:xfrm>
          <a:off x="533520" y="2133720"/>
          <a:ext cx="8381880" cy="34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838188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 Box 5"/>
          <p:cNvSpPr/>
          <p:nvPr/>
        </p:nvSpPr>
        <p:spPr>
          <a:xfrm>
            <a:off x="1421280" y="5791320"/>
            <a:ext cx="91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Picture2.png"/>
          <p:cNvPicPr/>
          <p:nvPr/>
        </p:nvPicPr>
        <p:blipFill>
          <a:blip r:embed="rId1"/>
          <a:stretch/>
        </p:blipFill>
        <p:spPr>
          <a:xfrm>
            <a:off x="378000" y="414360"/>
            <a:ext cx="8388000" cy="60292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838160" y="4876920"/>
            <a:ext cx="257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</a:rPr>
              <a:t>Fast Food Restaurants 6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1576440" y="2676600"/>
            <a:ext cx="136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</a:rPr>
              <a:t>Convenie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</a:rPr>
              <a:t>Stores 2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895360" y="1905120"/>
            <a:ext cx="185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</a:rPr>
              <a:t>Supermarkets 1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5943600" y="2438280"/>
            <a:ext cx="2743200" cy="1981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5913000" y="2286000"/>
            <a:ext cx="182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</a:rPr>
              <a:t>Produce Stores 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5892120" y="2666880"/>
            <a:ext cx="200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</a:rPr>
              <a:t>Farmers Markets 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traight Connector 9"/>
          <p:cNvSpPr/>
          <p:nvPr/>
        </p:nvSpPr>
        <p:spPr>
          <a:xfrm>
            <a:off x="4038480" y="2055960"/>
            <a:ext cx="1905120" cy="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traight Connector 11"/>
          <p:cNvSpPr/>
          <p:nvPr/>
        </p:nvSpPr>
        <p:spPr>
          <a:xfrm>
            <a:off x="5105520" y="2438280"/>
            <a:ext cx="83808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traight Connector 12"/>
          <p:cNvSpPr/>
          <p:nvPr/>
        </p:nvSpPr>
        <p:spPr>
          <a:xfrm>
            <a:off x="5029200" y="2819520"/>
            <a:ext cx="9144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traight Connector 16"/>
          <p:cNvSpPr/>
          <p:nvPr/>
        </p:nvSpPr>
        <p:spPr>
          <a:xfrm flipH="1">
            <a:off x="4723920" y="2437560"/>
            <a:ext cx="381240" cy="304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Straight Connector 18"/>
          <p:cNvSpPr/>
          <p:nvPr/>
        </p:nvSpPr>
        <p:spPr>
          <a:xfrm flipH="1">
            <a:off x="4800240" y="2818800"/>
            <a:ext cx="22860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hart 2" descr=""/>
          <p:cNvPicPr/>
          <p:nvPr/>
        </p:nvPicPr>
        <p:blipFill>
          <a:blip r:embed="rId1"/>
          <a:stretch/>
        </p:blipFill>
        <p:spPr>
          <a:xfrm>
            <a:off x="378000" y="298440"/>
            <a:ext cx="8388000" cy="595620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6276240" y="1752480"/>
            <a:ext cx="253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"/>
              </a:rPr>
              <a:t>Retail Food Environment In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5715000" y="1828800"/>
            <a:ext cx="5335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521280" y="6200640"/>
            <a:ext cx="527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"/>
              </a:rPr>
              <a:t>Source: California Center for Public Health Advocates, January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22:47:40Z</dcterms:created>
  <dc:creator>Dave Shoemaker</dc:creator>
  <dc:description/>
  <dc:language>en-US</dc:language>
  <cp:lastModifiedBy>HCMARTINEZ</cp:lastModifiedBy>
  <dcterms:modified xsi:type="dcterms:W3CDTF">2009-09-28T18:54:32Z</dcterms:modified>
  <cp:revision>15</cp:revision>
  <dc:subject/>
  <dc:title>PowerPoint Presentation</dc:title>
</cp:coreProperties>
</file>