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1EFC-5DE4-4B22-A13F-7C4D9D29B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 0-1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merican children have significantly high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, Latino, and Asian children have significantly low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0017-BBFE-4151-8606-6DFA41463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81E613F-301D-4FEA-8DB2-146ED2E99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6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0915-5AFA-45EA-9D5F-361592AAB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CED3234-5F47-423C-9229-CE359D8B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3F7-CB7D-4236-8934-769C7B39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F25-D5AA-4340-BB59-2676BC5C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9F3-1DC2-46E3-89F6-442DD2D7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09B-1C2F-4564-9F0D-7C10C5CB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957-E0C4-46C5-A791-DED082DD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56A-28FC-4203-8E20-B0FCED1E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33B-278D-47DE-A237-823A9264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020-3CE6-476A-BFBB-C184A122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67B-E155-4297-B157-C08A2E8C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27B-C70A-41D5-8666-D55C8FDD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CDB-C1C4-4494-88B5-5DB14436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BA9-7A7A-46E4-BEB2-0BF657D4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600A-374F-4F3D-80E4-03224C7A2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43080" y="628560"/>
            <a:ext cx="84582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is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tra Costa Health Services cares for and improves the health of all people in Contra Costa County, with special attention to those who are most vulnerable to health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eens_with_smoking_ad"/>
          <p:cNvPicPr/>
          <p:nvPr/>
        </p:nvPicPr>
        <p:blipFill>
          <a:blip r:embed="rId1"/>
          <a:stretch/>
        </p:blipFill>
        <p:spPr>
          <a:xfrm>
            <a:off x="419040" y="433440"/>
            <a:ext cx="8305920" cy="599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14400" y="1573200"/>
            <a:ext cx="7315200" cy="63972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fluencing policy and legi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400" y="2789280"/>
            <a:ext cx="7315200" cy="639720"/>
          </a:xfrm>
          <a:prstGeom prst="rect">
            <a:avLst/>
          </a:prstGeom>
          <a:solidFill>
            <a:srgbClr val="33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stering coalitions a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14400" y="3398760"/>
            <a:ext cx="7315200" cy="639720"/>
          </a:xfrm>
          <a:prstGeom prst="rect">
            <a:avLst/>
          </a:prstGeom>
          <a:solidFill>
            <a:srgbClr val="008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ging organizational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14400" y="4008600"/>
            <a:ext cx="7315200" cy="639720"/>
          </a:xfrm>
          <a:prstGeom prst="rect">
            <a:avLst/>
          </a:prstGeom>
          <a:solidFill>
            <a:srgbClr val="fabe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ucating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914400" y="4618080"/>
            <a:ext cx="7315200" cy="639720"/>
          </a:xfrm>
          <a:prstGeom prst="rect">
            <a:avLst/>
          </a:prstGeom>
          <a:solidFill>
            <a:srgbClr val="ff6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moting communit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914400" y="5867280"/>
            <a:ext cx="7315200" cy="639720"/>
          </a:xfrm>
          <a:prstGeom prst="rect">
            <a:avLst/>
          </a:prstGeom>
          <a:solidFill>
            <a:srgbClr val="8e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engthening individual knowledge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14400" y="2179800"/>
            <a:ext cx="7315200" cy="63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bilizing neighborhoods and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914400" y="5257800"/>
            <a:ext cx="7315200" cy="639720"/>
          </a:xfrm>
          <a:prstGeom prst="rect">
            <a:avLst/>
          </a:prstGeom>
          <a:solidFill>
            <a:srgbClr val="f3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ring access to quality 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7162920" y="152280"/>
            <a:ext cx="1828800" cy="838440"/>
            <a:chOff x="7162920" y="152280"/>
            <a:chExt cx="1828800" cy="838440"/>
          </a:xfrm>
        </p:grpSpPr>
        <p:sp>
          <p:nvSpPr>
            <p:cNvPr id="91" name="Rectangle 13"/>
            <p:cNvSpPr/>
            <p:nvPr/>
          </p:nvSpPr>
          <p:spPr>
            <a:xfrm>
              <a:off x="7162920" y="152280"/>
              <a:ext cx="1828800" cy="83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11" descr="CCHS LOGO 2C"/>
            <p:cNvPicPr/>
            <p:nvPr/>
          </p:nvPicPr>
          <p:blipFill>
            <a:blip r:embed="rId1"/>
            <a:stretch/>
          </p:blipFill>
          <p:spPr>
            <a:xfrm>
              <a:off x="7334280" y="215640"/>
              <a:ext cx="1486080" cy="7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15"/>
          <p:cNvSpPr/>
          <p:nvPr/>
        </p:nvSpPr>
        <p:spPr>
          <a:xfrm>
            <a:off x="2258640" y="228600"/>
            <a:ext cx="46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grated Spectr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f 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-253440" y="896760"/>
            <a:ext cx="965232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In the long run, improving population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requires universal heal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coverage delivered through organiz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systems, coupled wi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ffective and adequately fund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population environmental interven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focused on the broa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nvironmental Determina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of Health (EDH)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Childhood Asthma Hospit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 Costa 2002-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838080" y="1828800"/>
          <a:ext cx="777240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724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914400" y="1447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e per 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9144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verweight Children in Richmo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hart 4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321760" cy="441324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4"/>
          <p:cNvSpPr/>
          <p:nvPr/>
        </p:nvSpPr>
        <p:spPr>
          <a:xfrm>
            <a:off x="838080" y="5638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4040"/>
                </a:solidFill>
                <a:latin typeface="Gill Sans"/>
              </a:rPr>
              <a:t>Source: California Physical Fitness Test 2006-07, Censu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9360"/>
          <a:ext cx="9144000" cy="670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:\Tobacco\tobacco_van.tif"/>
          <p:cNvPicPr/>
          <p:nvPr/>
        </p:nvPicPr>
        <p:blipFill>
          <a:blip r:embed="rId1"/>
          <a:stretch/>
        </p:blipFill>
        <p:spPr>
          <a:xfrm>
            <a:off x="114480" y="595440"/>
            <a:ext cx="8915400" cy="5668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 1"/>
          <p:cNvPicPr/>
          <p:nvPr/>
        </p:nvPicPr>
        <p:blipFill>
          <a:blip r:embed="rId1"/>
          <a:stretch/>
        </p:blipFill>
        <p:spPr>
          <a:xfrm>
            <a:off x="2278080" y="228600"/>
            <a:ext cx="4587840" cy="6400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533520"/>
            <a:ext cx="853452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eight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 Costa, 2002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533520" y="2133720"/>
          <a:ext cx="838188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38188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1421280" y="57913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Picture2.png"/>
          <p:cNvPicPr/>
          <p:nvPr/>
        </p:nvPicPr>
        <p:blipFill>
          <a:blip r:embed="rId1"/>
          <a:stretch/>
        </p:blipFill>
        <p:spPr>
          <a:xfrm>
            <a:off x="378000" y="414360"/>
            <a:ext cx="8388000" cy="6029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838160" y="4876920"/>
            <a:ext cx="25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st Food Restaurants 6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576440" y="267660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Conven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tores 2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895360" y="190512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upermarkets 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943600" y="2438280"/>
            <a:ext cx="274320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913000" y="2286000"/>
            <a:ext cx="182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Produce Store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892120" y="266688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rmers Market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9"/>
          <p:cNvSpPr/>
          <p:nvPr/>
        </p:nvSpPr>
        <p:spPr>
          <a:xfrm>
            <a:off x="4038480" y="2055960"/>
            <a:ext cx="1905120" cy="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5105520" y="2438280"/>
            <a:ext cx="838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2"/>
          <p:cNvSpPr/>
          <p:nvPr/>
        </p:nvSpPr>
        <p:spPr>
          <a:xfrm>
            <a:off x="5029200" y="2819520"/>
            <a:ext cx="9144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6"/>
          <p:cNvSpPr/>
          <p:nvPr/>
        </p:nvSpPr>
        <p:spPr>
          <a:xfrm flipH="1">
            <a:off x="4723920" y="2437560"/>
            <a:ext cx="38124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18"/>
          <p:cNvSpPr/>
          <p:nvPr/>
        </p:nvSpPr>
        <p:spPr>
          <a:xfrm flipH="1">
            <a:off x="4800240" y="2818800"/>
            <a:ext cx="22860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hart 2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388000" cy="5956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6276240" y="1752480"/>
            <a:ext cx="25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Retail Food Environment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715000" y="1828800"/>
            <a:ext cx="5335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21280" y="6200640"/>
            <a:ext cx="52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Source: California Center for Public Health Advocates, Januar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2:47:40Z</dcterms:created>
  <dc:creator>Dave Shoemaker</dc:creator>
  <dc:description/>
  <dc:language>en-US</dc:language>
  <cp:lastModifiedBy>HCMARTINEZ</cp:lastModifiedBy>
  <dcterms:modified xsi:type="dcterms:W3CDTF">2009-09-28T18:54:32Z</dcterms:modified>
  <cp:revision>15</cp:revision>
  <dc:subject/>
  <dc:title>PowerPoint Presentation</dc:title>
</cp:coreProperties>
</file>